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B36-C00D-4332-8D82-796478756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03B6-B4D2-49E2-BA28-63AF51952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1C8-616C-4747-B312-D1ED75C1A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11A-CEE6-4001-AFBC-1B7D73EE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769-87D9-42EA-B7E1-03F6B008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681-CF49-4265-801B-E7B6E579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D48-2DDE-4F43-997F-F8579ED1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3CD0-9226-46F4-AC4D-E8ABA1CE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A16E-3B53-4993-983D-562DF688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46BD-B54F-420C-BFFC-2728746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E040-8979-4C20-A74F-54661721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9DD5-06BA-472F-8720-DD26DE3B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7A9E-D148-459A-93F2-197B2983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31CF-D195-442F-A046-E751F9D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82B-3040-40B7-9B5B-3F9D3998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02FB-9269-42F3-B140-1AE2CD82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D5E5-C252-4AEB-AE33-477616F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271A-732D-4E1F-B765-892A3788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B535-466D-40A7-825C-8DDF3A64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2EE4-C4D5-4EA7-8AE2-D6445269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21C-DB45-4860-93C4-CD3F3946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9DF-7734-4963-814A-FD664E7A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336-55DB-45CA-9D10-3CA53BF8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AD7-3C5E-4249-B90F-09EAC538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B45-EF02-416C-928F-5691D98E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61E-D365-4DC9-A090-19DA4A7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E2E-4AF4-44F3-BA18-379653A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DD56-3557-4763-8E87-FF329018E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6523-74B8-4547-9787-1156910B9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480" y="1700280"/>
            <a:ext cx="63118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ростковый возраст, его особенности и первые пробл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Рекомендации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айтесь проводить время вместе. Только не сидите молча у телевизора, а займитесь интересным ему делом. Например, сыграйте в баскетбол или спойте под гит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мешивайтесь в занятия, с которыми он справляется и без вас, не навязывайте свое мнение по любому вопросу, не критикуй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\\MICROSOF-05BCCC\User (D)\Семейная\Ирина\Анимашки\gallery_2_391_5809.gif"/>
          <p:cNvPicPr/>
          <p:nvPr/>
        </p:nvPicPr>
        <p:blipFill>
          <a:blip r:embed="rId4"/>
          <a:stretch/>
        </p:blipFill>
        <p:spPr>
          <a:xfrm>
            <a:off x="755640" y="4581360"/>
            <a:ext cx="164304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10920" y="836640"/>
            <a:ext cx="7915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йте, когда он просит вас об э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ивайте даже самые ничтожные успехи во всем - в учебе, спорте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тесь своими чувств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ешайте конфликты мирным путем. Не давайте волю слезам, крикам, угроз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9" descr="\\MICROSOF-05BCCC\User (D)\Семейная\Ирина\Анимашки\gallery_2_391_14115.gif"/>
          <p:cNvPicPr/>
          <p:nvPr/>
        </p:nvPicPr>
        <p:blipFill>
          <a:blip r:embed="rId5"/>
          <a:stretch/>
        </p:blipFill>
        <p:spPr>
          <a:xfrm>
            <a:off x="6286680" y="4714920"/>
            <a:ext cx="12855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13880" y="1071360"/>
            <a:ext cx="7844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используйте приветливые фразы. Например: "Мне хорошо с тобой", "Я рада тебя видеть", "Мне нравится, как ты...", "Я по тебе соскучилась", "Давай (посидим, поделаем...) вместе", "Ты, конечно, справишься", "Как хорошо, что ты у нас есть"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3" descr="\\MICROSOF-05BCCC\User (D)\Семейная\Ирина\Анимашки\64 (1).gif"/>
          <p:cNvPicPr/>
          <p:nvPr/>
        </p:nvPicPr>
        <p:blipFill>
          <a:blip r:embed="rId3"/>
          <a:stretch/>
        </p:blipFill>
        <p:spPr>
          <a:xfrm>
            <a:off x="3500280" y="4643280"/>
            <a:ext cx="219096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13880" y="1285920"/>
            <a:ext cx="7915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е, что дурные поступки не всегда являются отражением внутреннего мира под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переживайте, не высмеивайте и не отталкивайте в минуты откро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6920\Desktop\942071130fbb857d792c087e7687d792.gif"/>
          <p:cNvPicPr/>
          <p:nvPr/>
        </p:nvPicPr>
        <p:blipFill>
          <a:blip r:embed="rId4"/>
          <a:stretch/>
        </p:blipFill>
        <p:spPr>
          <a:xfrm>
            <a:off x="900000" y="4581360"/>
            <a:ext cx="1033560" cy="177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\\MICROSOF-05BCCC\User (D)\Семейная\Ирина\Анимашки\245.gif"/>
          <p:cNvPicPr/>
          <p:nvPr/>
        </p:nvPicPr>
        <p:blipFill>
          <a:blip r:embed="rId5"/>
          <a:stretch/>
        </p:blipFill>
        <p:spPr>
          <a:xfrm>
            <a:off x="5857920" y="4071960"/>
            <a:ext cx="230508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42600" y="1143000"/>
            <a:ext cx="8272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имайтесь! Не менее четырех, а лучше восьми раз в день. В проявлениях родительской ласки "взрослые" подростки нуждаются порой отчаяннее, чем крохотные карапу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\\MICROSOF-05BCCC\User (D)\Семейная\Ирина\Анимашки\0_1ac07_864c3346_S.gif"/>
          <p:cNvPicPr/>
          <p:nvPr/>
        </p:nvPicPr>
        <p:blipFill>
          <a:blip r:embed="rId3"/>
          <a:stretch/>
        </p:blipFill>
        <p:spPr>
          <a:xfrm>
            <a:off x="3929040" y="371484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16000" y="1142640"/>
            <a:ext cx="750888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градой вам буд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верие, ув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любов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это так важ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\\MICROSOF-05BCCC\User (D)\Семейная\Ирина\Анимашки\155.gif"/>
          <p:cNvPicPr/>
          <p:nvPr/>
        </p:nvPicPr>
        <p:blipFill>
          <a:blip r:embed="rId2"/>
          <a:stretch/>
        </p:blipFill>
        <p:spPr>
          <a:xfrm>
            <a:off x="5435640" y="3284640"/>
            <a:ext cx="30798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от они, главные истины э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здно заметили, поздно учл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т, не рождаются трудными де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сто им вовремя не помог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9" descr="\\MICROSOF-05BCCC\User (D)\Семейная\Ирина\Анимашки\people17.gif"/>
          <p:cNvPicPr/>
          <p:nvPr/>
        </p:nvPicPr>
        <p:blipFill>
          <a:blip r:embed="rId2"/>
          <a:stretch/>
        </p:blipFill>
        <p:spPr>
          <a:xfrm>
            <a:off x="5724360" y="4508640"/>
            <a:ext cx="1643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726680" cy="19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Этап первый – 10-13 лет: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«Оставьте меня в покое!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2492280"/>
            <a:ext cx="79120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в этот период переживает гормональную перестройку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ытается закрепить за собой авторитет, ведь от того, как он покажет себя, зависит его "статус" в среде сверст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\\MICROSOF-05BCCC\User (D)\Семейная\Ирина\Анимашки\gallery_2_391_8617.gif"/>
          <p:cNvPicPr/>
          <p:nvPr/>
        </p:nvPicPr>
        <p:blipFill>
          <a:blip r:embed="rId2"/>
          <a:stretch/>
        </p:blipFill>
        <p:spPr>
          <a:xfrm>
            <a:off x="395280" y="4076640"/>
            <a:ext cx="142884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72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Типичная ошибка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родителе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2492280"/>
            <a:ext cx="7986960" cy="26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и заставляют ребенка бросить компанию сверстников, навязывают свое общество и доказывают свою точку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\\MICROSOF-05BCCC\User (D)\Семейная\Ирина\Анимашки\gallery_2_391_169.gif"/>
          <p:cNvPicPr/>
          <p:nvPr/>
        </p:nvPicPr>
        <p:blipFill>
          <a:blip r:embed="rId2"/>
          <a:stretch/>
        </p:blipFill>
        <p:spPr>
          <a:xfrm>
            <a:off x="900000" y="4437000"/>
            <a:ext cx="124308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Что делать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2420640"/>
            <a:ext cx="84153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едпринимайте ничег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лохо в этой ситуации пригласить домой его прия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\\MICROSOF-05BCCC\User (D)\Семейная\Ирина\Анимашки\c6ece0df89c8.gif"/>
          <p:cNvPicPr/>
          <p:nvPr/>
        </p:nvPicPr>
        <p:blipFill>
          <a:blip r:embed="rId2"/>
          <a:stretch/>
        </p:blipFill>
        <p:spPr>
          <a:xfrm>
            <a:off x="6300720" y="4365720"/>
            <a:ext cx="164304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\\MICROSOF-05BCCC\User (D)\Семейная\Ирина\Анимашки\gallery_2_390_2354.gif"/>
          <p:cNvPicPr/>
          <p:nvPr/>
        </p:nvPicPr>
        <p:blipFill>
          <a:blip r:embed="rId2"/>
          <a:stretch/>
        </p:blipFill>
        <p:spPr>
          <a:xfrm>
            <a:off x="250920" y="414972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745400" cy="12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Этап второй – 14 - 15 лет: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«Не учите меня жить!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280" y="2636640"/>
            <a:ext cx="8272440" cy="31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мональный фон постепенно выравнивается, но появляется переизбыток энергии, который срочно нужно куда-то де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об этом мы поговорим с вами позже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Анкета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«Хорошие ли вы родители?»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екоторые поступки ребенка вы часто реагируете «взрывом», а потом жалеете об это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 пользуетесь помощью или советами друзей, когда вы не знаете, как реагировать на поведение вашего ребен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ши интуиция и опыт – лучшие советники в воспитании ребен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ам случается доверять ребенку секрет, который вы никому другому не рассказали б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обижает негативное мнение о вашем ребенке других люд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случается просить у ребенка прощения за свое поведени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считаете, что ребенок не должен иметь секретов от своих родител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замечаете между своим характером и характером ребенка различия, которые иногда удивляют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слишком сильно переживаете неприятности или неудачи вашего ребен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можете удержаться от покупки интересующей вещи для ребенка (даже если у вас есть деньги), потому что знаете, что ими полон дом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считаете, что до определенного возраста лучший воспитательный аргумент для ребенка – физическое наказание (ремень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ребенок именно таков, о каком вы мечтал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ребенок доставляет вам больше хлопот, чем радост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вам кажется, что ребенок учит вас новым мыслям и поведению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ас конфликты с собственным ребенк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62064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й ответ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«д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вопросы: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2,4,6,8,10,12,1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«нет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вопросы: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1,3,5,7,9,11,13,1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0 оч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е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«не знаю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те п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 оч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читайте полученные очк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Admin</cp:lastModifiedBy>
  <dcterms:modified xsi:type="dcterms:W3CDTF">2011-12-06T02:55:49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