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B8E-15E3-4441-A9DB-96109D61C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77B8-E9E8-418B-9488-B71AC566D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5235-0D66-459B-9542-28CFCBF70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C60-20E6-43BE-8165-6F039D5A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865-2A5C-4C58-A375-965104D4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3C3-65C6-4BDA-A656-0EB3307F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A11-337E-4865-9620-3E868FDB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EF7A-ED18-4749-A861-2C4A6D07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4981-8F75-4B16-8AC1-D2C0A89B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B752-07E2-46C7-BA33-B77B735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7320-E2FD-4B66-ACA5-63F5883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2DBF-81F6-4D90-AA9A-E90834C4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FE53-453C-41CA-B5F7-032F9185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F8E0-76B2-40CC-B06F-80D17A22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CF5-0F62-414B-8A5F-B4DFEBBA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936A-9863-480B-B574-AE854AD5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B0B5-C5AA-497D-92AE-ECB9E7E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43E1-7859-4E8A-95E1-9C82B795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5133-2512-4DC1-AC7E-9369B8A0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7E06-07A7-42DD-B094-162435B6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223-1E03-4423-8A31-FA201400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9E5-74F7-42B6-BC19-D1D4E287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378-07C7-41CD-9571-26C3D34F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C84-D73E-4EAF-A2C5-C889DCBC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792-21A7-45E8-A281-C815FB8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1C6-14D1-444C-B33A-3D3CE92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98E-CF42-4D40-91FB-FB4551B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D84-056C-4BF9-90B4-7A71A88DF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392A-C6D6-42FB-A848-FD6EB3E7F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480" y="1700280"/>
            <a:ext cx="63118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ростковый возраст, его особенности и первые пробл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Рекомендации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айтесь проводить время вместе. Только не сидите молча у телевизора, а займитесь интересным ему делом. Например, сыграйте в баскетбол или спойте под гит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мешивайтесь в занятия, с которыми он справляется и без вас, не навязывайте свое мнение по любому вопросу, не критикуй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\\MICROSOF-05BCCC\User (D)\Семейная\Ирина\Анимашки\gallery_2_391_5809.gif"/>
          <p:cNvPicPr/>
          <p:nvPr/>
        </p:nvPicPr>
        <p:blipFill>
          <a:blip r:embed="rId4"/>
          <a:stretch/>
        </p:blipFill>
        <p:spPr>
          <a:xfrm>
            <a:off x="755640" y="4581360"/>
            <a:ext cx="164304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10920" y="836640"/>
            <a:ext cx="7915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йте, когда он просит вас об э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ивайте даже самые ничтожные успехи во всем - в учебе, спорте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есь своими чувств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ешайте конфликты мирным путем. Не давайте волю слезам, крикам, угроз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9" descr="\\MICROSOF-05BCCC\User (D)\Семейная\Ирина\Анимашки\gallery_2_391_14115.gif"/>
          <p:cNvPicPr/>
          <p:nvPr/>
        </p:nvPicPr>
        <p:blipFill>
          <a:blip r:embed="rId5"/>
          <a:stretch/>
        </p:blipFill>
        <p:spPr>
          <a:xfrm>
            <a:off x="6286680" y="4714920"/>
            <a:ext cx="12855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13880" y="1071360"/>
            <a:ext cx="7844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используйте приветливые фразы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3" descr="\\MICROSOF-05BCCC\User (D)\Семейная\Ирина\Анимашки\64 (1).gif"/>
          <p:cNvPicPr/>
          <p:nvPr/>
        </p:nvPicPr>
        <p:blipFill>
          <a:blip r:embed="rId3"/>
          <a:stretch/>
        </p:blipFill>
        <p:spPr>
          <a:xfrm>
            <a:off x="3500280" y="4643280"/>
            <a:ext cx="219096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13880" y="1285920"/>
            <a:ext cx="7915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е, что дурные поступки не всегда являются отражением внутреннего мира под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переживайте, не высмеивайте и не отталкивайте в минуты откро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6920\Desktop\942071130fbb857d792c087e7687d792.gif"/>
          <p:cNvPicPr/>
          <p:nvPr/>
        </p:nvPicPr>
        <p:blipFill>
          <a:blip r:embed="rId4"/>
          <a:stretch/>
        </p:blipFill>
        <p:spPr>
          <a:xfrm>
            <a:off x="900000" y="4581360"/>
            <a:ext cx="1033560" cy="177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\\MICROSOF-05BCCC\User (D)\Семейная\Ирина\Анимашки\245.gif"/>
          <p:cNvPicPr/>
          <p:nvPr/>
        </p:nvPicPr>
        <p:blipFill>
          <a:blip r:embed="rId5"/>
          <a:stretch/>
        </p:blipFill>
        <p:spPr>
          <a:xfrm>
            <a:off x="5857920" y="4071960"/>
            <a:ext cx="23050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42600" y="1143000"/>
            <a:ext cx="8272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имайтесь! Не менее четырех, а лучше восьми раз в день. В проявлениях родительской ласки "взрослые" подростки нуждаются порой отчаяннее, чем крохотные карапу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\\MICROSOF-05BCCC\User (D)\Семейная\Ирина\Анимашки\0_1ac07_864c3346_S.gif"/>
          <p:cNvPicPr/>
          <p:nvPr/>
        </p:nvPicPr>
        <p:blipFill>
          <a:blip r:embed="rId3"/>
          <a:stretch/>
        </p:blipFill>
        <p:spPr>
          <a:xfrm>
            <a:off x="3929040" y="371484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16000" y="1142640"/>
            <a:ext cx="750888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градой вам буд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верие, ув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любов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это так важ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\\MICROSOF-05BCCC\User (D)\Семейная\Ирина\Анимашки\155.gif"/>
          <p:cNvPicPr/>
          <p:nvPr/>
        </p:nvPicPr>
        <p:blipFill>
          <a:blip r:embed="rId2"/>
          <a:stretch/>
        </p:blipFill>
        <p:spPr>
          <a:xfrm>
            <a:off x="5435640" y="3284640"/>
            <a:ext cx="30798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т они, главные истины э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здно заметили, поздно учл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т, не рождаются трудными де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сто им вовремя не помог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5724360" y="4508640"/>
            <a:ext cx="1643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726680" cy="19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Этап первый – 10-13 лет: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«Оставьте меня в покое!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2492280"/>
            <a:ext cx="79120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в этот период переживает гормональную перестройку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ытается закрепить за собой авторитет, ведь от того, как он покажет себя, зависит его "статус" в среде сверст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395280" y="4076640"/>
            <a:ext cx="142884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72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Типичная ошибка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родителе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2492280"/>
            <a:ext cx="7986960" cy="26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и заставляют ребенка бросить компанию сверстников, навязывают свое общество и доказывают свою точку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\\MICROSOF-05BCCC\User (D)\Семейная\Ирина\Анимашки\gallery_2_391_169.gif"/>
          <p:cNvPicPr/>
          <p:nvPr/>
        </p:nvPicPr>
        <p:blipFill>
          <a:blip r:embed="rId2"/>
          <a:stretch/>
        </p:blipFill>
        <p:spPr>
          <a:xfrm>
            <a:off x="900000" y="4437000"/>
            <a:ext cx="124308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Что делать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2420640"/>
            <a:ext cx="84153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едпринимайте ничег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лохо в этой ситуации пригласить домой его прия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6300720" y="4365720"/>
            <a:ext cx="164304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\\MICROSOF-05BCCC\User (D)\Семейная\Ирина\Анимашки\gallery_2_390_2354.gif"/>
          <p:cNvPicPr/>
          <p:nvPr/>
        </p:nvPicPr>
        <p:blipFill>
          <a:blip r:embed="rId2"/>
          <a:stretch/>
        </p:blipFill>
        <p:spPr>
          <a:xfrm>
            <a:off x="250920" y="414972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745400" cy="12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Этап второй – 14 - 15 лет: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«Не учите меня жить!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2636640"/>
            <a:ext cx="8272440" cy="31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мональный фон постепенно выравнивается, но появляется переизбыток энергии, который срочно нужно куда-то де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об этом мы поговорим с вами позже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Анкета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«Хорошие ли вы родители?»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екоторые поступки ребенка вы часто реагируете «взрывом», а потом жалеете об это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ы пользуетесь помощью или советами друзей, когда вы не знаете, как реагировать на поведение вашего ребен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ши интуиция и опыт – лучшие советники в воспитании ребен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вам случается доверять ребенку секрет, который вы никому другому не рассказали бы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обижает негативное мнение о вашем ребенке других люд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случается просить у ребенка прощения за свое поведени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считаете, что ребенок не должен иметь секретов от своих родител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замечаете между своим характером и характером ребенка различия, которые иногда удивляют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слишком сильно переживаете неприятности или неудачи вашего ребен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можете удержаться от покупки интересующей вещи для ребенка (даже если у вас есть деньги), потому что знаете, что ими полон дом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считаете, что до определенного возраста лучший воспитательный аргумент для ребенка – физическое наказание (ремень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ребенок именно таков, о каком вы мечтал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ребенок доставляет вам больше хлопот, чем радост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вам кажется, что ребенок учит вас новым мыслям и поведению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ас конфликты с собственным ребенк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62064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й ответ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д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вопросы: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2,4,6,8,10,12,1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нет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вопросы: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1,3,5,7,9,11,13,1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0 оч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е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не знаю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те п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 оч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читайте полученные очк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Admin</cp:lastModifiedBy>
  <dcterms:modified xsi:type="dcterms:W3CDTF">2011-12-06T02:55:49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