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20FA0-4823-49EB-9BB8-3E90632AF6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478FF-9769-44A3-A5F0-C9FA665DDE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D34E5-CAEA-4973-80A1-45F1E1165E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4644F-1BC4-4916-BA0E-CA6B41EE5C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90E0E-F4E7-42D4-9BDB-3E3DF1F385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6B00C-694F-4404-8C75-4C31D1B115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A307D-FDF7-43EE-88EE-D54D507182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C92B6-5280-4AE9-AE76-7CD57938DE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FC21B-E69C-4B77-BAD1-DE8C7477A9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15DFB-F36D-4FBE-A9EC-DC382961D1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CA598-7130-43F2-9DED-58BCE6738D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1E5-0679-4850-A4F8-6E834532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35F7-AD48-44BB-A345-6B712AB1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0537-DDB2-42EF-8E7D-C7673702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307C-1D8F-4A8A-B7DF-E61EB738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587-CF4E-4AFA-A7AB-9EA7A0C9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F42F-4C16-4203-9532-F0A8B381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219-46DC-44A3-B0D3-F9AD7DFB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5BDB-7ACE-4E69-A5FA-3ADBF108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0494-D6A0-49D5-AB5B-E41F489F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FE6-B971-4558-AFEC-71B1983E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591E-F7BA-477F-83A9-459D8181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6801-AB17-4135-9490-AF315B5B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93128-B53E-4A64-A1A5-B861C9F05B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709000" y="826920"/>
            <a:ext cx="745020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Правописани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суффиксов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глагол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61960" y="3506760"/>
            <a:ext cx="4680000" cy="3476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427760" y="395280"/>
            <a:ext cx="74746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037240" y="1738440"/>
            <a:ext cx="52678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146 № 2 по образ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 с. 208 вариант 3 (в СП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678600" y="1187280"/>
            <a:ext cx="934920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Девятнадцатое декабр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Классная работ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-184680" y="276120"/>
            <a:ext cx="104295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Спиши,вставляя гласную в суффикс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Суффикс выде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927360" y="2411280"/>
            <a:ext cx="3504600" cy="48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 u="sng">
                <a:solidFill>
                  <a:srgbClr val="00664d"/>
                </a:solidFill>
                <a:uFillTx/>
                <a:latin typeface="Arial"/>
              </a:rPr>
              <a:t>1 вари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команд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совет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угад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ухаж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отта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ол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испыт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5234040" y="2411280"/>
            <a:ext cx="3759120" cy="48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 u="sng">
                <a:solidFill>
                  <a:srgbClr val="00664d"/>
                </a:solidFill>
                <a:uFillTx/>
                <a:latin typeface="Arial"/>
              </a:rPr>
              <a:t>2 вари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бесед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распил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преслед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ухаж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отгад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успока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посовет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029240" y="1731960"/>
            <a:ext cx="5990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:  запис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ы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 - запис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ы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Фигура, имеющая форму буквы L 5"/>
          <p:cNvSpPr/>
          <p:nvPr/>
        </p:nvSpPr>
        <p:spPr>
          <a:xfrm rot="8064000">
            <a:off x="3837600" y="1540440"/>
            <a:ext cx="453960" cy="471600"/>
          </a:xfrm>
          <a:custGeom>
            <a:avLst/>
            <a:gdLst/>
            <a:ahLst/>
            <a:rect l="l" t="t" r="r" b="b"/>
            <a:pathLst>
              <a:path w="454034" h="471664">
                <a:moveTo>
                  <a:pt x="0" y="0"/>
                </a:moveTo>
                <a:lnTo>
                  <a:pt x="66875" y="0"/>
                </a:lnTo>
                <a:lnTo>
                  <a:pt x="66875" y="414524"/>
                </a:lnTo>
                <a:lnTo>
                  <a:pt x="454034" y="414524"/>
                </a:lnTo>
                <a:lnTo>
                  <a:pt x="454034" y="471664"/>
                </a:lnTo>
                <a:lnTo>
                  <a:pt x="0" y="471664"/>
                </a:lnTo>
                <a:lnTo>
                  <a:pt x="0" y="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Фигура, имеющая форму буквы L 6"/>
          <p:cNvSpPr/>
          <p:nvPr/>
        </p:nvSpPr>
        <p:spPr>
          <a:xfrm rot="8064000">
            <a:off x="5933160" y="1541880"/>
            <a:ext cx="453960" cy="471600"/>
          </a:xfrm>
          <a:custGeom>
            <a:avLst/>
            <a:gdLst/>
            <a:ahLst/>
            <a:rect l="l" t="t" r="r" b="b"/>
            <a:pathLst>
              <a:path w="454034" h="471664">
                <a:moveTo>
                  <a:pt x="0" y="0"/>
                </a:moveTo>
                <a:lnTo>
                  <a:pt x="66875" y="0"/>
                </a:lnTo>
                <a:lnTo>
                  <a:pt x="66875" y="414524"/>
                </a:lnTo>
                <a:lnTo>
                  <a:pt x="454034" y="414524"/>
                </a:lnTo>
                <a:lnTo>
                  <a:pt x="454034" y="471664"/>
                </a:lnTo>
                <a:lnTo>
                  <a:pt x="0" y="471664"/>
                </a:lnTo>
                <a:lnTo>
                  <a:pt x="0" y="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3236400" y="276120"/>
            <a:ext cx="35870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</a:rPr>
              <a:t>Провер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896400" y="1271520"/>
            <a:ext cx="3504600" cy="48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 u="sng">
                <a:solidFill>
                  <a:srgbClr val="00664d"/>
                </a:solidFill>
                <a:uFillTx/>
                <a:latin typeface="Arial"/>
              </a:rPr>
              <a:t>1 вари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команд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совет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угад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роб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отта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ол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испыт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5234040" y="1469880"/>
            <a:ext cx="3759120" cy="48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 u="sng">
                <a:solidFill>
                  <a:srgbClr val="00664d"/>
                </a:solidFill>
                <a:uFillTx/>
                <a:latin typeface="Arial"/>
              </a:rPr>
              <a:t>2 вари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бесед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распил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преслед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ухаж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отгад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успока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посовет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2739960" y="1908000"/>
            <a:ext cx="5191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2602800" y="2481120"/>
            <a:ext cx="5191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6989040" y="2124000"/>
            <a:ext cx="5191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7252560" y="3259080"/>
            <a:ext cx="5191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7252560" y="5564160"/>
            <a:ext cx="5191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2358000" y="3127320"/>
            <a:ext cx="6195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2502360" y="5292720"/>
            <a:ext cx="6195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6885360" y="4356000"/>
            <a:ext cx="6195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6885720" y="3780000"/>
            <a:ext cx="5205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2388960" y="3649680"/>
            <a:ext cx="5191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7116120" y="4902120"/>
            <a:ext cx="5205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8"/>
          <p:cNvSpPr/>
          <p:nvPr/>
        </p:nvSpPr>
        <p:spPr>
          <a:xfrm>
            <a:off x="7161120" y="2687760"/>
            <a:ext cx="5205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9"/>
          <p:cNvSpPr/>
          <p:nvPr/>
        </p:nvSpPr>
        <p:spPr>
          <a:xfrm>
            <a:off x="2371680" y="4178160"/>
            <a:ext cx="5205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0"/>
          <p:cNvSpPr/>
          <p:nvPr/>
        </p:nvSpPr>
        <p:spPr>
          <a:xfrm>
            <a:off x="2337480" y="4784760"/>
            <a:ext cx="5205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2430360" y="276120"/>
            <a:ext cx="51991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Блиц опро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464040" y="1332000"/>
            <a:ext cx="88142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а какие вопросы отвечают глаголы прошедш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е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460440" y="2484360"/>
            <a:ext cx="913896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т глаголов какого вида нельзя образовать фор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оящего времен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455400" y="3635280"/>
            <a:ext cx="92455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У какого глагола нельзя определить лицо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2228b"/>
                </a:solidFill>
                <a:latin typeface="Arial"/>
              </a:rPr>
              <a:t>уснули, принесёшь, поднимите, прибег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487800" y="5275440"/>
            <a:ext cx="87732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У какого глагола нельзя определить спряжени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2228b"/>
                </a:solidFill>
                <a:latin typeface="Arial"/>
              </a:rPr>
              <a:t>гуляют, рисовала, коснёшься, пиш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462960" y="4643280"/>
            <a:ext cx="5866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Что значит проспрягать глаго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69080" y="6588000"/>
            <a:ext cx="8442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Глаголы какого времени изменяются по род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2430360" y="276120"/>
            <a:ext cx="51991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Блиц опро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471240" y="1332000"/>
            <a:ext cx="908244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У каких глаголов нельзя определить род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2228b"/>
                </a:solidFill>
                <a:latin typeface="Arial"/>
              </a:rPr>
              <a:t>прыгал, кричала, играет, поели, блесте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444600" y="2625840"/>
            <a:ext cx="848808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Здесь все глагол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яжения. В окончан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ущена буква  -И-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2228b"/>
                </a:solidFill>
                <a:latin typeface="Arial"/>
              </a:rPr>
              <a:t>езд__те, гуля__шь, стел__шь, услыш__те, ход__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463320" y="4356000"/>
            <a:ext cx="6144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Суффикс  -Л- в основу слова …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66200" y="5364000"/>
            <a:ext cx="81208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Форма прошедшего времени образуется 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голов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1896840" y="1908000"/>
            <a:ext cx="5616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ноч__  (не)спала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__ла, штопала, пек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ла и уложил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его (не)п__забы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518040" y="395280"/>
            <a:ext cx="930960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Списать, раскрывая скобк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вставляя пропущенные букв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57240" y="395280"/>
            <a:ext cx="1054080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Определите время глаго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Выделить окончания и суффик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575640" y="276120"/>
            <a:ext cx="89085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По какому признаку слов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объединены в группы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873720" y="2050920"/>
            <a:ext cx="217548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22228b"/>
                </a:solidFill>
                <a:latin typeface="Arial"/>
              </a:rPr>
              <a:t>бег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22228b"/>
                </a:solidFill>
                <a:latin typeface="Arial"/>
              </a:rPr>
              <a:t>пад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22228b"/>
                </a:solidFill>
                <a:latin typeface="Arial"/>
              </a:rPr>
              <a:t>куш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337120" y="4410000"/>
            <a:ext cx="240120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3300"/>
                </a:solidFill>
                <a:latin typeface="Arial"/>
              </a:rPr>
              <a:t>бол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3300"/>
                </a:solidFill>
                <a:latin typeface="Arial"/>
              </a:rPr>
              <a:t>верт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3300"/>
                </a:solidFill>
                <a:latin typeface="Arial"/>
              </a:rPr>
              <a:t>терп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5312520" y="2052720"/>
            <a:ext cx="242856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664d"/>
                </a:solidFill>
                <a:latin typeface="Arial"/>
              </a:rPr>
              <a:t>прос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664d"/>
                </a:solidFill>
                <a:latin typeface="Arial"/>
              </a:rPr>
              <a:t>езд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664d"/>
                </a:solidFill>
                <a:latin typeface="Arial"/>
              </a:rPr>
              <a:t>гроз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6500520" y="4371840"/>
            <a:ext cx="272268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cc00ff"/>
                </a:solidFill>
                <a:latin typeface="Arial"/>
              </a:rPr>
              <a:t>гуля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cc00ff"/>
                </a:solidFill>
                <a:latin typeface="Arial"/>
              </a:rPr>
              <a:t>стреля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cc00ff"/>
                </a:solidFill>
                <a:latin typeface="Arial"/>
              </a:rPr>
              <a:t>гоня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-1195920" y="655560"/>
            <a:ext cx="126043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Одинаковые суффиксы перед  -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1945800" y="971640"/>
            <a:ext cx="644148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Стр. 145 правил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«Рассуждалк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-1319400" y="684360"/>
            <a:ext cx="1297332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Стр. 145  №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Списать, образовать от данны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глаголов форму прошедшего времени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женского род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Выделить суффиксы, оконч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и основ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82120" y="5176800"/>
            <a:ext cx="69807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:  клеить - кле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Фигура, имеющая форму буквы L 4"/>
          <p:cNvSpPr/>
          <p:nvPr/>
        </p:nvSpPr>
        <p:spPr>
          <a:xfrm rot="8064000">
            <a:off x="4676040" y="5219280"/>
            <a:ext cx="282600" cy="282600"/>
          </a:xfrm>
          <a:custGeom>
            <a:avLst/>
            <a:gdLst/>
            <a:ahLst/>
            <a:rect l="l" t="t" r="r" b="b"/>
            <a:pathLst>
              <a:path w="282391" h="283787">
                <a:moveTo>
                  <a:pt x="0" y="0"/>
                </a:moveTo>
                <a:lnTo>
                  <a:pt x="41593" y="0"/>
                </a:lnTo>
                <a:lnTo>
                  <a:pt x="41593" y="229000"/>
                </a:lnTo>
                <a:lnTo>
                  <a:pt x="282391" y="229000"/>
                </a:lnTo>
                <a:lnTo>
                  <a:pt x="282391" y="283787"/>
                </a:lnTo>
                <a:lnTo>
                  <a:pt x="0" y="283787"/>
                </a:lnTo>
                <a:lnTo>
                  <a:pt x="0" y="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Фигура, имеющая форму буквы L 5"/>
          <p:cNvSpPr/>
          <p:nvPr/>
        </p:nvSpPr>
        <p:spPr>
          <a:xfrm rot="8064000">
            <a:off x="4247280" y="5211000"/>
            <a:ext cx="252360" cy="257040"/>
          </a:xfrm>
          <a:custGeom>
            <a:avLst/>
            <a:gdLst/>
            <a:ahLst/>
            <a:rect l="l" t="t" r="r" b="b"/>
            <a:pathLst>
              <a:path w="252667" h="256495">
                <a:moveTo>
                  <a:pt x="0" y="0"/>
                </a:moveTo>
                <a:lnTo>
                  <a:pt x="42577" y="0"/>
                </a:lnTo>
                <a:lnTo>
                  <a:pt x="42577" y="207475"/>
                </a:lnTo>
                <a:lnTo>
                  <a:pt x="252667" y="207475"/>
                </a:lnTo>
                <a:lnTo>
                  <a:pt x="252667" y="256495"/>
                </a:lnTo>
                <a:lnTo>
                  <a:pt x="0" y="256495"/>
                </a:lnTo>
                <a:lnTo>
                  <a:pt x="0" y="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Фигура, имеющая форму буквы L 6"/>
          <p:cNvSpPr/>
          <p:nvPr/>
        </p:nvSpPr>
        <p:spPr>
          <a:xfrm rot="8064000">
            <a:off x="6478560" y="5179680"/>
            <a:ext cx="272880" cy="263520"/>
          </a:xfrm>
          <a:custGeom>
            <a:avLst/>
            <a:gdLst/>
            <a:ahLst/>
            <a:rect l="l" t="t" r="r" b="b"/>
            <a:pathLst>
              <a:path w="273124" h="263654">
                <a:moveTo>
                  <a:pt x="0" y="0"/>
                </a:moveTo>
                <a:lnTo>
                  <a:pt x="44157" y="0"/>
                </a:lnTo>
                <a:lnTo>
                  <a:pt x="44157" y="212502"/>
                </a:lnTo>
                <a:lnTo>
                  <a:pt x="273124" y="212502"/>
                </a:lnTo>
                <a:lnTo>
                  <a:pt x="273124" y="263654"/>
                </a:lnTo>
                <a:lnTo>
                  <a:pt x="0" y="263654"/>
                </a:lnTo>
                <a:lnTo>
                  <a:pt x="0" y="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Фигура, имеющая форму буквы L 7"/>
          <p:cNvSpPr/>
          <p:nvPr/>
        </p:nvSpPr>
        <p:spPr>
          <a:xfrm rot="8064000">
            <a:off x="6859800" y="5174280"/>
            <a:ext cx="261720" cy="263520"/>
          </a:xfrm>
          <a:custGeom>
            <a:avLst/>
            <a:gdLst/>
            <a:ahLst/>
            <a:rect l="l" t="t" r="r" b="b"/>
            <a:pathLst>
              <a:path w="262718" h="264488">
                <a:moveTo>
                  <a:pt x="0" y="0"/>
                </a:moveTo>
                <a:lnTo>
                  <a:pt x="44271" y="0"/>
                </a:lnTo>
                <a:lnTo>
                  <a:pt x="44271" y="213518"/>
                </a:lnTo>
                <a:lnTo>
                  <a:pt x="262718" y="213518"/>
                </a:lnTo>
                <a:lnTo>
                  <a:pt x="262718" y="264488"/>
                </a:lnTo>
                <a:lnTo>
                  <a:pt x="0" y="264488"/>
                </a:lnTo>
                <a:lnTo>
                  <a:pt x="0" y="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авая круглая скобка 9"/>
          <p:cNvSpPr/>
          <p:nvPr/>
        </p:nvSpPr>
        <p:spPr>
          <a:xfrm rot="5400000">
            <a:off x="3892320" y="5238720"/>
            <a:ext cx="144720" cy="1176480"/>
          </a:xfrm>
          <a:custGeom>
            <a:avLst/>
            <a:gdLst>
              <a:gd name="textAreaLeft" fmla="*/ 0 w 144720"/>
              <a:gd name="textAreaRight" fmla="*/ 101520 w 144720"/>
              <a:gd name="textAreaTop" fmla="*/ 51840 h 1176480"/>
              <a:gd name="textAreaBottom" fmla="*/ 112464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52"/>
                  <a:pt x="21600" y="1904"/>
                </a:cubicBezTo>
                <a:lnTo>
                  <a:pt x="21600" y="19696"/>
                </a:lnTo>
                <a:cubicBezTo>
                  <a:pt x="21600" y="20648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авая круглая скобка 10"/>
          <p:cNvSpPr/>
          <p:nvPr/>
        </p:nvSpPr>
        <p:spPr>
          <a:xfrm rot="5400000">
            <a:off x="6144120" y="5238000"/>
            <a:ext cx="144720" cy="1177920"/>
          </a:xfrm>
          <a:custGeom>
            <a:avLst/>
            <a:gdLst>
              <a:gd name="textAreaLeft" fmla="*/ 0 w 144720"/>
              <a:gd name="textAreaRight" fmla="*/ 101520 w 144720"/>
              <a:gd name="textAreaTop" fmla="*/ 51840 h 1177920"/>
              <a:gd name="textAreaBottom" fmla="*/ 1126080 h 11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52"/>
                  <a:pt x="21600" y="1904"/>
                </a:cubicBezTo>
                <a:lnTo>
                  <a:pt x="21600" y="19696"/>
                </a:lnTo>
                <a:cubicBezTo>
                  <a:pt x="21600" y="20648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6:52:07Z</dcterms:created>
  <dc:creator/>
  <dc:description/>
  <dc:language>en-US</dc:language>
  <cp:lastModifiedBy>Natasha</cp:lastModifiedBy>
  <dcterms:modified xsi:type="dcterms:W3CDTF">2012-12-18T20:19:37Z</dcterms:modified>
  <cp:revision>13</cp:revision>
  <dc:subject/>
  <dc:title>Презентация PowerPoint</dc:title>
</cp:coreProperties>
</file>