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E4AA-2C30-4CDD-9DD1-8C7158166A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FFE7D-78D3-4FBB-8463-2AF0BC93FB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9F0AC-9B7C-487F-8098-5059814DA5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DE17E-D6F7-485C-8825-B0A46359EA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292DA-E92C-4AFB-9475-33580A99F2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8F1EC-CC0F-48E2-BBF7-E22E04C4E9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B5E64-881E-477D-A9DE-D706A77AFA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3A97-D311-4E5F-AF3D-69E5A0F5B0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27DD3-C123-43ED-AB50-593771817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CD712-9A4C-4898-B5DE-239B9DD3F9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9869-27DE-436D-BD23-9740F7B7EF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ECA-DF77-499D-819B-5FCBE19F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434-0C99-4CF2-A1AE-AA349044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D9C-A8A8-40A6-81ED-41EC3424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1D7-6EC8-41E1-8402-7675D3A6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4D7-5A1F-479E-9E96-9724A97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BB5-CA3A-47D1-A11E-0670E3B3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80C-11FC-44A4-94F4-B150C9E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D5B-B506-4DC6-B75E-459226E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0D8-CC80-4573-8763-FB57C48A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67D-8653-4CE4-BC3A-020C35E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285-AD03-4595-8AD1-89AE4D91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28C-3A65-4B77-A94E-78AB547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5F4E3-BC9C-4BAB-A68E-5CE5CB1001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09000" y="826920"/>
            <a:ext cx="74502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равописа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суффиксо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глаго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61960" y="3506760"/>
            <a:ext cx="46800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427760" y="395280"/>
            <a:ext cx="74746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037240" y="1738440"/>
            <a:ext cx="5267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46 № 2 по образ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 с. 208 вариант 3 (в С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78600" y="1187280"/>
            <a:ext cx="93492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евятнадцатое дека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-184680" y="276120"/>
            <a:ext cx="10429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пиши,вставляя гласную в суффикс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уффикс выд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27360" y="2411280"/>
            <a:ext cx="35046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оман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тт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испы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234040" y="2411280"/>
            <a:ext cx="3759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бес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распи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ресл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от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спок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о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29240" y="1731960"/>
            <a:ext cx="5990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:  запи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ы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 - запи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ы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Фигура, имеющая форму буквы L 5"/>
          <p:cNvSpPr/>
          <p:nvPr/>
        </p:nvSpPr>
        <p:spPr>
          <a:xfrm rot="8064000">
            <a:off x="3837600" y="1540440"/>
            <a:ext cx="453960" cy="471600"/>
          </a:xfrm>
          <a:custGeom>
            <a:avLst/>
            <a:gdLst/>
            <a:ahLst/>
            <a:rect l="l" t="t" r="r" b="b"/>
            <a:pathLst>
              <a:path w="454034" h="471664">
                <a:moveTo>
                  <a:pt x="0" y="0"/>
                </a:moveTo>
                <a:lnTo>
                  <a:pt x="66875" y="0"/>
                </a:lnTo>
                <a:lnTo>
                  <a:pt x="66875" y="414524"/>
                </a:lnTo>
                <a:lnTo>
                  <a:pt x="454034" y="414524"/>
                </a:lnTo>
                <a:lnTo>
                  <a:pt x="454034" y="471664"/>
                </a:lnTo>
                <a:lnTo>
                  <a:pt x="0" y="47166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Фигура, имеющая форму буквы L 6"/>
          <p:cNvSpPr/>
          <p:nvPr/>
        </p:nvSpPr>
        <p:spPr>
          <a:xfrm rot="8064000">
            <a:off x="5933160" y="1541880"/>
            <a:ext cx="453960" cy="471600"/>
          </a:xfrm>
          <a:custGeom>
            <a:avLst/>
            <a:gdLst/>
            <a:ahLst/>
            <a:rect l="l" t="t" r="r" b="b"/>
            <a:pathLst>
              <a:path w="454034" h="471664">
                <a:moveTo>
                  <a:pt x="0" y="0"/>
                </a:moveTo>
                <a:lnTo>
                  <a:pt x="66875" y="0"/>
                </a:lnTo>
                <a:lnTo>
                  <a:pt x="66875" y="414524"/>
                </a:lnTo>
                <a:lnTo>
                  <a:pt x="454034" y="414524"/>
                </a:lnTo>
                <a:lnTo>
                  <a:pt x="454034" y="471664"/>
                </a:lnTo>
                <a:lnTo>
                  <a:pt x="0" y="47166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236400" y="276120"/>
            <a:ext cx="3587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896400" y="1271520"/>
            <a:ext cx="350460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оман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об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тт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испы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234040" y="1469880"/>
            <a:ext cx="37591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 u="sng">
                <a:solidFill>
                  <a:srgbClr val="00664d"/>
                </a:solidFill>
                <a:uFillTx/>
                <a:latin typeface="Arial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бес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распил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ресле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хаж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отгад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успока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2228b"/>
                </a:solidFill>
                <a:latin typeface="Arial"/>
              </a:rPr>
              <a:t>посовет__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739960" y="19080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602800" y="248112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989040" y="21240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252560" y="325908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252560" y="556416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358000" y="312732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2502360" y="529272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85360" y="4356000"/>
            <a:ext cx="619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6885720" y="378000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2388960" y="364968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7116120" y="490212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7161120" y="26877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2371680" y="41781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2337480" y="4784760"/>
            <a:ext cx="520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430360" y="276120"/>
            <a:ext cx="5199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Блиц 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64040" y="1332000"/>
            <a:ext cx="88142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 какие вопросы отвечают глаголы прошед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60440" y="2484360"/>
            <a:ext cx="913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 глаголов какого вида нельзя образовать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его времен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55400" y="3635280"/>
            <a:ext cx="92455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 какого глагола нельзя определить лицо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уснули, принесёшь, поднимите, прибег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87800" y="5275440"/>
            <a:ext cx="87732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 какого глагола нельзя определить спряж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гуляют, рисовала, коснёшься, пи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62960" y="4643280"/>
            <a:ext cx="5866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Что значит проспрягать глаг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69080" y="6588000"/>
            <a:ext cx="844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Глаголы какого времени изменяются по род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430360" y="276120"/>
            <a:ext cx="5199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Блиц 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471240" y="1332000"/>
            <a:ext cx="90824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У каких глаголов нельзя определить род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прыгал, кричала, играет, поели, блест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44600" y="2625840"/>
            <a:ext cx="8488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Здесь все глагол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яжения. В оконча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щена буква  -И-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езд__те, гуля__шь, стел__шь, услыш__те, ход__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63320" y="4356000"/>
            <a:ext cx="6144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Суффикс  -Л- в основу слова …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6200" y="5364000"/>
            <a:ext cx="81208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Форма прошедшего времени образуетс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ов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896840" y="1908000"/>
            <a:ext cx="5616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оч__  (не)спал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__ла, штопала, пек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а и уложи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(не)п__забы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18040" y="395280"/>
            <a:ext cx="93096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писать, раскрывая скобк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ставляя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240" y="395280"/>
            <a:ext cx="10540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Определите время глаго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ыделить окончания и суффик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75640" y="276120"/>
            <a:ext cx="89085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По какому признаку сл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объединены в групп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73720" y="2050920"/>
            <a:ext cx="21754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бег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пад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Arial"/>
              </a:rPr>
              <a:t>ку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337120" y="4410000"/>
            <a:ext cx="24012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бо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вер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терп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312520" y="2052720"/>
            <a:ext cx="2428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про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езд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664d"/>
                </a:solidFill>
                <a:latin typeface="Arial"/>
              </a:rPr>
              <a:t>гроз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6500520" y="4371840"/>
            <a:ext cx="27226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гу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стре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Arial"/>
              </a:rPr>
              <a:t>гон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-1195920" y="655560"/>
            <a:ext cx="12604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Одинаковые суффиксы перед  -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945800" y="971640"/>
            <a:ext cx="644148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тр. 145 прави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Рассуждал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-1319400" y="684360"/>
            <a:ext cx="1297332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тр. 145  №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писать, образовать от данны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глаголов форму прошедшего времен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женского р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ыделить суффиксы, 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и основ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82120" y="5176800"/>
            <a:ext cx="698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:  клеить - кле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Фигура, имеющая форму буквы L 4"/>
          <p:cNvSpPr/>
          <p:nvPr/>
        </p:nvSpPr>
        <p:spPr>
          <a:xfrm rot="8064000">
            <a:off x="4676040" y="5219280"/>
            <a:ext cx="282600" cy="282600"/>
          </a:xfrm>
          <a:custGeom>
            <a:avLst/>
            <a:gdLst/>
            <a:ahLst/>
            <a:rect l="l" t="t" r="r" b="b"/>
            <a:pathLst>
              <a:path w="282391" h="283787">
                <a:moveTo>
                  <a:pt x="0" y="0"/>
                </a:moveTo>
                <a:lnTo>
                  <a:pt x="41593" y="0"/>
                </a:lnTo>
                <a:lnTo>
                  <a:pt x="41593" y="229000"/>
                </a:lnTo>
                <a:lnTo>
                  <a:pt x="282391" y="229000"/>
                </a:lnTo>
                <a:lnTo>
                  <a:pt x="282391" y="283787"/>
                </a:lnTo>
                <a:lnTo>
                  <a:pt x="0" y="283787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Фигура, имеющая форму буквы L 5"/>
          <p:cNvSpPr/>
          <p:nvPr/>
        </p:nvSpPr>
        <p:spPr>
          <a:xfrm rot="8064000">
            <a:off x="4247280" y="5211000"/>
            <a:ext cx="252360" cy="257040"/>
          </a:xfrm>
          <a:custGeom>
            <a:avLst/>
            <a:gdLst/>
            <a:ahLst/>
            <a:rect l="l" t="t" r="r" b="b"/>
            <a:pathLst>
              <a:path w="252667" h="256495">
                <a:moveTo>
                  <a:pt x="0" y="0"/>
                </a:moveTo>
                <a:lnTo>
                  <a:pt x="42577" y="0"/>
                </a:lnTo>
                <a:lnTo>
                  <a:pt x="42577" y="207475"/>
                </a:lnTo>
                <a:lnTo>
                  <a:pt x="252667" y="207475"/>
                </a:lnTo>
                <a:lnTo>
                  <a:pt x="252667" y="256495"/>
                </a:lnTo>
                <a:lnTo>
                  <a:pt x="0" y="256495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Фигура, имеющая форму буквы L 6"/>
          <p:cNvSpPr/>
          <p:nvPr/>
        </p:nvSpPr>
        <p:spPr>
          <a:xfrm rot="8064000">
            <a:off x="6478560" y="5179680"/>
            <a:ext cx="272880" cy="263520"/>
          </a:xfrm>
          <a:custGeom>
            <a:avLst/>
            <a:gdLst/>
            <a:ahLst/>
            <a:rect l="l" t="t" r="r" b="b"/>
            <a:pathLst>
              <a:path w="273124" h="263654">
                <a:moveTo>
                  <a:pt x="0" y="0"/>
                </a:moveTo>
                <a:lnTo>
                  <a:pt x="44157" y="0"/>
                </a:lnTo>
                <a:lnTo>
                  <a:pt x="44157" y="212502"/>
                </a:lnTo>
                <a:lnTo>
                  <a:pt x="273124" y="212502"/>
                </a:lnTo>
                <a:lnTo>
                  <a:pt x="273124" y="263654"/>
                </a:lnTo>
                <a:lnTo>
                  <a:pt x="0" y="263654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Фигура, имеющая форму буквы L 7"/>
          <p:cNvSpPr/>
          <p:nvPr/>
        </p:nvSpPr>
        <p:spPr>
          <a:xfrm rot="8064000">
            <a:off x="6859800" y="5174280"/>
            <a:ext cx="261720" cy="263520"/>
          </a:xfrm>
          <a:custGeom>
            <a:avLst/>
            <a:gdLst/>
            <a:ahLst/>
            <a:rect l="l" t="t" r="r" b="b"/>
            <a:pathLst>
              <a:path w="262718" h="264488">
                <a:moveTo>
                  <a:pt x="0" y="0"/>
                </a:moveTo>
                <a:lnTo>
                  <a:pt x="44271" y="0"/>
                </a:lnTo>
                <a:lnTo>
                  <a:pt x="44271" y="213518"/>
                </a:lnTo>
                <a:lnTo>
                  <a:pt x="262718" y="213518"/>
                </a:lnTo>
                <a:lnTo>
                  <a:pt x="262718" y="264488"/>
                </a:lnTo>
                <a:lnTo>
                  <a:pt x="0" y="264488"/>
                </a:lnTo>
                <a:lnTo>
                  <a:pt x="0" y="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авая круглая скобка 9"/>
          <p:cNvSpPr/>
          <p:nvPr/>
        </p:nvSpPr>
        <p:spPr>
          <a:xfrm rot="5400000">
            <a:off x="3892320" y="5238720"/>
            <a:ext cx="144720" cy="1176480"/>
          </a:xfrm>
          <a:custGeom>
            <a:avLst/>
            <a:gdLst>
              <a:gd name="textAreaLeft" fmla="*/ 0 w 144720"/>
              <a:gd name="textAreaRight" fmla="*/ 101520 w 144720"/>
              <a:gd name="textAreaTop" fmla="*/ 51840 h 1176480"/>
              <a:gd name="textAreaBottom" fmla="*/ 112464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2"/>
                  <a:pt x="21600" y="1904"/>
                </a:cubicBezTo>
                <a:lnTo>
                  <a:pt x="21600" y="19696"/>
                </a:lnTo>
                <a:cubicBezTo>
                  <a:pt x="21600" y="20648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авая круглая скобка 10"/>
          <p:cNvSpPr/>
          <p:nvPr/>
        </p:nvSpPr>
        <p:spPr>
          <a:xfrm rot="5400000">
            <a:off x="6144120" y="5238000"/>
            <a:ext cx="144720" cy="1177920"/>
          </a:xfrm>
          <a:custGeom>
            <a:avLst/>
            <a:gdLst>
              <a:gd name="textAreaLeft" fmla="*/ 0 w 144720"/>
              <a:gd name="textAreaRight" fmla="*/ 101520 w 144720"/>
              <a:gd name="textAreaTop" fmla="*/ 51840 h 1177920"/>
              <a:gd name="textAreaBottom" fmla="*/ 1126080 h 11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2"/>
                  <a:pt x="21600" y="1904"/>
                </a:cubicBezTo>
                <a:lnTo>
                  <a:pt x="21600" y="19696"/>
                </a:lnTo>
                <a:cubicBezTo>
                  <a:pt x="21600" y="20648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52:07Z</dcterms:created>
  <dc:creator/>
  <dc:description/>
  <dc:language>en-US</dc:language>
  <cp:lastModifiedBy>Natasha</cp:lastModifiedBy>
  <dcterms:modified xsi:type="dcterms:W3CDTF">2012-12-18T20:19:37Z</dcterms:modified>
  <cp:revision>13</cp:revision>
  <dc:subject/>
  <dc:title>Презентация PowerPoint</dc:title>
</cp:coreProperties>
</file>