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A59-3F02-4BD2-859C-7903AB46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9AE-D0A0-43F0-A657-B6BCF6BB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5CD-9358-4B04-8BC2-F5C086FE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CE7-7C1A-472A-AA9D-282A8C5E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2B39-EC13-4028-8248-B0F621C1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651A-1707-4D46-99A3-88BFE120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A95B-BE2D-4750-A7FB-93129D65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C80-0410-4015-BD19-1C038E1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1EC3-DCFD-4D8C-A530-E838F1E8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E82B-F7A4-40CA-AA3B-C034F1F6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0B59-4BE0-4268-B4CB-7E36ECE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74A-8E8E-4CE1-8FFB-3959C550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2616-ACCB-4E29-BB34-386BCFEB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B981-8242-4C05-B5B2-DEC5FA17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F9D3-2942-4050-8C67-4874CF4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03AA-6CA8-447D-BF30-450DD280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CFAB-CD7D-4D7D-876C-C1F12986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3C8-BC1D-4E0B-B274-0444DC58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04B-C25A-4C72-940A-D4C21EF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0BA-2681-419E-A63B-C3748C00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BEC-A272-4E1A-B698-7738113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CEC-647B-47DC-BFF4-1FFD213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BBD-3EA3-4211-A82C-584BF19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67E-8578-4798-86EF-51E4AFC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C6CA-BCE7-42F7-82BD-0D88AF9D11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2EC-D6F4-4B99-927E-A450B33936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16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b39257"/>
                </a:solidFill>
                <a:latin typeface="Arial"/>
              </a:rPr>
              <a:t>Праздники</a:t>
            </a:r>
            <a:br>
              <a:rPr sz="14000"/>
            </a:br>
            <a:br>
              <a:rPr sz="14000"/>
            </a:br>
            <a:r>
              <a:rPr b="0" lang="ru-RU" sz="2400" spc="-1" strike="noStrike">
                <a:solidFill>
                  <a:srgbClr val="b39257"/>
                </a:solidFill>
                <a:latin typeface="Arial"/>
              </a:rPr>
              <a:t>Кроссворд составила ученица 4Б класса ГОУ СОШ 508</a:t>
            </a:r>
            <a:br>
              <a:rPr sz="2400"/>
            </a:br>
            <a:r>
              <a:rPr b="0" lang="ru-RU" sz="2400" spc="-1" strike="noStrike">
                <a:solidFill>
                  <a:srgbClr val="b39257"/>
                </a:solidFill>
                <a:latin typeface="Arial"/>
              </a:rPr>
              <a:t>Ширикова Анастасия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8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95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о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аж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й зако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ыл принят 12 декабря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и праздни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мечаются в кру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дственных лиц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3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коренившеес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торяющееся с давн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р действия, тради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1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4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6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2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3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4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5"/>
          <p:cNvSpPr/>
          <p:nvPr/>
        </p:nvSpPr>
        <p:spPr>
          <a:xfrm>
            <a:off x="468360" y="692280"/>
            <a:ext cx="8424720" cy="504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о праздник все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многонациональ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рода нашей страны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ех, кто оберегает наш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емлю и стар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умножить её богатства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7451640" y="5229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7451640" y="436572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7451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7451640" y="26352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7451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7451640" y="177156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8315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6586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5722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4859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3994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313056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226692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140328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538200" y="4363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2"/>
          <p:cNvSpPr/>
          <p:nvPr/>
        </p:nvSpPr>
        <p:spPr>
          <a:xfrm>
            <a:off x="-325440" y="436572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3995640" y="350028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3995640" y="263700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3995640" y="177336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399564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3995640" y="42840"/>
            <a:ext cx="86544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8"/>
          <p:cNvSpPr/>
          <p:nvPr/>
        </p:nvSpPr>
        <p:spPr>
          <a:xfrm>
            <a:off x="1403280" y="5229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1403280" y="6093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0"/>
          <p:cNvSpPr/>
          <p:nvPr/>
        </p:nvSpPr>
        <p:spPr>
          <a:xfrm>
            <a:off x="1403280" y="350028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1"/>
          <p:cNvSpPr/>
          <p:nvPr/>
        </p:nvSpPr>
        <p:spPr>
          <a:xfrm>
            <a:off x="1403280" y="263700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1403280" y="177336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1403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1403280" y="42840"/>
            <a:ext cx="8650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8315280" y="907920"/>
            <a:ext cx="86508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658800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5724360" y="907920"/>
            <a:ext cx="865440" cy="86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1258920" y="981000"/>
            <a:ext cx="7345440" cy="388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ревние славя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здновали Новый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1 числ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этого месяца 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46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b39257"/>
                </a:solidFill>
                <a:latin typeface="Arial"/>
              </a:rPr>
              <a:t>Молодцы!</a:t>
            </a:r>
            <a:endParaRPr b="0" lang="en-US" sz="1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374" name="Picture 8" descr=""/>
          <p:cNvPicPr/>
          <p:nvPr/>
        </p:nvPicPr>
        <p:blipFill>
          <a:blip r:embed="rId1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5649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9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4:12:50Z</dcterms:created>
  <dc:creator>user</dc:creator>
  <dc:description/>
  <dc:language>en-US</dc:language>
  <cp:lastModifiedBy>user</cp:lastModifiedBy>
  <dcterms:modified xsi:type="dcterms:W3CDTF">2013-03-01T10:40:31Z</dcterms:modified>
  <cp:revision>4</cp:revision>
  <dc:subject/>
  <dc:title>Слайд 1</dc:title>
</cp:coreProperties>
</file>