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E14-24B3-4E6D-8A7D-A8E1F500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E6C6-4014-4CDB-BC11-E57652F0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7D12-E338-42FD-ACE6-8BAF8B27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3C0-D823-4F3E-9F71-866D2ED3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E24-862F-4907-BD22-802CB124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5AF-EAFC-4F2B-8B72-EC83BC50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D35C-2391-42AC-9400-56B73CC2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97D3-5217-45EE-B0FA-A40EC073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563-AAD4-4262-AF76-B069B898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355-33B3-4AD1-B425-B56B760F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16A-EFF3-4279-B4CE-77065635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F50A-A743-44AC-A4A3-18831F69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CC94-0273-4C7C-97E1-D77638AD5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05:41:10Z</dcterms:created>
  <dc:creator>User5</dc:creator>
  <dc:description/>
  <dc:language>en-US</dc:language>
  <cp:lastModifiedBy>User5</cp:lastModifiedBy>
  <dcterms:modified xsi:type="dcterms:W3CDTF">2007-05-23T05:59:50Z</dcterms:modified>
  <cp:revision>2</cp:revision>
  <dc:subject/>
  <dc:title>Слайд 1</dc:title>
</cp:coreProperties>
</file>