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D9A-444C-4FDA-8146-2409858E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82B-A40D-400C-B411-DEA2DF8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021-B49F-4F2A-B943-33FA2A60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335-0E9A-4338-AEED-58D456E3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452-B090-4477-80F5-8EDAAA9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FD5-6376-4C7B-BDB4-7154E803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83E-3240-448F-B2EF-933360C6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FD0-FE5B-4B2C-98DA-8E4AC44F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01E-1B48-452B-BD41-404DF24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BC8-53EB-4C19-B48F-7AD70B3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1F5-DB9A-4DA9-B2A9-86EC1DA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689-E885-48DF-BDE1-14275B3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BD41-21C2-464B-ACFD-7CE71499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5:41:10Z</dcterms:created>
  <dc:creator>User5</dc:creator>
  <dc:description/>
  <dc:language>en-US</dc:language>
  <cp:lastModifiedBy>User5</cp:lastModifiedBy>
  <dcterms:modified xsi:type="dcterms:W3CDTF">2007-05-23T05:59:50Z</dcterms:modified>
  <cp:revision>2</cp:revision>
  <dc:subject/>
  <dc:title>Слайд 1</dc:title>
</cp:coreProperties>
</file>