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4AA-3DC5-452F-91F1-5704D344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9D1-09D3-4D72-A39C-D3E9C15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05E-E9FC-44CF-993F-BA11A9EE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885-5EEA-4DEA-B032-8B4A0FD1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D9C-BF8B-4D72-A46A-DB18B057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599-C17E-43F4-AEA4-BE2B9F5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699-D1B7-4379-8CFF-07DD2C8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D3F-2296-4368-A9E7-BABEA78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9DB-6F22-472C-AED1-BE9BEC6A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EAB-364E-4A06-A8A7-D86E130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1E2-AE46-44CF-AE86-EA83B83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CAF-5ED5-482C-BA2C-FA64BA1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274-BFB3-4975-9119-EB134580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73080" y="-387360"/>
            <a:ext cx="1011708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214880" cy="302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193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3454560" cy="216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432900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279520" cy="17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6D9-3542-4399-B011-4379EC4812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3960720" cy="2476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560680" cy="3412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4708800" cy="314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95784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360" y="3203640"/>
            <a:ext cx="4174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24360" cy="447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7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519440" cy="626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81520" y="260280"/>
            <a:ext cx="4362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720" y="404640"/>
            <a:ext cx="36435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16:08Z</dcterms:modified>
  <cp:revision>8</cp:revision>
  <dc:subject/>
  <dc:title>Слайд 1</dc:title>
</cp:coreProperties>
</file>