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5E8-043A-4B00-B1A5-97E20B65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DF2-0D2C-43C9-87EB-BB688B9D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361-FD8E-4E1A-BE71-DB57BDA5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491-0BF4-4491-9A7A-AFAB55DD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A48-0E99-4DFD-9269-AF0E59D2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D40-9189-4F42-BE04-A3E5B5DC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8CC-BBAB-4B96-92C0-4087AC9C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876-409F-4E2A-BA77-261C4CFD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3E9-B001-4ED0-BEFE-B803D076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469-AC4E-4191-8DC4-6C6F4B08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15C-6C64-4C0F-BF98-0BCDD0E0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247-A2E7-40B8-A6E8-BEF7ADA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995E-BEF2-422C-8D51-90AC586DA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73080" y="-387360"/>
            <a:ext cx="1011708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214880" cy="302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484360" y="364500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193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3454560" cy="2162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432900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279520" cy="17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CC1-3203-4128-80F6-7DDB32BB55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3960720" cy="2476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560680" cy="3412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261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987640" y="227664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087720" cy="231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4708800" cy="314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59280" y="3789360"/>
            <a:ext cx="3957840" cy="2739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8360" y="3203640"/>
            <a:ext cx="41749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624360" cy="447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7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519440" cy="626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81520" y="260280"/>
            <a:ext cx="4362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6720" y="404640"/>
            <a:ext cx="364356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2:40:25Z</dcterms:created>
  <dc:creator>Танюшечка</dc:creator>
  <dc:description/>
  <dc:language>en-US</dc:language>
  <cp:lastModifiedBy>Танюшечка</cp:lastModifiedBy>
  <dcterms:modified xsi:type="dcterms:W3CDTF">2013-03-02T05:16:08Z</dcterms:modified>
  <cp:revision>8</cp:revision>
  <dc:subject/>
  <dc:title>Слайд 1</dc:title>
</cp:coreProperties>
</file>