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gif" ContentType="image/gif"/>
  <Override PartName="/ppt/media/image5.png" ContentType="image/png"/>
  <Override PartName="/ppt/media/image2.gif" ContentType="image/gif"/>
  <Override PartName="/ppt/media/image10.wmf" ContentType="image/x-wmf"/>
  <Override PartName="/ppt/media/image3.png" ContentType="image/png"/>
  <Override PartName="/ppt/media/image4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8.png" ContentType="image/png"/>
  <Override PartName="/ppt/media/image9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0B8E5-3DC5-47F5-85DA-FAF6D307C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82D75-7CF1-4A66-82F4-38C5F6E68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BFBC5-C38D-438F-BBDC-438955827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19101-E056-4B06-924B-5F088AB4B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C8A4C-7826-47DC-AD02-4A27E503D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11ED2-69CB-4B18-9876-2F5C7519A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427A4-3219-4CF7-9AFB-A0E6D06FE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8994F-291D-4CEC-A3A8-8F0C529FD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1C02C-5F51-4902-98D6-BDE20599A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B729E-262C-48BA-A8FF-55484C1EB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81385-B463-4366-B727-F1AC6D066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9C99D-14BF-4D54-8522-83D493279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FE794-C141-4DA6-B303-E11801EDC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016D1-38F8-4183-ABFB-9E9B227E1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D4D95-372E-44AA-A77C-A6DB0BA71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2B138-DEFB-4A66-9D39-2638CDE80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4C85A-64F1-43F1-88F6-0C2C51B8E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951093-FA55-46E8-99CC-EEF24118F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B43A2E-4B66-45EA-A7FF-084355025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0E4372-CFD6-4A12-80D8-49B382634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124E65-9209-403A-B48D-0B9100A45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176742-ED6F-47E1-93AC-0ABC391A6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348C4-B396-4E76-970C-2B5494878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40398C-3F7B-4694-AA62-6A9E18B65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6580D4-9145-41A4-A22C-E82FF0070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9906DF-6017-469B-8FCB-2D1079564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FEE963-E380-4638-AA04-4DF969B5F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3A4585-65F3-4D4B-BD97-66CB895C8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DCB7E6-FA30-4A11-BEF8-B215EC192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E8F03F-9AEB-493D-812B-55F120511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31CFDB-0356-4DAA-9BC4-7F5C0FEA4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2C7C58-D0F7-4727-9577-90353A3E0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FC030B-4CA4-4889-9B6E-33E27210F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D2D32-C79F-417B-9210-8D73A8525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B51478-D0EE-4E65-8766-41A0416E8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7753B6-018B-4CE3-8140-39A91D858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2600F3-AC00-4AD7-83F8-1691E24D5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102B50-D3CE-42F5-AEAD-FE4280EDD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1A1ADC-3C06-4576-AE0D-CB627A2CD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C420E4-DF0E-49BB-A029-C32BF6D24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13CF7D-1E58-42CA-B7D0-6E5C5B770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DBA984-0F61-4554-B5CB-0AC49040B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2688E0-5B5A-4E81-8EA6-5426D75BC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12D548-30F4-4E1D-84A1-5BC2C6B95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1B56A-1DB8-4E1B-A6DA-E615F949D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36FA48-CC10-4771-9DC7-2E22716C9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19B856-267B-44DD-97AF-6511228D1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109E6D-6285-4C10-B48D-A173551C9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6E13E4-37AD-4299-AF13-2918137F0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5747CD-86FE-49C4-B6A1-B2B219A2E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73A454-12FA-4291-8ACF-3EF53B98B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4FE75E-FE89-4428-87F3-A34BFB989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119836-16EF-491C-A2C6-3531FF27F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8E7E41-3C84-4E84-A641-34041D68C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5438F8-57E6-4735-B004-811AF4AAA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C632B-1E99-4181-97DD-8B45B629B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C7079A-C81F-49A8-ADA1-900B0884D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282B7F-ECD7-40EF-ADD2-996A3CA04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7BC94A-E930-453C-B056-534E875E2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84401D-95BE-42E5-A3D6-AE4E2DAE4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37D10A-7B97-41C1-85F3-64F1EECC5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27C5E8-74B2-453A-BF1C-77647949D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7A8075-A51B-46BC-BAE0-F8E3BE1EE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74E45D-5D6D-4167-8A6B-F72C4BD08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743F3B-6355-4929-B45E-DD988431C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1EF136-57FA-4F80-9501-9DDB8CE35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FCC7D-2EB2-45B5-8CEF-E0A3FD8B5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1B846A-D256-4DC2-B9F1-9E7C9D21C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D9C464-FA06-4FEB-BCEE-DE38E80A1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0C349A-3791-4716-B773-27037E8FC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09BC22-EC5D-40FB-850D-380967E56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1CA2D0-7DE7-4402-9866-9C4705FB1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6F1CA8-2B61-41C3-AC5C-ADD135AD7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FA686F-4172-4351-86F0-A738EFA3C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68838F-3665-4957-B26E-C16085EC4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12406B-55EB-4BA4-8D12-40579B33C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F93A4F-D77C-488E-BB38-2EC713C80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6A505-F286-404E-86FC-34AF75824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B30173-8F30-4BF5-8858-4EA370359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01B7A3-8175-4ACE-AEFC-8F474B74D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34241C-342A-425C-BE25-161DCB7A6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B93C66-3EC5-44BD-9349-8F58EB3D5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41F8B5-9C42-4DBE-933C-010511930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D39F74-4BBE-4BC0-9D73-FC0826555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07086F-FBF1-4909-90AC-930313910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B8B5E5-EB84-4C31-BED6-259AF8CAD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76652A-EFC7-4422-8941-9A78771E8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6F1D68-1955-4392-ABBE-4833839F1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7AB7A-8259-4A4F-852B-E6DBDD271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03A43F-3B0A-4D17-A8F1-C5837DC03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071D67-35E3-4F7C-9D09-16F16C19D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D141A7-CEE2-41A2-BB9C-C65842D7D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24FB85-7D5F-479F-B9EF-8BE44FAE3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336249-FA95-4D55-A3A2-E0F7398AC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B72AC2-A831-4007-A710-2F23CFE1A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BB217D-9A56-434B-9A90-329640F38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9FBA2-542D-4519-8307-E6A24CDC50F1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86760" y="-93600"/>
            <a:ext cx="2773080" cy="6950160"/>
            <a:chOff x="-86760" y="-93600"/>
            <a:chExt cx="2773080" cy="6950160"/>
          </a:xfrm>
        </p:grpSpPr>
        <p:sp>
          <p:nvSpPr>
            <p:cNvPr id="46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>
                <a:gd name="textAreaLeft" fmla="*/ 0 w 749160"/>
                <a:gd name="textAreaRight" fmla="*/ 749520 w 749160"/>
                <a:gd name="textAreaTop" fmla="*/ 0 h 1272960"/>
                <a:gd name="textAreaBottom" fmla="*/ 1273320 h 1272960"/>
              </a:gdLst>
              <a:ahLst/>
              <a:rect l="textAreaLeft" t="textAreaTop" r="textAreaRight" b="textAreaBottom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48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>
                  <a:gd name="textAreaLeft" fmla="*/ -360 w 227160"/>
                  <a:gd name="textAreaRight" fmla="*/ 227160 w 227160"/>
                  <a:gd name="textAreaTop" fmla="*/ 0 h 264240"/>
                  <a:gd name="textAreaBottom" fmla="*/ 264600 h 2642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>
                  <a:gd name="textAreaLeft" fmla="*/ -360 w 388440"/>
                  <a:gd name="textAreaRight" fmla="*/ 388440 w 388440"/>
                  <a:gd name="textAreaTop" fmla="*/ 0 h 219600"/>
                  <a:gd name="textAreaBottom" fmla="*/ 219960 h 2196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>
                  <a:gd name="textAreaLeft" fmla="*/ 360 w 406080"/>
                  <a:gd name="textAreaRight" fmla="*/ 406800 w 406080"/>
                  <a:gd name="textAreaTop" fmla="*/ 0 h 111600"/>
                  <a:gd name="textAreaBottom" fmla="*/ 111960 h 1116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>
                <a:gd name="textAreaLeft" fmla="*/ 0 w 1127160"/>
                <a:gd name="textAreaRight" fmla="*/ 1127520 w 112716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" name="Group 9"/>
            <p:cNvGrpSpPr/>
            <p:nvPr/>
          </p:nvGrpSpPr>
          <p:grpSpPr>
            <a:xfrm>
              <a:off x="-1080" y="2601000"/>
              <a:ext cx="2687400" cy="3117960"/>
              <a:chOff x="-1080" y="2601000"/>
              <a:chExt cx="2687400" cy="3117960"/>
            </a:xfrm>
          </p:grpSpPr>
          <p:sp>
            <p:nvSpPr>
              <p:cNvPr id="53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>
                  <a:gd name="textAreaLeft" fmla="*/ -360 w 975240"/>
                  <a:gd name="textAreaRight" fmla="*/ 975240 w 975240"/>
                  <a:gd name="textAreaTop" fmla="*/ 0 h 1005120"/>
                  <a:gd name="textAreaBottom" fmla="*/ 1005480 h 1005120"/>
                </a:gdLst>
                <a:ahLst/>
                <a:rect l="textAreaLeft" t="textAreaTop" r="textAreaRight" b="textAreaBottom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>
                  <a:gd name="textAreaLeft" fmla="*/ -360 w 816120"/>
                  <a:gd name="textAreaRight" fmla="*/ 816120 w 816120"/>
                  <a:gd name="textAreaTop" fmla="*/ 0 h 1021680"/>
                  <a:gd name="textAreaBottom" fmla="*/ 1022040 h 1021680"/>
                </a:gdLst>
                <a:ahLst/>
                <a:rect l="textAreaLeft" t="textAreaTop" r="textAreaRight" b="textAreaBottom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>
                  <a:gd name="textAreaLeft" fmla="*/ 360 w 289440"/>
                  <a:gd name="textAreaRight" fmla="*/ 290160 w 289440"/>
                  <a:gd name="textAreaTop" fmla="*/ 0 h 516960"/>
                  <a:gd name="textAreaBottom" fmla="*/ 517320 h 516960"/>
                </a:gdLst>
                <a:ahLst/>
                <a:rect l="textAreaLeft" t="textAreaTop" r="textAreaRight" b="textAreaBottom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>
                  <a:gd name="textAreaLeft" fmla="*/ 360 w 264960"/>
                  <a:gd name="textAreaRight" fmla="*/ 265680 w 264960"/>
                  <a:gd name="textAreaTop" fmla="*/ 0 h 308160"/>
                  <a:gd name="textAreaBottom" fmla="*/ 308520 h 308160"/>
                </a:gdLst>
                <a:ahLst/>
                <a:rect l="textAreaLeft" t="textAreaTop" r="textAreaRight" b="textAreaBottom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Freeform 14"/>
              <p:cNvSpPr/>
              <p:nvPr/>
            </p:nvSpPr>
            <p:spPr>
              <a:xfrm flipH="1" rot="789600">
                <a:off x="807840" y="3850560"/>
                <a:ext cx="65520" cy="182520"/>
              </a:xfrm>
              <a:custGeom>
                <a:avLst/>
                <a:gdLst>
                  <a:gd name="textAreaLeft" fmla="*/ 360 w 65520"/>
                  <a:gd name="textAreaRight" fmla="*/ 66240 w 65520"/>
                  <a:gd name="textAreaTop" fmla="*/ 0 h 182520"/>
                  <a:gd name="textAreaBottom" fmla="*/ 182880 h 182520"/>
                </a:gdLst>
                <a:ahLst/>
                <a:rect l="textAreaLeft" t="textAreaTop" r="textAreaRight" b="textAreaBottom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8" name="Group 15"/>
              <p:cNvGrpSpPr/>
              <p:nvPr/>
            </p:nvGrpSpPr>
            <p:grpSpPr>
              <a:xfrm>
                <a:off x="852120" y="4055040"/>
                <a:ext cx="1834200" cy="1663920"/>
                <a:chOff x="852120" y="4055040"/>
                <a:chExt cx="1834200" cy="1663920"/>
              </a:xfrm>
            </p:grpSpPr>
            <p:sp>
              <p:nvSpPr>
                <p:cNvPr id="59" name="Freeform 16"/>
                <p:cNvSpPr/>
                <p:nvPr/>
              </p:nvSpPr>
              <p:spPr>
                <a:xfrm flipH="1" rot="7102800">
                  <a:off x="1263600" y="3943800"/>
                  <a:ext cx="475560" cy="1219320"/>
                </a:xfrm>
                <a:custGeom>
                  <a:avLst/>
                  <a:gdLst>
                    <a:gd name="textAreaLeft" fmla="*/ -360 w 475560"/>
                    <a:gd name="textAreaRight" fmla="*/ 475560 w 475560"/>
                    <a:gd name="textAreaTop" fmla="*/ 0 h 1219320"/>
                    <a:gd name="textAreaBottom" fmla="*/ 1219680 h 1219320"/>
                  </a:gdLst>
                  <a:ahLst/>
                  <a:rect l="textAreaLeft" t="textAreaTop" r="textAreaRight" b="textAreaBottom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" name="Freeform 17"/>
                <p:cNvSpPr/>
                <p:nvPr/>
              </p:nvSpPr>
              <p:spPr>
                <a:xfrm flipH="1" rot="7102800">
                  <a:off x="2333880" y="4975200"/>
                  <a:ext cx="109800" cy="500400"/>
                </a:xfrm>
                <a:custGeom>
                  <a:avLst/>
                  <a:gdLst>
                    <a:gd name="textAreaLeft" fmla="*/ -360 w 109800"/>
                    <a:gd name="textAreaRight" fmla="*/ 109800 w 109800"/>
                    <a:gd name="textAreaTop" fmla="*/ 0 h 500400"/>
                    <a:gd name="textAreaBottom" fmla="*/ 500760 h 500400"/>
                  </a:gdLst>
                  <a:ahLst/>
                  <a:rect l="textAreaLeft" t="textAreaTop" r="textAreaRight" b="textAreaBottom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" name="Freeform 18"/>
                <p:cNvSpPr/>
                <p:nvPr/>
              </p:nvSpPr>
              <p:spPr>
                <a:xfrm flipH="1" rot="7102800">
                  <a:off x="2502000" y="5569200"/>
                  <a:ext cx="199080" cy="84240"/>
                </a:xfrm>
                <a:custGeom>
                  <a:avLst/>
                  <a:gdLst>
                    <a:gd name="textAreaLeft" fmla="*/ -360 w 199080"/>
                    <a:gd name="textAreaRight" fmla="*/ 199080 w 199080"/>
                    <a:gd name="textAreaTop" fmla="*/ 0 h 84240"/>
                    <a:gd name="textAreaBottom" fmla="*/ 84600 h 84240"/>
                  </a:gdLst>
                  <a:ahLst/>
                  <a:rect l="textAreaLeft" t="textAreaTop" r="textAreaRight" b="textAreaBottom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800" bIns="37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2" name="Group 19"/>
            <p:cNvGrpSpPr/>
            <p:nvPr/>
          </p:nvGrpSpPr>
          <p:grpSpPr>
            <a:xfrm>
              <a:off x="467280" y="6173640"/>
              <a:ext cx="790920" cy="634680"/>
              <a:chOff x="467280" y="6173640"/>
              <a:chExt cx="790920" cy="634680"/>
            </a:xfrm>
          </p:grpSpPr>
          <p:sp>
            <p:nvSpPr>
              <p:cNvPr id="63" name="Freeform 20"/>
              <p:cNvSpPr/>
              <p:nvPr/>
            </p:nvSpPr>
            <p:spPr>
              <a:xfrm rot="6248400">
                <a:off x="1012680" y="6172560"/>
                <a:ext cx="196560" cy="254160"/>
              </a:xfrm>
              <a:custGeom>
                <a:avLst/>
                <a:gdLst>
                  <a:gd name="textAreaLeft" fmla="*/ 0 w 196560"/>
                  <a:gd name="textAreaRight" fmla="*/ 196920 w 196560"/>
                  <a:gd name="textAreaTop" fmla="*/ 0 h 254160"/>
                  <a:gd name="textAreaBottom" fmla="*/ 254520 h 25416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Freeform 21"/>
              <p:cNvSpPr/>
              <p:nvPr/>
            </p:nvSpPr>
            <p:spPr>
              <a:xfrm rot="6248400">
                <a:off x="759600" y="6513480"/>
                <a:ext cx="336600" cy="21096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210960"/>
                  <a:gd name="textAreaBottom" fmla="*/ 211320 h 21096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Freeform 22"/>
              <p:cNvSpPr/>
              <p:nvPr/>
            </p:nvSpPr>
            <p:spPr>
              <a:xfrm rot="6248400">
                <a:off x="386280" y="6410880"/>
                <a:ext cx="352080" cy="107280"/>
              </a:xfrm>
              <a:custGeom>
                <a:avLst/>
                <a:gdLst>
                  <a:gd name="textAreaLeft" fmla="*/ 0 w 352080"/>
                  <a:gd name="textAreaRight" fmla="*/ 352440 w 352080"/>
                  <a:gd name="textAreaTop" fmla="*/ 0 h 107280"/>
                  <a:gd name="textAreaBottom" fmla="*/ 107640 h 10728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67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>
                  <a:gd name="textAreaLeft" fmla="*/ 0 w 206640"/>
                  <a:gd name="textAreaRight" fmla="*/ 207000 w 206640"/>
                  <a:gd name="textAreaTop" fmla="*/ 0 h 297720"/>
                  <a:gd name="textAreaBottom" fmla="*/ 298080 h 2977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>
                  <a:gd name="textAreaLeft" fmla="*/ 0 w 353880"/>
                  <a:gd name="textAreaRight" fmla="*/ 354240 w 353880"/>
                  <a:gd name="textAreaTop" fmla="*/ 0 h 247320"/>
                  <a:gd name="textAreaBottom" fmla="*/ 247680 h 24732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>
                  <a:gd name="textAreaLeft" fmla="*/ 0 w 370080"/>
                  <a:gd name="textAreaRight" fmla="*/ 370440 w 370080"/>
                  <a:gd name="textAreaTop" fmla="*/ 0 h 126000"/>
                  <a:gd name="textAreaBottom" fmla="*/ 126360 h 126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71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>
                  <a:gd name="textAreaLeft" fmla="*/ 0 w 173160"/>
                  <a:gd name="textAreaRight" fmla="*/ 173520 w 173160"/>
                  <a:gd name="textAreaTop" fmla="*/ 0 h 218520"/>
                  <a:gd name="textAreaBottom" fmla="*/ 218880 h 2185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>
                  <a:gd name="textAreaLeft" fmla="*/ 0 w 296280"/>
                  <a:gd name="textAreaRight" fmla="*/ 296640 w 296280"/>
                  <a:gd name="textAreaTop" fmla="*/ 0 h 181440"/>
                  <a:gd name="textAreaBottom" fmla="*/ 181800 h 1814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>
                  <a:gd name="textAreaLeft" fmla="*/ 0 w 309960"/>
                  <a:gd name="textAreaRight" fmla="*/ 310320 w 309960"/>
                  <a:gd name="textAreaTop" fmla="*/ 0 h 92160"/>
                  <a:gd name="textAreaBottom" fmla="*/ 92520 h 9216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4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>
                <a:gd name="textAreaLeft" fmla="*/ 0 w 1109520"/>
                <a:gd name="textAreaRight" fmla="*/ 1109880 w 1109520"/>
                <a:gd name="textAreaTop" fmla="*/ 0 h 1199880"/>
                <a:gd name="textAreaBottom" fmla="*/ 1200240 h 1199880"/>
              </a:gdLst>
              <a:ahLst/>
              <a:rect l="textAreaLeft" t="textAreaTop" r="textAreaRight" b="textAreaBottom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64960"/>
                <a:gd name="textAreaBottom" fmla="*/ 265320 h 264960"/>
              </a:gdLst>
              <a:ahLst/>
              <a:rect l="textAreaLeft" t="textAreaTop" r="textAreaRight" b="textAreaBottom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331920"/>
                <a:gd name="textAreaBottom" fmla="*/ 332280 h 331920"/>
              </a:gdLst>
              <a:ahLst/>
              <a:rect l="textAreaLeft" t="textAreaTop" r="textAreaRight" b="textAreaBottom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>
                <a:gd name="textAreaLeft" fmla="*/ 0 w 206280"/>
                <a:gd name="textAreaRight" fmla="*/ 206640 w 206280"/>
                <a:gd name="textAreaTop" fmla="*/ 0 h 203040"/>
                <a:gd name="textAreaBottom" fmla="*/ 203400 h 203040"/>
              </a:gdLst>
              <a:ahLst/>
              <a:rect l="textAreaLeft" t="textAreaTop" r="textAreaRight" b="textAreaBottom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>
                <a:gd name="textAreaLeft" fmla="*/ 0 w 789120"/>
                <a:gd name="textAreaRight" fmla="*/ 789480 w 789120"/>
                <a:gd name="textAreaTop" fmla="*/ 0 h 1174680"/>
                <a:gd name="textAreaBottom" fmla="*/ 1175040 h 1174680"/>
              </a:gdLst>
              <a:ahLst/>
              <a:rect l="textAreaLeft" t="textAreaTop" r="textAreaRight" b="textAreaBottom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388800"/>
                <a:gd name="textAreaBottom" fmla="*/ 389160 h 388800"/>
              </a:gdLst>
              <a:ahLst/>
              <a:rect l="textAreaLeft" t="textAreaTop" r="textAreaRight" b="textAreaBottom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>
                <a:gd name="textAreaLeft" fmla="*/ 0 w 265320"/>
                <a:gd name="textAreaRight" fmla="*/ 265680 w 26532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>
                <a:gd name="textAreaLeft" fmla="*/ 0 w 233280"/>
                <a:gd name="textAreaRight" fmla="*/ 233640 w 233280"/>
                <a:gd name="textAreaTop" fmla="*/ 0 h 254160"/>
                <a:gd name="textAreaBottom" fmla="*/ 254520 h 254160"/>
              </a:gdLst>
              <a:ahLst/>
              <a:rect l="textAreaLeft" t="textAreaTop" r="textAreaRight" b="textAreaBottom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154080"/>
                <a:gd name="textAreaBottom" fmla="*/ 154440 h 154080"/>
              </a:gdLst>
              <a:ahLst/>
              <a:rect l="textAreaLeft" t="textAreaTop" r="textAreaRight" b="textAreaBottom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>
                <a:gd name="textAreaLeft" fmla="*/ 0 w 571680"/>
                <a:gd name="textAreaRight" fmla="*/ 572040 w 571680"/>
                <a:gd name="textAreaTop" fmla="*/ 0 h 1031760"/>
                <a:gd name="textAreaBottom" fmla="*/ 1032120 h 1031760"/>
              </a:gdLst>
              <a:ahLst/>
              <a:rect l="textAreaLeft" t="textAreaTop" r="textAreaRight" b="textAreaBottom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>
                <a:gd name="textAreaLeft" fmla="*/ 0 w 1276200"/>
                <a:gd name="textAreaRight" fmla="*/ 1276560 w 1276200"/>
                <a:gd name="textAreaTop" fmla="*/ 0 h 1089000"/>
                <a:gd name="textAreaBottom" fmla="*/ 1089000 h 1089000"/>
              </a:gdLst>
              <a:ahLst/>
              <a:rect l="textAreaLeft" t="textAreaTop" r="textAreaRight" b="textAreaBottom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1325F-8A1C-48CC-AE2E-EB26A7132BDA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30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D64C1-E02C-4858-B094-BDE81823FF22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dt" idx="10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ftr" idx="11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sldNum" idx="12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B5D4B-D454-42A0-B53A-6E6823BA95D8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85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4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5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96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9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02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03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11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212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Group 40"/>
          <p:cNvGrpSpPr/>
          <p:nvPr/>
        </p:nvGrpSpPr>
        <p:grpSpPr>
          <a:xfrm>
            <a:off x="7171200" y="-86760"/>
            <a:ext cx="2427840" cy="2247840"/>
            <a:chOff x="7171200" y="-86760"/>
            <a:chExt cx="2427840" cy="2247840"/>
          </a:xfrm>
        </p:grpSpPr>
        <p:grpSp>
          <p:nvGrpSpPr>
            <p:cNvPr id="215" name="Group 41"/>
            <p:cNvGrpSpPr/>
            <p:nvPr/>
          </p:nvGrpSpPr>
          <p:grpSpPr>
            <a:xfrm>
              <a:off x="7171200" y="-86760"/>
              <a:ext cx="2427840" cy="2247840"/>
              <a:chOff x="7171200" y="-86760"/>
              <a:chExt cx="2427840" cy="2247840"/>
            </a:xfrm>
          </p:grpSpPr>
          <p:sp>
            <p:nvSpPr>
              <p:cNvPr id="216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7" name="Group 43"/>
              <p:cNvGrpSpPr/>
              <p:nvPr/>
            </p:nvGrpSpPr>
            <p:grpSpPr>
              <a:xfrm>
                <a:off x="7171200" y="-86760"/>
                <a:ext cx="2427840" cy="2247840"/>
                <a:chOff x="7171200" y="-86760"/>
                <a:chExt cx="2427840" cy="2247840"/>
              </a:xfrm>
            </p:grpSpPr>
            <p:sp>
              <p:nvSpPr>
                <p:cNvPr id="218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>
                    <a:gd name="textAreaLeft" fmla="*/ 0 w 243000"/>
                    <a:gd name="textAreaRight" fmla="*/ 243360 w 24300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" name="Freeform 45"/>
                <p:cNvSpPr/>
                <p:nvPr/>
              </p:nvSpPr>
              <p:spPr>
                <a:xfrm rot="18427200">
                  <a:off x="8015760" y="524520"/>
                  <a:ext cx="427320" cy="695520"/>
                </a:xfrm>
                <a:custGeom>
                  <a:avLst/>
                  <a:gdLst>
                    <a:gd name="textAreaLeft" fmla="*/ 0 w 427320"/>
                    <a:gd name="textAreaRight" fmla="*/ 427680 w 427320"/>
                    <a:gd name="textAreaTop" fmla="*/ 0 h 695520"/>
                    <a:gd name="textAreaBottom" fmla="*/ 695880 h 69552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" name="Freeform 46"/>
                <p:cNvSpPr/>
                <p:nvPr/>
              </p:nvSpPr>
              <p:spPr>
                <a:xfrm rot="18427200">
                  <a:off x="7714080" y="286920"/>
                  <a:ext cx="802440" cy="1425240"/>
                </a:xfrm>
                <a:custGeom>
                  <a:avLst/>
                  <a:gdLst>
                    <a:gd name="textAreaLeft" fmla="*/ 0 w 802440"/>
                    <a:gd name="textAreaRight" fmla="*/ 802800 w 802440"/>
                    <a:gd name="textAreaTop" fmla="*/ 0 h 1425240"/>
                    <a:gd name="textAreaBottom" fmla="*/ 1425600 h 142524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Freeform 47"/>
                <p:cNvSpPr/>
                <p:nvPr/>
              </p:nvSpPr>
              <p:spPr>
                <a:xfrm rot="18427200">
                  <a:off x="7782840" y="-29160"/>
                  <a:ext cx="1204560" cy="2133360"/>
                </a:xfrm>
                <a:custGeom>
                  <a:avLst/>
                  <a:gdLst>
                    <a:gd name="textAreaLeft" fmla="*/ 0 w 1204560"/>
                    <a:gd name="textAreaRight" fmla="*/ 1204920 w 120456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Freeform 48"/>
                <p:cNvSpPr/>
                <p:nvPr/>
              </p:nvSpPr>
              <p:spPr>
                <a:xfrm rot="18427200">
                  <a:off x="8411040" y="1422360"/>
                  <a:ext cx="268560" cy="193680"/>
                </a:xfrm>
                <a:custGeom>
                  <a:avLst/>
                  <a:gdLst>
                    <a:gd name="textAreaLeft" fmla="*/ 0 w 268560"/>
                    <a:gd name="textAreaRight" fmla="*/ 268920 w 26856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" name="Freeform 49"/>
                <p:cNvSpPr/>
                <p:nvPr/>
              </p:nvSpPr>
              <p:spPr>
                <a:xfrm rot="18427200">
                  <a:off x="8339400" y="1277640"/>
                  <a:ext cx="287280" cy="228600"/>
                </a:xfrm>
                <a:custGeom>
                  <a:avLst/>
                  <a:gdLst>
                    <a:gd name="textAreaLeft" fmla="*/ 0 w 287280"/>
                    <a:gd name="textAreaRight" fmla="*/ 287280 w 28728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>
                    <a:gd name="textAreaLeft" fmla="*/ 0 w 287280"/>
                    <a:gd name="textAreaRight" fmla="*/ 287640 w 28728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" name="Freeform 51"/>
                <p:cNvSpPr/>
                <p:nvPr/>
              </p:nvSpPr>
              <p:spPr>
                <a:xfrm rot="18427200">
                  <a:off x="7857000" y="223200"/>
                  <a:ext cx="284400" cy="219240"/>
                </a:xfrm>
                <a:custGeom>
                  <a:avLst/>
                  <a:gdLst>
                    <a:gd name="textAreaLeft" fmla="*/ 0 w 284400"/>
                    <a:gd name="textAreaRight" fmla="*/ 284760 w 28440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26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3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264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 type="dt" idx="13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 type="ftr" idx="14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755AE-E94C-42CC-9271-9DF503D785F6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9" name="Group 2"/>
          <p:cNvGrpSpPr/>
          <p:nvPr/>
        </p:nvGrpSpPr>
        <p:grpSpPr>
          <a:xfrm>
            <a:off x="-20160" y="0"/>
            <a:ext cx="9051120" cy="6858000"/>
            <a:chOff x="-20160" y="0"/>
            <a:chExt cx="9051120" cy="6858000"/>
          </a:xfrm>
        </p:grpSpPr>
        <p:grpSp>
          <p:nvGrpSpPr>
            <p:cNvPr id="310" name="Group 3"/>
            <p:cNvGrpSpPr/>
            <p:nvPr/>
          </p:nvGrpSpPr>
          <p:grpSpPr>
            <a:xfrm>
              <a:off x="5407200" y="63000"/>
              <a:ext cx="3623760" cy="6129000"/>
              <a:chOff x="5407200" y="63000"/>
              <a:chExt cx="3623760" cy="6129000"/>
            </a:xfrm>
          </p:grpSpPr>
          <p:sp>
            <p:nvSpPr>
              <p:cNvPr id="311" name="Freeform 4"/>
              <p:cNvSpPr/>
              <p:nvPr/>
            </p:nvSpPr>
            <p:spPr>
              <a:xfrm flipV="1" rot="11970000">
                <a:off x="6581520" y="348120"/>
                <a:ext cx="2116800" cy="2356560"/>
              </a:xfrm>
              <a:custGeom>
                <a:avLst/>
                <a:gdLst>
                  <a:gd name="textAreaLeft" fmla="*/ 0 w 2116800"/>
                  <a:gd name="textAreaRight" fmla="*/ 2117160 w 2116800"/>
                  <a:gd name="textAreaTop" fmla="*/ 360 h 2356560"/>
                  <a:gd name="textAreaBottom" fmla="*/ 2357280 h 2356560"/>
                </a:gdLst>
                <a:ahLst/>
                <a:rect l="textAreaLeft" t="textAreaTop" r="textAreaRight" b="textAreaBottom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Freeform 5"/>
              <p:cNvSpPr/>
              <p:nvPr/>
            </p:nvSpPr>
            <p:spPr>
              <a:xfrm flipV="1" rot="11970000">
                <a:off x="7421040" y="1960560"/>
                <a:ext cx="906840" cy="842760"/>
              </a:xfrm>
              <a:custGeom>
                <a:avLst/>
                <a:gdLst>
                  <a:gd name="textAreaLeft" fmla="*/ 0 w 906840"/>
                  <a:gd name="textAreaRight" fmla="*/ 907200 w 906840"/>
                  <a:gd name="textAreaTop" fmla="*/ -360 h 842760"/>
                  <a:gd name="textAreaBottom" fmla="*/ 842760 h 842760"/>
                </a:gdLst>
                <a:ahLst/>
                <a:rect l="textAreaLeft" t="textAreaTop" r="textAreaRight" b="textAreaBottom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Freeform 6"/>
              <p:cNvSpPr/>
              <p:nvPr/>
            </p:nvSpPr>
            <p:spPr>
              <a:xfrm flipV="1" rot="11970000">
                <a:off x="6825600" y="2592360"/>
                <a:ext cx="439560" cy="394920"/>
              </a:xfrm>
              <a:custGeom>
                <a:avLst/>
                <a:gdLst>
                  <a:gd name="textAreaLeft" fmla="*/ 0 w 439560"/>
                  <a:gd name="textAreaRight" fmla="*/ 439920 w 439560"/>
                  <a:gd name="textAreaTop" fmla="*/ -360 h 394920"/>
                  <a:gd name="textAreaBottom" fmla="*/ 394920 h 394920"/>
                </a:gdLst>
                <a:ahLst/>
                <a:rect l="textAreaLeft" t="textAreaTop" r="textAreaRight" b="textAreaBottom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Freeform 7"/>
              <p:cNvSpPr/>
              <p:nvPr/>
            </p:nvSpPr>
            <p:spPr>
              <a:xfrm flipV="1" rot="11970000">
                <a:off x="7251480" y="674280"/>
                <a:ext cx="388800" cy="55080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360 h 550800"/>
                  <a:gd name="textAreaBottom" fmla="*/ 551520 h 550800"/>
                </a:gdLst>
                <a:ahLst/>
                <a:rect l="textAreaLeft" t="textAreaTop" r="textAreaRight" b="textAreaBottom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Freeform 8"/>
              <p:cNvSpPr/>
              <p:nvPr/>
            </p:nvSpPr>
            <p:spPr>
              <a:xfrm flipV="1" rot="11970000">
                <a:off x="7154280" y="2645280"/>
                <a:ext cx="163440" cy="331560"/>
              </a:xfrm>
              <a:custGeom>
                <a:avLst/>
                <a:gdLst>
                  <a:gd name="textAreaLeft" fmla="*/ 0 w 163440"/>
                  <a:gd name="textAreaRight" fmla="*/ 163800 w 163440"/>
                  <a:gd name="textAreaTop" fmla="*/ 0 h 331560"/>
                  <a:gd name="textAreaBottom" fmla="*/ 331560 h 331560"/>
                </a:gdLst>
                <a:ahLst/>
                <a:rect l="textAreaLeft" t="textAreaTop" r="textAreaRight" b="textAreaBottom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Freeform 9"/>
              <p:cNvSpPr/>
              <p:nvPr/>
            </p:nvSpPr>
            <p:spPr>
              <a:xfrm flipV="1" rot="11970000">
                <a:off x="7140240" y="1243080"/>
                <a:ext cx="190800" cy="142560"/>
              </a:xfrm>
              <a:custGeom>
                <a:avLst/>
                <a:gdLst>
                  <a:gd name="textAreaLeft" fmla="*/ 0 w 190800"/>
                  <a:gd name="textAreaRight" fmla="*/ 191160 w 190800"/>
                  <a:gd name="textAreaTop" fmla="*/ 360 h 142560"/>
                  <a:gd name="textAreaBottom" fmla="*/ 143280 h 142560"/>
                </a:gdLst>
                <a:ahLst/>
                <a:rect l="textAreaLeft" t="textAreaTop" r="textAreaRight" b="textAreaBottom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Freeform 10"/>
              <p:cNvSpPr/>
              <p:nvPr/>
            </p:nvSpPr>
            <p:spPr>
              <a:xfrm flipV="1" rot="11970000">
                <a:off x="5937480" y="2930400"/>
                <a:ext cx="523800" cy="3267720"/>
              </a:xfrm>
              <a:custGeom>
                <a:avLst/>
                <a:gdLst>
                  <a:gd name="textAreaLeft" fmla="*/ 0 w 523800"/>
                  <a:gd name="textAreaRight" fmla="*/ 524160 w 523800"/>
                  <a:gd name="textAreaTop" fmla="*/ -360 h 3267720"/>
                  <a:gd name="textAreaBottom" fmla="*/ 3267720 h 3267720"/>
                </a:gdLst>
                <a:ahLst/>
                <a:rect l="textAreaLeft" t="textAreaTop" r="textAreaRight" b="textAreaBottom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8" name="Freeform 11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>
                <a:gd name="textAreaLeft" fmla="*/ 360 w 512640"/>
                <a:gd name="textAreaRight" fmla="*/ 513360 w 512640"/>
                <a:gd name="textAreaTop" fmla="*/ 0 h 1030680"/>
                <a:gd name="textAreaBottom" fmla="*/ 1031040 h 1030680"/>
              </a:gdLst>
              <a:ahLst/>
              <a:rect l="textAreaLeft" t="textAreaTop" r="textAreaRight" b="textAreaBottom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12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>
                <a:gd name="textAreaLeft" fmla="*/ 0 w 1998720"/>
                <a:gd name="textAreaRight" fmla="*/ 1999080 w 1998720"/>
                <a:gd name="textAreaTop" fmla="*/ 0 h 2432160"/>
                <a:gd name="textAreaBottom" fmla="*/ 2432520 h 2432160"/>
              </a:gdLst>
              <a:ahLst/>
              <a:rect l="textAreaLeft" t="textAreaTop" r="textAreaRight" b="textAreaBottom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Freeform 13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>
                <a:gd name="textAreaLeft" fmla="*/ 0 w 1271520"/>
                <a:gd name="textAreaRight" fmla="*/ 1271880 w 1271520"/>
                <a:gd name="textAreaTop" fmla="*/ 0 h 728640"/>
                <a:gd name="textAreaBottom" fmla="*/ 729000 h 728640"/>
              </a:gdLst>
              <a:ahLst/>
              <a:rect l="textAreaLeft" t="textAreaTop" r="textAreaRight" b="textAreaBottom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Freeform 14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>
                <a:gd name="textAreaLeft" fmla="*/ -360 w 561960"/>
                <a:gd name="textAreaRight" fmla="*/ 561960 w 561960"/>
                <a:gd name="textAreaTop" fmla="*/ 0 h 736560"/>
                <a:gd name="textAreaBottom" fmla="*/ 736920 h 736560"/>
              </a:gdLst>
              <a:ahLst/>
              <a:rect l="textAreaLeft" t="textAreaTop" r="textAreaRight" b="textAreaBottom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Freeform 15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>
                <a:gd name="textAreaLeft" fmla="*/ 360 w 138240"/>
                <a:gd name="textAreaRight" fmla="*/ 138960 w 138240"/>
                <a:gd name="textAreaTop" fmla="*/ 0 h 434880"/>
                <a:gd name="textAreaBottom" fmla="*/ 435240 h 434880"/>
              </a:gdLst>
              <a:ahLst/>
              <a:rect l="textAreaLeft" t="textAreaTop" r="textAreaRight" b="textAreaBottom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Freeform 16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>
                <a:gd name="textAreaLeft" fmla="*/ 0 w 1758960"/>
                <a:gd name="textAreaRight" fmla="*/ 1759320 w 1758960"/>
                <a:gd name="textAreaTop" fmla="*/ 0 h 1662120"/>
                <a:gd name="textAreaBottom" fmla="*/ 1662480 h 1662120"/>
              </a:gdLst>
              <a:ahLst/>
              <a:rect l="textAreaLeft" t="textAreaTop" r="textAreaRight" b="textAreaBottom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4" name="Group 17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325" name="Freeform 18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>
                  <a:gd name="textAreaLeft" fmla="*/ 0 w 285840"/>
                  <a:gd name="textAreaRight" fmla="*/ 286200 w 285840"/>
                  <a:gd name="textAreaTop" fmla="*/ 0 h 379440"/>
                  <a:gd name="textAreaBottom" fmla="*/ 379800 h 3794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Freeform 19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>
                  <a:gd name="textAreaLeft" fmla="*/ 0 w 488880"/>
                  <a:gd name="textAreaRight" fmla="*/ 489240 w 488880"/>
                  <a:gd name="textAreaTop" fmla="*/ 0 h 315000"/>
                  <a:gd name="textAreaBottom" fmla="*/ 315360 h 3150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Freeform 20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>
                  <a:gd name="textAreaLeft" fmla="*/ 0 w 511200"/>
                  <a:gd name="textAreaRight" fmla="*/ 511560 w 511200"/>
                  <a:gd name="textAreaTop" fmla="*/ 0 h 160560"/>
                  <a:gd name="textAreaBottom" fmla="*/ 160920 h 16056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8" name="Group 21"/>
            <p:cNvGrpSpPr/>
            <p:nvPr/>
          </p:nvGrpSpPr>
          <p:grpSpPr>
            <a:xfrm>
              <a:off x="5645880" y="302760"/>
              <a:ext cx="888480" cy="829080"/>
              <a:chOff x="5645880" y="302760"/>
              <a:chExt cx="888480" cy="829080"/>
            </a:xfrm>
          </p:grpSpPr>
          <p:sp>
            <p:nvSpPr>
              <p:cNvPr id="329" name="Freeform 22"/>
              <p:cNvSpPr/>
              <p:nvPr/>
            </p:nvSpPr>
            <p:spPr>
              <a:xfrm rot="14908200">
                <a:off x="5757840" y="802080"/>
                <a:ext cx="177120" cy="361440"/>
              </a:xfrm>
              <a:custGeom>
                <a:avLst/>
                <a:gdLst>
                  <a:gd name="textAreaLeft" fmla="*/ 0 w 177120"/>
                  <a:gd name="textAreaRight" fmla="*/ 177480 w 177120"/>
                  <a:gd name="textAreaTop" fmla="*/ 0 h 361440"/>
                  <a:gd name="textAreaBottom" fmla="*/ 361800 h 3614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Freeform 23"/>
              <p:cNvSpPr/>
              <p:nvPr/>
            </p:nvSpPr>
            <p:spPr>
              <a:xfrm rot="14908200">
                <a:off x="5706360" y="480240"/>
                <a:ext cx="304200" cy="300240"/>
              </a:xfrm>
              <a:custGeom>
                <a:avLst/>
                <a:gdLst>
                  <a:gd name="textAreaLeft" fmla="*/ 0 w 304200"/>
                  <a:gd name="textAreaRight" fmla="*/ 304560 w 304200"/>
                  <a:gd name="textAreaTop" fmla="*/ 0 h 300240"/>
                  <a:gd name="textAreaBottom" fmla="*/ 300600 h 3002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Freeform 24"/>
              <p:cNvSpPr/>
              <p:nvPr/>
            </p:nvSpPr>
            <p:spPr>
              <a:xfrm rot="14908200">
                <a:off x="6246720" y="401760"/>
                <a:ext cx="317160" cy="152640"/>
              </a:xfrm>
              <a:custGeom>
                <a:avLst/>
                <a:gdLst>
                  <a:gd name="textAreaLeft" fmla="*/ 0 w 317160"/>
                  <a:gd name="textAreaRight" fmla="*/ 317520 w 31716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2" name="Group 25"/>
            <p:cNvGrpSpPr/>
            <p:nvPr/>
          </p:nvGrpSpPr>
          <p:grpSpPr>
            <a:xfrm>
              <a:off x="954000" y="5283000"/>
              <a:ext cx="1062360" cy="836640"/>
              <a:chOff x="954000" y="5283000"/>
              <a:chExt cx="1062360" cy="836640"/>
            </a:xfrm>
          </p:grpSpPr>
          <p:sp>
            <p:nvSpPr>
              <p:cNvPr id="333" name="Freeform 26"/>
              <p:cNvSpPr/>
              <p:nvPr/>
            </p:nvSpPr>
            <p:spPr>
              <a:xfrm rot="8524800">
                <a:off x="1698840" y="5548320"/>
                <a:ext cx="251640" cy="300600"/>
              </a:xfrm>
              <a:custGeom>
                <a:avLst/>
                <a:gdLst>
                  <a:gd name="textAreaLeft" fmla="*/ 0 w 251640"/>
                  <a:gd name="textAreaRight" fmla="*/ 252000 w 251640"/>
                  <a:gd name="textAreaTop" fmla="*/ 0 h 300600"/>
                  <a:gd name="textAreaBottom" fmla="*/ 300960 h 30060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Freeform 27"/>
              <p:cNvSpPr/>
              <p:nvPr/>
            </p:nvSpPr>
            <p:spPr>
              <a:xfrm rot="8524800">
                <a:off x="1183320" y="5763600"/>
                <a:ext cx="430560" cy="249840"/>
              </a:xfrm>
              <a:custGeom>
                <a:avLst/>
                <a:gdLst>
                  <a:gd name="textAreaLeft" fmla="*/ 0 w 430560"/>
                  <a:gd name="textAreaRight" fmla="*/ 430920 w 430560"/>
                  <a:gd name="textAreaTop" fmla="*/ 0 h 249840"/>
                  <a:gd name="textAreaBottom" fmla="*/ 250200 h 2498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Freeform 28"/>
              <p:cNvSpPr/>
              <p:nvPr/>
            </p:nvSpPr>
            <p:spPr>
              <a:xfrm rot="8524800">
                <a:off x="945360" y="5407560"/>
                <a:ext cx="450000" cy="127080"/>
              </a:xfrm>
              <a:custGeom>
                <a:avLst/>
                <a:gdLst>
                  <a:gd name="textAreaLeft" fmla="*/ 0 w 450000"/>
                  <a:gd name="textAreaRight" fmla="*/ 450360 w 450000"/>
                  <a:gd name="textAreaTop" fmla="*/ 0 h 127080"/>
                  <a:gd name="textAreaBottom" fmla="*/ 127440 h 12708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29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337" name="Freeform 30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>
                  <a:gd name="textAreaLeft" fmla="*/ -360 w 356040"/>
                  <a:gd name="textAreaRight" fmla="*/ 356040 w 356040"/>
                  <a:gd name="textAreaTop" fmla="*/ 0 h 531000"/>
                  <a:gd name="textAreaBottom" fmla="*/ 531360 h 53100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Freeform 31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>
                  <a:gd name="textAreaLeft" fmla="*/ 360 w 609120"/>
                  <a:gd name="textAreaRight" fmla="*/ 609840 w 609120"/>
                  <a:gd name="textAreaTop" fmla="*/ 0 h 441720"/>
                  <a:gd name="textAreaBottom" fmla="*/ 442080 h 44172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Freeform 32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>
                  <a:gd name="textAreaLeft" fmla="*/ -360 w 636840"/>
                  <a:gd name="textAreaRight" fmla="*/ 636840 w 636840"/>
                  <a:gd name="textAreaTop" fmla="*/ 0 h 224640"/>
                  <a:gd name="textAreaBottom" fmla="*/ 225000 h 22464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33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341" name="Freeform 34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>
                  <a:gd name="textAreaLeft" fmla="*/ -360 w 356040"/>
                  <a:gd name="textAreaRight" fmla="*/ 356040 w 356040"/>
                  <a:gd name="textAreaTop" fmla="*/ 0 h 530640"/>
                  <a:gd name="textAreaBottom" fmla="*/ 531000 h 5306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Freeform 35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>
                  <a:gd name="textAreaLeft" fmla="*/ 360 w 609120"/>
                  <a:gd name="textAreaRight" fmla="*/ 609840 w 609120"/>
                  <a:gd name="textAreaTop" fmla="*/ 0 h 441360"/>
                  <a:gd name="textAreaBottom" fmla="*/ 441720 h 44136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Freeform 36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>
                  <a:gd name="textAreaLeft" fmla="*/ -360 w 636840"/>
                  <a:gd name="textAreaRight" fmla="*/ 636840 w 636840"/>
                  <a:gd name="textAreaTop" fmla="*/ 0 h 224640"/>
                  <a:gd name="textAreaBottom" fmla="*/ 225000 h 22464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4" name="Freeform 37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>
                <a:gd name="textAreaLeft" fmla="*/ 0 w 1368360"/>
                <a:gd name="textAreaRight" fmla="*/ 1368720 w 1368360"/>
                <a:gd name="textAreaTop" fmla="*/ 0 h 1406520"/>
                <a:gd name="textAreaBottom" fmla="*/ 1406520 h 1406520"/>
              </a:gdLst>
              <a:ahLst/>
              <a:rect l="textAreaLeft" t="textAreaTop" r="textAreaRight" b="textAreaBottom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Freeform 38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>
                <a:gd name="textAreaLeft" fmla="*/ 0 w 1081080"/>
                <a:gd name="textAreaRight" fmla="*/ 1081440 w 1081080"/>
                <a:gd name="textAreaTop" fmla="*/ -360 h 941400"/>
                <a:gd name="textAreaBottom" fmla="*/ 941400 h 941400"/>
              </a:gdLst>
              <a:ahLst/>
              <a:rect l="textAreaLeft" t="textAreaTop" r="textAreaRight" b="textAreaBottom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Freeform 39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>
                <a:gd name="textAreaLeft" fmla="*/ 0 w 523800"/>
                <a:gd name="textAreaRight" fmla="*/ 524160 w 523800"/>
                <a:gd name="textAreaTop" fmla="*/ -360 h 441000"/>
                <a:gd name="textAreaBottom" fmla="*/ 441000 h 441000"/>
              </a:gdLst>
              <a:ahLst/>
              <a:rect l="textAreaLeft" t="textAreaTop" r="textAreaRight" b="textAreaBottom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Freeform 40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>
                <a:gd name="textAreaLeft" fmla="*/ 0 w 195480"/>
                <a:gd name="textAreaRight" fmla="*/ 195840 w 195480"/>
                <a:gd name="textAreaTop" fmla="*/ 360 h 370080"/>
                <a:gd name="textAreaBottom" fmla="*/ 370800 h 370080"/>
              </a:gdLst>
              <a:ahLst/>
              <a:rect l="textAreaLeft" t="textAreaTop" r="textAreaRight" b="textAreaBottom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Freeform 41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>
                <a:gd name="textAreaLeft" fmla="*/ 0 w 196920"/>
                <a:gd name="textAreaRight" fmla="*/ 197280 w 19692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Freeform 42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>
                <a:gd name="textAreaLeft" fmla="*/ 0 w 623880"/>
                <a:gd name="textAreaRight" fmla="*/ 624240 w 623880"/>
                <a:gd name="textAreaTop" fmla="*/ -360 h 3651480"/>
                <a:gd name="textAreaBottom" fmla="*/ 3651480 h 3651480"/>
              </a:gdLst>
              <a:ahLst/>
              <a:rect l="textAreaLeft" t="textAreaTop" r="textAreaRight" b="textAreaBottom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Freeform 43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>
                <a:gd name="textAreaLeft" fmla="*/ 0 w 57240"/>
                <a:gd name="textAreaRight" fmla="*/ 57600 w 572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63747-F03D-4E00-8862-A8518692206F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2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393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9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7AC97-7017-49C4-BFC4-22DFC0D77BDA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1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442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5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446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51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452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5120"/>
                <a:gd name="textAreaBottom" fmla="*/ 465480 h 46512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60440"/>
                <a:gd name="textAreaBottom" fmla="*/ 460800 h 46044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>
                <a:gd name="textAreaLeft" fmla="*/ 0 w 660240"/>
                <a:gd name="textAreaRight" fmla="*/ 660600 w 660240"/>
                <a:gd name="textAreaTop" fmla="*/ 0 h 420840"/>
                <a:gd name="textAreaBottom" fmla="*/ 421200 h 4208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5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456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2840"/>
                  <a:gd name="textAreaBottom" fmla="*/ 493200 h 49284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8640"/>
                  <a:gd name="textAreaBottom" fmla="*/ 279000 h 27864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86480"/>
                  <a:gd name="textAreaBottom" fmla="*/ 186840 h 1864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61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9AD36-14F9-422D-B999-45190287D753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WordArt 6"/>
          <p:cNvSpPr txBox="1"/>
          <p:nvPr/>
        </p:nvSpPr>
        <p:spPr>
          <a:xfrm>
            <a:off x="5638680" y="5105520"/>
            <a:ext cx="25243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05" name="Text Box 7"/>
          <p:cNvSpPr/>
          <p:nvPr/>
        </p:nvSpPr>
        <p:spPr>
          <a:xfrm>
            <a:off x="1447920" y="990720"/>
            <a:ext cx="60195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 Box 8"/>
          <p:cNvSpPr/>
          <p:nvPr/>
        </p:nvSpPr>
        <p:spPr>
          <a:xfrm>
            <a:off x="1143000" y="1143000"/>
            <a:ext cx="70102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«Активизация речевой деятельности учащихся через систему упражнений по развитию творческого воображения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Box 4"/>
          <p:cNvSpPr/>
          <p:nvPr/>
        </p:nvSpPr>
        <p:spPr>
          <a:xfrm>
            <a:off x="4724280" y="4800600"/>
            <a:ext cx="29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аботу выполнила: Павлова Т.П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учитель начальных клас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7533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ff"/>
                </a:solidFill>
                <a:latin typeface="Arial"/>
              </a:rPr>
              <a:t>Тема: « Предложение.»</a:t>
            </a: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609120" y="1447560"/>
            <a:ext cx="6172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400" spc="-1" strike="noStrike" u="sng">
                <a:solidFill>
                  <a:srgbClr val="006600"/>
                </a:solidFill>
                <a:uFillTx/>
                <a:latin typeface="Times New Roman"/>
              </a:rPr>
              <a:t>Задание: определи границы слов, спиши текс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Преждедумали: белыйполярныймедведь –неутомимый бродяга, кочуетпо дрейфующимльдам всейАрктики, нигдеособенно долгоне задерживаясь. Теперьза мечено, что белыемедведи болеепривязаныкопределеннымместам, ктемособенно, гдеестьоткрытая, свободнаяотольдавода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1" lang="ru-RU" sz="3600" spc="-1" strike="noStrike">
                <a:solidFill>
                  <a:srgbClr val="006600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8" name="Picture 4" descr=""/>
          <p:cNvPicPr/>
          <p:nvPr/>
        </p:nvPicPr>
        <p:blipFill>
          <a:blip r:embed="rId1"/>
          <a:stretch/>
        </p:blipFill>
        <p:spPr>
          <a:xfrm>
            <a:off x="6981840" y="2895480"/>
            <a:ext cx="15415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228600" y="102960"/>
            <a:ext cx="8686800" cy="734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66"/>
                </a:solidFill>
                <a:latin typeface="Times New Roman"/>
              </a:rPr>
              <a:t>Тема: «Предложения бывают разные»</a:t>
            </a: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281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3300"/>
                </a:solidFill>
                <a:uFillTx/>
                <a:latin typeface="Times New Roman"/>
              </a:rPr>
              <a:t>К стр. 12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52812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660066"/>
                </a:solidFill>
                <a:uFillTx/>
                <a:latin typeface="Times New Roman"/>
              </a:rPr>
              <a:t>Задание: найти «лишний» слог, записать слова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1" marL="905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660066"/>
                </a:solidFill>
                <a:latin typeface="Times New Roman"/>
              </a:rPr>
              <a:t>Окрано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905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660066"/>
                </a:solidFill>
                <a:latin typeface="Times New Roman"/>
              </a:rPr>
              <a:t>Сумрека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905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660066"/>
                </a:solidFill>
                <a:latin typeface="Times New Roman"/>
              </a:rPr>
              <a:t>Сапохар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905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660066"/>
                </a:solidFill>
                <a:latin typeface="Times New Roman"/>
              </a:rPr>
              <a:t>Пераченье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905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660066"/>
                </a:solidFill>
                <a:latin typeface="Times New Roman"/>
              </a:rPr>
              <a:t>Хадулва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905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660066"/>
                </a:solidFill>
                <a:latin typeface="Times New Roman"/>
              </a:rPr>
              <a:t>Кабрыкао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905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660066"/>
                </a:solidFill>
                <a:latin typeface="Times New Roman"/>
              </a:rPr>
              <a:t>Балиранка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905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660066"/>
                </a:solidFill>
                <a:latin typeface="Times New Roman"/>
              </a:rPr>
              <a:t>Пинорожки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905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660066"/>
                </a:solidFill>
                <a:latin typeface="Times New Roman"/>
              </a:rPr>
              <a:t>Оребрихи</a:t>
            </a: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0066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51" name="Line 4"/>
          <p:cNvSpPr/>
          <p:nvPr/>
        </p:nvSpPr>
        <p:spPr>
          <a:xfrm>
            <a:off x="304920" y="990720"/>
            <a:ext cx="8305560" cy="0"/>
          </a:xfrm>
          <a:prstGeom prst="line">
            <a:avLst/>
          </a:prstGeom>
          <a:ln w="698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2" name="Picture 6" descr="j0293468"/>
          <p:cNvPicPr/>
          <p:nvPr/>
        </p:nvPicPr>
        <p:blipFill>
          <a:blip r:embed="rId1"/>
          <a:stretch/>
        </p:blipFill>
        <p:spPr>
          <a:xfrm>
            <a:off x="6019920" y="2590920"/>
            <a:ext cx="171288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228600" y="102960"/>
            <a:ext cx="8686800" cy="734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6666"/>
                </a:solidFill>
                <a:latin typeface="Times New Roman"/>
              </a:rPr>
              <a:t>Тема: «Предложения»</a:t>
            </a: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38188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3300"/>
                </a:solidFill>
                <a:uFillTx/>
                <a:latin typeface="Times New Roman"/>
              </a:rPr>
              <a:t>К стр. 14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53352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660066"/>
                </a:solidFill>
                <a:uFillTx/>
                <a:latin typeface="Times New Roman"/>
              </a:rPr>
              <a:t>Задание: допридумай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Times New Roman"/>
              </a:rPr>
              <a:t>Мне нравиться ………………………………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Times New Roman"/>
              </a:rPr>
              <a:t>Я пишу о ……………………………………….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Times New Roman"/>
              </a:rPr>
              <a:t>На улице ……………………………………….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Times New Roman"/>
              </a:rPr>
              <a:t>Я думаю ……………………………………….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Times New Roman"/>
              </a:rPr>
              <a:t>Моя учительница ……………………………</a:t>
            </a:r>
            <a:r>
              <a:rPr b="1" lang="ru-RU" sz="24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66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55" name="Line 4"/>
          <p:cNvSpPr/>
          <p:nvPr/>
        </p:nvSpPr>
        <p:spPr>
          <a:xfrm>
            <a:off x="304920" y="990720"/>
            <a:ext cx="8305560" cy="0"/>
          </a:xfrm>
          <a:prstGeom prst="line">
            <a:avLst/>
          </a:prstGeom>
          <a:ln w="698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28600" y="102960"/>
            <a:ext cx="8686800" cy="734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6666"/>
                </a:solidFill>
                <a:latin typeface="Times New Roman"/>
              </a:rPr>
              <a:t>Тема: «Предложения»</a:t>
            </a: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3300"/>
                </a:solidFill>
                <a:uFillTx/>
                <a:latin typeface="Times New Roman"/>
              </a:rPr>
              <a:t>К стр. 22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5335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660066"/>
                </a:solidFill>
                <a:uFillTx/>
                <a:latin typeface="Times New Roman"/>
              </a:rPr>
              <a:t>«Построить лесенку» из предложений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6699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6699"/>
                </a:solidFill>
                <a:latin typeface="Times New Roman"/>
              </a:rPr>
              <a:t>Ученик рисует.</a:t>
            </a:r>
            <a:endParaRPr b="0" lang="en-US" sz="2300" spc="-1" strike="noStrike">
              <a:solidFill>
                <a:srgbClr val="006699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6699"/>
                </a:solidFill>
                <a:latin typeface="Times New Roman"/>
              </a:rPr>
              <a:t>СТАРАТЕЛЬНЫЙ ученик рисует.</a:t>
            </a:r>
            <a:endParaRPr b="0" lang="en-US" sz="2300" spc="-1" strike="noStrike">
              <a:solidFill>
                <a:srgbClr val="006699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6699"/>
                </a:solidFill>
                <a:latin typeface="Times New Roman"/>
              </a:rPr>
              <a:t>Старательный ученик рисует КОТЕНКА.</a:t>
            </a:r>
            <a:endParaRPr b="0" lang="en-US" sz="2300" spc="-1" strike="noStrike">
              <a:solidFill>
                <a:srgbClr val="006699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6699"/>
                </a:solidFill>
                <a:latin typeface="Times New Roman"/>
              </a:rPr>
              <a:t>Старательный ученик рисует котенка в АЛЬБОМЕ.</a:t>
            </a:r>
            <a:endParaRPr b="0" lang="en-US" sz="2300" spc="-1" strike="noStrike">
              <a:solidFill>
                <a:srgbClr val="006699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6699"/>
                </a:solidFill>
                <a:latin typeface="Times New Roman"/>
              </a:rPr>
              <a:t>НА УРОКЕ  старательный ученик рисует котенка в альбоме.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1" lang="ru-RU" sz="44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1" lang="ru-RU" sz="4400" spc="-1" strike="noStrike">
                <a:solidFill>
                  <a:srgbClr val="0066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58" name="Line 4"/>
          <p:cNvSpPr/>
          <p:nvPr/>
        </p:nvSpPr>
        <p:spPr>
          <a:xfrm>
            <a:off x="304920" y="990720"/>
            <a:ext cx="8305560" cy="0"/>
          </a:xfrm>
          <a:prstGeom prst="line">
            <a:avLst/>
          </a:prstGeom>
          <a:ln w="698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9" name="Picture 5" descr="pe01821_"/>
          <p:cNvPicPr/>
          <p:nvPr/>
        </p:nvPicPr>
        <p:blipFill>
          <a:blip r:embed="rId1"/>
          <a:stretch/>
        </p:blipFill>
        <p:spPr>
          <a:xfrm>
            <a:off x="7359480" y="2666880"/>
            <a:ext cx="147960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42800" y="228240"/>
            <a:ext cx="824400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6666"/>
                </a:solidFill>
                <a:latin typeface="Times New Roman"/>
              </a:rPr>
              <a:t>Тема: «Составление распространенных предложений.»</a:t>
            </a: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3300"/>
                </a:solidFill>
                <a:uFillTx/>
                <a:latin typeface="Times New Roman"/>
              </a:rPr>
              <a:t>К стр. 23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1" lang="ru-RU" sz="4400" spc="-1" strike="noStrike">
                <a:solidFill>
                  <a:srgbClr val="0066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62" name="Line 4"/>
          <p:cNvSpPr/>
          <p:nvPr/>
        </p:nvSpPr>
        <p:spPr>
          <a:xfrm>
            <a:off x="304920" y="990720"/>
            <a:ext cx="8305560" cy="0"/>
          </a:xfrm>
          <a:prstGeom prst="line">
            <a:avLst/>
          </a:prstGeom>
          <a:ln w="698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3" name=""/>
          <p:cNvGraphicFramePr/>
          <p:nvPr/>
        </p:nvGraphicFramePr>
        <p:xfrm>
          <a:off x="457200" y="1905120"/>
          <a:ext cx="8229600" cy="4219560"/>
        </p:xfrm>
        <a:graphic>
          <a:graphicData uri="http://schemas.openxmlformats.org/drawingml/2006/table">
            <a:tbl>
              <a:tblPr/>
              <a:tblGrid>
                <a:gridCol w="1371600"/>
                <a:gridCol w="1981080"/>
                <a:gridCol w="1447920"/>
                <a:gridCol w="1905120"/>
                <a:gridCol w="152388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то?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акой?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то делает?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де?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ак?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327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котенок</a:t>
                      </a:r>
                      <a:r>
                        <a:rPr b="0" lang="ru-RU" sz="20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660066"/>
                          </a:solidFill>
                          <a:latin typeface="Verdana"/>
                        </a:rPr>
                        <a:t>Пушисты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660066"/>
                          </a:solidFill>
                          <a:latin typeface="Verdana"/>
                        </a:rPr>
                        <a:t>Белы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660066"/>
                          </a:solidFill>
                          <a:latin typeface="Verdana"/>
                        </a:rPr>
                        <a:t>Ласковы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660066"/>
                          </a:solidFill>
                          <a:latin typeface="Verdana"/>
                        </a:rPr>
                        <a:t>Игривы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660066"/>
                          </a:solidFill>
                          <a:latin typeface="Verdana"/>
                        </a:rPr>
                        <a:t>Персидск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660066"/>
                          </a:solidFill>
                          <a:latin typeface="Verdana"/>
                        </a:rPr>
                        <a:t>Лежи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660066"/>
                          </a:solidFill>
                          <a:latin typeface="Verdana"/>
                        </a:rPr>
                        <a:t>Бега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660066"/>
                          </a:solidFill>
                          <a:latin typeface="Verdana"/>
                        </a:rPr>
                        <a:t>Прыга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660066"/>
                          </a:solidFill>
                          <a:latin typeface="Verdana"/>
                        </a:rPr>
                        <a:t>Спи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660066"/>
                          </a:solidFill>
                          <a:latin typeface="Verdana"/>
                        </a:rPr>
                        <a:t>Игра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660066"/>
                          </a:solidFill>
                          <a:latin typeface="Verdana"/>
                        </a:rPr>
                        <a:t>На диван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660066"/>
                          </a:solidFill>
                          <a:latin typeface="Verdana"/>
                        </a:rPr>
                        <a:t>По комнат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660066"/>
                          </a:solidFill>
                          <a:latin typeface="Verdana"/>
                        </a:rPr>
                        <a:t>В корзинк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660066"/>
                          </a:solidFill>
                          <a:latin typeface="Verdana"/>
                        </a:rPr>
                        <a:t>По пол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660066"/>
                          </a:solidFill>
                          <a:latin typeface="Verdana"/>
                        </a:rPr>
                        <a:t>По улиц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660066"/>
                          </a:solidFill>
                          <a:latin typeface="Verdana"/>
                        </a:rPr>
                        <a:t>Тих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660066"/>
                          </a:solidFill>
                          <a:latin typeface="Verdana"/>
                        </a:rPr>
                        <a:t>Резв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660066"/>
                          </a:solidFill>
                          <a:latin typeface="Verdana"/>
                        </a:rPr>
                        <a:t>Высок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660066"/>
                          </a:solidFill>
                          <a:latin typeface="Verdana"/>
                        </a:rPr>
                        <a:t>Чутк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660066"/>
                          </a:solidFill>
                          <a:latin typeface="Verdana"/>
                        </a:rPr>
                        <a:t>Шустро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64" name="Picture 49" descr=""/>
          <p:cNvPicPr/>
          <p:nvPr/>
        </p:nvPicPr>
        <p:blipFill>
          <a:blip r:embed="rId1"/>
          <a:stretch/>
        </p:blipFill>
        <p:spPr>
          <a:xfrm>
            <a:off x="609480" y="3962520"/>
            <a:ext cx="1019160" cy="134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228600" y="102960"/>
            <a:ext cx="8686800" cy="73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a50021"/>
                </a:solidFill>
                <a:latin typeface="Times New Roman"/>
              </a:rPr>
              <a:t>Тема: «Интонация»</a:t>
            </a: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3300"/>
                </a:solidFill>
                <a:uFillTx/>
                <a:latin typeface="Times New Roman"/>
              </a:rPr>
              <a:t>К стр. 3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 u="sng">
                <a:solidFill>
                  <a:srgbClr val="663300"/>
                </a:solidFill>
                <a:uFillTx/>
                <a:latin typeface="Times New Roman"/>
              </a:rPr>
              <a:t>Задание: определить какое «настроение у предложений»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800" spc="-1" strike="noStrike">
                <a:solidFill>
                  <a:srgbClr val="663300"/>
                </a:solidFill>
                <a:latin typeface="Times New Roman"/>
              </a:rPr>
              <a:t>Я увидел синий-синий, презеленый красный шар.</a:t>
            </a:r>
            <a:r>
              <a:rPr b="1" lang="ru-RU" sz="3000" spc="-1" strike="noStrike">
                <a:solidFill>
                  <a:srgbClr val="6633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663300"/>
                </a:solidFill>
                <a:latin typeface="Times New Roman"/>
              </a:rPr>
              <a:t>  </a:t>
            </a:r>
            <a:r>
              <a:rPr b="1" lang="ru-RU" sz="3000" spc="-1" strike="noStrike">
                <a:solidFill>
                  <a:srgbClr val="663300"/>
                </a:solidFill>
                <a:latin typeface="Times New Roman"/>
              </a:rPr>
              <a:t>Я очень люблю вишневое варенье.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663300"/>
                </a:solidFill>
                <a:latin typeface="Times New Roman"/>
              </a:rPr>
              <a:t>  </a:t>
            </a:r>
            <a:r>
              <a:rPr b="1" lang="ru-RU" sz="3000" spc="-1" strike="noStrike">
                <a:solidFill>
                  <a:srgbClr val="663300"/>
                </a:solidFill>
                <a:latin typeface="Times New Roman"/>
              </a:rPr>
              <a:t>Ромашка похожа на маленькое солнышко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663300"/>
                </a:solidFill>
                <a:latin typeface="Times New Roman"/>
              </a:rPr>
              <a:t>  </a:t>
            </a:r>
            <a:r>
              <a:rPr b="1" lang="ru-RU" sz="3000" spc="-1" strike="noStrike">
                <a:solidFill>
                  <a:srgbClr val="663300"/>
                </a:solidFill>
                <a:latin typeface="Times New Roman"/>
              </a:rPr>
              <a:t>Нам так хорошо вместе!</a:t>
            </a:r>
            <a:r>
              <a:rPr b="1" lang="ru-RU" sz="3000" spc="-1" strike="noStrike">
                <a:solidFill>
                  <a:srgbClr val="663300"/>
                </a:solidFill>
                <a:latin typeface="Times New Roman"/>
              </a:rPr>
              <a:t>	</a:t>
            </a:r>
            <a:r>
              <a:rPr b="1" lang="ru-RU" sz="4400" spc="-1" strike="noStrike">
                <a:solidFill>
                  <a:srgbClr val="0066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Line 4"/>
          <p:cNvSpPr/>
          <p:nvPr/>
        </p:nvSpPr>
        <p:spPr>
          <a:xfrm>
            <a:off x="304920" y="990720"/>
            <a:ext cx="8305560" cy="0"/>
          </a:xfrm>
          <a:prstGeom prst="line">
            <a:avLst/>
          </a:prstGeom>
          <a:ln w="69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8" name="Picture 5" descr="солнце светит"/>
          <p:cNvPicPr/>
          <p:nvPr/>
        </p:nvPicPr>
        <p:blipFill>
          <a:blip r:embed="rId1"/>
          <a:stretch/>
        </p:blipFill>
        <p:spPr>
          <a:xfrm>
            <a:off x="6705720" y="5181480"/>
            <a:ext cx="1673280" cy="14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228600" y="102960"/>
            <a:ext cx="8686800" cy="73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Times New Roman"/>
              </a:rPr>
              <a:t>Тема: «Составление ассоциативных цепочек»</a:t>
            </a: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3300"/>
                </a:solidFill>
                <a:uFillTx/>
                <a:latin typeface="Times New Roman"/>
              </a:rPr>
              <a:t>К стр. 42-4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 u="sng">
                <a:solidFill>
                  <a:srgbClr val="663300"/>
                </a:solidFill>
                <a:uFillTx/>
                <a:latin typeface="Times New Roman"/>
              </a:rPr>
              <a:t>Разминка: с чем ассоциируется образ?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663300"/>
                </a:solidFill>
                <a:latin typeface="Arial"/>
              </a:rPr>
              <a:t>Бабушка ------------- </a:t>
            </a:r>
            <a:r>
              <a:rPr b="1" i="1" lang="ru-RU" sz="2600" spc="-1" strike="noStrike">
                <a:solidFill>
                  <a:srgbClr val="663300"/>
                </a:solidFill>
                <a:latin typeface="Arial"/>
              </a:rPr>
              <a:t>внук,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663300"/>
                </a:solidFill>
                <a:latin typeface="Arial"/>
              </a:rPr>
              <a:t>Усы ----------------- </a:t>
            </a:r>
            <a:r>
              <a:rPr b="1" i="1" lang="ru-RU" sz="2600" spc="-1" strike="noStrike">
                <a:solidFill>
                  <a:srgbClr val="663300"/>
                </a:solidFill>
                <a:latin typeface="Arial"/>
              </a:rPr>
              <a:t>папа,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663300"/>
                </a:solidFill>
                <a:latin typeface="Arial"/>
              </a:rPr>
              <a:t>Цветок ---------------- </a:t>
            </a:r>
            <a:r>
              <a:rPr b="1" i="1" lang="ru-RU" sz="2600" spc="-1" strike="noStrike">
                <a:solidFill>
                  <a:srgbClr val="663300"/>
                </a:solidFill>
                <a:latin typeface="Arial"/>
              </a:rPr>
              <a:t>букет,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663300"/>
                </a:solidFill>
                <a:latin typeface="Arial"/>
              </a:rPr>
              <a:t>Сад ---------------- </a:t>
            </a:r>
            <a:r>
              <a:rPr b="1" i="1" lang="ru-RU" sz="2600" spc="-1" strike="noStrike">
                <a:solidFill>
                  <a:srgbClr val="663300"/>
                </a:solidFill>
                <a:latin typeface="Arial"/>
              </a:rPr>
              <a:t>деревья,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663300"/>
                </a:solidFill>
                <a:latin typeface="Arial"/>
              </a:rPr>
              <a:t>Школа -------------- </a:t>
            </a:r>
            <a:r>
              <a:rPr b="1" i="1" lang="ru-RU" sz="2600" spc="-1" strike="noStrike">
                <a:solidFill>
                  <a:srgbClr val="663300"/>
                </a:solidFill>
                <a:latin typeface="Arial"/>
              </a:rPr>
              <a:t>дети,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663300"/>
                </a:solidFill>
                <a:latin typeface="Arial"/>
              </a:rPr>
              <a:t>Бантик ------------- </a:t>
            </a:r>
            <a:r>
              <a:rPr b="1" i="1" lang="ru-RU" sz="2600" spc="-1" strike="noStrike">
                <a:solidFill>
                  <a:srgbClr val="663300"/>
                </a:solidFill>
                <a:latin typeface="Arial"/>
              </a:rPr>
              <a:t>косички,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663300"/>
                </a:solidFill>
                <a:latin typeface="Arial"/>
              </a:rPr>
              <a:t>Котенок ------------- </a:t>
            </a:r>
            <a:r>
              <a:rPr b="1" i="1" lang="ru-RU" sz="2600" spc="-1" strike="noStrike">
                <a:solidFill>
                  <a:srgbClr val="663300"/>
                </a:solidFill>
                <a:latin typeface="Arial"/>
              </a:rPr>
              <a:t>клубок,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663300"/>
                </a:solidFill>
                <a:latin typeface="Arial"/>
              </a:rPr>
              <a:t>Свет -------------- </a:t>
            </a:r>
            <a:r>
              <a:rPr b="1" i="1" lang="ru-RU" sz="2600" spc="-1" strike="noStrike">
                <a:solidFill>
                  <a:srgbClr val="663300"/>
                </a:solidFill>
                <a:latin typeface="Arial"/>
              </a:rPr>
              <a:t>тепло,…</a:t>
            </a:r>
            <a:r>
              <a:rPr b="1" lang="ru-RU" sz="2600" spc="-1" strike="noStrike">
                <a:solidFill>
                  <a:srgbClr val="663300"/>
                </a:solidFill>
                <a:latin typeface="Times New Roman"/>
              </a:rPr>
              <a:t>	</a:t>
            </a:r>
            <a:r>
              <a:rPr b="1" lang="ru-RU" sz="3400" spc="-1" strike="noStrike">
                <a:solidFill>
                  <a:srgbClr val="006600"/>
                </a:solidFill>
                <a:latin typeface="Times New Roman"/>
              </a:rPr>
              <a:t>	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Line 4"/>
          <p:cNvSpPr/>
          <p:nvPr/>
        </p:nvSpPr>
        <p:spPr>
          <a:xfrm>
            <a:off x="304920" y="990720"/>
            <a:ext cx="8305560" cy="0"/>
          </a:xfrm>
          <a:prstGeom prst="line">
            <a:avLst/>
          </a:prstGeom>
          <a:ln w="69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2" name="Picture 5" descr=""/>
          <p:cNvPicPr/>
          <p:nvPr/>
        </p:nvPicPr>
        <p:blipFill>
          <a:blip r:embed="rId1"/>
          <a:stretch/>
        </p:blipFill>
        <p:spPr>
          <a:xfrm>
            <a:off x="6477120" y="3505320"/>
            <a:ext cx="203508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0" y="102960"/>
            <a:ext cx="8686800" cy="73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50021"/>
                </a:solidFill>
                <a:latin typeface="Times New Roman"/>
              </a:rPr>
              <a:t>Тема: «Сравнение»</a:t>
            </a: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3300"/>
                </a:solidFill>
                <a:uFillTx/>
                <a:latin typeface="Times New Roman"/>
              </a:rPr>
              <a:t>К стр. 5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Times New Roman"/>
              </a:rPr>
              <a:t>На основе сравнений сочинить загад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663300"/>
                </a:solidFill>
                <a:latin typeface="Times New Roman"/>
              </a:rPr>
              <a:t>	</a:t>
            </a:r>
            <a:r>
              <a:rPr b="1" lang="ru-RU" sz="3000" spc="-1" strike="noStrike">
                <a:solidFill>
                  <a:srgbClr val="663300"/>
                </a:solidFill>
                <a:latin typeface="Times New Roman"/>
              </a:rPr>
              <a:t>КАК …………., НО НЕ,………………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663300"/>
                </a:solidFill>
                <a:latin typeface="Times New Roman"/>
              </a:rPr>
              <a:t>	</a:t>
            </a:r>
            <a:r>
              <a:rPr b="1" lang="ru-RU" sz="3000" spc="-1" strike="noStrike">
                <a:solidFill>
                  <a:srgbClr val="663300"/>
                </a:solidFill>
                <a:latin typeface="Times New Roman"/>
              </a:rPr>
              <a:t>СЛОВНО ……………..,НО НЕ ,…………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663300"/>
                </a:solidFill>
                <a:latin typeface="Times New Roman"/>
              </a:rPr>
              <a:t>	</a:t>
            </a:r>
            <a:r>
              <a:rPr b="1" lang="ru-RU" sz="3000" spc="-1" strike="noStrike">
                <a:solidFill>
                  <a:srgbClr val="663300"/>
                </a:solidFill>
                <a:latin typeface="Times New Roman"/>
              </a:rPr>
              <a:t>БУДТО ………………, НО НЕ ……………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663300"/>
                </a:solidFill>
                <a:latin typeface="Times New Roman"/>
              </a:rPr>
              <a:t>   </a:t>
            </a:r>
            <a:r>
              <a:rPr b="1" lang="ru-RU" sz="3000" spc="-1" strike="noStrike">
                <a:solidFill>
                  <a:srgbClr val="663300"/>
                </a:solidFill>
                <a:latin typeface="Times New Roman"/>
              </a:rPr>
              <a:t>Форма, цвет, размер, вкус, применение, и др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Line 4"/>
          <p:cNvSpPr/>
          <p:nvPr/>
        </p:nvSpPr>
        <p:spPr>
          <a:xfrm>
            <a:off x="304920" y="990720"/>
            <a:ext cx="8305560" cy="0"/>
          </a:xfrm>
          <a:prstGeom prst="line">
            <a:avLst/>
          </a:prstGeom>
          <a:ln w="69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a50021"/>
                </a:solidFill>
                <a:latin typeface="Times New Roman"/>
              </a:rPr>
              <a:t>Тема: «Сравнение»</a:t>
            </a: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Times New Roman"/>
              </a:rPr>
              <a:t>Легкая словно снежинка, но не пу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Times New Roman"/>
              </a:rPr>
              <a:t>Летает словно птица, но не парашю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Times New Roman"/>
              </a:rPr>
              <a:t>Красивая словно радуга, но не цвето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6600"/>
                </a:solidFill>
                <a:latin typeface="Times New Roman"/>
              </a:rPr>
              <a:t>(бабочк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Летает, но не птиц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Свистит, но не сов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(самолет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767ff"/>
                </a:solidFill>
                <a:latin typeface="Times New Roman"/>
              </a:rPr>
              <a:t>Круглый, как солнце, но не мяч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767ff"/>
                </a:solidFill>
                <a:latin typeface="Times New Roman"/>
              </a:rPr>
              <a:t>Колючий, как игольница, но не ел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767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6767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6767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6767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6767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6767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6767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6767ff"/>
                </a:solidFill>
                <a:latin typeface="Times New Roman"/>
              </a:rPr>
              <a:t>(ежик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Line 4"/>
          <p:cNvSpPr/>
          <p:nvPr/>
        </p:nvSpPr>
        <p:spPr>
          <a:xfrm>
            <a:off x="304920" y="1523880"/>
            <a:ext cx="8305560" cy="0"/>
          </a:xfrm>
          <a:prstGeom prst="line">
            <a:avLst/>
          </a:prstGeom>
          <a:ln w="69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9" name=""/>
          <p:cNvGraphicFramePr/>
          <p:nvPr/>
        </p:nvGraphicFramePr>
        <p:xfrm>
          <a:off x="1143000" y="1981080"/>
          <a:ext cx="4191120" cy="4772160"/>
        </p:xfrm>
        <a:graphic>
          <a:graphicData uri="http://schemas.openxmlformats.org/drawingml/2006/table">
            <a:tbl>
              <a:tblPr/>
              <a:tblGrid>
                <a:gridCol w="2209680"/>
                <a:gridCol w="1981440"/>
              </a:tblGrid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нег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48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чь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лка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48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лова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490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деяло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491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тер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48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дет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48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удо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490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жидать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ьки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80154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Times New Roman"/>
              </a:rPr>
              <a:t>Тема: «Прием перевоплощения».</a:t>
            </a:r>
            <a:br>
              <a:rPr sz="3600"/>
            </a:br>
            <a:r>
              <a:rPr b="1" lang="ru-RU" sz="1800" spc="-1" strike="noStrike" u="sng">
                <a:solidFill>
                  <a:srgbClr val="006699"/>
                </a:solidFill>
                <a:uFillTx/>
                <a:latin typeface="Times New Roman"/>
              </a:rPr>
              <a:t>Задание: дети придумывают слово на заданную тему, например «Зима», и к каждой букве этого слова подписывают слово, которое могло бы раскрыть тему сочинения.</a:t>
            </a:r>
            <a:r>
              <a:rPr b="0" lang="ru-RU" sz="4000" spc="-1" strike="noStrike">
                <a:solidFill>
                  <a:srgbClr val="006666"/>
                </a:solidFill>
                <a:latin typeface="Verdana"/>
              </a:rPr>
              <a:t>  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581" name="Picture 72" descr="j0199719"/>
          <p:cNvPicPr/>
          <p:nvPr/>
        </p:nvPicPr>
        <p:blipFill>
          <a:blip r:embed="rId1"/>
          <a:stretch/>
        </p:blipFill>
        <p:spPr>
          <a:xfrm>
            <a:off x="5486400" y="2362320"/>
            <a:ext cx="3483000" cy="358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503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100" spc="-1" strike="noStrike">
                <a:solidFill>
                  <a:srgbClr val="ff0066"/>
                </a:solidFill>
                <a:latin typeface="Times New Roman"/>
              </a:rPr>
              <a:t>Анкетирование выявило:</a:t>
            </a:r>
            <a:r>
              <a:rPr b="0" lang="ru-RU" sz="4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442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.  Уроки развития речи (написание изложений, сочинений) – самые нелюбимые (16 чел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2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.  Урок русского языка – самый тяжелы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2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(17 чел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2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.  Сложность этих уроков заключается в том, что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7944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Arial"/>
              </a:rPr>
              <a:t>Не знают, как передать свои мысли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0"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700" spc="-1" strike="noStrike">
                <a:solidFill>
                  <a:srgbClr val="000000"/>
                </a:solidFill>
                <a:latin typeface="Arial"/>
              </a:rPr>
              <a:t>(12 чел.),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7944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Arial"/>
              </a:rPr>
              <a:t>Трудно придумывать (10 чел.),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7944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Arial"/>
              </a:rPr>
              <a:t>Не понимают, как сочинять (11 чел.)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42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94800" y="426600"/>
            <a:ext cx="799164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Times New Roman"/>
              </a:rPr>
              <a:t>Тема: «Повторы»</a:t>
            </a: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5345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3300"/>
                </a:solidFill>
                <a:uFillTx/>
                <a:latin typeface="Times New Roman"/>
              </a:rPr>
              <a:t>К стр. 54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333399"/>
                </a:solidFill>
                <a:uFillTx/>
                <a:latin typeface="Times New Roman"/>
              </a:rPr>
              <a:t>Задание: найди повторяющиеся слова, замени их  местоимениями или синонимам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ва </a:t>
            </a: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мальчика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пошли </a:t>
            </a: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в лес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В лесу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мальчики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собирали землянику. Вдруг сверху спустился огромный </a:t>
            </a: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орел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Орел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схватил одного </a:t>
            </a: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мальчика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острыми когтями. </a:t>
            </a: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Мальчик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не растерялся и крепко схватил </a:t>
            </a: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орла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за горло. </a:t>
            </a: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Орел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упал с </a:t>
            </a: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мальчиком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на землю. Но товарищ бросился на помощь </a:t>
            </a: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мальчику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Мальчики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связали </a:t>
            </a: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орла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и принесли дом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304560" y="3049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006600"/>
                </a:solidFill>
                <a:latin typeface="Times New Roman"/>
              </a:rPr>
              <a:t>Работа по развитию речи, проводимая таким образом показала:</a:t>
            </a: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380880" y="1904760"/>
            <a:ext cx="83822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1. 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значительно </a:t>
            </a:r>
            <a:r>
              <a:rPr b="1" lang="ru-RU" sz="1800" spc="-1" strike="noStrike" u="sng">
                <a:solidFill>
                  <a:srgbClr val="ff3300"/>
                </a:solidFill>
                <a:uFillTx/>
                <a:latin typeface="Arial"/>
              </a:rPr>
              <a:t>обогатился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 словарный запас учащихс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2.  </a:t>
            </a:r>
            <a:r>
              <a:rPr b="1" lang="ru-RU" sz="1800" spc="-1" strike="noStrike" u="sng">
                <a:solidFill>
                  <a:srgbClr val="ff3300"/>
                </a:solidFill>
                <a:uFillTx/>
                <a:latin typeface="Arial"/>
              </a:rPr>
              <a:t>повысился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 общий уровень развития дете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3.  </a:t>
            </a:r>
            <a:r>
              <a:rPr b="1" lang="ru-RU" sz="1800" spc="-1" strike="noStrike" u="sng">
                <a:solidFill>
                  <a:srgbClr val="ff3300"/>
                </a:solidFill>
                <a:uFillTx/>
                <a:latin typeface="Arial"/>
              </a:rPr>
              <a:t>улучшилось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 качество реч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4.  появилась </a:t>
            </a:r>
            <a:r>
              <a:rPr b="1" lang="ru-RU" sz="1800" spc="-1" strike="noStrike" u="sng">
                <a:solidFill>
                  <a:srgbClr val="ff3300"/>
                </a:solidFill>
                <a:uFillTx/>
                <a:latin typeface="Arial"/>
              </a:rPr>
              <a:t>речевая раскрепощенность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5.  анкетирование показало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451"/>
              </a:spcBef>
              <a:buClr>
                <a:srgbClr val="ccccff"/>
              </a:buClr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уроки развития речи интересные, познавательные, приносят пользу – 21 человек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451"/>
              </a:spcBef>
              <a:buClr>
                <a:srgbClr val="ccccff"/>
              </a:buClr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уроки русского языка самые трудные – 5 человек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451"/>
              </a:spcBef>
              <a:buClr>
                <a:srgbClr val="ccccff"/>
              </a:buClr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трудности в написании сочинений – 6 человек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6. «принцип добровольности», на котором построен учебный материал, дал возможность ребятам принимать самим решения о выполнении заданий, а это воспитывает </a:t>
            </a:r>
            <a:r>
              <a:rPr b="1" lang="ru-RU" sz="1800" spc="-1" strike="noStrike" u="sng">
                <a:solidFill>
                  <a:srgbClr val="ff3300"/>
                </a:solidFill>
                <a:uFillTx/>
                <a:latin typeface="Arial"/>
              </a:rPr>
              <a:t>самостоятельность</a:t>
            </a:r>
            <a:r>
              <a:rPr b="1" lang="ru-RU" sz="2400" spc="-1" strike="noStrike" u="sng">
                <a:solidFill>
                  <a:srgbClr val="ff3300"/>
                </a:solidFill>
                <a:uFillTx/>
                <a:latin typeface="Arial"/>
              </a:rPr>
              <a:t> </a:t>
            </a:r>
            <a:r>
              <a:rPr b="1" lang="ru-RU" sz="2000" spc="-1" strike="noStrike" u="sng">
                <a:solidFill>
                  <a:srgbClr val="ff3300"/>
                </a:solidFill>
                <a:uFillTx/>
                <a:latin typeface="Arial"/>
              </a:rPr>
              <a:t>и ответственность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100" spc="-1" strike="noStrike">
                <a:solidFill>
                  <a:srgbClr val="ff0066"/>
                </a:solidFill>
                <a:latin typeface="Arial"/>
              </a:rPr>
              <a:t>задачи:</a:t>
            </a: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453240" indent="-453240">
              <a:spcBef>
                <a:spcPts val="64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редоставить возможность каждому ребенку обучаться в присущем ему темпе, учитывая тип мышления и индивидуальные возможности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3240" indent="-453240">
              <a:spcBef>
                <a:spcPts val="64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усилить роль продуктивной творческой деятельности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3240" indent="-453240">
              <a:spcBef>
                <a:spcPts val="64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дать возможность каждому ребенку максимально использовать резервы своего мозга и найти оптимальный для себя путь в процессе учения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3240" indent="-453240">
              <a:spcBef>
                <a:spcPts val="64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активизировать речевые возможности детей за счет повышения интереса к обучению через доступность и вариативность заданий, направленных на развитие реч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324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32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0000"/>
                </a:solidFill>
                <a:latin typeface="Arial"/>
              </a:rPr>
              <a:t>Направления работы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4" name="Diagram 10"/>
          <p:cNvGrpSpPr/>
          <p:nvPr/>
        </p:nvGrpSpPr>
        <p:grpSpPr>
          <a:xfrm>
            <a:off x="859680" y="1129680"/>
            <a:ext cx="7423920" cy="5283720"/>
            <a:chOff x="859680" y="1129680"/>
            <a:chExt cx="7423920" cy="5283720"/>
          </a:xfrm>
        </p:grpSpPr>
        <p:sp>
          <p:nvSpPr>
            <p:cNvPr id="515" name="_s1028"/>
            <p:cNvSpPr/>
            <p:nvPr/>
          </p:nvSpPr>
          <p:spPr>
            <a:xfrm flipH="1" flipV="1">
              <a:off x="2785320" y="3110400"/>
              <a:ext cx="893520" cy="330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_s1029"/>
            <p:cNvSpPr/>
            <p:nvPr/>
          </p:nvSpPr>
          <p:spPr>
            <a:xfrm>
              <a:off x="859680" y="2120400"/>
              <a:ext cx="2063160" cy="13208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Активизиро вать речевую активность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_s1030"/>
            <p:cNvSpPr/>
            <p:nvPr/>
          </p:nvSpPr>
          <p:spPr>
            <a:xfrm flipH="1">
              <a:off x="2785320" y="4101480"/>
              <a:ext cx="893520" cy="330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_s1031"/>
            <p:cNvSpPr/>
            <p:nvPr/>
          </p:nvSpPr>
          <p:spPr>
            <a:xfrm>
              <a:off x="860760" y="4102200"/>
              <a:ext cx="2063160" cy="13208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Овладение приемами конструирования предложени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_s1032"/>
            <p:cNvSpPr/>
            <p:nvPr/>
          </p:nvSpPr>
          <p:spPr>
            <a:xfrm>
              <a:off x="4572000" y="4431600"/>
              <a:ext cx="0" cy="660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_s1033"/>
            <p:cNvSpPr/>
            <p:nvPr/>
          </p:nvSpPr>
          <p:spPr>
            <a:xfrm>
              <a:off x="3541320" y="5092560"/>
              <a:ext cx="2062800" cy="13208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Подбирать синонимы и антоним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_s1034"/>
            <p:cNvSpPr/>
            <p:nvPr/>
          </p:nvSpPr>
          <p:spPr>
            <a:xfrm>
              <a:off x="5464440" y="4101480"/>
              <a:ext cx="893880" cy="330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_s1035"/>
            <p:cNvSpPr/>
            <p:nvPr/>
          </p:nvSpPr>
          <p:spPr>
            <a:xfrm>
              <a:off x="6220800" y="4100760"/>
              <a:ext cx="2062800" cy="13208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Умение сравнивать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_s1036"/>
            <p:cNvSpPr/>
            <p:nvPr/>
          </p:nvSpPr>
          <p:spPr>
            <a:xfrm flipV="1">
              <a:off x="5464440" y="3110760"/>
              <a:ext cx="893880" cy="330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_s1037"/>
            <p:cNvSpPr/>
            <p:nvPr/>
          </p:nvSpPr>
          <p:spPr>
            <a:xfrm>
              <a:off x="6219720" y="2119680"/>
              <a:ext cx="2063160" cy="13208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Развитие фантази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_s1038"/>
            <p:cNvSpPr/>
            <p:nvPr/>
          </p:nvSpPr>
          <p:spPr>
            <a:xfrm flipV="1">
              <a:off x="4572000" y="2450880"/>
              <a:ext cx="0" cy="660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_s1039"/>
            <p:cNvSpPr/>
            <p:nvPr/>
          </p:nvSpPr>
          <p:spPr>
            <a:xfrm>
              <a:off x="3540240" y="1129680"/>
              <a:ext cx="2063160" cy="13208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Обогащение словарного запас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_s1040"/>
            <p:cNvSpPr/>
            <p:nvPr/>
          </p:nvSpPr>
          <p:spPr>
            <a:xfrm>
              <a:off x="3540240" y="3111480"/>
              <a:ext cx="2063160" cy="13208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Развитие реч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7533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ff"/>
                </a:solidFill>
                <a:latin typeface="Arial"/>
              </a:rPr>
              <a:t>Тема: « Предложение.»</a:t>
            </a: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80769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3300"/>
                </a:solidFill>
                <a:uFillTx/>
                <a:latin typeface="Times New Roman"/>
              </a:rPr>
              <a:t>К стр. 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6600"/>
                </a:solidFill>
                <a:uFillTx/>
                <a:latin typeface="Times New Roman"/>
              </a:rPr>
              <a:t>Задание</a:t>
            </a:r>
            <a:r>
              <a:rPr b="1" lang="ru-RU" sz="3200" spc="-1" strike="noStrike">
                <a:solidFill>
                  <a:srgbClr val="006600"/>
                </a:solidFill>
                <a:latin typeface="Times New Roman"/>
              </a:rPr>
              <a:t>: расставить АКЦЕНТ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006600"/>
                </a:solidFill>
                <a:latin typeface="Times New Roman"/>
              </a:rPr>
              <a:t>Я люблю читать книж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006600"/>
                </a:solidFill>
                <a:latin typeface="Times New Roman"/>
              </a:rPr>
              <a:t>Я ЛЮБЛЮ читать книж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006600"/>
                </a:solidFill>
                <a:latin typeface="Times New Roman"/>
              </a:rPr>
              <a:t>Я люблю ЧИТАТЬ книж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006600"/>
                </a:solidFill>
                <a:latin typeface="Times New Roman"/>
              </a:rPr>
              <a:t>Я люблю читать КНИЖ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006600"/>
                </a:solidFill>
                <a:latin typeface="Times New Roman"/>
              </a:rPr>
              <a:t>Я люблю ходить в школ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0066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0" name="Picture 4" descr="j0283631"/>
          <p:cNvPicPr/>
          <p:nvPr/>
        </p:nvPicPr>
        <p:blipFill>
          <a:blip r:embed="rId1"/>
          <a:stretch/>
        </p:blipFill>
        <p:spPr>
          <a:xfrm>
            <a:off x="7086600" y="3276720"/>
            <a:ext cx="141300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7533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ff"/>
                </a:solidFill>
                <a:latin typeface="Arial"/>
              </a:rPr>
              <a:t>Тема: « Предложение.»</a:t>
            </a: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792468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3300"/>
                </a:solidFill>
                <a:uFillTx/>
                <a:latin typeface="Times New Roman"/>
              </a:rPr>
              <a:t>К стр. 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6600"/>
                </a:solidFill>
                <a:latin typeface="Times New Roman"/>
              </a:rPr>
              <a:t>1. </a:t>
            </a:r>
            <a:r>
              <a:rPr b="1" lang="ru-RU" sz="2000" spc="-1" strike="noStrike">
                <a:solidFill>
                  <a:srgbClr val="006600"/>
                </a:solidFill>
                <a:latin typeface="Times New Roman"/>
              </a:rPr>
              <a:t>Знакомство с </a:t>
            </a:r>
            <a:r>
              <a:rPr b="1" lang="ru-RU" sz="2000" spc="-1" strike="noStrike" u="sng">
                <a:solidFill>
                  <a:srgbClr val="006600"/>
                </a:solidFill>
                <a:uFillTx/>
                <a:latin typeface="Times New Roman"/>
              </a:rPr>
              <a:t>«конструктором» предложения</a:t>
            </a:r>
            <a:r>
              <a:rPr b="1" lang="ru-RU" sz="2000" spc="-1" strike="noStrike">
                <a:solidFill>
                  <a:srgbClr val="006600"/>
                </a:solidFill>
                <a:latin typeface="Times New Roman"/>
              </a:rPr>
              <a:t>. Составление «схем» предлож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1" i="1" lang="ru-RU" sz="2800" spc="-1" strike="noStrike">
                <a:solidFill>
                  <a:srgbClr val="006600"/>
                </a:solidFill>
                <a:latin typeface="Times New Roman"/>
              </a:rPr>
              <a:t>В тихом осеннем лесу слышно как кружатся на ветру и мягко падают на землю разноцветные листь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1" lang="ru-RU" sz="2600" spc="-1" strike="noStrike">
                <a:solidFill>
                  <a:srgbClr val="006600"/>
                </a:solidFill>
                <a:latin typeface="Times New Roman"/>
              </a:rPr>
              <a:t>/ 12, 16 /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1" lang="ru-RU" sz="2600" spc="-1" strike="noStrike">
                <a:solidFill>
                  <a:srgbClr val="006600"/>
                </a:solidFill>
                <a:latin typeface="Times New Roman"/>
              </a:rPr>
              <a:t>/ 7, 15, 16 /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1" lang="ru-RU" sz="2600" spc="-1" strike="noStrike">
                <a:solidFill>
                  <a:srgbClr val="006600"/>
                </a:solidFill>
                <a:latin typeface="Times New Roman"/>
              </a:rPr>
              <a:t>/  1, 4, 12, 16 /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1" lang="ru-RU" sz="2600" spc="-1" strike="noStrike">
                <a:solidFill>
                  <a:srgbClr val="006600"/>
                </a:solidFill>
                <a:latin typeface="Times New Roman"/>
              </a:rPr>
              <a:t>/ 11, 12, 15, 16 /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1" lang="ru-RU" sz="2600" spc="-1" strike="noStrike">
                <a:solidFill>
                  <a:srgbClr val="006600"/>
                </a:solidFill>
                <a:latin typeface="Times New Roman"/>
              </a:rPr>
              <a:t>/ 1, 3, 4, 15, 16 /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1" lang="ru-RU" sz="2600" spc="-1" strike="noStrike">
                <a:solidFill>
                  <a:srgbClr val="006600"/>
                </a:solidFill>
                <a:latin typeface="Times New Roman"/>
              </a:rPr>
              <a:t>/ 7, 10, 12, 13, 14, 16 /</a:t>
            </a:r>
            <a:r>
              <a:rPr b="1" lang="ru-RU" sz="3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0066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Picture 4" descr="j0219110"/>
          <p:cNvPicPr/>
          <p:nvPr/>
        </p:nvPicPr>
        <p:blipFill>
          <a:blip r:embed="rId1"/>
          <a:stretch/>
        </p:blipFill>
        <p:spPr>
          <a:xfrm>
            <a:off x="7086600" y="3429000"/>
            <a:ext cx="776160" cy="800280"/>
          </a:xfrm>
          <a:prstGeom prst="rect">
            <a:avLst/>
          </a:prstGeom>
          <a:ln w="0">
            <a:noFill/>
          </a:ln>
        </p:spPr>
      </p:pic>
      <p:pic>
        <p:nvPicPr>
          <p:cNvPr id="534" name="Picture 5" descr="j0219110"/>
          <p:cNvPicPr/>
          <p:nvPr/>
        </p:nvPicPr>
        <p:blipFill>
          <a:blip r:embed="rId2"/>
          <a:stretch/>
        </p:blipFill>
        <p:spPr>
          <a:xfrm>
            <a:off x="5867280" y="3886200"/>
            <a:ext cx="776520" cy="800280"/>
          </a:xfrm>
          <a:prstGeom prst="rect">
            <a:avLst/>
          </a:prstGeom>
          <a:ln w="0">
            <a:noFill/>
          </a:ln>
        </p:spPr>
      </p:pic>
      <p:pic>
        <p:nvPicPr>
          <p:cNvPr id="535" name="Picture 6" descr="j0219110"/>
          <p:cNvPicPr/>
          <p:nvPr/>
        </p:nvPicPr>
        <p:blipFill>
          <a:blip r:embed="rId3"/>
          <a:stretch/>
        </p:blipFill>
        <p:spPr>
          <a:xfrm>
            <a:off x="4876920" y="3809880"/>
            <a:ext cx="776160" cy="800280"/>
          </a:xfrm>
          <a:prstGeom prst="rect">
            <a:avLst/>
          </a:prstGeom>
          <a:ln w="0">
            <a:noFill/>
          </a:ln>
        </p:spPr>
      </p:pic>
      <p:pic>
        <p:nvPicPr>
          <p:cNvPr id="536" name="Picture 7" descr="j0219110"/>
          <p:cNvPicPr/>
          <p:nvPr/>
        </p:nvPicPr>
        <p:blipFill>
          <a:blip r:embed="rId4"/>
          <a:stretch/>
        </p:blipFill>
        <p:spPr>
          <a:xfrm>
            <a:off x="6781680" y="4419720"/>
            <a:ext cx="776520" cy="799920"/>
          </a:xfrm>
          <a:prstGeom prst="rect">
            <a:avLst/>
          </a:prstGeom>
          <a:ln w="0">
            <a:noFill/>
          </a:ln>
        </p:spPr>
      </p:pic>
      <p:pic>
        <p:nvPicPr>
          <p:cNvPr id="537" name="Picture 8" descr="j0219110"/>
          <p:cNvPicPr/>
          <p:nvPr/>
        </p:nvPicPr>
        <p:blipFill>
          <a:blip r:embed="rId5"/>
          <a:stretch/>
        </p:blipFill>
        <p:spPr>
          <a:xfrm>
            <a:off x="5715000" y="4876920"/>
            <a:ext cx="776160" cy="79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7533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ff"/>
                </a:solidFill>
                <a:latin typeface="Arial"/>
              </a:rPr>
              <a:t>Тема: « Предложение.»</a:t>
            </a: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5345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200" spc="-1" strike="noStrike" u="sng">
                <a:solidFill>
                  <a:srgbClr val="006600"/>
                </a:solidFill>
                <a:uFillTx/>
                <a:latin typeface="Times New Roman"/>
              </a:rPr>
              <a:t>Задание: выписать только предложения и расположить их так, что бы получился текст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333399"/>
                </a:solidFill>
                <a:latin typeface="Times New Roman"/>
              </a:rPr>
              <a:t>Мама быстр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333399"/>
                </a:solidFill>
                <a:latin typeface="Times New Roman"/>
              </a:rPr>
              <a:t>Гуси были на пруд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333399"/>
                </a:solidFill>
                <a:latin typeface="Times New Roman"/>
              </a:rPr>
              <a:t>Лапки жу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333399"/>
                </a:solidFill>
                <a:latin typeface="Times New Roman"/>
              </a:rPr>
              <a:t>Никита гнал гусей к дом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333399"/>
                </a:solidFill>
                <a:latin typeface="Times New Roman"/>
              </a:rPr>
              <a:t>Быстрый вете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333399"/>
                </a:solidFill>
                <a:latin typeface="Times New Roman"/>
              </a:rPr>
              <a:t>Прилетела о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333399"/>
                </a:solidFill>
                <a:latin typeface="Times New Roman"/>
              </a:rPr>
              <a:t>Мальчик спрятался за кус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333399"/>
                </a:solidFill>
                <a:latin typeface="Times New Roman"/>
              </a:rPr>
              <a:t>У осы острое жало</a:t>
            </a:r>
            <a:r>
              <a:rPr b="1" lang="ru-RU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0" name="Picture 4" descr=""/>
          <p:cNvPicPr/>
          <p:nvPr/>
        </p:nvPicPr>
        <p:blipFill>
          <a:blip r:embed="rId1"/>
          <a:stretch/>
        </p:blipFill>
        <p:spPr>
          <a:xfrm>
            <a:off x="5715000" y="2593800"/>
            <a:ext cx="297180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7533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ff"/>
                </a:solidFill>
                <a:latin typeface="Arial"/>
              </a:rPr>
              <a:t>Тема: « Предложение.»</a:t>
            </a: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6600"/>
                </a:solidFill>
                <a:uFillTx/>
                <a:latin typeface="Times New Roman"/>
              </a:rPr>
              <a:t>Задание: составь предложения из данных сл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333399"/>
                </a:solidFill>
                <a:latin typeface="Times New Roman"/>
              </a:rPr>
              <a:t>Зима, уже, пришла, настояща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333399"/>
                </a:solidFill>
                <a:latin typeface="Times New Roman"/>
              </a:rPr>
              <a:t>Голым, мчится, по, холодный, ветер, ветвя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333399"/>
                </a:solidFill>
                <a:latin typeface="Times New Roman"/>
              </a:rPr>
              <a:t>Верхушки, он, деревьев, кача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333399"/>
                </a:solidFill>
                <a:latin typeface="Times New Roman"/>
              </a:rPr>
              <a:t>Да, ели, только, сосны, зелены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333399"/>
                </a:solidFill>
                <a:latin typeface="Times New Roman"/>
              </a:rPr>
              <a:t>Жалобно, в, деревь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333399"/>
                </a:solidFill>
                <a:latin typeface="Times New Roman"/>
              </a:rPr>
              <a:t>Стонут, лесу.</a:t>
            </a:r>
            <a:r>
              <a:rPr b="1" lang="ru-RU" sz="3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ru-RU" sz="4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ru-RU" sz="4000" spc="-1" strike="noStrike">
                <a:solidFill>
                  <a:srgbClr val="333399"/>
                </a:solidFill>
                <a:latin typeface="Times New Roman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3" name="Picture 5" descr=""/>
          <p:cNvPicPr/>
          <p:nvPr/>
        </p:nvPicPr>
        <p:blipFill>
          <a:blip r:embed="rId1"/>
          <a:stretch/>
        </p:blipFill>
        <p:spPr>
          <a:xfrm>
            <a:off x="5791320" y="4419720"/>
            <a:ext cx="2286000" cy="170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7533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ff"/>
                </a:solidFill>
                <a:latin typeface="Arial"/>
              </a:rPr>
              <a:t>Тема: « Предложение.»</a:t>
            </a: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400" spc="-1" strike="noStrike" u="sng">
                <a:solidFill>
                  <a:srgbClr val="006600"/>
                </a:solidFill>
                <a:uFillTx/>
                <a:latin typeface="Times New Roman"/>
              </a:rPr>
              <a:t>Задание: поставь предложения в нужном порядке, чтобы получился текс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333399"/>
                </a:solidFill>
                <a:latin typeface="Times New Roman"/>
              </a:rPr>
              <a:t>Там протекал чистый ручее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333399"/>
                </a:solidFill>
                <a:latin typeface="Times New Roman"/>
              </a:rPr>
              <a:t>Всем было весел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333399"/>
                </a:solidFill>
                <a:latin typeface="Times New Roman"/>
              </a:rPr>
              <a:t>Осенью наш класс ходил на прогулку в ле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333399"/>
                </a:solidFill>
                <a:latin typeface="Times New Roman"/>
              </a:rPr>
              <a:t>День был теплый и солнечны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333399"/>
                </a:solidFill>
                <a:latin typeface="Times New Roman"/>
              </a:rPr>
              <a:t>Мы вышли к овраг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333399"/>
                </a:solidFill>
                <a:latin typeface="Times New Roman"/>
              </a:rPr>
              <a:t>Деревья стояли в золотом убор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333399"/>
                </a:solidFill>
                <a:latin typeface="Times New Roman"/>
              </a:rPr>
              <a:t>Мальчики собрали сучья, листья, шишки и зажгли костер.</a:t>
            </a:r>
            <a:r>
              <a:rPr b="1" lang="ru-RU" sz="36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1" lang="ru-RU" sz="36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1" lang="ru-RU" sz="3600" spc="-1" strike="noStrike">
                <a:solidFill>
                  <a:srgbClr val="006600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Татьяна</cp:lastModifiedBy>
  <dcterms:modified xsi:type="dcterms:W3CDTF">2013-03-01T14:19:28Z</dcterms:modified>
  <cp:revision>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