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10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ACC-B34E-4988-B604-309D7592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FDA-345D-4DF4-B92B-CAE1FF26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91F-FE95-412B-AC0E-DEEA8ECA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C57-AD5E-4A72-806B-B0734310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3781-308D-463A-8556-704D43C3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A188-63AB-4B4C-89F0-E234034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3B6C-A832-40A4-9C79-C2326072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EECE-B19C-48BE-8441-894A8AEE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DA98-16C1-44DE-9BEF-2C7CE137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026E-2B4B-4409-A6B5-69CE6DEB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BA3A-CC74-49AB-AF05-EA1D6C03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3E4-C0E8-4CE6-84EC-C2177226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0EB8-7457-4098-B023-280E73B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5C6-579A-4627-9886-B5F52406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4E60-A54D-4D10-B925-6B9A1F5C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40B-9A7F-45E6-8773-F8DB1E90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A8DE-7C0A-4DCD-AB77-2E6E8505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21D9F-0841-4C47-8D3D-7826E9CA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130C-ABE5-4794-B28F-0631D34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37E2-40D0-4774-B0A8-4FB0D49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7C75-907C-491A-B832-E90D6BE9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0A26-249B-4BA0-8334-DCA795EB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9A5-3E91-43D1-B622-C64DE371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1E0E-4792-4FF3-B170-1062C68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EF84-17AC-43CC-9F70-E550E85D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0DE7-AB26-49B9-81C4-34D15D4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5E6E-9C93-42CE-A897-BBA8536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EDF5-1521-460D-9DD8-9E5981E9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EF9A-73BF-47C2-BA5B-FEDB854C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6DC0-4CE2-4FA2-9D5F-C163410F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D513-4AE5-42A8-BB66-63A7049E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A5C9-43A2-4466-9727-41C81B31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ABEE-4175-4B1D-BCFF-1DD0A3A4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553-F321-44C2-800F-9C7209FD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CE72-FD13-496C-A431-4EC7611E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408B-9CA2-4005-9C91-F2C5645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D3D0-05A3-427F-8B60-837B983D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5447-20E3-4107-BBDE-2F44A4A2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75E3-9E01-4812-AECE-B5F6489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9B67-DD05-47BD-A4A3-52A5ADDF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227B-4544-4A6E-9A3B-6B2B2B0F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B588-8555-4C7C-B1DD-33D5A6E2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750D-0E17-4526-9D37-6FDA254C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C4D1D-0A79-4B0A-B955-9C0B58FB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628-0D68-4F00-BCCF-11A54748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419B-50E9-4381-9FBA-FB56811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B3114-121A-4935-BF66-2EB48727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43982-13B7-4ECE-8559-A73C8D80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9494D-4CD0-42C3-96CA-90287B3A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3192B-7740-4AE0-8C7E-1CFACE7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1A794-5710-4B0D-8913-8DF7912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5919F-4ECF-44FA-9169-19BD40C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35E6-7C67-450E-85E7-9335776F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F23E-0BB7-460E-B1C7-8EEB99B6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FB6A-4C67-4108-9106-4F55F352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AFB-5710-4FC3-A916-22FBC31F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3A8E-0767-4AD8-92EA-4BCD39E3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B395-0496-4B24-8E59-AB8C098F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F759-3212-4572-A2B0-1F48DEE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FDBF-F92C-408B-B2A8-5E611404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C6AB9-3E11-4AAF-838D-EFE751F5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8A00-E7EC-4C71-851E-C3DBCA3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91FB1-AB54-41F3-8349-D851557F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6A66E-9EBD-4CE4-9CFA-0CA8DDB3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5259B-CBE1-4E5C-8038-1D35A76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D2C6A-FE19-4AB7-B6A6-1F00F70C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56A-83A8-47E1-9622-DDC371E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283B4-FD9E-44CF-B475-4316CC09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8AE0-A3AD-4FCC-8EA1-A96BF87A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10F04-0332-4F13-8749-05124D98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8C40-E66B-4A7C-BAE0-8F194DBD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D3816-6196-4EB9-A568-52ACA9A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02008-4AC6-4632-9E4F-A00CD545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A76E-8197-416F-BE1D-72A3353C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87C7F-2B81-4181-89B2-9BBD0892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8594-766C-46C3-8217-39FC3D73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A1C1-364A-4688-880F-9060779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BE8-77AC-420C-ABF7-E09F3876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F755D-6AA4-47AE-B548-8B160FD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921AE-A354-4A91-AE0A-DBDFC850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1BC51-8865-4D0C-813C-ED646577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E2E9-0903-4AB6-BE2E-A25B108A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D6E9-08D6-4729-8351-6991918A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69E2-6D00-4680-B974-016381AB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F55AB-E92B-4222-91B6-556BDFB2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C8BB5-8C47-4B6A-AAE2-D8678253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5414-F7D7-4BAD-94E5-4D4CFF93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520A1-F783-471F-AC48-80C3E943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D4F-23E5-4AF6-967A-8126D02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E28B-4E25-4169-94E5-006AF7B0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AE869-27DA-4B27-82DC-AD6A8EF6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A312-BC1F-48C5-A5AD-230BA843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7195-EC7C-4E2D-8A1C-7D9B662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A3A47-B08A-4849-83A1-636DAF9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5F97-6610-41B3-B625-59C9BA76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31F77-B1B4-4B30-B924-3777C1A4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4CCC-B698-4F84-999A-2BB70AAC90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796-B7D7-457D-BB52-9FBD82EF93D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1176-E474-4846-8C02-3A2DA10DCC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377B-9CC7-4889-8C4B-F2C94F4C366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1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6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468-16CB-43EA-ABA2-FDFCAE5C9C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10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311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25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329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333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37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41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EC19-E4FF-4FB2-BB0C-690AEC1D883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9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C73B-95E5-43DF-8B73-5047D058AA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5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5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676-B36C-4536-BD5D-69686C08D8D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6"/>
          <p:cNvSpPr txBox="1"/>
          <p:nvPr/>
        </p:nvSpPr>
        <p:spPr>
          <a:xfrm>
            <a:off x="5638680" y="5105520"/>
            <a:ext cx="252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447920" y="99072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1143000" y="114300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Активизация речевой деятельности учащихся через систему упражнений по развитию творческого воображ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4724280" y="4800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ту выполнила: Павлова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6172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: определи границы слов, спиши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еждедумали: белыйполярныймедведь –неутомимый бродяга, кочуетпо дрейфующимльдам всейАрктики, нигдеособенно долгоне задерживаясь. Теперьза мечено, что белыемедведи болеепривязаныкопределеннымместам, ктемособенно, гдеестьоткрытая, свободнаяотольдав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6981840" y="2895480"/>
            <a:ext cx="154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66"/>
                </a:solidFill>
                <a:latin typeface="Times New Roman"/>
              </a:rPr>
              <a:t>Тема: «Предложения бывают разные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12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28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Задание: найти «лишний» слог, записать сло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кра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умре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апоха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ерачень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Хадулв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Кабрыка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Балира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инорож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ребрихи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j0293468"/>
          <p:cNvPicPr/>
          <p:nvPr/>
        </p:nvPicPr>
        <p:blipFill>
          <a:blip r:embed="rId1"/>
          <a:stretch/>
        </p:blipFill>
        <p:spPr>
          <a:xfrm>
            <a:off x="6019920" y="2590920"/>
            <a:ext cx="1712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</a:rPr>
              <a:t>Тема: «Предложения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14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Задание: допридума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Мне нравиться ……………………………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Я пишу о ……………………………………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На улице ……………………………………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Я думаю ……………………………………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Моя учительница ……………………………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</a:rPr>
              <a:t>Тема: «Предложения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22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«Построить лесенку» из предлож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Ученик рисует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СТАРАТЕЛЬНЫЙ ученик рисует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Старательный ученик рисует КОТЕНКА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Старательный ученик рисует котенка в АЛЬБОМЕ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99"/>
                </a:solidFill>
                <a:latin typeface="Times New Roman"/>
              </a:rPr>
              <a:t>НА УРОКЕ  старательный ученик рисует котенка в альбоме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pe01821_"/>
          <p:cNvPicPr/>
          <p:nvPr/>
        </p:nvPicPr>
        <p:blipFill>
          <a:blip r:embed="rId1"/>
          <a:stretch/>
        </p:blipFill>
        <p:spPr>
          <a:xfrm>
            <a:off x="7359480" y="2666880"/>
            <a:ext cx="1479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Times New Roman"/>
              </a:rPr>
              <a:t>Тема: «Составление распространенных предложений.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23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57200" y="1905120"/>
          <a:ext cx="8229600" cy="4219560"/>
        </p:xfrm>
        <a:graphic>
          <a:graphicData uri="http://schemas.openxmlformats.org/drawingml/2006/table">
            <a:tbl>
              <a:tblPr/>
              <a:tblGrid>
                <a:gridCol w="1371600"/>
                <a:gridCol w="1981080"/>
                <a:gridCol w="1447920"/>
                <a:gridCol w="1905120"/>
                <a:gridCol w="1523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делает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2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тенок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ушис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Ласк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Игр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ерсид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Леж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Бег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рыг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Сп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Игр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На див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о комна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В корзин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о по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По ули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Тих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Рез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Высо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Чут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Шустр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4" name="Picture 49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10191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Тема: «Интонация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63300"/>
                </a:solidFill>
                <a:uFillTx/>
                <a:latin typeface="Times New Roman"/>
              </a:rPr>
              <a:t>Задание: определить какое «настроение у предложений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Я увидел синий-синий, презеленый красный шар.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Я очень люблю вишневое варенье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Ромашка похожа на маленькое солнышк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Нам так хорошо вместе!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солнце светит"/>
          <p:cNvPicPr/>
          <p:nvPr/>
        </p:nvPicPr>
        <p:blipFill>
          <a:blip r:embed="rId1"/>
          <a:stretch/>
        </p:blipFill>
        <p:spPr>
          <a:xfrm>
            <a:off x="6705720" y="5181480"/>
            <a:ext cx="16732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Тема: «Составление ассоциативных цепочек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42-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63300"/>
                </a:solidFill>
                <a:uFillTx/>
                <a:latin typeface="Times New Roman"/>
              </a:rPr>
              <a:t>Разминка: с чем ассоциируется образ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Бабушка 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внук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сы ---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папа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Цветок --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букет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Сад --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деревья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Школа 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дети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Бантик 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косички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Котенок 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клубок,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Свет -------------- </a:t>
            </a:r>
            <a:r>
              <a:rPr b="1" i="1" lang="ru-RU" sz="2600" spc="-1" strike="noStrike">
                <a:solidFill>
                  <a:srgbClr val="663300"/>
                </a:solidFill>
                <a:latin typeface="Arial"/>
              </a:rPr>
              <a:t>тепло,…</a:t>
            </a: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6477120" y="3505320"/>
            <a:ext cx="2035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Тема: «Сравнение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а основе сравнений сочинить 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КАК …………., НО НЕ,……………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СЛОВНО ……………..,НО НЕ ,………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БУДТО ………………, НО НЕ …………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663300"/>
                </a:solidFill>
                <a:latin typeface="Times New Roman"/>
              </a:rPr>
              <a:t>Форма, цвет, размер, вкус, применение,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50021"/>
                </a:solidFill>
                <a:latin typeface="Times New Roman"/>
              </a:rPr>
              <a:t>Тема: «Сравнение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егкая словно снежинка, но не п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етает словно птица, но не параш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Красивая словно радуга, но не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(баб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Летает, но не п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вистит, но не с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(само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Круглый, как солнце, но не мя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Колючий, как игольница, но не 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767ff"/>
                </a:solidFill>
                <a:latin typeface="Times New Roman"/>
              </a:rPr>
              <a:t>(еж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304920" y="1523880"/>
            <a:ext cx="830556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1143000" y="1981080"/>
          <a:ext cx="4191120" cy="4772160"/>
        </p:xfrm>
        <a:graphic>
          <a:graphicData uri="http://schemas.openxmlformats.org/drawingml/2006/table">
            <a:tbl>
              <a:tblPr/>
              <a:tblGrid>
                <a:gridCol w="2209680"/>
                <a:gridCol w="1981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е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я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д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ь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Тема: «Прием перевоплощения».</a:t>
            </a:r>
            <a:br>
              <a:rPr sz="3600"/>
            </a:br>
            <a:r>
              <a:rPr b="1" lang="ru-RU" sz="1800" spc="-1" strike="noStrike" u="sng">
                <a:solidFill>
                  <a:srgbClr val="006699"/>
                </a:solidFill>
                <a:uFillTx/>
                <a:latin typeface="Times New Roman"/>
              </a:rPr>
              <a:t>Задание: дети придумывают слово на заданную тему, например «Зима», и к каждой букве этого слова подписывают слово, которое могло бы раскрыть тему сочинения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81" name="Picture 72" descr="j0199719"/>
          <p:cNvPicPr/>
          <p:nvPr/>
        </p:nvPicPr>
        <p:blipFill>
          <a:blip r:embed="rId1"/>
          <a:stretch/>
        </p:blipFill>
        <p:spPr>
          <a:xfrm>
            <a:off x="5486400" y="2362320"/>
            <a:ext cx="34830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66"/>
                </a:solidFill>
                <a:latin typeface="Times New Roman"/>
              </a:rPr>
              <a:t>Анкетирование выявило: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 Уроки развития речи (написание изложений, сочинений) – самые нелюбимые (16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 Урок русского языка – самый тяжел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7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 Сложность этих уроков заключается в том, что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 знают, как передать свои мысл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(12 чел.)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Трудно придумывать (10 чел.)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 понимают, как сочинять (11 чел.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94800" y="426600"/>
            <a:ext cx="7991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Тема: «Повторы»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5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99"/>
                </a:solidFill>
                <a:uFillTx/>
                <a:latin typeface="Times New Roman"/>
              </a:rPr>
              <a:t>Задание: найди повторяющиеся слова, замени их  местоимениями или синоним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шл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л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лес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бирали землянику. Вдруг сверху спустился огромный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хватил одного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трыми когтями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е растерялся и крепко схватил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за горло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пал с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 землю. Но товарищ бросился на помощь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альчи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ал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р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принесли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а по развитию речи, проводимая таким образом показала: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чительно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обогатилс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словарный запас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повысилс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общий уровень развит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улучшилос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качество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 появилась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речевая раскрепощеннос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5.  анкетирование показа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роки развития речи интересные, познавательные, приносят пользу – 21 челов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роки русского языка самые трудные – 5 челов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сти в написании сочинений – 6 челов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6. «принцип добровольности», на котором построен учебный материал, дал возможность ребятам принимать самим решения о выполнении заданий, а это воспитывает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самостоятельность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и ответственность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66"/>
                </a:solidFill>
                <a:latin typeface="Arial"/>
              </a:rPr>
              <a:t>задачи: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-45324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ить возможность каждому ребенку обучаться в присущем ему темпе, учитывая тип мышления и индивидуальные возмож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илить роль продуктивной творческой деятель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ть возможность каждому ребенку максимально использовать резервы своего мозга и найти оптимальный для себя путь в процессе 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ивизировать речевые возможности детей за счет повышения интереса к обучению через доступность и вариативность заданий, направленных на развитие ре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32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Направления работ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Diagram 10"/>
          <p:cNvGrpSpPr/>
          <p:nvPr/>
        </p:nvGrpSpPr>
        <p:grpSpPr>
          <a:xfrm>
            <a:off x="859680" y="1129680"/>
            <a:ext cx="7423920" cy="5283720"/>
            <a:chOff x="859680" y="1129680"/>
            <a:chExt cx="7423920" cy="5283720"/>
          </a:xfrm>
        </p:grpSpPr>
        <p:sp>
          <p:nvSpPr>
            <p:cNvPr id="515" name="_s1028"/>
            <p:cNvSpPr/>
            <p:nvPr/>
          </p:nvSpPr>
          <p:spPr>
            <a:xfrm flipH="1" flipV="1">
              <a:off x="2785320" y="3110400"/>
              <a:ext cx="89352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1029"/>
            <p:cNvSpPr/>
            <p:nvPr/>
          </p:nvSpPr>
          <p:spPr>
            <a:xfrm>
              <a:off x="859680" y="212040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Активизиро вать речевую актив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1030"/>
            <p:cNvSpPr/>
            <p:nvPr/>
          </p:nvSpPr>
          <p:spPr>
            <a:xfrm flipH="1">
              <a:off x="2785320" y="4101480"/>
              <a:ext cx="89352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1031"/>
            <p:cNvSpPr/>
            <p:nvPr/>
          </p:nvSpPr>
          <p:spPr>
            <a:xfrm>
              <a:off x="860760" y="410220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владение приемами конструирования предлож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1032"/>
            <p:cNvSpPr/>
            <p:nvPr/>
          </p:nvSpPr>
          <p:spPr>
            <a:xfrm>
              <a:off x="4572000" y="4431600"/>
              <a:ext cx="0" cy="66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1033"/>
            <p:cNvSpPr/>
            <p:nvPr/>
          </p:nvSpPr>
          <p:spPr>
            <a:xfrm>
              <a:off x="3541320" y="5092560"/>
              <a:ext cx="206280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бирать синонимы и антони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1034"/>
            <p:cNvSpPr/>
            <p:nvPr/>
          </p:nvSpPr>
          <p:spPr>
            <a:xfrm>
              <a:off x="5464440" y="4101480"/>
              <a:ext cx="89388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1035"/>
            <p:cNvSpPr/>
            <p:nvPr/>
          </p:nvSpPr>
          <p:spPr>
            <a:xfrm>
              <a:off x="6220800" y="4100760"/>
              <a:ext cx="206280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Умение сравнива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1036"/>
            <p:cNvSpPr/>
            <p:nvPr/>
          </p:nvSpPr>
          <p:spPr>
            <a:xfrm flipV="1">
              <a:off x="5464440" y="3110760"/>
              <a:ext cx="89388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1037"/>
            <p:cNvSpPr/>
            <p:nvPr/>
          </p:nvSpPr>
          <p:spPr>
            <a:xfrm>
              <a:off x="6219720" y="211968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звитие фантаз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1038"/>
            <p:cNvSpPr/>
            <p:nvPr/>
          </p:nvSpPr>
          <p:spPr>
            <a:xfrm flipV="1">
              <a:off x="4572000" y="2450880"/>
              <a:ext cx="0" cy="66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_s1039"/>
            <p:cNvSpPr/>
            <p:nvPr/>
          </p:nvSpPr>
          <p:spPr>
            <a:xfrm>
              <a:off x="3540240" y="112968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огащение словарного запа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_s1040"/>
            <p:cNvSpPr/>
            <p:nvPr/>
          </p:nvSpPr>
          <p:spPr>
            <a:xfrm>
              <a:off x="3540240" y="3111480"/>
              <a:ext cx="2063160" cy="1320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витие ре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: расставить АКЦ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читать кни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читать кни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ЧИТАТЬ кни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читать КНИ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Я люблю ходить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j0283631"/>
          <p:cNvPicPr/>
          <p:nvPr/>
        </p:nvPicPr>
        <p:blipFill>
          <a:blip r:embed="rId1"/>
          <a:stretch/>
        </p:blipFill>
        <p:spPr>
          <a:xfrm>
            <a:off x="7086600" y="3276720"/>
            <a:ext cx="1413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 стр.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Знакомство с </a:t>
            </a:r>
            <a:r>
              <a:rPr b="1" lang="ru-RU" sz="2000" spc="-1" strike="noStrike" u="sng">
                <a:solidFill>
                  <a:srgbClr val="006600"/>
                </a:solidFill>
                <a:uFillTx/>
                <a:latin typeface="Times New Roman"/>
              </a:rPr>
              <a:t>«конструктором» предложения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. Составление «схем»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 тихом осеннем лесу слышно как кружатся на ветру и мягко падают на землю разноцветные ли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12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7, 15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 1, 4, 12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11, 12, 15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1, 3, 4, 15, 16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/ 7, 10, 12, 13, 14, 16 /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j0219110"/>
          <p:cNvPicPr/>
          <p:nvPr/>
        </p:nvPicPr>
        <p:blipFill>
          <a:blip r:embed="rId1"/>
          <a:stretch/>
        </p:blipFill>
        <p:spPr>
          <a:xfrm>
            <a:off x="7086600" y="3429000"/>
            <a:ext cx="776160" cy="800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j0219110"/>
          <p:cNvPicPr/>
          <p:nvPr/>
        </p:nvPicPr>
        <p:blipFill>
          <a:blip r:embed="rId2"/>
          <a:stretch/>
        </p:blipFill>
        <p:spPr>
          <a:xfrm>
            <a:off x="5867280" y="3886200"/>
            <a:ext cx="776520" cy="800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j0219110"/>
          <p:cNvPicPr/>
          <p:nvPr/>
        </p:nvPicPr>
        <p:blipFill>
          <a:blip r:embed="rId3"/>
          <a:stretch/>
        </p:blipFill>
        <p:spPr>
          <a:xfrm>
            <a:off x="4876920" y="3809880"/>
            <a:ext cx="776160" cy="800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j0219110"/>
          <p:cNvPicPr/>
          <p:nvPr/>
        </p:nvPicPr>
        <p:blipFill>
          <a:blip r:embed="rId4"/>
          <a:stretch/>
        </p:blipFill>
        <p:spPr>
          <a:xfrm>
            <a:off x="6781680" y="4419720"/>
            <a:ext cx="776520" cy="799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j0219110"/>
          <p:cNvPicPr/>
          <p:nvPr/>
        </p:nvPicPr>
        <p:blipFill>
          <a:blip r:embed="rId5"/>
          <a:stretch/>
        </p:blipFill>
        <p:spPr>
          <a:xfrm>
            <a:off x="5715000" y="4876920"/>
            <a:ext cx="7761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: выписать только предложения и расположить их так, что бы получился тек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ама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уси были на п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Лапки ж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икита гнал гусей к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ыстрый 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рилетела 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альчик спрятался за к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У осы острое жало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5715000" y="2593800"/>
            <a:ext cx="2971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: составь предложения из дан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Зима, уже, пришла, настоя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Голым, мчится, по, холодный, ветер, ветв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ерхушки, он, деревьев, кач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а, ели, только, сосны, зеле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Жалобно, в, дерев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тонут, лесу.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22860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ема: « Предложение.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Задание: поставь предложения в нужном порядке, чтобы получился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ам протекал чистый руче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сем было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сенью наш класс ходил на прогулку в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ень был теплый и солне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ы вышли к овр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еревья стояли в золотом уб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альчики собрали сучья, листья, шишки и зажгли костер.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3-03-01T14:19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