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A817-1E2F-4575-B0E4-75387A29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FE6-CA73-47FB-8DDC-48E1D548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FCC-DBEB-46BD-A56E-1FC6B150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CA96-2BF7-4EEA-AF82-B72AF64E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C7A2-F6D5-473F-B459-7B016E4A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874-E37F-4B6F-8A70-26EFF7D6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B1A2-8D02-45E0-B66C-9799637C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5A98-71DA-4750-B9BD-7524BA36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D48-EA73-4688-8999-3035D520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1F6-8295-4E4B-802F-82A61725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2D8-1733-494C-AECC-4DA1B9AE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4FD2-A4DE-4B52-84A4-D2BE1C46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7FFF-3F83-42BC-910D-123711F94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60680" cy="5183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492360" y="333360"/>
            <a:ext cx="4896000" cy="3276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843280" y="3068640"/>
            <a:ext cx="230040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364000" y="3789360"/>
            <a:ext cx="338472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590920" cy="3456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35840" y="260280"/>
            <a:ext cx="1935000" cy="2908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780000" y="3546360"/>
            <a:ext cx="4954320" cy="3311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492360" y="260280"/>
            <a:ext cx="3311640" cy="2971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24000" y="4046400"/>
            <a:ext cx="28112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572000" cy="3047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284720" y="3500280"/>
            <a:ext cx="457200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0436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87200"/>
            <a:ext cx="914400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96720" y="115920"/>
            <a:ext cx="10082160" cy="67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679640" cy="3510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19640" y="836640"/>
            <a:ext cx="363708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497120" cy="3373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9640" y="4076640"/>
            <a:ext cx="3816360" cy="2544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580000" y="3645000"/>
            <a:ext cx="302436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2:40:25Z</dcterms:created>
  <dc:creator>Танюшечка</dc:creator>
  <dc:description/>
  <dc:language>en-US</dc:language>
  <cp:lastModifiedBy>Танюшечка</cp:lastModifiedBy>
  <dcterms:modified xsi:type="dcterms:W3CDTF">2013-03-02T05:20:19Z</dcterms:modified>
  <cp:revision>8</cp:revision>
  <dc:subject/>
  <dc:title>Слайд 1</dc:title>
</cp:coreProperties>
</file>