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6D9-C53F-4093-8D74-BCE70CB3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3DF-0AFE-4B04-9BD4-7F5B9F35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8DD-0599-4D2F-B010-8B980D6D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70F-BA32-4FE5-AE3D-84B7F729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D5B-025E-4372-B0C4-E00CC770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CE9-BF8F-45C5-B434-A04252C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F80-1AFD-49EF-94F1-D51D83A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9F9-61D0-489A-93C2-FC32F2E3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205-781D-4C75-94D9-00FACF38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AE5-B6B2-4534-BE4B-E096CD7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E8F-E889-4A13-9FFC-309DAEB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CA8-56ED-40E5-B86C-277D5D7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61F-4CAE-45EF-A1C7-B5E5A57F3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60680" cy="5183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48960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43280" y="3068640"/>
            <a:ext cx="23004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3384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590920" cy="345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35840" y="260280"/>
            <a:ext cx="1935000" cy="2908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80000" y="3546360"/>
            <a:ext cx="4954320" cy="331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92360" y="260280"/>
            <a:ext cx="331164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24000" y="4046400"/>
            <a:ext cx="28112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572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115920"/>
            <a:ext cx="1008216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679640" cy="351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637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97120" cy="3373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580000" y="3645000"/>
            <a:ext cx="3024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2:40:25Z</dcterms:created>
  <dc:creator>Танюшечка</dc:creator>
  <dc:description/>
  <dc:language>en-US</dc:language>
  <cp:lastModifiedBy>Танюшечка</cp:lastModifiedBy>
  <dcterms:modified xsi:type="dcterms:W3CDTF">2013-03-02T05:20:19Z</dcterms:modified>
  <cp:revision>8</cp:revision>
  <dc:subject/>
  <dc:title>Слайд 1</dc:title>
</cp:coreProperties>
</file>