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D93-AF69-4A5D-8F67-E455C02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090-2161-4D14-815E-A152E80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025-22CD-46E5-A605-F25516EF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51A-7E80-436D-A43C-89558772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645-A71C-4301-811D-790215B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48B-5C90-49FF-ACD7-3863742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01F-6A01-47CC-996F-E21092D8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85A-CB66-4C61-9016-3B067AE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449-8DBC-4350-823E-E1A53C0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A8C-29AF-42C2-8227-09740A1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D59-945E-46D4-AF9D-85AD38E9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50F-8312-464C-B70C-7F6012F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3686-F1EE-408B-AB1A-F5A9AD7B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71640" cy="2471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40360" y="2997360"/>
            <a:ext cx="2730600" cy="345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031840" cy="295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627280" y="3933720"/>
            <a:ext cx="3097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3995640" cy="532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725560" cy="204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294480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516720" y="47628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443640" y="4581360"/>
            <a:ext cx="229572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120840" cy="46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3992400" cy="29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16440" cy="585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1987560" cy="266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59280" y="3357720"/>
            <a:ext cx="3768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44840" cy="288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39844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51640" y="3429000"/>
            <a:ext cx="2187360" cy="309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0920" y="334476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15636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622240" cy="174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568600" cy="192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68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22:24Z</dcterms:modified>
  <cp:revision>6</cp:revision>
  <dc:subject/>
  <dc:title>Слайд 1</dc:title>
</cp:coreProperties>
</file>