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9CF-C0F0-43D8-A6FE-89E2E7B2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E15-48DC-4EB5-AE9F-ACB3AD00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FC7-5743-4996-BD8C-49CF5E4F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A1A-8B4D-48AF-8662-B364863F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50F-9FCE-40D5-AAEC-8EEADDA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043-AE94-4BDD-81AA-9B57EEAC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244-B747-40ED-B957-3D46A140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93C-0F5E-4966-AA36-A1AB588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61C-BDCC-4ADF-AABE-FFBF7802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785-DDA1-424E-88F2-E84248AB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9C7-DCC8-4C2F-8CD4-AD1F1B37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07B-F99F-4F5A-9A75-592D716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592E-C5A3-4840-AEAA-3EADF28C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671640" cy="2471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40360" y="2997360"/>
            <a:ext cx="2730600" cy="3454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031840" cy="295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627280" y="3933720"/>
            <a:ext cx="3097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3995640" cy="532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725560" cy="2044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294480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516720" y="47628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443640" y="4581360"/>
            <a:ext cx="229572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120840" cy="46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3992400" cy="299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916440" cy="5853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1987560" cy="266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59280" y="3357720"/>
            <a:ext cx="37688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44840" cy="288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39844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51640" y="3429000"/>
            <a:ext cx="2187360" cy="3090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50920" y="334476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88000" y="26028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156360" cy="34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622240" cy="174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568600" cy="192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68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2:40:25Z</dcterms:created>
  <dc:creator>Танюшечка</dc:creator>
  <dc:description/>
  <dc:language>en-US</dc:language>
  <cp:lastModifiedBy>Танюшечка</cp:lastModifiedBy>
  <dcterms:modified xsi:type="dcterms:W3CDTF">2013-03-02T05:22:24Z</dcterms:modified>
  <cp:revision>6</cp:revision>
  <dc:subject/>
  <dc:title>Слайд 1</dc:title>
</cp:coreProperties>
</file>