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DD10-C00B-45AC-B041-5CD1BAF27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81EB-0D3E-41DB-ACBE-CE37C79A5E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12CD-41CF-4382-8CAD-62F2E0C7BC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64D-E6D5-4DEF-9883-5DCDC4E14A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12F4-37EF-4C82-B18A-303AA1A86B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51DB-B509-4B93-87B8-9704D01152B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BF8B-BCBE-4745-85C1-770F98A695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1F72-5FC3-41C3-9986-AA4CECE4A5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1A3-3B45-464A-9470-3EFE2B9A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832-5EE0-408D-9873-B189C2DC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0D8-6D6F-4420-B8CE-90472B32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23E-FAB6-4351-ACEF-451913FD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86F-1DE8-41DA-8494-7ED27AED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7FD-4592-41CB-BBAC-46795B95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D9E-5972-4951-A730-040E9DC5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D35-D5E2-46EA-AB97-2676B80F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15F-F83F-4EDD-8D15-DDAA104B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16E-EAC4-4EBB-8288-609EC70D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090-52CF-48C4-BDD9-EFE4304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47F-526A-4F78-849A-0B21C3A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1593-5EC7-40D0-ABEE-2062FCE1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e/UT_principe.sv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В мире ультразвуков 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и инфразву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835280" y="4292640"/>
            <a:ext cx="66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Проект выполнен учащим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10 класса МБОУ СОШ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Бычковой Д. и Федоровской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Шурик 3"/>
          <p:cNvPicPr/>
          <p:nvPr/>
        </p:nvPicPr>
        <p:blipFill>
          <a:blip r:embed="rId1"/>
          <a:stretch/>
        </p:blipFill>
        <p:spPr>
          <a:xfrm>
            <a:off x="500040" y="1357200"/>
            <a:ext cx="4359240" cy="3270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5" name="Rectangle 7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43000" y="428760"/>
            <a:ext cx="684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Ультразвук и животные</a:t>
            </a:r>
            <a:r>
              <a:rPr b="0" lang="en-US" sz="4000" spc="-1" strike="noStrike">
                <a:solidFill>
                  <a:srgbClr val="324b9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857840" y="1928880"/>
            <a:ext cx="388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вказская овча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00040" y="4357800"/>
            <a:ext cx="8358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Собаки воспринимают ультразвуки с частотой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40 кГц. Этим пользуются дрессировщики, чтобы подавать собаке команду, не слышимую людьми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755640" y="115920"/>
            <a:ext cx="720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Летучие мыши и их секр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9" descr="Мышь 2"/>
          <p:cNvPicPr/>
          <p:nvPr/>
        </p:nvPicPr>
        <p:blipFill>
          <a:blip r:embed="rId1"/>
          <a:stretch/>
        </p:blipFill>
        <p:spPr>
          <a:xfrm>
            <a:off x="539640" y="907920"/>
            <a:ext cx="3532320" cy="5168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2" name="Text Box 30"/>
          <p:cNvSpPr/>
          <p:nvPr/>
        </p:nvSpPr>
        <p:spPr>
          <a:xfrm>
            <a:off x="428760" y="6072120"/>
            <a:ext cx="381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c59"/>
                </a:solidFill>
                <a:latin typeface="Arial"/>
              </a:rPr>
              <a:t>Ушан обыкновенный</a:t>
            </a:r>
            <a:r>
              <a:rPr b="0" lang="en-US" sz="2800" spc="-1" strike="noStrike">
                <a:solidFill>
                  <a:srgbClr val="002c5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211640" y="1989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00720" y="184464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4284720" y="907920"/>
            <a:ext cx="4535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Летучие мыши почти слепы, тем не менее они  прекрасно ориентируются в темноте за счет ультразв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Летучие мыши обнаруживают в темноте натянутую проволоку диаметром 0,12-0,05мм, улавливают эх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которое в </a:t>
            </a:r>
            <a:r>
              <a:rPr b="1" lang="en-US" sz="2800" spc="-1" strike="noStrike">
                <a:solidFill>
                  <a:srgbClr val="00172e"/>
                </a:solidFill>
                <a:latin typeface="Arial"/>
              </a:rPr>
              <a:t>2000 </a:t>
            </a: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р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слабее посыла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сигнала.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334040" cy="5003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285840" y="1714680"/>
            <a:ext cx="396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Ориентация по отраженным звукам была открыта и у китообразных.   Дельфины   получают точную информацию об окружающих предметах,   находят пищу даже ночью.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0" y="285840"/>
            <a:ext cx="576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Дельф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ПРИМЕНЕНИЕ УЛЬТРАЗВУ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K:\14-8.jpg"/>
          <p:cNvPicPr/>
          <p:nvPr/>
        </p:nvPicPr>
        <p:blipFill>
          <a:blip r:embed="rId1"/>
          <a:stretch/>
        </p:blipFill>
        <p:spPr>
          <a:xfrm>
            <a:off x="3357720" y="3000240"/>
            <a:ext cx="5251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Файл:UT princip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628640"/>
            <a:ext cx="3797280" cy="352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3" name="Rectangle 6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643280" y="2205000"/>
            <a:ext cx="403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Ультразвук применяется для выявления дефектов в литых изделиях. Его используют в металлургической промышленности, в железнодорожной и стекольной отрас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0840" y="214200"/>
            <a:ext cx="899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Ультразвуковая дефектоскоп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5"/>
          <p:cNvSpPr/>
          <p:nvPr/>
        </p:nvSpPr>
        <p:spPr>
          <a:xfrm>
            <a:off x="5572080" y="2786040"/>
            <a:ext cx="1871640" cy="122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148360" y="393372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14" descr=""/>
          <p:cNvPicPr/>
          <p:nvPr/>
        </p:nvPicPr>
        <p:blipFill>
          <a:blip r:embed="rId1"/>
          <a:stretch/>
        </p:blipFill>
        <p:spPr>
          <a:xfrm>
            <a:off x="5929200" y="2855880"/>
            <a:ext cx="1297080" cy="11304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357120" y="121428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172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Отражаясь от дна моря, ультразвуковой сигнал  достигает приемника.  Таким образом, глубину моря можно вычислить по формуле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Эхол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GPSMAP 521s"/>
          <p:cNvPicPr/>
          <p:nvPr/>
        </p:nvPicPr>
        <p:blipFill>
          <a:blip r:embed="rId2"/>
          <a:stretch/>
        </p:blipFill>
        <p:spPr>
          <a:xfrm>
            <a:off x="714240" y="2571840"/>
            <a:ext cx="3786480" cy="3998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4643280" y="557208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временный эхол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499920" y="1600200"/>
            <a:ext cx="51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Ультразвуковые ванны для очистки лабораторной посу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Очистка и обезжиривание деталей и узлов двиг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Стирка бел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Очистка корнепл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84360" y="188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Очистка при помощи ультра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&amp;Ucy;&amp;lcy;&amp;softcy;&amp;tcy;&amp;rcy;&amp;acy;&amp;zcy;&amp;vcy;&amp;ucy;&amp;kcy;&amp;ocy;&amp;vcy;&amp;ocy;&amp;iecy; &amp;ocy;&amp;bcy;&amp;ocy;&amp;rcy;&amp;ucy;&amp;dcy;&amp;ocy;&amp;vcy;&amp;acy;&amp;ncy;&amp;icy;&amp;iecy; &amp;dcy;&amp;lcy;&amp;yacy; &amp;ocy;&amp;chcy;&amp;icy;&amp;scy;&amp;tcy;&amp;kcy;&amp;icy; &amp;icy;&amp;zcy;&amp;dcy;&amp;iecy;&amp;lcy;&amp;icy;&amp;jcy;. &amp;Ucy;&amp;lcy;&amp;softcy;&amp;tcy;&amp;rcy;&amp;acy;&amp;zcy;&amp;vcy;&amp;ucy;&amp;kcy;&amp;ocy;&amp;vcy;&amp;ycy;&amp;iecy; &amp;vcy;&amp;acy;&amp;ncy;&amp;ncy;&amp;ycy;."/>
          <p:cNvPicPr/>
          <p:nvPr/>
        </p:nvPicPr>
        <p:blipFill>
          <a:blip r:embed="rId1"/>
          <a:stretch/>
        </p:blipFill>
        <p:spPr>
          <a:xfrm>
            <a:off x="571680" y="1357200"/>
            <a:ext cx="2643120" cy="241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633240" y="3780000"/>
            <a:ext cx="265932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Применение ультразвука в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6500880" cy="43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47628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Ультразвуковая диагностика (УЗ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716360" y="1989000"/>
            <a:ext cx="42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f1e"/>
                </a:solidFill>
                <a:latin typeface="Times New Roman"/>
              </a:rPr>
              <a:t>Ультразвук  широко применяется для диагностики  заболеваний внутренних органов человека, особенно в  брюшной полости и   полости т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rg_hi" descr="ANd9GcSk4ID5o8cAeWEH-sbhGsyVOdjcafAyC-BwEdU98Y_tWcIwQLHQBg"/>
          <p:cNvPicPr/>
          <p:nvPr/>
        </p:nvPicPr>
        <p:blipFill>
          <a:blip r:embed="rId1"/>
          <a:stretch/>
        </p:blipFill>
        <p:spPr>
          <a:xfrm>
            <a:off x="539640" y="2133720"/>
            <a:ext cx="3722760" cy="2792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79280" y="5229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льтразвуковое фото пло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68360" y="1197000"/>
            <a:ext cx="813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Чистка зубов ультразвуком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– это наиболее безопасный и эффективный способ очистки поверхности зуб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При помощи ультразвука   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уничтожают микроорганизмы и стерилизуют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инструменты в медиц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4360" y="4292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5280" y="465300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Ультразвук сосудов</a:t>
            </a: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 является основным методом для диагностики  варикозны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28760" y="1571760"/>
            <a:ext cx="828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f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Узнать как проявляются и используются «неслышимые звуки» в  живой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f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Изучить применение ультразвука  и инфразвука в деятельности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f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и проблемы влияния  «неслышимых звуков»  на организм человека и окружающую ср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549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564000" y="1484280"/>
            <a:ext cx="52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AV19"/>
          <p:cNvPicPr/>
          <p:nvPr/>
        </p:nvPicPr>
        <p:blipFill>
          <a:blip r:embed="rId1"/>
          <a:stretch/>
        </p:blipFill>
        <p:spPr>
          <a:xfrm>
            <a:off x="5664240" y="1844640"/>
            <a:ext cx="3267000" cy="4732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468360" y="90792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Большинство мелодий и ритмов рок-музыки взяты непосредственно из практики африканских шама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11280" y="26028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Инфразвук на сцене и телевид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39640" y="2852640"/>
            <a:ext cx="4648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определенном ритме слушающий впадает в танцевальный транс, который сходен наркотическому</a:t>
            </a:r>
            <a:r>
              <a:rPr b="0" lang="en-US" sz="2800" spc="-1" strike="noStrike">
                <a:solidFill>
                  <a:srgbClr val="00172e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лияние ультразвука и инфразвука на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395280" y="189000"/>
            <a:ext cx="84978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Частота </a:t>
            </a:r>
            <a:r>
              <a:rPr b="1" lang="en-US" sz="2800" spc="-1" strike="noStrike">
                <a:solidFill>
                  <a:srgbClr val="00172e"/>
                </a:solidFill>
                <a:latin typeface="Times New Roman"/>
              </a:rPr>
              <a:t>инфразвука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в </a:t>
            </a:r>
            <a:r>
              <a:rPr b="1" lang="en-US" sz="2800" spc="-1" strike="noStrike">
                <a:solidFill>
                  <a:srgbClr val="00172e"/>
                </a:solidFill>
                <a:latin typeface="Times New Roman"/>
              </a:rPr>
              <a:t>6 Гц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может вызвать у нас ощущение усталости, тоски, морскую боле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Инфразвук в </a:t>
            </a:r>
            <a:r>
              <a:rPr b="1" lang="en-US" sz="2800" spc="-1" strike="noStrike">
                <a:solidFill>
                  <a:srgbClr val="00172e"/>
                </a:solidFill>
                <a:latin typeface="Times New Roman"/>
              </a:rPr>
              <a:t>7 Гц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особо чувствителен: смерть наступает от внезапной остановки серд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Частота в </a:t>
            </a:r>
            <a:r>
              <a:rPr b="1" lang="en-US" sz="2800" spc="-1" strike="noStrike">
                <a:solidFill>
                  <a:srgbClr val="00172e"/>
                </a:solidFill>
                <a:latin typeface="Times New Roman"/>
              </a:rPr>
              <a:t>5 Гц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повреждает пе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Другие низкие частоты способны вызвать приступы безу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heart"/>
          <p:cNvPicPr/>
          <p:nvPr/>
        </p:nvPicPr>
        <p:blipFill>
          <a:blip r:embed="rId1"/>
          <a:stretch/>
        </p:blipFill>
        <p:spPr>
          <a:xfrm>
            <a:off x="1042920" y="4365720"/>
            <a:ext cx="72835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Влияние ультразвука на ДН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539640" y="1557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395280" y="98100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72e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Считавшийся безвредным ультразвук может... повреждать генетический апп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Во время ультразвукового облучения двойные спирали ДНК   расплетаются и даже разрываются - как бывает при сильном нагревании этих молеку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ANd9GcSqs1pQkEbnhfU6vRC6MsP-jBeZ6phHkiOPUhm80ltrk24rfP8uHQ"/>
          <p:cNvPicPr/>
          <p:nvPr/>
        </p:nvPicPr>
        <p:blipFill>
          <a:blip r:embed="rId1"/>
          <a:stretch/>
        </p:blipFill>
        <p:spPr>
          <a:xfrm>
            <a:off x="826920" y="3716280"/>
            <a:ext cx="3930840" cy="294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ANd9GcQAdp2Jq5nNegA9kFoMBCpQluWcQnkwHcvQcwpzstNQybvgXwakEA"/>
          <p:cNvPicPr/>
          <p:nvPr/>
        </p:nvPicPr>
        <p:blipFill>
          <a:blip r:embed="rId2"/>
          <a:stretch/>
        </p:blipFill>
        <p:spPr>
          <a:xfrm>
            <a:off x="5796000" y="3357720"/>
            <a:ext cx="2732040" cy="33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999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Ультразвук часто встречается  в прир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Ультра- и инфразвук широко используются в технике и промышл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Возможно, ультразвук может даже воздействовать на Д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Сегодняшний уровень техники позволяет смоделировать эхолокатор дельфина. Но если у дельфина он весит 200г., то созданный человеком аппарат весит более 10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Но пока что еще очень много вопросов о вреде и пользе ультразвука и инфразвука, разрешить которые предстоит ученым, а, может быть, и н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35212965_1226607926_39"/>
          <p:cNvPicPr/>
          <p:nvPr/>
        </p:nvPicPr>
        <p:blipFill>
          <a:blip r:embed="rId1"/>
          <a:stretch/>
        </p:blipFill>
        <p:spPr>
          <a:xfrm>
            <a:off x="822240" y="3998880"/>
            <a:ext cx="7645320" cy="274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Ультразвук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это звук диапазона, выше предела слышимости человека, т.е. с частотой звуковой волны свыше 20 к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17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Инфразвук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это звук диапазона, ниже предела слышимости человека, т.е. с частотой звуковой волны менее 20 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1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1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злучатели ультразвука можно разделить на две большие групп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1) Колебания, которые  возбуждаются препятствиями на пути струи газа или 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2) Колебания, которые возбуждаются преобразованием колебаний тока или напряжения в механически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Свисток Галь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Пер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ультразвук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свисток сдел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в 1883 г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англич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Гальтон.</a:t>
            </a: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7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3571920" y="1428840"/>
            <a:ext cx="49291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Ветер.jpg"/>
          <p:cNvPicPr/>
          <p:nvPr/>
        </p:nvPicPr>
        <p:blipFill>
          <a:blip r:embed="rId1"/>
          <a:stretch/>
        </p:blipFill>
        <p:spPr>
          <a:xfrm>
            <a:off x="5778360" y="1352520"/>
            <a:ext cx="3170520" cy="4152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Источники инфразву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356840"/>
            <a:ext cx="55720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1)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Естественные источники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: землетрясения, бури, цунами, «разговор» к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2)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Техногенные источники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: станки, котельные, транспорт, подводные и подземные взрывы,  ветряные электроста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39040" cy="17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Инфразвук и ультразвук </a:t>
            </a:r>
            <a:br>
              <a:rPr sz="4800"/>
            </a:b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в 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420920" y="2494080"/>
            <a:ext cx="625464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c3"/>
          <p:cNvPicPr/>
          <p:nvPr/>
        </p:nvPicPr>
        <p:blipFill>
          <a:blip r:embed="rId1"/>
          <a:stretch/>
        </p:blipFill>
        <p:spPr>
          <a:xfrm>
            <a:off x="214200" y="1071720"/>
            <a:ext cx="4824360" cy="30621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5" name="Rectangle 6"/>
          <p:cNvSpPr/>
          <p:nvPr/>
        </p:nvSpPr>
        <p:spPr>
          <a:xfrm>
            <a:off x="250920" y="189000"/>
            <a:ext cx="8785080" cy="640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143680" y="1571760"/>
            <a:ext cx="38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72e"/>
                </a:solidFill>
                <a:latin typeface="Verdana"/>
              </a:rPr>
              <a:t>Штормовая во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571680" y="4429080"/>
            <a:ext cx="82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Инфразвук иногда порождается морем- его называют </a:t>
            </a: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«голос моря».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Образуется во время шторма в результате периодических  сжатей и разряжений вод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551320" y="0"/>
            <a:ext cx="37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олос мор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"/>
          <p:cNvSpPr/>
          <p:nvPr/>
        </p:nvSpPr>
        <p:spPr>
          <a:xfrm>
            <a:off x="1143000" y="285840"/>
            <a:ext cx="698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Живые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 сейсмограф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m_517"/>
          <p:cNvPicPr/>
          <p:nvPr/>
        </p:nvPicPr>
        <p:blipFill>
          <a:blip r:embed="rId1"/>
          <a:stretch/>
        </p:blipFill>
        <p:spPr>
          <a:xfrm>
            <a:off x="642960" y="1214280"/>
            <a:ext cx="3174840" cy="47754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1" name="Rectangle 12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1357200" y="6072120"/>
            <a:ext cx="678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дуза. Залив Монтер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4071960" y="1268280"/>
            <a:ext cx="4500720" cy="350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Медузы, ракообразные-   способны воспринимать «голос моря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Задолго до наступления шторма чувствуют его приближ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0:04:53Z</dcterms:created>
  <dc:creator>vinat</dc:creator>
  <dc:description/>
  <dc:language>en-US</dc:language>
  <cp:lastModifiedBy>vinat</cp:lastModifiedBy>
  <dcterms:modified xsi:type="dcterms:W3CDTF">2013-03-01T10:33:15Z</dcterms:modified>
  <cp:revision>8</cp:revision>
  <dc:subject/>
  <dc:title>Слайд 1</dc:title>
</cp:coreProperties>
</file>