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8.jpeg" ContentType="image/jpeg"/>
  <Override PartName="/ppt/media/image3.gif" ContentType="image/gif"/>
  <Override PartName="/ppt/media/image24.png" ContentType="image/png"/>
  <Override PartName="/ppt/media/image21.gif" ContentType="image/gif"/>
  <Override PartName="/ppt/media/image20.gif" ContentType="image/gif"/>
  <Override PartName="/ppt/media/image23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793-CBBB-4E46-A894-2ABF3C1C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2D4-249A-402E-983F-E52E015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1A6-EFE4-4E7D-9071-D6ED169E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172-C4B4-4D7D-BAEE-0245EA22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0F1-E19D-44D6-8011-D024B174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519-2151-4627-AC4C-0BBC7A77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542-2271-498D-9548-70D5B26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932-824D-43F3-AC1D-581768A7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8AA-B3FA-41B2-8E57-706356E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957-6C97-4173-9CD3-771EE58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33F-6AD3-4596-BD14-0EC05992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209-A8FE-4D6F-82CB-C8A7346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F7C-4603-4B88-A80D-C990AFA0D2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93960" y="1387440"/>
            <a:ext cx="44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libi"/>
                <a:ea typeface="Arial"/>
              </a:rPr>
              <a:t>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630360"/>
            <a:ext cx="583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12621"/>
          <a:stretch/>
        </p:blipFill>
        <p:spPr>
          <a:xfrm>
            <a:off x="2151000" y="404640"/>
            <a:ext cx="540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48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Do you know your mom well?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358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What is your mom’s maiden name (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девичья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фамилия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ere was your mom bo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present does your mom pre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colour are your mom’s ey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Does your mom like anim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perfume does your mom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does your mom like to do about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Does your mom like modern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o is her favourite sing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- What is your mom's favourite m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So many countries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so many customs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en-US" sz="6600" spc="-1" strike="noStrike">
                <a:solidFill>
                  <a:srgbClr val="800000"/>
                </a:solidFill>
                <a:latin typeface="Arial"/>
              </a:rPr>
              <a:t>(English proverb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15526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Did you know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 that the celebration of motherhood dates back to the ancient Gree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2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8000" spc="-1" strike="noStrike">
                <a:solidFill>
                  <a:srgbClr val="800000"/>
                </a:solidFill>
                <a:latin typeface="Arial"/>
              </a:rPr>
              <a:t>Mother’s Day in Great Britain</a:t>
            </a: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5640" y="2833560"/>
            <a:ext cx="475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0564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5543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1) Where did the girls from poor familie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 rich houses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2) What day could they visit their m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 Sunday in Mar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3) How did people call that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Mothering Day or Mothering Sunda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4) When do people celebrate Mother's Day in Great Bri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 second Sunday in 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545760"/>
            <a:ext cx="8280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) How do people celebrate this holiday in the UK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sons and daughters visit their mothers and bring them flowers and present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6) How do children respect their mothers on that day?</a:t>
            </a:r>
            <a:br>
              <a:rPr sz="2400"/>
            </a:b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her daughters cook the dinner on that day and the sons help to wash the dishes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24360" y="1341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7) When do they celebrate Mother's Day in the USA and Ca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the second Sunday in 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8) What is the difference between celebrating Mother's Day in English-speaking countries and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 Rus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686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Cards for Mother’s Day in Britai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37130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171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762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0"/>
            </a:br>
            <a:br>
              <a:rPr sz="12000"/>
            </a:br>
            <a:br>
              <a:rPr sz="12000"/>
            </a:br>
            <a:r>
              <a:rPr b="1" lang="en-US" sz="10000" spc="-1" strike="noStrike">
                <a:solidFill>
                  <a:srgbClr val="6600cc"/>
                </a:solidFill>
                <a:latin typeface="Goudy Old Style"/>
              </a:rPr>
              <a:t>Mother’s day</a:t>
            </a:r>
            <a:br>
              <a:rPr sz="10000"/>
            </a:br>
            <a:r>
              <a:rPr b="1" lang="en-US" sz="10000" spc="-1" strike="noStrike">
                <a:solidFill>
                  <a:srgbClr val="6600cc"/>
                </a:solidFill>
                <a:latin typeface="Goudy Old Style"/>
              </a:rPr>
              <a:t>in English-Speaking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12000" y="5661000"/>
            <a:ext cx="952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595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559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064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’s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t is the day of all the ye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f all the year the one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nd here come I, my Mother dea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o bring you che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-mothering on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08720" y="5516640"/>
            <a:ext cx="1105200" cy="90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5445000"/>
            <a:ext cx="1104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I love my mumm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I love her very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And do you love your mum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Of course, I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 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And very, very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1104840" cy="90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11048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1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Mother, mom, mummy, grandmother, granny</a:t>
            </a:r>
            <a:r>
              <a:rPr b="1" lang="en-US" sz="4000" spc="-1" strike="noStrike" u="sng">
                <a:solidFill>
                  <a:srgbClr val="ff33cc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3682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pe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kind – he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gener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faith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reliable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oc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serious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pretty </a:t>
            </a: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127160"/>
            <a:ext cx="8207280" cy="547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pe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Indust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kind – hear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Gen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ithfu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oc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serio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pretty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соб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трудолюб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добрая – серд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щед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еда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деж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бщ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ерьезна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рас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take care of,* after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забо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*cook meals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готовить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*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in a good mood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– в хорошем настро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sing a lullaby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 –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петь колыб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6000" y="3844800"/>
            <a:ext cx="33480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Poems about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1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00"/>
                </a:solidFill>
                <a:latin typeface="Script MT Bold"/>
              </a:rPr>
              <a:t>Our moth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9209"/>
          <a:stretch/>
        </p:blipFill>
        <p:spPr>
          <a:xfrm>
            <a:off x="0" y="333360"/>
            <a:ext cx="4373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0:53:29Z</dcterms:created>
  <dc:creator>Алеся</dc:creator>
  <dc:description/>
  <dc:language>en-US</dc:language>
  <cp:lastModifiedBy>Merc</cp:lastModifiedBy>
  <dcterms:modified xsi:type="dcterms:W3CDTF">2012-11-18T09:58:43Z</dcterms:modified>
  <cp:revision>16</cp:revision>
  <dc:subject/>
  <dc:title>Слайд 1</dc:title>
</cp:coreProperties>
</file>