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ECC-4DCD-4F0F-B1D7-B1F8B420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A0B-CE2D-419B-9582-B1775E8C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0CE-C1B9-4824-9B0B-D2377326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2324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127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1333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2324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127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00C-1F67-4E67-BE29-5062BFAC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F693D-9219-4663-BB0C-1906780503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C71E6-41AE-40BD-810F-2FFBA531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94901-3624-4EC0-88C2-FE3D1D4B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653FE-EC93-42AF-9FC4-B5901B0D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8327C-498D-491F-AD0B-9EA161A3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0" y="411444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93BF3-F9FC-43F1-81DB-5BF9A13B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856E6-A36B-4BCB-AD3A-1F164897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150-D71C-46A4-98AE-371D2D6A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C49AE-5D7C-45C3-BECA-2985DB3C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31DC0-74D4-4BD8-A57B-A7E5ECFB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00322-4BE9-49E1-B256-6C4B5ABE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2413-AA71-4DAC-B5A8-CC35B967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2324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12760" y="323172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1333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2324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12760" y="3431160"/>
            <a:ext cx="208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E6502-B7F1-4096-B4BA-6F54795365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6476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066-C24F-4A6B-A64A-2C9DB78A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003-0E83-4962-AF29-129304F9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FDF-D08E-4950-9E44-A61960AD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0" y="411444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717-38AE-45BA-9ED9-1FD2B717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F9D-ECC4-45A6-86D6-81B0F96F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52200" y="343116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AA6-5A94-452C-86BB-F9C7D7A5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2200" y="3231720"/>
            <a:ext cx="3160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3431160"/>
            <a:ext cx="6476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60C-F3FE-4CE1-BEA6-5BD7BC6A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68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33200" y="6380280"/>
            <a:ext cx="304920" cy="334800"/>
          </a:xfrm>
          <a:prstGeom prst="diamond">
            <a:avLst/>
          </a:prstGeom>
          <a:solidFill>
            <a:srgbClr val="328c8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80880" y="6567120"/>
            <a:ext cx="2438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657240" y="655164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2CB3-6E3D-4DA7-8ECB-D49AFCEECE7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7603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7772400" y="762120"/>
            <a:ext cx="1371600" cy="4800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114640" y="0"/>
          <a:ext cx="702936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4640" y="0"/>
                    <a:ext cx="70293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0"/>
            <a:ext cx="2133720" cy="32004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004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52680"/>
            <a:ext cx="2133720" cy="350532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4e63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580920" y="65084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80D4-47CA-4174-AC41-0F434ABF1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3644640"/>
            <a:ext cx="6418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4e63"/>
                </a:solidFill>
                <a:latin typeface="Verdana"/>
              </a:rPr>
              <a:t>Причины возникновения речевой неуспешности</a:t>
            </a:r>
            <a:endParaRPr b="1" lang="en-US" sz="3600" spc="-1" strike="noStrike">
              <a:solidFill>
                <a:srgbClr val="1b4e63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657760" y="28800"/>
            <a:ext cx="3486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валификационной категор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БОУ СОШ №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школьного от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льфин Екатерин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-501480" y="-274680"/>
            <a:ext cx="8879760" cy="6873840"/>
            <a:chOff x="-501480" y="-274680"/>
            <a:chExt cx="8879760" cy="6873840"/>
          </a:xfrm>
        </p:grpSpPr>
        <p:sp>
          <p:nvSpPr>
            <p:cNvPr id="174" name=""/>
            <p:cNvSpPr/>
            <p:nvPr/>
          </p:nvSpPr>
          <p:spPr>
            <a:xfrm>
              <a:off x="1383840" y="4433400"/>
              <a:ext cx="6643440" cy="165924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01600">
              <a:off x="517320" y="1787400"/>
              <a:ext cx="6882120" cy="3776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601600">
              <a:off x="585360" y="1584360"/>
              <a:ext cx="6643440" cy="3659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601600">
              <a:off x="488520" y="1543680"/>
              <a:ext cx="6805800" cy="36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dc03c"/>
                </a:gs>
                <a:gs pos="100000">
                  <a:srgbClr val="bfd68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20602200">
              <a:off x="532440" y="1586520"/>
              <a:ext cx="6739920" cy="369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28c83"/>
                </a:gs>
                <a:gs pos="100000">
                  <a:srgbClr val="22615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601600">
              <a:off x="505080" y="1576080"/>
              <a:ext cx="6784920" cy="354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d4e3ab"/>
                </a:gs>
                <a:gs pos="100000">
                  <a:srgbClr val="9dc03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rot="20602200">
              <a:off x="511560" y="1602000"/>
              <a:ext cx="6810120" cy="366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53c00"/>
                </a:gs>
                <a:gs pos="100000">
                  <a:srgbClr val="dc83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56080" y="3377520"/>
              <a:ext cx="2094840" cy="22258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9fc7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539200">
              <a:off x="30960" y="800280"/>
              <a:ext cx="7814160" cy="472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153e6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74920" y="3803040"/>
              <a:ext cx="1228680" cy="18442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2f87d7"/>
                </a:gs>
                <a:gs pos="100000">
                  <a:srgbClr val="9fc7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601600">
              <a:off x="2329560" y="2479320"/>
              <a:ext cx="3219480" cy="1677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22760" y="3330000"/>
              <a:ext cx="165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Негатив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21800" y="1803240"/>
              <a:ext cx="274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овышаетс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уровень тревог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54400" y="218520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нижаетс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увер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920" y="3741480"/>
              <a:ext cx="166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Наруш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деятель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67600" y="4570200"/>
              <a:ext cx="26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еакция окру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78080" y="4073040"/>
              <a:ext cx="1031400" cy="13514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dc03c">
                    <a:alpha val="19215"/>
                  </a:srgbClr>
                </a:gs>
                <a:gs pos="100000">
                  <a:srgbClr val="bcd4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0601600">
              <a:off x="2451600" y="2795400"/>
              <a:ext cx="3088080" cy="136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Замкнутый круг»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51640" y="1412640"/>
            <a:ext cx="334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это дезорганизация деятельности из-за повышенного уровня тревоги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</p:txBody>
      </p:sp>
      <p:pic>
        <p:nvPicPr>
          <p:cNvPr id="195" name="" descr="Иллюстратор Irisz Agocs (101 фото - 5.77Mb)"/>
          <p:cNvPicPr/>
          <p:nvPr/>
        </p:nvPicPr>
        <p:blipFill>
          <a:blip r:embed="rId1"/>
          <a:stretch/>
        </p:blipFill>
        <p:spPr>
          <a:xfrm>
            <a:off x="108000" y="1484280"/>
            <a:ext cx="5364000" cy="4643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4000" y="836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8c83"/>
                </a:solidFill>
                <a:latin typeface="Arial"/>
              </a:rPr>
              <a:t>Основной показатель неуспеш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КОМЕНДАЦИИ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556000" y="2060640"/>
            <a:ext cx="5825520" cy="3343320"/>
            <a:chOff x="2556000" y="2060640"/>
            <a:chExt cx="5825520" cy="3343320"/>
          </a:xfrm>
        </p:grpSpPr>
        <p:sp>
          <p:nvSpPr>
            <p:cNvPr id="208" name=""/>
            <p:cNvSpPr/>
            <p:nvPr/>
          </p:nvSpPr>
          <p:spPr>
            <a:xfrm>
              <a:off x="7799400" y="206064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53c00"/>
                </a:gs>
                <a:gs pos="50000">
                  <a:srgbClr val="dc8300"/>
                </a:gs>
                <a:gs pos="100000">
                  <a:srgbClr val="653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38560" y="206064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c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19800" y="289260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8581b"/>
                </a:gs>
                <a:gs pos="50000">
                  <a:srgbClr val="9dc03c"/>
                </a:gs>
                <a:gs pos="100000">
                  <a:srgbClr val="48581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08400" y="289260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dc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38760" y="3724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60960" y="455796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e63"/>
                </a:gs>
                <a:gs pos="100000">
                  <a:srgbClr val="0c23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57440" y="456264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1b4e63"/>
                </a:gs>
                <a:gs pos="100000">
                  <a:srgbClr val="5f82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9640" y="221472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45040" y="260208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e5e00"/>
                </a:gs>
                <a:gs pos="50000">
                  <a:srgbClr val="dc8300"/>
                </a:gs>
                <a:gs pos="100000">
                  <a:srgbClr val="9e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Проектная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09840" y="343224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718a2b"/>
                </a:gs>
                <a:gs pos="50000">
                  <a:srgbClr val="9dc03c"/>
                </a:gs>
                <a:gs pos="100000">
                  <a:srgbClr val="718a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амореал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4360" y="372456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2f8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7600" y="426744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21619b"/>
                </a:gs>
                <a:gs pos="50000">
                  <a:srgbClr val="2f87d7"/>
                </a:gs>
                <a:gs pos="100000">
                  <a:srgbClr val="2161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Собственные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ости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56000" y="5104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33847"/>
                </a:gs>
                <a:gs pos="50000">
                  <a:srgbClr val="1b4e63"/>
                </a:gs>
                <a:gs pos="100000">
                  <a:srgbClr val="1338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Ощущения успех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ХОД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4392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8c83"/>
                </a:solidFill>
                <a:latin typeface="Verdana"/>
              </a:rPr>
              <a:t>ПРОЕКТНАЯ ДЕЯТЕЛЬНОСТЬ</a:t>
            </a:r>
            <a:r>
              <a:rPr b="1" lang="ru-RU" sz="1400" spc="-1" strike="noStrike">
                <a:solidFill>
                  <a:srgbClr val="328c83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в которой 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интегрировано 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формируются: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c03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Речевая 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Деятельность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c03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Психические 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Процессы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c03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Эмоционально-волевая 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8c83"/>
                </a:solidFill>
                <a:latin typeface="Verdana"/>
              </a:rPr>
              <a:t>сфера</a:t>
            </a:r>
            <a:endParaRPr b="1" lang="en-US" sz="1800" spc="-1" strike="noStrike">
              <a:solidFill>
                <a:srgbClr val="328c83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0" y="765000"/>
            <a:ext cx="3243240" cy="575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ТОГ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dc03c"/>
              </a:gs>
              <a:gs pos="100000">
                <a:srgbClr val="328c8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357336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евая 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71360" y="4379760"/>
            <a:ext cx="248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пева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027080" y="3371760"/>
            <a:ext cx="2085840" cy="1441080"/>
            <a:chOff x="1027080" y="3371760"/>
            <a:chExt cx="2085840" cy="1441080"/>
          </a:xfrm>
        </p:grpSpPr>
        <p:sp>
          <p:nvSpPr>
            <p:cNvPr id="235" name=""/>
            <p:cNvSpPr/>
            <p:nvPr/>
          </p:nvSpPr>
          <p:spPr>
            <a:xfrm>
              <a:off x="1398960" y="3371760"/>
              <a:ext cx="13676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16600" y="3380040"/>
              <a:ext cx="13338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29920" y="3393720"/>
              <a:ext cx="126864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01560" y="3430440"/>
              <a:ext cx="112860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3877920"/>
              <a:ext cx="208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сихичес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560" y="234936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606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700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765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128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13240" y="1747800"/>
            <a:ext cx="23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ект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611280" y="1557360"/>
            <a:ext cx="7416360" cy="3816000"/>
            <a:chOff x="611280" y="1557360"/>
            <a:chExt cx="7416360" cy="3816000"/>
          </a:xfrm>
        </p:grpSpPr>
        <p:grpSp>
          <p:nvGrpSpPr>
            <p:cNvPr id="253" name=""/>
            <p:cNvGrpSpPr/>
            <p:nvPr/>
          </p:nvGrpSpPr>
          <p:grpSpPr>
            <a:xfrm>
              <a:off x="2674800" y="1557360"/>
              <a:ext cx="3208320" cy="3079440"/>
              <a:chOff x="2674800" y="1557360"/>
              <a:chExt cx="3208320" cy="3079440"/>
            </a:xfrm>
          </p:grpSpPr>
          <p:sp>
            <p:nvSpPr>
              <p:cNvPr id="254" name=""/>
              <p:cNvSpPr/>
              <p:nvPr/>
            </p:nvSpPr>
            <p:spPr>
              <a:xfrm flipH="1" rot="16200000">
                <a:off x="2576880" y="2757240"/>
                <a:ext cx="522720" cy="3279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8c1"/>
                  </a:gs>
                  <a:gs pos="100000">
                    <a:srgbClr val="1b4e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5400000">
                <a:off x="5457600" y="2699640"/>
                <a:ext cx="522360" cy="3279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8c1"/>
                  </a:gs>
                  <a:gs pos="100000">
                    <a:srgbClr val="1b4e6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0800000">
                <a:off x="4033080" y="4288680"/>
                <a:ext cx="490680" cy="348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8c1"/>
                  </a:gs>
                  <a:gs pos="100000">
                    <a:srgbClr val="1b4e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003480" y="1557360"/>
                <a:ext cx="2572560" cy="2731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50000" y="1711440"/>
                <a:ext cx="2278080" cy="241884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83920" y="1854720"/>
                <a:ext cx="2010240" cy="2138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dc03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83920" y="1854720"/>
                <a:ext cx="2010240" cy="2138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16400" y="1995120"/>
                <a:ext cx="1745640" cy="1857240"/>
              </a:xfrm>
              <a:prstGeom prst="ellipse">
                <a:avLst/>
              </a:prstGeom>
              <a:gradFill rotWithShape="0">
                <a:gsLst>
                  <a:gs pos="0">
                    <a:srgbClr val="546720"/>
                  </a:gs>
                  <a:gs pos="50000">
                    <a:srgbClr val="9dc03c"/>
                  </a:gs>
                  <a:gs pos="100000">
                    <a:srgbClr val="54672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16400" y="1995120"/>
                <a:ext cx="1745640" cy="185724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611280" y="3262320"/>
              <a:ext cx="1834920" cy="649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1280" y="2694240"/>
              <a:ext cx="1834920" cy="64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1280" y="2125800"/>
              <a:ext cx="1834920" cy="64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53e63"/>
                </a:gs>
                <a:gs pos="50000">
                  <a:srgbClr val="2f87d7"/>
                </a:gs>
                <a:gs pos="100000">
                  <a:srgbClr val="153e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6040" y="3262320"/>
              <a:ext cx="1911600" cy="649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3c"/>
                </a:gs>
                <a:gs pos="50000">
                  <a:srgbClr val="328c83"/>
                </a:gs>
                <a:gs pos="100000">
                  <a:srgbClr val="1740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16040" y="2694240"/>
              <a:ext cx="1911600" cy="64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3c"/>
                </a:gs>
                <a:gs pos="50000">
                  <a:srgbClr val="328c83"/>
                </a:gs>
                <a:gs pos="100000">
                  <a:srgbClr val="1740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16040" y="2125800"/>
              <a:ext cx="1911600" cy="64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03c"/>
                </a:gs>
                <a:gs pos="50000">
                  <a:srgbClr val="328c83"/>
                </a:gs>
                <a:gs pos="100000">
                  <a:srgbClr val="1740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53600" y="2694240"/>
              <a:ext cx="229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ект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36400" y="4804920"/>
              <a:ext cx="3899160" cy="56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Речевая успеш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8800" y="2293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не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48160" y="2918880"/>
              <a:ext cx="123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Лекс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рамма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3680" y="3456720"/>
              <a:ext cx="14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орфолог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88560" y="2293200"/>
              <a:ext cx="14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ыш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9440" y="2861280"/>
              <a:ext cx="102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амя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39160" y="342972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ообра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ЧЕВАЯ УСПЕШНОСТЬ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76640" y="1047600"/>
            <a:ext cx="4590720" cy="4762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067280" y="5589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5926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ЧЬ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10920" y="1628640"/>
            <a:ext cx="60325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8c83"/>
                </a:solidFill>
                <a:latin typeface="Verdana"/>
              </a:rPr>
              <a:t>Центральная психическая функция влияющая на формирование всех психических процессов</a:t>
            </a:r>
            <a:endParaRPr b="1" lang="en-US" sz="3200" spc="-1" strike="noStrike">
              <a:solidFill>
                <a:srgbClr val="328c83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188604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5854680" cy="539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ЗАИМОСВЯЗЬ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 rot="17973000">
            <a:off x="4615560" y="2406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3465600">
            <a:off x="4615200" y="4571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4368800">
            <a:off x="3383280" y="24559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7534800">
            <a:off x="3358080" y="4537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94440" y="35352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2784240" y="35290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328c83"/>
              </a:gs>
              <a:gs pos="100000">
                <a:srgbClr val="2c7c7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5240" y="1778040"/>
            <a:ext cx="3743280" cy="3744720"/>
          </a:xfrm>
          <a:prstGeom prst="ellipse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76720" y="1844640"/>
            <a:ext cx="360360" cy="360360"/>
            <a:chOff x="3276720" y="1844640"/>
            <a:chExt cx="360360" cy="360360"/>
          </a:xfrm>
        </p:grpSpPr>
        <p:sp>
          <p:nvSpPr>
            <p:cNvPr id="109" name=""/>
            <p:cNvSpPr/>
            <p:nvPr/>
          </p:nvSpPr>
          <p:spPr>
            <a:xfrm>
              <a:off x="3276720" y="184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92560" y="187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322360" y="3481560"/>
            <a:ext cx="360360" cy="360360"/>
            <a:chOff x="2322360" y="3481560"/>
            <a:chExt cx="360360" cy="360360"/>
          </a:xfrm>
        </p:grpSpPr>
        <p:sp>
          <p:nvSpPr>
            <p:cNvPr id="112" name=""/>
            <p:cNvSpPr/>
            <p:nvPr/>
          </p:nvSpPr>
          <p:spPr>
            <a:xfrm>
              <a:off x="232236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3820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86000" y="5024520"/>
            <a:ext cx="360360" cy="360360"/>
            <a:chOff x="3186000" y="5024520"/>
            <a:chExt cx="360360" cy="360360"/>
          </a:xfrm>
        </p:grpSpPr>
        <p:sp>
          <p:nvSpPr>
            <p:cNvPr id="115" name=""/>
            <p:cNvSpPr/>
            <p:nvPr/>
          </p:nvSpPr>
          <p:spPr>
            <a:xfrm>
              <a:off x="3186000" y="5024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1840" y="5054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116680" y="1805040"/>
            <a:ext cx="360360" cy="360360"/>
            <a:chOff x="5116680" y="1805040"/>
            <a:chExt cx="360360" cy="360360"/>
          </a:xfrm>
        </p:grpSpPr>
        <p:sp>
          <p:nvSpPr>
            <p:cNvPr id="118" name=""/>
            <p:cNvSpPr/>
            <p:nvPr/>
          </p:nvSpPr>
          <p:spPr>
            <a:xfrm>
              <a:off x="5116680" y="1805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32520" y="18352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66000" y="3481560"/>
            <a:ext cx="360360" cy="360360"/>
            <a:chOff x="6066000" y="3481560"/>
            <a:chExt cx="360360" cy="360360"/>
          </a:xfrm>
        </p:grpSpPr>
        <p:sp>
          <p:nvSpPr>
            <p:cNvPr id="121" name=""/>
            <p:cNvSpPr/>
            <p:nvPr/>
          </p:nvSpPr>
          <p:spPr>
            <a:xfrm>
              <a:off x="606600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8184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72120" y="5081760"/>
            <a:ext cx="360360" cy="360360"/>
            <a:chOff x="5172120" y="5081760"/>
            <a:chExt cx="360360" cy="360360"/>
          </a:xfrm>
        </p:grpSpPr>
        <p:sp>
          <p:nvSpPr>
            <p:cNvPr id="124" name=""/>
            <p:cNvSpPr/>
            <p:nvPr/>
          </p:nvSpPr>
          <p:spPr>
            <a:xfrm>
              <a:off x="5172120" y="5081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7960" y="51116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9d7d4"/>
                </a:gs>
                <a:gs pos="100000">
                  <a:srgbClr val="328c8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462480" y="2719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dc03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56000" y="27036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8581b"/>
              </a:gs>
              <a:gs pos="100000">
                <a:srgbClr val="9dc03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0" y="28465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46720"/>
              </a:gs>
              <a:gs pos="50000">
                <a:srgbClr val="9dc03c"/>
              </a:gs>
              <a:gs pos="100000">
                <a:srgbClr val="54672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71920" y="2819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dc03c">
                  <a:alpha val="0"/>
                </a:srgbClr>
              </a:gs>
              <a:gs pos="100000">
                <a:srgbClr val="6379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73440" y="293040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95760" y="294948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3040" y="29592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28880" y="2973240"/>
            <a:ext cx="1366920" cy="13417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300996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69280" y="341964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55520" y="175248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5800" y="1773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68480" y="350532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54080" y="510552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67200" y="35002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280" y="504360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6697800" cy="539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УСПЕВАЕМОСТЬ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4167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28c83"/>
                </a:solidFill>
                <a:latin typeface="Verdana"/>
              </a:rPr>
              <a:t>Низкий уровень усвоения знаний</a:t>
            </a:r>
            <a:endParaRPr b="1" lang="en-US" sz="2900" spc="-1" strike="noStrike">
              <a:solidFill>
                <a:srgbClr val="328c83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5639040" cy="46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УСПЕШНОСТЬ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75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28c83"/>
                </a:solidFill>
                <a:latin typeface="Verdana"/>
              </a:rPr>
              <a:t>Психологический синдром</a:t>
            </a:r>
            <a:endParaRPr b="1" lang="en-US" sz="3300" spc="-1" strike="noStrike">
              <a:solidFill>
                <a:srgbClr val="328c83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8c83"/>
                </a:solidFill>
                <a:latin typeface="Verdana"/>
              </a:rPr>
              <a:t>отражает определенное свойство личности</a:t>
            </a:r>
            <a:endParaRPr b="1" lang="en-US" sz="2000" spc="-1" strike="noStrike">
              <a:solidFill>
                <a:srgbClr val="328c83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4217760" cy="39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вод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9360"/>
            <a:ext cx="5232240" cy="3529080"/>
          </a:xfrm>
          <a:prstGeom prst="rightArrow">
            <a:avLst>
              <a:gd name="adj1" fmla="val 79306"/>
              <a:gd name="adj2" fmla="val 36722"/>
            </a:avLst>
          </a:prstGeom>
          <a:gradFill rotWithShape="0">
            <a:gsLst>
              <a:gs pos="0">
                <a:srgbClr val="328c8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125360"/>
            <a:ext cx="4038480" cy="719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c8300"/>
              </a:gs>
              <a:gs pos="100000">
                <a:srgbClr val="e5a7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успе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844640"/>
            <a:ext cx="4038480" cy="792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успе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637000"/>
            <a:ext cx="4038480" cy="72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dc03c"/>
              </a:gs>
              <a:gs pos="100000">
                <a:srgbClr val="b9d27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успе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0360" y="191628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успеш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33800" y="2852640"/>
            <a:ext cx="4210200" cy="3057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чины речевой неуспешност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50920" y="765000"/>
            <a:ext cx="4897080" cy="1008000"/>
            <a:chOff x="250920" y="765000"/>
            <a:chExt cx="4897080" cy="1008000"/>
          </a:xfrm>
        </p:grpSpPr>
        <p:sp>
          <p:nvSpPr>
            <p:cNvPr id="158" name=""/>
            <p:cNvSpPr/>
            <p:nvPr/>
          </p:nvSpPr>
          <p:spPr>
            <a:xfrm>
              <a:off x="645480" y="939960"/>
              <a:ext cx="4502520" cy="672120"/>
            </a:xfrm>
            <a:prstGeom prst="roundRect">
              <a:avLst>
                <a:gd name="adj" fmla="val 16667"/>
              </a:avLst>
            </a:prstGeom>
            <a:solidFill>
              <a:srgbClr val="dc830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920" y="765000"/>
              <a:ext cx="710640" cy="1008000"/>
            </a:xfrm>
            <a:prstGeom prst="diamond">
              <a:avLst/>
            </a:prstGeom>
            <a:solidFill>
              <a:srgbClr val="dc83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2720" y="1021320"/>
              <a:ext cx="355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сихофизиологическая некомпетент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8680" y="9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50920" y="1916280"/>
            <a:ext cx="4897080" cy="1007640"/>
            <a:chOff x="250920" y="1916280"/>
            <a:chExt cx="4897080" cy="1007640"/>
          </a:xfrm>
        </p:grpSpPr>
        <p:sp>
          <p:nvSpPr>
            <p:cNvPr id="163" name=""/>
            <p:cNvSpPr/>
            <p:nvPr/>
          </p:nvSpPr>
          <p:spPr>
            <a:xfrm>
              <a:off x="645480" y="2091240"/>
              <a:ext cx="4502520" cy="671760"/>
            </a:xfrm>
            <a:prstGeom prst="roundRect">
              <a:avLst>
                <a:gd name="adj" fmla="val 16667"/>
              </a:avLst>
            </a:prstGeom>
            <a:solidFill>
              <a:srgbClr val="328c8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0920" y="1916280"/>
              <a:ext cx="710640" cy="1007640"/>
            </a:xfrm>
            <a:prstGeom prst="diamond">
              <a:avLst/>
            </a:prstGeom>
            <a:solidFill>
              <a:srgbClr val="328c8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82720" y="2172600"/>
              <a:ext cx="355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арушение социально-психологической адапт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7240" y="206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50920" y="3068640"/>
            <a:ext cx="4824000" cy="934560"/>
            <a:chOff x="250920" y="3068640"/>
            <a:chExt cx="4824000" cy="934560"/>
          </a:xfrm>
        </p:grpSpPr>
        <p:sp>
          <p:nvSpPr>
            <p:cNvPr id="168" name=""/>
            <p:cNvSpPr/>
            <p:nvPr/>
          </p:nvSpPr>
          <p:spPr>
            <a:xfrm>
              <a:off x="639720" y="3231000"/>
              <a:ext cx="4435200" cy="623160"/>
            </a:xfrm>
            <a:prstGeom prst="roundRect">
              <a:avLst>
                <a:gd name="adj" fmla="val 16667"/>
              </a:avLst>
            </a:prstGeom>
            <a:solidFill>
              <a:srgbClr val="9dc03c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920" y="3068640"/>
              <a:ext cx="700200" cy="934560"/>
            </a:xfrm>
            <a:prstGeom prst="diamond">
              <a:avLst/>
            </a:prstGeom>
            <a:solidFill>
              <a:srgbClr val="9dc03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3000" y="3306600"/>
              <a:ext cx="350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вышенные ожидания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2920" y="320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728880" cy="5038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7:59:54Z</dcterms:created>
  <dc:creator>1</dc:creator>
  <dc:description/>
  <dc:language>en-US</dc:language>
  <cp:lastModifiedBy>1</cp:lastModifiedBy>
  <dcterms:modified xsi:type="dcterms:W3CDTF">2013-02-28T15:58:25Z</dcterms:modified>
  <cp:revision>51</cp:revision>
  <dc:subject/>
  <dc:title>Причины возникновения речевой неуспешности</dc:title>
</cp:coreProperties>
</file>