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E7C1-62BF-409A-B853-4A0FCB81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E49-5CA5-4A9A-B564-0F5125BA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165-1D35-4B4F-A3A7-A8FB5F6C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3F5-6AD5-4618-B920-DE78CDF7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48B2-99AF-43F2-9310-D5107F95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5E00-9D37-4898-BE70-BB8BE3D4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18E3-AFC2-44C3-9125-CA5B3021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08A1-9D8A-401F-B3E4-67B4D0F4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C1AD-A2C2-4CCB-80B3-1CE293EC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14320" y="213840"/>
            <a:ext cx="6972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E20A-DC09-42DF-AF93-FB22A721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EB94-71E5-441A-B5AD-A3097CF8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9FC7-C373-46DB-88B7-C720C310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29EF-96B4-4AA7-B072-4048DDA3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9E99-A749-449E-83D3-070E1A1D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BE86-C263-4E99-9100-B21A848D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0AF7-CDF1-4414-837F-FF2E5341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DD0E-E54B-48B6-B9E6-FAA7E545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D51-5693-4185-ACAA-15B7A983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00E6-7821-44D6-8C51-CD8153F5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166-6607-4C6E-A95E-2D1D20DD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14320" y="213840"/>
            <a:ext cx="6972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491-985F-41DB-AE5B-329AEC65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8C6-D383-4AA8-866E-6C346828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865-2885-40ED-8B2A-611DB1F8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6E86-219F-4910-93AC-508C3416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6"/>
          <p:cNvGrpSpPr/>
          <p:nvPr/>
        </p:nvGrpSpPr>
        <p:grpSpPr>
          <a:xfrm>
            <a:off x="-6480" y="-6480"/>
            <a:ext cx="9156960" cy="1511280"/>
            <a:chOff x="-6480" y="-6480"/>
            <a:chExt cx="9156960" cy="1511280"/>
          </a:xfrm>
        </p:grpSpPr>
        <p:pic>
          <p:nvPicPr>
            <p:cNvPr id="1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Овал 8"/>
          <p:cNvSpPr/>
          <p:nvPr/>
        </p:nvSpPr>
        <p:spPr>
          <a:xfrm>
            <a:off x="106200" y="285840"/>
            <a:ext cx="1536840" cy="10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185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bacc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02BF-C7AB-4B54-BBB7-E3E93E55A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2" descr="C:\Users\juliaar\AppData\Local\Microsoft\Windows\Temporary Internet Files\Content.IE5\ZJX436N3\MCj02382670000[1].wmf"/>
          <p:cNvPicPr/>
          <p:nvPr/>
        </p:nvPicPr>
        <p:blipFill>
          <a:blip r:embed="rId3"/>
          <a:stretch/>
        </p:blipFill>
        <p:spPr>
          <a:xfrm>
            <a:off x="285840" y="428760"/>
            <a:ext cx="12096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Прямоугольник 9"/>
          <p:cNvGrpSpPr/>
          <p:nvPr/>
        </p:nvGrpSpPr>
        <p:grpSpPr>
          <a:xfrm>
            <a:off x="-6480" y="1920960"/>
            <a:ext cx="9156960" cy="2369880"/>
            <a:chOff x="-6480" y="1920960"/>
            <a:chExt cx="9156960" cy="2369880"/>
          </a:xfrm>
        </p:grpSpPr>
        <p:pic>
          <p:nvPicPr>
            <p:cNvPr id="47" name="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-6480" y="1920960"/>
              <a:ext cx="9156960" cy="23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0" y="1928880"/>
              <a:ext cx="9144000" cy="23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Овал 10"/>
          <p:cNvSpPr/>
          <p:nvPr/>
        </p:nvSpPr>
        <p:spPr>
          <a:xfrm>
            <a:off x="285840" y="2214720"/>
            <a:ext cx="2714400" cy="180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C:\Users\juliaar\AppData\Local\Microsoft\Windows\Temporary Internet Files\Content.IE5\ZJX436N3\MCj02382670000[1].wmf"/>
          <p:cNvPicPr/>
          <p:nvPr/>
        </p:nvPicPr>
        <p:blipFill>
          <a:blip r:embed="rId3"/>
          <a:stretch/>
        </p:blipFill>
        <p:spPr>
          <a:xfrm>
            <a:off x="500040" y="2357280"/>
            <a:ext cx="2298600" cy="13575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12"/>
          <p:cNvSpPr/>
          <p:nvPr/>
        </p:nvSpPr>
        <p:spPr>
          <a:xfrm>
            <a:off x="0" y="4286160"/>
            <a:ext cx="9144000" cy="18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3"/>
          <p:cNvSpPr/>
          <p:nvPr/>
        </p:nvSpPr>
        <p:spPr>
          <a:xfrm>
            <a:off x="0" y="1927080"/>
            <a:ext cx="9144000" cy="1800"/>
          </a:xfrm>
          <a:prstGeom prst="line">
            <a:avLst/>
          </a:prstGeom>
          <a:ln w="9360">
            <a:solidFill>
              <a:srgbClr val="2d8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185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bacc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CA91-4FAA-4F32-BFF4-93F0DE4DF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hyperlink" Target="http://900igr.net/" TargetMode="External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03280" y="2349360"/>
            <a:ext cx="5499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ЛИЯНИЕ САМООЦЕНКИ НА УСПЕШНОСТЬ ОБУЧЕНИЯ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95" name="Скругленный прямоугольник 3">
            <a:hlinkClick r:id="rId1"/>
          </p:cNvPr>
          <p:cNvSpPr/>
          <p:nvPr/>
        </p:nvSpPr>
        <p:spPr>
          <a:xfrm>
            <a:off x="1908000" y="260280"/>
            <a:ext cx="5545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ОУ «Ликино-Дулевский лиц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3">
            <a:hlinkClick r:id="rId2"/>
          </p:cNvPr>
          <p:cNvSpPr/>
          <p:nvPr/>
        </p:nvSpPr>
        <p:spPr>
          <a:xfrm>
            <a:off x="3203640" y="5229360"/>
            <a:ext cx="287964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Фадеева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3">
            <a:hlinkClick r:id="rId3"/>
          </p:cNvPr>
          <p:cNvSpPr/>
          <p:nvPr/>
        </p:nvSpPr>
        <p:spPr>
          <a:xfrm>
            <a:off x="3708360" y="6308640"/>
            <a:ext cx="1871640" cy="35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2-2013у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986520" cy="1511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484360" y="4221000"/>
            <a:ext cx="3810240" cy="2457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http://kolentionok.ru/wp-content/uploads/2012/06/%D0%B2%D0%B8%D0%B4%D1%8B_%D1%81%D0%B0%D0%BC%D0%BE%D0%BE%D1%86%D0%B5%D0%BD%D0%BA%D0%B8_vidy_samoocenki6.jpg"/>
          <p:cNvPicPr/>
          <p:nvPr/>
        </p:nvPicPr>
        <p:blipFill>
          <a:blip r:embed="rId4"/>
          <a:stretch/>
        </p:blipFill>
        <p:spPr>
          <a:xfrm>
            <a:off x="2843280" y="2060640"/>
            <a:ext cx="3146400" cy="2297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5867280" y="4005360"/>
            <a:ext cx="2916360" cy="185256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4"/>
          <p:cNvSpPr/>
          <p:nvPr/>
        </p:nvSpPr>
        <p:spPr>
          <a:xfrm>
            <a:off x="1763640" y="189000"/>
            <a:ext cx="7380360" cy="20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Учитель, обычно, соотносит достигаемые учащимися результаты с их умственными способностями и отношением к учению, не принимая в расчет самооценку ребенка, его собственные представления о своих способностях. Между тем, от этих представлений зависит большая или меньшая уверенность в своих силах, отношение к ошибкам и ряд других моментов учеб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986520" cy="15112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4"/>
          <p:cNvSpPr/>
          <p:nvPr/>
        </p:nvSpPr>
        <p:spPr>
          <a:xfrm>
            <a:off x="1835280" y="189000"/>
            <a:ext cx="7308720" cy="1152360"/>
          </a:xfrm>
          <a:prstGeom prst="rect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ценке знаний учащихся требуется большой такт. Важно не только, какую оценку поставил учитель ученику, но и то, что он при этом сказа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192480" y="1773360"/>
            <a:ext cx="22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09600" y="1700280"/>
            <a:ext cx="2749680" cy="2808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http://vdonetske.net.ua/serverdata/news_info/2011/08/03/894063/imgFull.jpg"/>
          <p:cNvPicPr/>
          <p:nvPr/>
        </p:nvPicPr>
        <p:blipFill>
          <a:blip r:embed="rId4"/>
          <a:stretch/>
        </p:blipFill>
        <p:spPr>
          <a:xfrm>
            <a:off x="5651640" y="1628640"/>
            <a:ext cx="3168360" cy="273708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324000" y="4797360"/>
            <a:ext cx="8496000" cy="180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ебенок должен знать, чего ждет от него учитель в следующий раз. Не следует захваливать хороших учеников, особенно тех детей, которые достигают высоких результатов, но без особого труда. Зато нужно поощрять в той или иной форме малейшее продвижение в учении хотя и слабого, но трудолюбивого, старательного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78920" y="162864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ценка должна служить главной целью – стимулировать и направлять учебно-познавательную деятельность школьника. Учитель должен давать содержательную оценку работе ученика.</a:t>
            </a:r>
            <a:endParaRPr b="0" lang="en-US" sz="2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учебной деятельности необходимо использовать взаимное рецензирование, при этом отмечать достоинства и недостатки, высказывая мнения об оценке. После рецензирования работа возвращается автору и учащиеся самостоятельно анализируют свою работу.</a:t>
            </a:r>
            <a:endParaRPr b="0" lang="en-US" sz="2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длагать слабо успевающему ученику, с заниженной самооценкой, оказывать помощь слабоуспевающему младшему школьнику.</a:t>
            </a:r>
            <a:endParaRPr b="0" lang="en-US" sz="2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бходимо включать ситуации, актуализирующие самооценку ребенка, ставящие перед ним задачу осознания особенности своей работы, ее сильных и слабых сторон и способствующих обращенности ребенка на собственные способы действия</a:t>
            </a:r>
            <a:r>
              <a:rPr b="0" lang="en-US" sz="2800" spc="-1" strike="noStrike">
                <a:solidFill>
                  <a:srgbClr val="215968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1835280" y="333360"/>
            <a:ext cx="7200720" cy="792000"/>
          </a:xfrm>
          <a:prstGeom prst="rect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комендации по формированию самооценки обучаю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7640" y="1628280"/>
            <a:ext cx="8713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бходимо научить учащихся анализировать и оценивать свою работу на уроке, определять меру усвоения материала, степень его сложности, выделять наиболее трудные моменты работы.</a:t>
            </a:r>
            <a:endParaRPr b="0" lang="en-US" sz="2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бходимо предлагать детям самостоятельно оценивать классные и домашние задания до того как отдать на проверку учителю, после того как работы проверил и оценил учитель, необходимо обсуждать случаи несовпадения оценок. Выяснить основания на которых строят самооценку дети и показатели по которым оценивает учитель.</a:t>
            </a:r>
            <a:endParaRPr b="0" lang="en-US" sz="2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бходимо использовать похвалу в работе с детьми, имеющими заниженную самооценку </a:t>
            </a:r>
            <a:endParaRPr b="0" lang="en-US" sz="20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161" name="Прямоугольник 4"/>
          <p:cNvSpPr/>
          <p:nvPr/>
        </p:nvSpPr>
        <p:spPr>
          <a:xfrm>
            <a:off x="1763640" y="333360"/>
            <a:ext cx="7201080" cy="792000"/>
          </a:xfrm>
          <a:prstGeom prst="rect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комендации по формированию самооценки обучаю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4"/>
          <p:cNvSpPr/>
          <p:nvPr/>
        </p:nvSpPr>
        <p:spPr>
          <a:xfrm>
            <a:off x="179280" y="5516640"/>
            <a:ext cx="8820360" cy="1225440"/>
          </a:xfrm>
          <a:prstGeom prst="rect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лавное, что должно определять отношение каждого учителя к каждому учащемуся (независимо от уровня его знаний и индивидуальных психологических особенностей), - это глубокая вера в растущего человека, в его возможнос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986520" cy="1511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08000" y="1599840"/>
            <a:ext cx="43876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цессуальный аспект</a:t>
            </a:r>
            <a:endParaRPr b="0" lang="en-US" sz="28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3280" y="1600200"/>
            <a:ext cx="4043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труктурно-итоговый</a:t>
            </a:r>
            <a:endParaRPr b="0" lang="en-US" sz="28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2195640" y="4869000"/>
            <a:ext cx="4897440" cy="50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Эффективность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5"/>
          <p:cNvSpPr/>
          <p:nvPr/>
        </p:nvSpPr>
        <p:spPr>
          <a:xfrm>
            <a:off x="179280" y="2205000"/>
            <a:ext cx="3961080" cy="230364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процесс, механизм обеспечивающий формирование компетент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6"/>
          <p:cNvSpPr/>
          <p:nvPr/>
        </p:nvSpPr>
        <p:spPr>
          <a:xfrm>
            <a:off x="4788000" y="2276640"/>
            <a:ext cx="3887640" cy="22320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оценка компетентности в определённ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179280" y="5445000"/>
            <a:ext cx="4038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воение учащимися предметного содержания программы</a:t>
            </a:r>
            <a:r>
              <a:rPr b="0" lang="en-US" sz="28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держимое 2"/>
          <p:cNvSpPr/>
          <p:nvPr/>
        </p:nvSpPr>
        <p:spPr>
          <a:xfrm>
            <a:off x="4925880" y="5445000"/>
            <a:ext cx="403884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формированность УУД</a:t>
            </a:r>
            <a:r>
              <a:rPr b="0" lang="en-US" sz="28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476360" y="5157720"/>
            <a:ext cx="574560" cy="358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4360" y="5229360"/>
            <a:ext cx="503280" cy="36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68360" y="1052640"/>
            <a:ext cx="1006560" cy="57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1280" y="1052640"/>
            <a:ext cx="936720" cy="57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986520" cy="151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0" y="1557000"/>
            <a:ext cx="305928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авышенная</a:t>
            </a:r>
            <a:endParaRPr b="0" lang="en-US" sz="20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бидчивость</a:t>
            </a:r>
            <a:endParaRPr b="0" lang="en-US" sz="2000" spc="-1" strike="noStrike">
              <a:solidFill>
                <a:srgbClr val="31859c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дозрительность</a:t>
            </a:r>
            <a:endParaRPr b="0" lang="en-US" sz="2000" spc="-1" strike="noStrike">
              <a:solidFill>
                <a:srgbClr val="31859c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грессивнос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31859c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41520" y="1557360"/>
            <a:ext cx="310212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аниженная</a:t>
            </a:r>
            <a:endParaRPr b="0" lang="en-US" sz="20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уверенность</a:t>
            </a:r>
            <a:endParaRPr b="0" lang="en-US" sz="2000" spc="-1" strike="noStrike">
              <a:solidFill>
                <a:srgbClr val="31859c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ревожность</a:t>
            </a:r>
            <a:endParaRPr b="0" lang="en-US" sz="2000" spc="-1" strike="noStrike">
              <a:solidFill>
                <a:srgbClr val="31859c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езынициативнос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31859c"/>
              </a:solidFill>
              <a:latin typeface="Calibri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611280" y="4149720"/>
            <a:ext cx="7921440" cy="1079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Самооценка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– оценка личностью самой себя, своих возможностей, качеств и места среди других людей. Она является важным регулятором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5"/>
          <p:cNvSpPr/>
          <p:nvPr/>
        </p:nvSpPr>
        <p:spPr>
          <a:xfrm>
            <a:off x="1187280" y="5589720"/>
            <a:ext cx="3097440" cy="10080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6"/>
          <p:cNvSpPr/>
          <p:nvPr/>
        </p:nvSpPr>
        <p:spPr>
          <a:xfrm>
            <a:off x="4932360" y="5516640"/>
            <a:ext cx="3168720" cy="10080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кружаю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одержимое 2"/>
          <p:cNvSpPr/>
          <p:nvPr/>
        </p:nvSpPr>
        <p:spPr>
          <a:xfrm>
            <a:off x="3059280" y="1557360"/>
            <a:ext cx="302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Адеква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Оптимисти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Автоном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Рефлекси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одержимое 2"/>
          <p:cNvSpPr/>
          <p:nvPr/>
        </p:nvSpPr>
        <p:spPr>
          <a:xfrm>
            <a:off x="2771640" y="3213000"/>
            <a:ext cx="324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Одно из условий развития гармоничной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98652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netnews.ua/images/stories/region/Kiev/soj/16_27-01-12/kiev_deti.jpg"/>
          <p:cNvPicPr/>
          <p:nvPr/>
        </p:nvPicPr>
        <p:blipFill>
          <a:blip r:embed="rId2"/>
          <a:stretch/>
        </p:blipFill>
        <p:spPr>
          <a:xfrm>
            <a:off x="250920" y="3429000"/>
            <a:ext cx="3095640" cy="23274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468360" y="1700280"/>
            <a:ext cx="7921440" cy="1079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енситивный период становления самооцен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ладший школьный возра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84720" y="3573360"/>
            <a:ext cx="2953080" cy="1968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http://www.chas.lv/pics/2012/08/15/n157_teacher-01.jpg"/>
          <p:cNvPicPr/>
          <p:nvPr/>
        </p:nvPicPr>
        <p:blipFill>
          <a:blip r:embed="rId4"/>
          <a:stretch/>
        </p:blipFill>
        <p:spPr>
          <a:xfrm>
            <a:off x="3559320" y="2997360"/>
            <a:ext cx="23810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986520" cy="151128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539640" y="1700280"/>
            <a:ext cx="8209080" cy="4753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ладшему школьнику в учебной деятельности необходимо умение ставить цели и контролировать свое поведение, управлять собой. Чтобы управлять собой, необходимы знания о себе, оценка себя. Процесс формирования самоконтроля зависит от уровня развития самооценки. Младшие школьники могут осуществлять самоконтроль только под руководством взрослого и с участием сверстников. Самосознание ребенка осуществляется в учебной дея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986520" cy="15112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611280" y="1700280"/>
            <a:ext cx="7921440" cy="1079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редний школьный возра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http://cs304212.userapi.com/u133851934/-14/x_4654928e.jpg"/>
          <p:cNvPicPr/>
          <p:nvPr/>
        </p:nvPicPr>
        <p:blipFill>
          <a:blip r:embed="rId2"/>
          <a:stretch/>
        </p:blipFill>
        <p:spPr>
          <a:xfrm>
            <a:off x="539640" y="2924280"/>
            <a:ext cx="2400480" cy="3600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03640" y="2924280"/>
            <a:ext cx="53290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986520" cy="15112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4"/>
          <p:cNvSpPr/>
          <p:nvPr/>
        </p:nvSpPr>
        <p:spPr>
          <a:xfrm>
            <a:off x="468360" y="1771560"/>
            <a:ext cx="8209080" cy="4753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 мере взросления  у подростков возникает интерес к своей личности, к выявлению своих возможностей и их оценке. В результате на протяжении среднего школьного возраста у них «…складывается относительно  устойчивая самооценка и основанный на ней уровень притязаний - это стремление к достижению цели той степени сложности, на которую человек считает себя способным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986520" cy="15112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4"/>
          <p:cNvSpPr/>
          <p:nvPr/>
        </p:nvSpPr>
        <p:spPr>
          <a:xfrm>
            <a:off x="611280" y="1700280"/>
            <a:ext cx="7921440" cy="50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таршекласс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http://gorod48.ru/upload/iblock/3f7/3f70654234add29a9df2ea81052f55cf.jpg"/>
          <p:cNvPicPr/>
          <p:nvPr/>
        </p:nvPicPr>
        <p:blipFill>
          <a:blip r:embed="rId2"/>
          <a:stretch/>
        </p:blipFill>
        <p:spPr>
          <a:xfrm>
            <a:off x="395280" y="2421000"/>
            <a:ext cx="4321080" cy="3247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003640" y="3068640"/>
            <a:ext cx="3741840" cy="24940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395280" y="5877000"/>
            <a:ext cx="82803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юношеском возрасте самооценка рассматривается как уровень собственных требований (требований к самому себ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986520" cy="151128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1332000" y="1628640"/>
            <a:ext cx="1944720" cy="505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671640" cy="245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http://education-portal.com/cimages/multimages/16/student-social-network.jpg"/>
          <p:cNvPicPr/>
          <p:nvPr/>
        </p:nvPicPr>
        <p:blipFill>
          <a:blip r:embed="rId3"/>
          <a:stretch/>
        </p:blipFill>
        <p:spPr>
          <a:xfrm>
            <a:off x="5508720" y="1521000"/>
            <a:ext cx="3024000" cy="2266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348000" y="2852640"/>
            <a:ext cx="2160720" cy="719280"/>
          </a:xfrm>
          <a:prstGeom prst="rightArrow">
            <a:avLst>
              <a:gd name="adj1" fmla="val 50000"/>
              <a:gd name="adj2" fmla="val 751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одержимое 2"/>
          <p:cNvSpPr/>
          <p:nvPr/>
        </p:nvSpPr>
        <p:spPr>
          <a:xfrm>
            <a:off x="3419640" y="2565360"/>
            <a:ext cx="13683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ценка</a:t>
            </a:r>
            <a:r>
              <a:rPr b="0" lang="en-US" sz="28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395280" y="6021360"/>
            <a:ext cx="82803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менно так воспринимаются оценки детьми. Ориентируюсь на оценки учителя, дети сами ранжируют себя и своих товарищей как отличников, средних, слабых, старательных или нестарательных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2050920" y="333360"/>
            <a:ext cx="7093080" cy="719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громное влияние в становлении и развитии самооценки личности играет учи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http://unionj.ru/wp-content/uploads/2010/11/rangirovanie-300x142.gif"/>
          <p:cNvPicPr/>
          <p:nvPr/>
        </p:nvPicPr>
        <p:blipFill>
          <a:blip r:embed="rId4"/>
          <a:stretch/>
        </p:blipFill>
        <p:spPr>
          <a:xfrm>
            <a:off x="5435640" y="3645000"/>
            <a:ext cx="2857320" cy="135252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4"/>
          <p:cNvSpPr/>
          <p:nvPr/>
        </p:nvSpPr>
        <p:spPr>
          <a:xfrm>
            <a:off x="324000" y="4941720"/>
            <a:ext cx="8424720" cy="720720"/>
          </a:xfrm>
          <a:prstGeom prst="rect">
            <a:avLst/>
          </a:prstGeom>
          <a:solidFill>
            <a:srgbClr val="ff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ивая знания, учитель оценивает личность, ее возможности и место среди друг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2:34:08Z</dcterms:created>
  <dc:creator>Гущина Марина Евгеньевна</dc:creator>
  <dc:description/>
  <cp:keywords/>
  <dc:language>en-US</dc:language>
  <cp:lastModifiedBy>Учитель</cp:lastModifiedBy>
  <dcterms:modified xsi:type="dcterms:W3CDTF">2013-03-01T08:04:36Z</dcterms:modified>
  <cp:revision>8</cp:revision>
  <dc:subject/>
  <dc:title>Самооценка подростка</dc:title>
</cp:coreProperties>
</file>