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png" ContentType="image/png"/>
  <Override PartName="/ppt/media/image1.png" ContentType="image/png"/>
  <Override PartName="/ppt/media/image2.wmf" ContentType="image/x-wmf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E71A-D1B9-420F-B95E-2BD6F278E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2128-975D-40C2-B989-D03C9269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30BD-DDFC-4981-9550-50BDEEDAD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04D6-5E34-4E1B-AFEE-67C00B31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E555-CEF9-4FD8-904B-8D5638C50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A8FE-3B0F-4EAF-AE7F-D17FB264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1243-A92E-4FF2-91A3-BA76E7CD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6C61-4EE5-4E05-BD24-ED148FEE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8EA1-03BA-4BB9-8729-82E38187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714320" y="213840"/>
            <a:ext cx="6972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7294-5F0E-4737-A357-11F44055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7EE6-CADF-4282-B40C-F0F2FF8A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21C6-2E93-4F04-9342-425C4F74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BFBB-54A7-4102-9F0C-FD9C3725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2D53-2D1B-4521-A812-98821AC8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5723-046C-4EC2-A8DC-0815D184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9900-F6B9-4837-99B2-932C33A9A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0EE1-D1F6-4335-BCEA-08031C2D3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0296-3194-42F1-8D80-66BE83AC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AB77-BA91-4923-A1DD-C6C75158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B2CE-5795-4860-97F3-12FE47BB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714320" y="213840"/>
            <a:ext cx="6972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E221-BC83-440E-B4F0-4D2F26E6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1523-46D4-47B1-A796-DD020E9D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2385-38B6-4AB1-A852-B2EC3F35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C8FE-AB42-4E79-BDB9-2460E8AF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6"/>
          <p:cNvGrpSpPr/>
          <p:nvPr/>
        </p:nvGrpSpPr>
        <p:grpSpPr>
          <a:xfrm>
            <a:off x="-6480" y="-6480"/>
            <a:ext cx="9156960" cy="1511280"/>
            <a:chOff x="-6480" y="-6480"/>
            <a:chExt cx="9156960" cy="1511280"/>
          </a:xfrm>
        </p:grpSpPr>
        <p:pic>
          <p:nvPicPr>
            <p:cNvPr id="1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Овал 8"/>
          <p:cNvSpPr/>
          <p:nvPr/>
        </p:nvSpPr>
        <p:spPr>
          <a:xfrm>
            <a:off x="106200" y="285840"/>
            <a:ext cx="1536840" cy="1023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185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bacc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9760-9D21-4550-8DBA-6F502C139C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Picture 2" descr="C:\Users\juliaar\AppData\Local\Microsoft\Windows\Temporary Internet Files\Content.IE5\ZJX436N3\MCj02382670000[1].wmf"/>
          <p:cNvPicPr/>
          <p:nvPr/>
        </p:nvPicPr>
        <p:blipFill>
          <a:blip r:embed="rId3"/>
          <a:stretch/>
        </p:blipFill>
        <p:spPr>
          <a:xfrm>
            <a:off x="285840" y="428760"/>
            <a:ext cx="12096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Прямоугольник 9"/>
          <p:cNvGrpSpPr/>
          <p:nvPr/>
        </p:nvGrpSpPr>
        <p:grpSpPr>
          <a:xfrm>
            <a:off x="-6480" y="1920960"/>
            <a:ext cx="9156960" cy="2369880"/>
            <a:chOff x="-6480" y="1920960"/>
            <a:chExt cx="9156960" cy="2369880"/>
          </a:xfrm>
        </p:grpSpPr>
        <p:pic>
          <p:nvPicPr>
            <p:cNvPr id="47" name="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-6480" y="1920960"/>
              <a:ext cx="9156960" cy="236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0" y="1928880"/>
              <a:ext cx="9144000" cy="23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Овал 10"/>
          <p:cNvSpPr/>
          <p:nvPr/>
        </p:nvSpPr>
        <p:spPr>
          <a:xfrm>
            <a:off x="285840" y="2214720"/>
            <a:ext cx="2714400" cy="180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C:\Users\juliaar\AppData\Local\Microsoft\Windows\Temporary Internet Files\Content.IE5\ZJX436N3\MCj02382670000[1].wmf"/>
          <p:cNvPicPr/>
          <p:nvPr/>
        </p:nvPicPr>
        <p:blipFill>
          <a:blip r:embed="rId3"/>
          <a:stretch/>
        </p:blipFill>
        <p:spPr>
          <a:xfrm>
            <a:off x="500040" y="2357280"/>
            <a:ext cx="2298600" cy="1357560"/>
          </a:xfrm>
          <a:prstGeom prst="rect">
            <a:avLst/>
          </a:prstGeom>
          <a:ln w="0">
            <a:noFill/>
          </a:ln>
        </p:spPr>
      </p:pic>
      <p:sp>
        <p:nvSpPr>
          <p:cNvPr id="51" name="Прямая соединительная линия 12"/>
          <p:cNvSpPr/>
          <p:nvPr/>
        </p:nvSpPr>
        <p:spPr>
          <a:xfrm>
            <a:off x="0" y="4286160"/>
            <a:ext cx="9144000" cy="180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3"/>
          <p:cNvSpPr/>
          <p:nvPr/>
        </p:nvSpPr>
        <p:spPr>
          <a:xfrm>
            <a:off x="0" y="1927080"/>
            <a:ext cx="9144000" cy="1800"/>
          </a:xfrm>
          <a:prstGeom prst="line">
            <a:avLst/>
          </a:prstGeom>
          <a:ln w="9360">
            <a:solidFill>
              <a:srgbClr val="2d82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185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bacc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E534-0490-4024-ABB9-20E50221D8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hyperlink" Target="http://900igr.net/" TargetMode="External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203280" y="2349360"/>
            <a:ext cx="5499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ЛИЯНИЕ САМООЦЕНКИ НА УСПЕШНОСТЬ ОБУЧЕНИЯ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95" name="Скругленный прямоугольник 3">
            <a:hlinkClick r:id="rId1"/>
          </p:cNvPr>
          <p:cNvSpPr/>
          <p:nvPr/>
        </p:nvSpPr>
        <p:spPr>
          <a:xfrm>
            <a:off x="1908000" y="260280"/>
            <a:ext cx="55454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ОУ «Ликино-Дулевский лице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3">
            <a:hlinkClick r:id="rId2"/>
          </p:cNvPr>
          <p:cNvSpPr/>
          <p:nvPr/>
        </p:nvSpPr>
        <p:spPr>
          <a:xfrm>
            <a:off x="3203640" y="5229360"/>
            <a:ext cx="287964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Фадеева Н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3">
            <a:hlinkClick r:id="rId3"/>
          </p:cNvPr>
          <p:cNvSpPr/>
          <p:nvPr/>
        </p:nvSpPr>
        <p:spPr>
          <a:xfrm>
            <a:off x="3708360" y="6308640"/>
            <a:ext cx="1871640" cy="35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2-2013у.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Заголовок 1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6986520" cy="1511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484360" y="4221000"/>
            <a:ext cx="3810240" cy="2457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2665440" cy="1998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http://kolentionok.ru/wp-content/uploads/2012/06/%D0%B2%D0%B8%D0%B4%D1%8B_%D1%81%D0%B0%D0%BC%D0%BE%D0%BE%D1%86%D0%B5%D0%BD%D0%BA%D0%B8_vidy_samoocenki6.jpg"/>
          <p:cNvPicPr/>
          <p:nvPr/>
        </p:nvPicPr>
        <p:blipFill>
          <a:blip r:embed="rId4"/>
          <a:stretch/>
        </p:blipFill>
        <p:spPr>
          <a:xfrm>
            <a:off x="2843280" y="2060640"/>
            <a:ext cx="3146400" cy="22971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5867280" y="4005360"/>
            <a:ext cx="2916360" cy="185256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4"/>
          <p:cNvSpPr/>
          <p:nvPr/>
        </p:nvSpPr>
        <p:spPr>
          <a:xfrm>
            <a:off x="1763640" y="189000"/>
            <a:ext cx="7380360" cy="201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Учитель, обычно, соотносит достигаемые учащимися результаты с их умственными способностями и отношением к учению, не принимая в расчет самооценку ребенка, его собственные представления о своих способностях. Между тем, от этих представлений зависит большая или меньшая уверенность в своих силах, отношение к ошибкам и ряд других моментов учебной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Заголовок 1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6986520" cy="151128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4"/>
          <p:cNvSpPr/>
          <p:nvPr/>
        </p:nvSpPr>
        <p:spPr>
          <a:xfrm>
            <a:off x="1835280" y="189000"/>
            <a:ext cx="7308720" cy="1152360"/>
          </a:xfrm>
          <a:prstGeom prst="rect">
            <a:avLst/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оценке знаний учащихся требуется большой такт. Важно не только, какую оценку поставил учитель ученику, но и то, что он при этом сказа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192480" y="1773360"/>
            <a:ext cx="2243160" cy="2519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309600" y="1700280"/>
            <a:ext cx="2749680" cy="2808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http://vdonetske.net.ua/serverdata/news_info/2011/08/03/894063/imgFull.jpg"/>
          <p:cNvPicPr/>
          <p:nvPr/>
        </p:nvPicPr>
        <p:blipFill>
          <a:blip r:embed="rId4"/>
          <a:stretch/>
        </p:blipFill>
        <p:spPr>
          <a:xfrm>
            <a:off x="5651640" y="1628640"/>
            <a:ext cx="3168360" cy="273708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4"/>
          <p:cNvSpPr/>
          <p:nvPr/>
        </p:nvSpPr>
        <p:spPr>
          <a:xfrm>
            <a:off x="324000" y="4797360"/>
            <a:ext cx="8496000" cy="180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Ребенок должен знать, чего ждет от него учитель в следующий раз. Не следует захваливать хороших учеников, особенно тех детей, которые достигают высоких результатов, но без особого труда. Зато нужно поощрять в той или иной форме малейшее продвижение в учении хотя и слабого, но трудолюбивого, старательного ребе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78920" y="162864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ценка должна служить главной целью – стимулировать и направлять учебно-познавательную деятельность школьника. Учитель должен давать содержательную оценку работе ученика.</a:t>
            </a:r>
            <a:endParaRPr b="0" lang="en-US" sz="20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учебной деятельности необходимо использовать взаимное рецензирование, при этом отмечать достоинства и недостатки, высказывая мнения об оценке. После рецензирования работа возвращается автору и учащиеся самостоятельно анализируют свою работу.</a:t>
            </a:r>
            <a:endParaRPr b="0" lang="en-US" sz="20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едлагать слабо успевающему ученику, с заниженной самооценкой, оказывать помощь слабоуспевающему младшему школьнику.</a:t>
            </a:r>
            <a:endParaRPr b="0" lang="en-US" sz="20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обходимо включать ситуации, актуализирующие самооценку ребенка, ставящие перед ним задачу осознания особенности своей работы, ее сильных и слабых сторон и способствующих обращенности ребенка на собственные способы действия</a:t>
            </a:r>
            <a:r>
              <a:rPr b="0" lang="en-US" sz="2800" spc="-1" strike="noStrike">
                <a:solidFill>
                  <a:srgbClr val="215968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159" name="Прямоугольник 4"/>
          <p:cNvSpPr/>
          <p:nvPr/>
        </p:nvSpPr>
        <p:spPr>
          <a:xfrm>
            <a:off x="1835280" y="333360"/>
            <a:ext cx="7200720" cy="792000"/>
          </a:xfrm>
          <a:prstGeom prst="rect">
            <a:avLst/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екомендации по формированию самооценки обучаю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07640" y="1628280"/>
            <a:ext cx="87138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обходимо научить учащихся анализировать и оценивать свою работу на уроке, определять меру усвоения материала, степень его сложности, выделять наиболее трудные моменты работы.</a:t>
            </a:r>
            <a:endParaRPr b="0" lang="en-US" sz="20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обходимо предлагать детям самостоятельно оценивать классные и домашние задания до того как отдать на проверку учителю, после того как работы проверил и оценил учитель, необходимо обсуждать случаи несовпадения оценок. Выяснить основания на которых строят самооценку дети и показатели по которым оценивает учитель.</a:t>
            </a:r>
            <a:endParaRPr b="0" lang="en-US" sz="20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обходимо использовать похвалу в работе с детьми, имеющими заниженную самооценку </a:t>
            </a:r>
            <a:endParaRPr b="0" lang="en-US" sz="20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161" name="Прямоугольник 4"/>
          <p:cNvSpPr/>
          <p:nvPr/>
        </p:nvSpPr>
        <p:spPr>
          <a:xfrm>
            <a:off x="1763640" y="333360"/>
            <a:ext cx="7201080" cy="792000"/>
          </a:xfrm>
          <a:prstGeom prst="rect">
            <a:avLst/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екомендации по формированию самооценки обучаю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4"/>
          <p:cNvSpPr/>
          <p:nvPr/>
        </p:nvSpPr>
        <p:spPr>
          <a:xfrm>
            <a:off x="179280" y="5516640"/>
            <a:ext cx="8820360" cy="1225440"/>
          </a:xfrm>
          <a:prstGeom prst="rect">
            <a:avLst/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лавное, что должно определять отношение каждого учителя к каждому учащемуся (независимо от уровня его знаний и индивидуальных психологических особенностей), - это глубокая вера в растущего человека, в его возможност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6986520" cy="1511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08000" y="1599840"/>
            <a:ext cx="438768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оцессуальный аспект</a:t>
            </a:r>
            <a:endParaRPr b="0" lang="en-US" sz="28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3280" y="1600200"/>
            <a:ext cx="40435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труктурно-итоговый</a:t>
            </a:r>
            <a:endParaRPr b="0" lang="en-US" sz="28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101" name="Прямоугольник 4"/>
          <p:cNvSpPr/>
          <p:nvPr/>
        </p:nvSpPr>
        <p:spPr>
          <a:xfrm>
            <a:off x="2195640" y="4869000"/>
            <a:ext cx="4897440" cy="504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Эффективность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5"/>
          <p:cNvSpPr/>
          <p:nvPr/>
        </p:nvSpPr>
        <p:spPr>
          <a:xfrm>
            <a:off x="179280" y="2205000"/>
            <a:ext cx="3961080" cy="230364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процесс, механизм обеспечивающий формирование компетент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6"/>
          <p:cNvSpPr/>
          <p:nvPr/>
        </p:nvSpPr>
        <p:spPr>
          <a:xfrm>
            <a:off x="4788000" y="2276640"/>
            <a:ext cx="3887640" cy="223200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ооценка компетентности в определённой обл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одержимое 2"/>
          <p:cNvSpPr/>
          <p:nvPr/>
        </p:nvSpPr>
        <p:spPr>
          <a:xfrm>
            <a:off x="179280" y="5445000"/>
            <a:ext cx="40388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своение учащимися предметного содержания программы</a:t>
            </a:r>
            <a:r>
              <a:rPr b="0" lang="en-US" sz="2800" spc="-1" strike="noStrike">
                <a:solidFill>
                  <a:srgbClr val="215968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одержимое 2"/>
          <p:cNvSpPr/>
          <p:nvPr/>
        </p:nvSpPr>
        <p:spPr>
          <a:xfrm>
            <a:off x="4925880" y="5445000"/>
            <a:ext cx="403884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формированность УУД</a:t>
            </a:r>
            <a:r>
              <a:rPr b="0" lang="en-US" sz="2800" spc="-1" strike="noStrike">
                <a:solidFill>
                  <a:srgbClr val="215968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476360" y="5157720"/>
            <a:ext cx="574560" cy="358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64360" y="5229360"/>
            <a:ext cx="503280" cy="360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268360" y="1052640"/>
            <a:ext cx="1006560" cy="576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91280" y="1052640"/>
            <a:ext cx="936720" cy="576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6986520" cy="1511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0" y="1557000"/>
            <a:ext cx="305928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Завышенная</a:t>
            </a:r>
            <a:endParaRPr b="0" lang="en-US" sz="20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бидчивость</a:t>
            </a:r>
            <a:endParaRPr b="0" lang="en-US" sz="2000" spc="-1" strike="noStrike">
              <a:solidFill>
                <a:srgbClr val="31859c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дозрительность</a:t>
            </a:r>
            <a:endParaRPr b="0" lang="en-US" sz="2000" spc="-1" strike="noStrike">
              <a:solidFill>
                <a:srgbClr val="31859c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грессивност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31859c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041520" y="1557360"/>
            <a:ext cx="310212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Заниженная</a:t>
            </a:r>
            <a:endParaRPr b="0" lang="en-US" sz="20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еуверенность</a:t>
            </a:r>
            <a:endParaRPr b="0" lang="en-US" sz="2000" spc="-1" strike="noStrike">
              <a:solidFill>
                <a:srgbClr val="31859c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Тревожность</a:t>
            </a:r>
            <a:endParaRPr b="0" lang="en-US" sz="2000" spc="-1" strike="noStrike">
              <a:solidFill>
                <a:srgbClr val="31859c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Безынициативност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31859c"/>
              </a:solidFill>
              <a:latin typeface="Calibri"/>
            </a:endParaRPr>
          </a:p>
        </p:txBody>
      </p:sp>
      <p:sp>
        <p:nvSpPr>
          <p:cNvPr id="113" name="Прямоугольник 4"/>
          <p:cNvSpPr/>
          <p:nvPr/>
        </p:nvSpPr>
        <p:spPr>
          <a:xfrm>
            <a:off x="611280" y="4149720"/>
            <a:ext cx="7921440" cy="1079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Самооценка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– оценка личностью самой себя, своих возможностей, качеств и места среди других людей. Она является важным регулятором 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5"/>
          <p:cNvSpPr/>
          <p:nvPr/>
        </p:nvSpPr>
        <p:spPr>
          <a:xfrm>
            <a:off x="1187280" y="5589720"/>
            <a:ext cx="3097440" cy="100800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6"/>
          <p:cNvSpPr/>
          <p:nvPr/>
        </p:nvSpPr>
        <p:spPr>
          <a:xfrm>
            <a:off x="4932360" y="5516640"/>
            <a:ext cx="3168720" cy="100800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кружающ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одержимое 2"/>
          <p:cNvSpPr/>
          <p:nvPr/>
        </p:nvSpPr>
        <p:spPr>
          <a:xfrm>
            <a:off x="3059280" y="1557360"/>
            <a:ext cx="3024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Адекват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Оптимистич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Автоном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Рефлекси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одержимое 2"/>
          <p:cNvSpPr/>
          <p:nvPr/>
        </p:nvSpPr>
        <p:spPr>
          <a:xfrm>
            <a:off x="2771640" y="3213000"/>
            <a:ext cx="324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Одно из условий развития гармоничной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6986520" cy="1511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netnews.ua/images/stories/region/Kiev/soj/16_27-01-12/kiev_deti.jpg"/>
          <p:cNvPicPr/>
          <p:nvPr/>
        </p:nvPicPr>
        <p:blipFill>
          <a:blip r:embed="rId2"/>
          <a:stretch/>
        </p:blipFill>
        <p:spPr>
          <a:xfrm>
            <a:off x="250920" y="3429000"/>
            <a:ext cx="3095640" cy="232740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4"/>
          <p:cNvSpPr/>
          <p:nvPr/>
        </p:nvSpPr>
        <p:spPr>
          <a:xfrm>
            <a:off x="468360" y="1700280"/>
            <a:ext cx="7921440" cy="1079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енситивный период становления самооценк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ладший школьный возрас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084720" y="3573360"/>
            <a:ext cx="2953080" cy="1968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http://www.chas.lv/pics/2012/08/15/n157_teacher-01.jpg"/>
          <p:cNvPicPr/>
          <p:nvPr/>
        </p:nvPicPr>
        <p:blipFill>
          <a:blip r:embed="rId4"/>
          <a:stretch/>
        </p:blipFill>
        <p:spPr>
          <a:xfrm>
            <a:off x="3559320" y="2997360"/>
            <a:ext cx="238104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6986520" cy="151128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4"/>
          <p:cNvSpPr/>
          <p:nvPr/>
        </p:nvSpPr>
        <p:spPr>
          <a:xfrm>
            <a:off x="539640" y="1700280"/>
            <a:ext cx="8209080" cy="4753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ладшему школьнику в учебной деятельности необходимо умение ставить цели и контролировать свое поведение, управлять собой. Чтобы управлять собой, необходимы знания о себе, оценка себя. Процесс формирования самоконтроля зависит от уровня развития самооценки. Младшие школьники могут осуществлять самоконтроль только под руководством взрослого и с участием сверстников. Самосознание ребенка осуществляется в учебной деятель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6986520" cy="151128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4"/>
          <p:cNvSpPr/>
          <p:nvPr/>
        </p:nvSpPr>
        <p:spPr>
          <a:xfrm>
            <a:off x="611280" y="1700280"/>
            <a:ext cx="7921440" cy="1079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редний школьный возрас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http://cs304212.userapi.com/u133851934/-14/x_4654928e.jpg"/>
          <p:cNvPicPr/>
          <p:nvPr/>
        </p:nvPicPr>
        <p:blipFill>
          <a:blip r:embed="rId2"/>
          <a:stretch/>
        </p:blipFill>
        <p:spPr>
          <a:xfrm>
            <a:off x="539640" y="2924280"/>
            <a:ext cx="2400480" cy="3600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203640" y="2924280"/>
            <a:ext cx="53290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Заголовок 1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6986520" cy="151128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4"/>
          <p:cNvSpPr/>
          <p:nvPr/>
        </p:nvSpPr>
        <p:spPr>
          <a:xfrm>
            <a:off x="468360" y="1771560"/>
            <a:ext cx="8209080" cy="4753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 мере взросления  у подростков возникает интерес к своей личности, к выявлению своих возможностей и их оценке. В результате на протяжении среднего школьного возраста у них «…складывается относительно  устойчивая самооценка и основанный на ней уровень притязаний - это стремление к достижению цели той степени сложности, на которую человек считает себя способным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Заголовок 1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6986520" cy="151128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4"/>
          <p:cNvSpPr/>
          <p:nvPr/>
        </p:nvSpPr>
        <p:spPr>
          <a:xfrm>
            <a:off x="611280" y="1700280"/>
            <a:ext cx="7921440" cy="504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таршекласс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http://gorod48.ru/upload/iblock/3f7/3f70654234add29a9df2ea81052f55cf.jpg"/>
          <p:cNvPicPr/>
          <p:nvPr/>
        </p:nvPicPr>
        <p:blipFill>
          <a:blip r:embed="rId2"/>
          <a:stretch/>
        </p:blipFill>
        <p:spPr>
          <a:xfrm>
            <a:off x="395280" y="2421000"/>
            <a:ext cx="4321080" cy="3247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003640" y="3068640"/>
            <a:ext cx="3741840" cy="249408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4"/>
          <p:cNvSpPr/>
          <p:nvPr/>
        </p:nvSpPr>
        <p:spPr>
          <a:xfrm>
            <a:off x="395280" y="5877000"/>
            <a:ext cx="8280360" cy="72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 юношеском возрасте самооценка рассматривается как уровень собственных требований (требований к самому себ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6986520" cy="151128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4"/>
          <p:cNvSpPr/>
          <p:nvPr/>
        </p:nvSpPr>
        <p:spPr>
          <a:xfrm>
            <a:off x="1332000" y="1628640"/>
            <a:ext cx="1944720" cy="505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ч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50920" y="2276640"/>
            <a:ext cx="3671640" cy="2450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http://education-portal.com/cimages/multimages/16/student-social-network.jpg"/>
          <p:cNvPicPr/>
          <p:nvPr/>
        </p:nvPicPr>
        <p:blipFill>
          <a:blip r:embed="rId3"/>
          <a:stretch/>
        </p:blipFill>
        <p:spPr>
          <a:xfrm>
            <a:off x="5508720" y="1521000"/>
            <a:ext cx="3024000" cy="2266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348000" y="2852640"/>
            <a:ext cx="2160720" cy="719280"/>
          </a:xfrm>
          <a:prstGeom prst="rightArrow">
            <a:avLst>
              <a:gd name="adj1" fmla="val 50000"/>
              <a:gd name="adj2" fmla="val 751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одержимое 2"/>
          <p:cNvSpPr/>
          <p:nvPr/>
        </p:nvSpPr>
        <p:spPr>
          <a:xfrm>
            <a:off x="3419640" y="2565360"/>
            <a:ext cx="13683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ценка</a:t>
            </a:r>
            <a:r>
              <a:rPr b="0" lang="en-US" sz="2800" spc="-1" strike="noStrike">
                <a:solidFill>
                  <a:srgbClr val="215968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395280" y="6021360"/>
            <a:ext cx="8280360" cy="72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менно так воспринимаются оценки детьми. Ориентируюсь на оценки учителя, дети сами ранжируют себя и своих товарищей как отличников, средних, слабых, старательных или нестарательных и т.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4"/>
          <p:cNvSpPr/>
          <p:nvPr/>
        </p:nvSpPr>
        <p:spPr>
          <a:xfrm>
            <a:off x="2050920" y="333360"/>
            <a:ext cx="7093080" cy="719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Огромное влияние в становлении и развитии самооценки личности играет учит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http://unionj.ru/wp-content/uploads/2010/11/rangirovanie-300x142.gif"/>
          <p:cNvPicPr/>
          <p:nvPr/>
        </p:nvPicPr>
        <p:blipFill>
          <a:blip r:embed="rId4"/>
          <a:stretch/>
        </p:blipFill>
        <p:spPr>
          <a:xfrm>
            <a:off x="5435640" y="3645000"/>
            <a:ext cx="2857320" cy="135252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4"/>
          <p:cNvSpPr/>
          <p:nvPr/>
        </p:nvSpPr>
        <p:spPr>
          <a:xfrm>
            <a:off x="324000" y="4941720"/>
            <a:ext cx="8424720" cy="720720"/>
          </a:xfrm>
          <a:prstGeom prst="rect">
            <a:avLst/>
          </a:prstGeom>
          <a:solidFill>
            <a:srgbClr val="ff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ивая знания, учитель оценивает личность, ее возможности и место среди друг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02:34:08Z</dcterms:created>
  <dc:creator>Гущина Марина Евгеньевна</dc:creator>
  <dc:description/>
  <cp:keywords/>
  <dc:language>en-US</dc:language>
  <cp:lastModifiedBy>Учитель</cp:lastModifiedBy>
  <dcterms:modified xsi:type="dcterms:W3CDTF">2013-03-01T08:04:36Z</dcterms:modified>
  <cp:revision>8</cp:revision>
  <dc:subject/>
  <dc:title>Самооценка подростка</dc:title>
</cp:coreProperties>
</file>