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10.gif" ContentType="image/gif"/>
  <Override PartName="/ppt/media/image9.gif" ContentType="image/gif"/>
  <Override PartName="/ppt/media/image7.png" ContentType="image/png"/>
  <Override PartName="/ppt/media/image15.gif" ContentType="image/gif"/>
  <Override PartName="/ppt/media/image1.png" ContentType="image/png"/>
  <Override PartName="/ppt/media/image4.jpeg" ContentType="image/jpeg"/>
  <Override PartName="/ppt/media/image17.png" ContentType="image/png"/>
  <Override PartName="/ppt/media/image14.gif" ContentType="image/gif"/>
  <Override PartName="/ppt/media/image2.jpeg" ContentType="image/jpeg"/>
  <Override PartName="/ppt/media/image8.gif" ContentType="image/gif"/>
  <Override PartName="/ppt/media/image18.jpeg" ContentType="image/jpeg"/>
  <Override PartName="/ppt/media/image13.gif" ContentType="image/gif"/>
  <Override PartName="/ppt/media/image16.png" ContentType="image/png"/>
  <Override PartName="/ppt/media/image5.jpeg" ContentType="image/jpeg"/>
  <Override PartName="/ppt/media/image6.gif" ContentType="image/gif"/>
  <Override PartName="/ppt/media/image11.gif" ContentType="image/gi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8E70-0816-47AB-B0AE-1FD612AA5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DEA2-210A-4105-B54F-7B8374ADB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5B85-CB1A-4D29-98A6-ABEA3F233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DF65-DA9A-46E2-A3A3-932501CC0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5E499-6B8B-40D6-AE50-C366379E6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742C0-C68B-473A-B4A3-C5E71629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4FFC7-C58D-40D0-8C89-265AB7C7D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D9753-13FA-47F5-A977-7F80FB836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FE416-BA89-44DE-AE01-0C63A31BC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85952-D418-4002-B1BA-1F9C8BFFC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3905F-2845-4A42-A60B-4DE9C591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DD86-AB0C-4425-BC52-B26FF4C58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60B08-1AFF-4F93-84D2-DED6BB38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08798-0D5C-4218-A96B-529B9BD4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37287-B625-44C4-B78B-AD75E82B8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9BD13-F35C-4039-99D0-46393B272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6BBF5-37AA-41C7-8087-AC35E7DBC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CE05C-4F44-4865-A807-608F7DEB4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EF384-9143-4B50-BA50-91B47764B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5E12C-F7A2-4147-B967-518115989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16987-81D6-418F-B186-E76547542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E8AF8-9356-482D-8547-9E581ECE0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FD4A-9353-4FD0-BA53-FF3F7F508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5B949-1F37-4102-8769-0D97EC5A6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EE143-7667-4BA5-919E-D6545EF9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1DE9C-7C11-4BF5-96C7-91DE50DD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AE3EF-28D2-4A1F-8C72-67E100EA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A5948-5DD1-4AC1-A53F-E9844C7C5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4F8D1-D3EE-4A97-BD66-92A8B7BDA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F388F-BEFB-4A23-9F53-1DD7FF39A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21FF-BC9F-43BE-A30C-833CBD98D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66E1-0069-4647-AA22-63E836B92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08A2-CD81-4FC5-8BAA-8EF19156E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1C30-CF54-41B0-8B4F-C3923CDD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EEDA-D955-49E6-8577-344D71FF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4FC5-B8B1-411C-9817-39DDF96F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1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849cbb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849cbb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dfc0ff"/>
                </a:gs>
                <a:gs pos="100000">
                  <a:srgbClr val="90db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849cb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338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4F0E0-1A12-4871-92DB-8A26A6C07A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47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849cbb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849cbb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dfc0ff"/>
                </a:gs>
                <a:gs pos="100000">
                  <a:srgbClr val="90db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849cb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338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1E175-FA74-4556-A320-32471CFA66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13A05-8D7C-4690-A632-9B0153E62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gif"/><Relationship Id="rId8" Type="http://schemas.openxmlformats.org/officeDocument/2006/relationships/image" Target="../media/image9.gif"/><Relationship Id="rId9" Type="http://schemas.openxmlformats.org/officeDocument/2006/relationships/image" Target="../media/image10.gif"/><Relationship Id="rId10" Type="http://schemas.openxmlformats.org/officeDocument/2006/relationships/image" Target="../media/image11.gif"/><Relationship Id="rId11" Type="http://schemas.openxmlformats.org/officeDocument/2006/relationships/image" Target="../media/image12.gif"/><Relationship Id="rId12" Type="http://schemas.openxmlformats.org/officeDocument/2006/relationships/image" Target="../media/image13.gif"/><Relationship Id="rId13" Type="http://schemas.openxmlformats.org/officeDocument/2006/relationships/image" Target="../media/image13.gif"/><Relationship Id="rId14" Type="http://schemas.openxmlformats.org/officeDocument/2006/relationships/image" Target="../media/image13.gif"/><Relationship Id="rId15" Type="http://schemas.openxmlformats.org/officeDocument/2006/relationships/image" Target="../media/image14.gif"/><Relationship Id="rId16" Type="http://schemas.openxmlformats.org/officeDocument/2006/relationships/image" Target="../media/image15.gif"/><Relationship Id="rId17" Type="http://schemas.openxmlformats.org/officeDocument/2006/relationships/image" Target="../media/image16.png"/><Relationship Id="rId1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47280" y="2204640"/>
            <a:ext cx="7340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b3384"/>
                </a:solidFill>
                <a:latin typeface="Times New Roman"/>
              </a:rPr>
              <a:t>Строение и функции головного мозга</a:t>
            </a:r>
            <a:endParaRPr b="0" lang="en-US" sz="48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26668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47920" y="4495680"/>
            <a:ext cx="7696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47640" y="3671640"/>
            <a:ext cx="727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Monotype Corsiva"/>
              </a:rPr>
              <a:t>“</a:t>
            </a:r>
            <a:r>
              <a:rPr b="0" lang="en-US" sz="3200" spc="-1" strike="noStrike">
                <a:solidFill>
                  <a:srgbClr val="003366"/>
                </a:solidFill>
                <a:latin typeface="Monotype Corsiva"/>
              </a:rPr>
              <a:t>Мозг (голову) надо беречь,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Monotype Corsiva"/>
              </a:rPr>
              <a:t>в меру нагружать и не травмировать”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5575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35575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0" y="3300480"/>
            <a:ext cx="4572000" cy="35575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4356000" y="3300480"/>
            <a:ext cx="4788000" cy="35575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 rot="19146000">
            <a:off x="2987280" y="1989000"/>
            <a:ext cx="3384720" cy="3314880"/>
          </a:xfrm>
          <a:custGeom>
            <a:avLst/>
            <a:gdLst>
              <a:gd name="textAreaLeft" fmla="*/ 1417320 w 3384720"/>
              <a:gd name="textAreaRight" fmla="*/ 1967400 w 3384720"/>
              <a:gd name="textAreaTop" fmla="*/ 1388160 h 3314880"/>
              <a:gd name="textAreaBottom" fmla="*/ 1926720 h 3314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046" y="9046"/>
                </a:lnTo>
                <a:lnTo>
                  <a:pt x="10800" y="0"/>
                </a:lnTo>
                <a:lnTo>
                  <a:pt x="12554" y="9046"/>
                </a:lnTo>
                <a:lnTo>
                  <a:pt x="21600" y="10800"/>
                </a:lnTo>
                <a:lnTo>
                  <a:pt x="12554" y="12554"/>
                </a:lnTo>
                <a:lnTo>
                  <a:pt x="10800" y="21600"/>
                </a:lnTo>
                <a:lnTo>
                  <a:pt x="9046" y="1255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76720" y="2060640"/>
            <a:ext cx="2736720" cy="2954160"/>
          </a:xfrm>
          <a:custGeom>
            <a:avLst/>
            <a:gdLst>
              <a:gd name="textAreaLeft" fmla="*/ 1145880 w 2736720"/>
              <a:gd name="textAreaRight" fmla="*/ 1590840 w 2736720"/>
              <a:gd name="textAreaTop" fmla="*/ 1236960 h 2954160"/>
              <a:gd name="textAreaBottom" fmla="*/ 1717200 h 2954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046" y="9046"/>
                </a:lnTo>
                <a:lnTo>
                  <a:pt x="10800" y="0"/>
                </a:lnTo>
                <a:lnTo>
                  <a:pt x="12554" y="9046"/>
                </a:lnTo>
                <a:lnTo>
                  <a:pt x="21600" y="10800"/>
                </a:lnTo>
                <a:lnTo>
                  <a:pt x="12554" y="12554"/>
                </a:lnTo>
                <a:lnTo>
                  <a:pt x="10800" y="21600"/>
                </a:lnTo>
                <a:lnTo>
                  <a:pt x="9046" y="1255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19871400">
            <a:off x="6084360" y="765000"/>
            <a:ext cx="1795680" cy="1603440"/>
          </a:xfrm>
          <a:prstGeom prst="star5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-1620720" y="0"/>
            <a:ext cx="1404720" cy="10382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6"/>
          <a:stretch/>
        </p:blipFill>
        <p:spPr>
          <a:xfrm>
            <a:off x="9325080" y="0"/>
            <a:ext cx="1404720" cy="907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042920" y="4797360"/>
            <a:ext cx="936720" cy="863640"/>
          </a:xfrm>
          <a:prstGeom prst="star5">
            <a:avLst/>
          </a:prstGeom>
          <a:gradFill rotWithShape="0">
            <a:gsLst>
              <a:gs pos="0">
                <a:srgbClr val="6699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35280" y="549360"/>
            <a:ext cx="1224000" cy="1079280"/>
          </a:xfrm>
          <a:prstGeom prst="star5">
            <a:avLst/>
          </a:prstGeom>
          <a:gradFill rotWithShape="0">
            <a:gsLst>
              <a:gs pos="0">
                <a:srgbClr val="ffff66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9975200">
            <a:off x="6283440" y="3414240"/>
            <a:ext cx="1731960" cy="1656000"/>
          </a:xfrm>
          <a:prstGeom prst="star5">
            <a:avLst/>
          </a:prstGeom>
          <a:gradFill rotWithShape="0">
            <a:gsLst>
              <a:gs pos="0">
                <a:srgbClr val="ff0066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19975200">
            <a:off x="779040" y="1011240"/>
            <a:ext cx="1587600" cy="1511280"/>
          </a:xfrm>
          <a:prstGeom prst="star5">
            <a:avLst/>
          </a:prstGeom>
          <a:gradFill rotWithShape="0">
            <a:gsLst>
              <a:gs pos="0">
                <a:srgbClr val="990099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19975200">
            <a:off x="3566880" y="4804920"/>
            <a:ext cx="1873080" cy="1736640"/>
          </a:xfrm>
          <a:prstGeom prst="star5">
            <a:avLst/>
          </a:prstGeom>
          <a:gradFill rotWithShape="0">
            <a:gsLst>
              <a:gs pos="0">
                <a:srgbClr val="33cc33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7"/>
          <a:stretch/>
        </p:blipFill>
        <p:spPr>
          <a:xfrm>
            <a:off x="2771640" y="407664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8"/>
          <a:stretch/>
        </p:blipFill>
        <p:spPr>
          <a:xfrm>
            <a:off x="4788000" y="3860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9"/>
          <a:stretch/>
        </p:blipFill>
        <p:spPr>
          <a:xfrm>
            <a:off x="2771640" y="220500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0"/>
          <a:stretch/>
        </p:blipFill>
        <p:spPr>
          <a:xfrm>
            <a:off x="7236000" y="3213000"/>
            <a:ext cx="1079280" cy="10796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1"/>
          <a:stretch/>
        </p:blipFill>
        <p:spPr>
          <a:xfrm>
            <a:off x="2124000" y="708120"/>
            <a:ext cx="935280" cy="4982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2"/>
          <a:stretch/>
        </p:blipFill>
        <p:spPr>
          <a:xfrm rot="16200000">
            <a:off x="-33120" y="5857200"/>
            <a:ext cx="1428840" cy="5716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13"/>
          <a:stretch/>
        </p:blipFill>
        <p:spPr>
          <a:xfrm>
            <a:off x="395280" y="189000"/>
            <a:ext cx="1428840" cy="5713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4"/>
          <a:stretch/>
        </p:blipFill>
        <p:spPr>
          <a:xfrm rot="5400000">
            <a:off x="7887960" y="617400"/>
            <a:ext cx="1428840" cy="5713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15"/>
          <a:stretch/>
        </p:blipFill>
        <p:spPr>
          <a:xfrm rot="19503600">
            <a:off x="4211280" y="1700280"/>
            <a:ext cx="1657440" cy="11048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6"/>
          <a:stretch/>
        </p:blipFill>
        <p:spPr>
          <a:xfrm>
            <a:off x="-1371600" y="0"/>
            <a:ext cx="1371600" cy="4953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17"/>
          <a:stretch/>
        </p:blipFill>
        <p:spPr>
          <a:xfrm>
            <a:off x="759636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1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3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000"/>
                            </p:stCondLst>
                            <p:childTnLst>
                              <p:par>
                                <p:cTn id="9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3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6000"/>
                            </p:stCondLst>
                            <p:childTnLst>
                              <p:par>
                                <p:cTn id="10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02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9000"/>
                            </p:stCondLst>
                            <p:childTnLst>
                              <p:par>
                                <p:cTn id="10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5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4500"/>
                            </p:stCondLst>
                            <p:childTnLst>
                              <p:par>
                                <p:cTn id="119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9500"/>
                            </p:stCondLst>
                            <p:childTnLst>
                              <p:par>
                                <p:cTn id="127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8" dur="3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3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2500"/>
                            </p:stCondLst>
                            <p:childTnLst>
                              <p:par>
                                <p:cTn id="132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3" dur="3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3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5500"/>
                            </p:stCondLst>
                            <p:childTnLst>
                              <p:par>
                                <p:cTn id="137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8" dur="3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3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85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9000"/>
                            </p:stCondLst>
                            <p:childTnLst>
                              <p:par>
                                <p:cTn id="14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95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0000"/>
                            </p:stCondLst>
                            <p:childTnLst>
                              <p:par>
                                <p:cTn id="15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10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1500"/>
                            </p:stCondLst>
                            <p:childTnLst>
                              <p:par>
                                <p:cTn id="16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25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3000"/>
                            </p:stCondLst>
                            <p:childTnLst>
                              <p:par>
                                <p:cTn id="17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40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4500"/>
                            </p:stCondLst>
                            <p:childTnLst>
                              <p:par>
                                <p:cTn id="17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55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33333E-006 L 0.00035 -0.80532 E">
                                      <p:cBhvr>
                                        <p:cTn id="186" dur="3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8500"/>
                            </p:stCondLst>
                            <p:childTnLst>
                              <p:par>
                                <p:cTn id="1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96296E-006 L 0.80382 -0.01018 E">
                                      <p:cBhvr>
                                        <p:cTn id="195" dur="3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41500"/>
                            </p:stCondLst>
                            <p:childTnLst>
                              <p:par>
                                <p:cTn id="19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4" dur="3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3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445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55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path" presetID="1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77 -0.01991 C 0.02951 0.0875 -0.01042 0.2169 -0.09566 0.26829 C -0.1809 0.32084 -0.28021 0.27384 -0.31649 0.16667 C -0.35295 0.05926 -0.31319 -0.06944 -0.2276 -0.12106 C -0.14236 -0.17245 -0.0434 -0.12731 -0.00677 -0.01991 Z">
                                      <p:cBhvr>
                                        <p:cTn id="216" dur="3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75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8500"/>
                            </p:stCondLst>
                            <p:childTnLst>
                              <p:par>
                                <p:cTn id="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950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60500"/>
                            </p:stCondLst>
                            <p:childTnLst>
                              <p:par>
                                <p:cTn id="23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63500"/>
                            </p:stCondLst>
                            <p:childTnLst>
                              <p:par>
                                <p:cTn id="235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66500"/>
                            </p:stCondLst>
                            <p:childTnLst>
                              <p:par>
                                <p:cTn id="23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4444E-006 L -0.13385 0.30463 E">
                                      <p:cBhvr>
                                        <p:cTn id="240" dur="3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2" dur="3000" fill="hold"/>
                                        <p:tgtEl>
                                          <p:spTgt spid="18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69500"/>
                            </p:stCondLst>
                            <p:childTnLst>
                              <p:par>
                                <p:cTn id="24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5" dur="2000" fill="hold"/>
                                        <p:tgtEl>
                                          <p:spTgt spid="1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71500"/>
                            </p:stCondLst>
                            <p:childTnLst>
                              <p:par>
                                <p:cTn id="2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72500"/>
                            </p:stCondLst>
                            <p:childTnLst>
                              <p:par>
                                <p:cTn id="2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3500"/>
                            </p:stCondLst>
                            <p:childTnLst>
                              <p:par>
                                <p:cTn id="26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74000"/>
                            </p:stCondLst>
                            <p:childTnLst>
                              <p:par>
                                <p:cTn id="2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187280" y="333360"/>
            <a:ext cx="6696360" cy="57070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 flipH="1">
            <a:off x="1258920" y="2997360"/>
            <a:ext cx="2881440" cy="93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5867280" y="836640"/>
            <a:ext cx="144144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2339640" y="3789360"/>
            <a:ext cx="2087640" cy="1511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3348000" y="4581360"/>
            <a:ext cx="936720" cy="10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66920" y="5445000"/>
            <a:ext cx="64908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00720" y="4581360"/>
            <a:ext cx="1366920" cy="93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0160" y="-15264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2000" y="189000"/>
            <a:ext cx="8712360" cy="64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1.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Средняя масса головного мозга взрослого человека: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А) меньше 950 г; Б) 950-1100 г; В) 1100 – 2000 г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2. Головной мозг человека состоит из: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А) ствола и полушарий большого мозга; 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Б) мозжечка и полушарий большого мозга;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В) ствола, мозжечка, полушарий большого мозга.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3. Продолговатый мозг является продолжением: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А) среднего мозга; Б) спинного мозга; В) промежуточного мозга.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4. В головном мозге полушария и кору имеют: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А) средний мозг и полушария большого мозга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Б) мозжечок и промежуточный мозг;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В) полушария большого мозга и мозжечок.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5. Какие отделы головного мозга относятся к стволу мозга: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А) средний мозг; Б) продолговатый мозг; В) мозжечок; Г) промежуточный мозг; Д) мост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6. Какой отдел головного мозга является как бы продолжением спинного мозга в полости черепа: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А) средний мозг; Б) продолговатый мозг; В) промежуточный мозг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7. Какой отдел головного мозга содержит двигательные рефлекторные центры, обеспечивающие поворот глазных яблок: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А) мост; Б) средний мозг; В) промежуточный мозг. 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0160" y="-15264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52000" y="189000"/>
            <a:ext cx="8712360" cy="64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1.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Средняя масса головного мозга взрослого человека: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А) меньше 950 г; Б) 950-1100 г;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В) 1100 – 2000 г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2. Головной мозг человека состоит из: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А) ствола и полушарий большого мозга; 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Б) мозжечка и полушарий большого мозга;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В) ствола, мозжечка, полушарий большого мозга.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3. Продолговатый мозг является продолжением: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А) среднего мозга;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Б) спинного мозга;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В) промежуточного мозга.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4. В головном мозге полушария и кору имеют: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А) средний мозг и полушария большого мозга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Б) мозжечок и промежуточный мозг;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В) полушария большого мозга и мозжечок.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5. Какие отделы головного мозга относятся к стволу мозга: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А) средний мозг; Б) продолговатый мозг;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В) мозжечок;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Г) промежуточный мозг; Д) мост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6. Какой отдел головного мозга является как бы продолжением спинного мозга в полости черепа: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А) средний мозг;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Б) продолговатый мозг;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В) промежуточный мозг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7. Какой отдел головного мозга содержит двигательные рефлекторные центры, обеспечивающие поворот глазных яблок: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А) мост;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Б) средний мозг; В) промежуточный мозг. 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60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800" spc="-1" strike="noStrike">
                <a:solidFill>
                  <a:srgbClr val="4b3384"/>
                </a:solidFill>
                <a:latin typeface="Times New Roman"/>
              </a:rPr>
              <a:t>Домашнее задание.</a:t>
            </a:r>
            <a:br>
              <a:rPr sz="4000"/>
            </a:br>
            <a:endParaRPr b="0" lang="en-US" sz="48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7280" y="1988640"/>
            <a:ext cx="7772400" cy="447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1.   Изучить тему «Строение и функции головного мозга» по учебнику §45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2.  Практическое задание по выбору: изобразить рис. 93 стр.228 и подписать отделы головного мозга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334800" y="6191280"/>
            <a:ext cx="103320" cy="73080"/>
          </a:xfrm>
          <a:prstGeom prst="rect">
            <a:avLst/>
          </a:prstGeom>
        </p:spPr>
        <p:txBody>
          <a:bodyPr wrap="none" lIns="90000" rIns="90000" tIns="26640" bIns="2664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Comic Sans MS"/>
              </a:rPr>
              <a:t>Приглашаем в гости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Comic Sans MS"/>
              <a:ea typeface="Comic Sans MS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11280" y="692280"/>
            <a:ext cx="8137440" cy="1944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Всем спасибо за урок!!!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3384"/>
                </a:solidFill>
                <a:latin typeface="Times New Roman"/>
              </a:rPr>
              <a:t>Задачи: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Рассмотреть общие топографические сведения о положении головного мозга в черепе, его строении и функциях;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раскрыть роль продолговатого, среднего, промежуточного мозга и мозжечка в осуществлении условных рефлексов и выяснить их значение.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1125360"/>
            <a:ext cx="7632720" cy="44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Обозначьте цифрами части спинного мозга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Белое вещество –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Серое вещество –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Центральный канал –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Спинномозговой узел –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Передние корешки – 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Задние корешки –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Спинномозговой нерв -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9" name="Picture 2" descr="D:\Документы пользователя\Рабочий стол\Безымянный.jpg"/>
          <p:cNvPicPr/>
          <p:nvPr/>
        </p:nvPicPr>
        <p:blipFill>
          <a:blip r:embed="rId1"/>
          <a:stretch/>
        </p:blipFill>
        <p:spPr>
          <a:xfrm>
            <a:off x="4356000" y="2133720"/>
            <a:ext cx="4572000" cy="34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496000" cy="66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66"/>
                </a:solidFill>
                <a:latin typeface="Times New Roman"/>
              </a:rPr>
              <a:t>1. </a:t>
            </a:r>
            <a:r>
              <a:rPr b="1" lang="en-US" sz="1900" spc="-1" strike="noStrike">
                <a:solidFill>
                  <a:srgbClr val="003366"/>
                </a:solidFill>
                <a:latin typeface="Times New Roman"/>
              </a:rPr>
              <a:t>Значение нервной системы: </a:t>
            </a:r>
            <a:endParaRPr b="1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66"/>
                </a:solidFill>
                <a:latin typeface="Times New Roman"/>
              </a:rPr>
              <a:t>Обеспечивает регуляторную функцию в организме</a:t>
            </a:r>
            <a:endParaRPr b="1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66"/>
                </a:solidFill>
                <a:latin typeface="Times New Roman"/>
              </a:rPr>
              <a:t>Удаляет из организма углекислый газ</a:t>
            </a:r>
            <a:endParaRPr b="1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66"/>
                </a:solidFill>
                <a:latin typeface="Times New Roman"/>
              </a:rPr>
              <a:t>Обеспечивает осуществление высших психологических функций</a:t>
            </a:r>
            <a:endParaRPr b="1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3366"/>
                </a:solidFill>
                <a:latin typeface="Times New Roman"/>
              </a:rPr>
              <a:t>2.Проводящая функция спинного мозга осуществляется благодаря наличию: </a:t>
            </a:r>
            <a:endParaRPr b="1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66"/>
                </a:solidFill>
                <a:latin typeface="Times New Roman"/>
              </a:rPr>
              <a:t>Серого вещества</a:t>
            </a:r>
            <a:endParaRPr b="1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66"/>
                </a:solidFill>
                <a:latin typeface="Times New Roman"/>
              </a:rPr>
              <a:t>Спинномозговой жидкости</a:t>
            </a:r>
            <a:endParaRPr b="1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66"/>
                </a:solidFill>
                <a:latin typeface="Times New Roman"/>
              </a:rPr>
              <a:t>Белого вещества</a:t>
            </a:r>
            <a:endParaRPr b="1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66"/>
                </a:solidFill>
                <a:latin typeface="Times New Roman"/>
              </a:rPr>
              <a:t>Оболочек мозга</a:t>
            </a:r>
            <a:endParaRPr b="1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Times New Roman"/>
              </a:rPr>
              <a:t>3.Рефлекторная функция спинного мозга осуществляется благодаря наличию: </a:t>
            </a:r>
            <a:endParaRPr b="1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66"/>
                </a:solidFill>
                <a:latin typeface="Times New Roman"/>
              </a:rPr>
              <a:t>Центров врожденных рефлексов</a:t>
            </a:r>
            <a:endParaRPr b="1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66"/>
                </a:solidFill>
                <a:latin typeface="Times New Roman"/>
              </a:rPr>
              <a:t>Спинномозговой жидкости</a:t>
            </a:r>
            <a:endParaRPr b="1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66"/>
                </a:solidFill>
                <a:latin typeface="Times New Roman"/>
              </a:rPr>
              <a:t>Вегетативных центров</a:t>
            </a:r>
            <a:endParaRPr b="1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66"/>
                </a:solidFill>
                <a:latin typeface="Times New Roman"/>
              </a:rPr>
              <a:t>Оболочек мозга</a:t>
            </a:r>
            <a:endParaRPr b="1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Times New Roman"/>
              </a:rPr>
              <a:t>4.Серое вещество спинного мозга:</a:t>
            </a:r>
            <a:r>
              <a:rPr b="1" lang="en-US" sz="2100" spc="-1" strike="noStrike">
                <a:solidFill>
                  <a:srgbClr val="003366"/>
                </a:solidFill>
                <a:latin typeface="Times New Roman"/>
              </a:rPr>
              <a:t> </a:t>
            </a:r>
            <a:endParaRPr b="1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66"/>
                </a:solidFill>
                <a:latin typeface="Times New Roman"/>
              </a:rPr>
              <a:t>Располагается внутри</a:t>
            </a:r>
            <a:endParaRPr b="1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66"/>
                </a:solidFill>
                <a:latin typeface="Times New Roman"/>
              </a:rPr>
              <a:t>Состоит из тел нейронов и их дендритов</a:t>
            </a:r>
            <a:endParaRPr b="1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66"/>
                </a:solidFill>
                <a:latin typeface="Times New Roman"/>
              </a:rPr>
              <a:t>Состоит из нервных волокон</a:t>
            </a:r>
            <a:endParaRPr b="1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66"/>
                </a:solidFill>
                <a:latin typeface="Times New Roman"/>
              </a:rPr>
              <a:t>Располагается снаружи</a:t>
            </a:r>
            <a:endParaRPr b="1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98100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b3384"/>
                </a:solidFill>
                <a:latin typeface="Times New Roman"/>
              </a:rPr>
              <a:t>Узнать: особенности строения головного мозга, функции основных отделов.</a:t>
            </a:r>
            <a:endParaRPr b="0" lang="en-US" sz="4800" spc="-1" strike="noStrike">
              <a:solidFill>
                <a:srgbClr val="4b338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D:\Документы пользователя\Рабочий стол\resD458647D-0A01-022A-0121-6F5A88F83BFA.jpg"/>
          <p:cNvPicPr/>
          <p:nvPr/>
        </p:nvPicPr>
        <p:blipFill>
          <a:blip r:embed="rId1"/>
          <a:stretch/>
        </p:blipFill>
        <p:spPr>
          <a:xfrm>
            <a:off x="3995640" y="3035160"/>
            <a:ext cx="5148360" cy="38228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4041720" cy="472428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7280" y="274320"/>
            <a:ext cx="42591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щий вид головного моз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3" descr="D:\Документы пользователя\Рабочий стол\res2654A160-5E11-4387-8C58-30AB320A21B8.jpg"/>
          <p:cNvPicPr/>
          <p:nvPr/>
        </p:nvPicPr>
        <p:blipFill>
          <a:blip r:embed="rId1"/>
          <a:stretch/>
        </p:blipFill>
        <p:spPr>
          <a:xfrm>
            <a:off x="179280" y="549360"/>
            <a:ext cx="8712360" cy="54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349440" y="620280"/>
            <a:ext cx="119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Мозг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788000" y="1052640"/>
            <a:ext cx="576000" cy="28872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45640" y="1196640"/>
            <a:ext cx="379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олушария большог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мозг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84720" y="1268280"/>
            <a:ext cx="1008000" cy="100836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39240" y="2275920"/>
            <a:ext cx="181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Мозжечок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053800" y="2275920"/>
            <a:ext cx="11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тво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2626920" y="1268280"/>
            <a:ext cx="792360" cy="93672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5600" y="3357360"/>
            <a:ext cx="287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родолговатый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мозг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223960" y="3499920"/>
            <a:ext cx="298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ромежуточный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мозг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847240" y="4868280"/>
            <a:ext cx="246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редний мозг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37800" y="3715560"/>
            <a:ext cx="101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Мос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1547280" y="2781360"/>
            <a:ext cx="792360" cy="71892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3640" y="2781360"/>
            <a:ext cx="647640" cy="93492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19640" y="2708280"/>
            <a:ext cx="1728720" cy="79200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2781360"/>
            <a:ext cx="360360" cy="223200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684360" y="620640"/>
          <a:ext cx="7920000" cy="6067440"/>
        </p:xfrm>
        <a:graphic>
          <a:graphicData uri="http://schemas.openxmlformats.org/drawingml/2006/table">
            <a:tbl>
              <a:tblPr/>
              <a:tblGrid>
                <a:gridCol w="1874520"/>
                <a:gridCol w="2373480"/>
                <a:gridCol w="367200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Отдел головного мозг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труктуры отделов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Функции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твол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66"/>
                          </a:solidFill>
                          <a:uFillTx/>
                          <a:latin typeface="Times New Roman"/>
                          <a:ea typeface="Times New Roman"/>
                        </a:rPr>
                        <a:t>Продолговатый мозг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66"/>
                          </a:solidFill>
                          <a:uFillTx/>
                          <a:latin typeface="Times New Roman"/>
                          <a:ea typeface="Times New Roman"/>
                        </a:rPr>
                        <a:t>Мост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66"/>
                          </a:solidFill>
                          <a:uFillTx/>
                          <a:latin typeface="Times New Roman"/>
                          <a:ea typeface="Times New Roman"/>
                        </a:rPr>
                        <a:t>Средний мозг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66"/>
                          </a:solidFill>
                          <a:uFillTx/>
                          <a:latin typeface="Times New Roman"/>
                          <a:ea typeface="Times New Roman"/>
                        </a:rPr>
                        <a:t>Промежуточный мозг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66"/>
                          </a:solidFill>
                          <a:uFillTx/>
                          <a:latin typeface="Times New Roman"/>
                          <a:ea typeface="Times New Roman"/>
                        </a:rPr>
                        <a:t>Мозжечок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олушария большого мозг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08:29:51Z</dcterms:created>
  <dc:creator>BLACKEDITION</dc:creator>
  <dc:description/>
  <dc:language>en-US</dc:language>
  <cp:lastModifiedBy>BLACKEDITION</cp:lastModifiedBy>
  <dcterms:modified xsi:type="dcterms:W3CDTF">2013-03-01T05:25:33Z</dcterms:modified>
  <cp:revision>6</cp:revision>
  <dc:subject/>
  <dc:title>Строение и функции головного мозга</dc:title>
</cp:coreProperties>
</file>