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0.gif" ContentType="image/gif"/>
  <Override PartName="/ppt/media/image9.gif" ContentType="image/gif"/>
  <Override PartName="/ppt/media/image7.png" ContentType="image/png"/>
  <Override PartName="/ppt/media/image15.gif" ContentType="image/gif"/>
  <Override PartName="/ppt/media/image1.png" ContentType="image/png"/>
  <Override PartName="/ppt/media/image4.jpeg" ContentType="image/jpeg"/>
  <Override PartName="/ppt/media/image17.png" ContentType="image/png"/>
  <Override PartName="/ppt/media/image14.gif" ContentType="image/gif"/>
  <Override PartName="/ppt/media/image2.jpeg" ContentType="image/jpeg"/>
  <Override PartName="/ppt/media/image8.gif" ContentType="image/gif"/>
  <Override PartName="/ppt/media/image18.jpeg" ContentType="image/jpeg"/>
  <Override PartName="/ppt/media/image13.gif" ContentType="image/gif"/>
  <Override PartName="/ppt/media/image16.png" ContentType="image/png"/>
  <Override PartName="/ppt/media/image5.jpeg" ContentType="image/jpeg"/>
  <Override PartName="/ppt/media/image6.gif" ContentType="image/gif"/>
  <Override PartName="/ppt/media/image11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13E4-B8AB-478F-8086-DCB1A645C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1694-463C-4EA0-826B-DF207D3F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793F-64BE-4573-A4FA-0F0AE8C44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6D20-930D-4EB1-8003-EAA74D813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592C-E20C-407E-8850-0C8F7D6C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6DA1-E277-4DA3-A227-1C87F2D3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C4D7-9FFD-425E-ADFE-7038967A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E2BA-9C08-4C8A-B742-01BD0E51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7EB0-1E7B-41B4-A4FE-567A4AD6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87D2-DD70-4E93-9930-C939CCB5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6BBC-071C-4D08-B8B7-E0FC0876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0FAD-EAC2-40C3-AB72-1533FF23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C0CA-19E1-4391-8BB2-9E2D82C1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E4AE-FA1A-4047-9F89-EC951D36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4C2B-ACF2-4587-BE0C-CABE6C80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D6EF-F166-45F5-B6BF-39CBA9071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92B5-C556-4E94-BED5-554DBD56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B9228-0888-41C6-9C1F-B6845A4D1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1E3B7-8972-4111-93CA-2D1ADFA5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1C213-EADD-4B28-9E9F-F1B68EE1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EDF4B-633C-48B6-AF98-0DE59F07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2C584-9E02-4A7D-98D9-2B740187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6872-60CC-4535-83D3-935324CE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650A9-C2FF-4B68-A66C-F74766A7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62BFC-9C2F-40B9-8A07-BED54C70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F5764-72AD-4A8D-9FC8-E09B5C7F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3B852-DA5F-4BBC-8BDF-C3F1584B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F8D4B-9BE6-49D4-B1B5-C9D30C72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035B1-49BF-4350-8932-4253F29BC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A4AC1-9617-41C3-9A60-41BF159F8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8ADB-140E-43CD-9EFB-A39D081F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0333-0C45-4CDD-9DF0-D8143EFC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1F47-B1BB-418B-BE1D-4F447849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A084-FB40-4474-87FC-F650F694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2834-63B7-4786-B058-C659966D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C10B-910F-40B0-8DD7-635DBE26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849cbb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49cbb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dfc0ff"/>
                </a:gs>
                <a:gs pos="100000">
                  <a:srgbClr val="90db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49cb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39BC-FA15-4BEF-8EFE-8627C6C2D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849cbb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49cbb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dfc0ff"/>
                </a:gs>
                <a:gs pos="100000">
                  <a:srgbClr val="90db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49cb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C5F3-13F7-4133-A348-3B9EFA657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30D5-49C8-4C0F-B511-FE41D0FAD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image" Target="../media/image11.gif"/><Relationship Id="rId11" Type="http://schemas.openxmlformats.org/officeDocument/2006/relationships/image" Target="../media/image12.gif"/><Relationship Id="rId12" Type="http://schemas.openxmlformats.org/officeDocument/2006/relationships/image" Target="../media/image13.gif"/><Relationship Id="rId13" Type="http://schemas.openxmlformats.org/officeDocument/2006/relationships/image" Target="../media/image13.gif"/><Relationship Id="rId14" Type="http://schemas.openxmlformats.org/officeDocument/2006/relationships/image" Target="../media/image13.gif"/><Relationship Id="rId15" Type="http://schemas.openxmlformats.org/officeDocument/2006/relationships/image" Target="../media/image14.gif"/><Relationship Id="rId16" Type="http://schemas.openxmlformats.org/officeDocument/2006/relationships/image" Target="../media/image15.gif"/><Relationship Id="rId17" Type="http://schemas.openxmlformats.org/officeDocument/2006/relationships/image" Target="../media/image16.png"/><Relationship Id="rId1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47280" y="2204640"/>
            <a:ext cx="7340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b3384"/>
                </a:solidFill>
                <a:latin typeface="Times New Roman"/>
              </a:rPr>
              <a:t>Строение и функции головного мозга</a:t>
            </a:r>
            <a:endParaRPr b="0" lang="en-US" sz="48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26668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449568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47640" y="3671640"/>
            <a:ext cx="72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Monotype Corsiva"/>
              </a:rPr>
              <a:t>“</a:t>
            </a:r>
            <a:r>
              <a:rPr b="0" lang="en-US" sz="3200" spc="-1" strike="noStrike">
                <a:solidFill>
                  <a:srgbClr val="003366"/>
                </a:solidFill>
                <a:latin typeface="Monotype Corsiva"/>
              </a:rPr>
              <a:t>Мозг (голову) надо беречь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Monotype Corsiva"/>
              </a:rPr>
              <a:t>в меру нагружать и не травмировать”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5575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0" y="330048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4356000" y="3300480"/>
            <a:ext cx="4788000" cy="3557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 rot="19146000">
            <a:off x="2987280" y="1989000"/>
            <a:ext cx="3384720" cy="3314880"/>
          </a:xfrm>
          <a:custGeom>
            <a:avLst/>
            <a:gdLst>
              <a:gd name="textAreaLeft" fmla="*/ 1417320 w 3384720"/>
              <a:gd name="textAreaRight" fmla="*/ 1967400 w 3384720"/>
              <a:gd name="textAreaTop" fmla="*/ 1388160 h 3314880"/>
              <a:gd name="textAreaBottom" fmla="*/ 1926720 h 3314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2060640"/>
            <a:ext cx="2736720" cy="2954160"/>
          </a:xfrm>
          <a:custGeom>
            <a:avLst/>
            <a:gdLst>
              <a:gd name="textAreaLeft" fmla="*/ 1145880 w 2736720"/>
              <a:gd name="textAreaRight" fmla="*/ 1590840 w 2736720"/>
              <a:gd name="textAreaTop" fmla="*/ 1236960 h 2954160"/>
              <a:gd name="textAreaBottom" fmla="*/ 1717200 h 29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9871400">
            <a:off x="6084360" y="765000"/>
            <a:ext cx="1795680" cy="1603440"/>
          </a:xfrm>
          <a:prstGeom prst="star5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-1620720" y="0"/>
            <a:ext cx="1404720" cy="10382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9325080" y="0"/>
            <a:ext cx="1404720" cy="907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042920" y="4797360"/>
            <a:ext cx="936720" cy="863640"/>
          </a:xfrm>
          <a:prstGeom prst="star5">
            <a:avLst/>
          </a:prstGeom>
          <a:gradFill rotWithShape="0">
            <a:gsLst>
              <a:gs pos="0">
                <a:srgbClr val="6699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35280" y="549360"/>
            <a:ext cx="1224000" cy="1079280"/>
          </a:xfrm>
          <a:prstGeom prst="star5">
            <a:avLst/>
          </a:prstGeom>
          <a:gradFill rotWithShape="0">
            <a:gsLst>
              <a:gs pos="0">
                <a:srgbClr val="ffff66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9975200">
            <a:off x="6283440" y="3414240"/>
            <a:ext cx="1731960" cy="1656000"/>
          </a:xfrm>
          <a:prstGeom prst="star5">
            <a:avLst/>
          </a:prstGeom>
          <a:gradFill rotWithShape="0">
            <a:gsLst>
              <a:gs pos="0">
                <a:srgbClr val="ff0066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9975200">
            <a:off x="779040" y="1011240"/>
            <a:ext cx="1587600" cy="1511280"/>
          </a:xfrm>
          <a:prstGeom prst="star5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9975200">
            <a:off x="3566880" y="4804920"/>
            <a:ext cx="1873080" cy="1736640"/>
          </a:xfrm>
          <a:prstGeom prst="star5">
            <a:avLst/>
          </a:pr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2771640" y="4076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4788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9"/>
          <a:stretch/>
        </p:blipFill>
        <p:spPr>
          <a:xfrm>
            <a:off x="2771640" y="2205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0"/>
          <a:stretch/>
        </p:blipFill>
        <p:spPr>
          <a:xfrm>
            <a:off x="7236000" y="321300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1"/>
          <a:stretch/>
        </p:blipFill>
        <p:spPr>
          <a:xfrm>
            <a:off x="2124000" y="708120"/>
            <a:ext cx="935280" cy="4982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2"/>
          <a:stretch/>
        </p:blipFill>
        <p:spPr>
          <a:xfrm rot="16200000">
            <a:off x="-33120" y="5857200"/>
            <a:ext cx="1428840" cy="571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395280" y="1890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4"/>
          <a:stretch/>
        </p:blipFill>
        <p:spPr>
          <a:xfrm rot="5400000">
            <a:off x="7887960" y="6174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5"/>
          <a:stretch/>
        </p:blipFill>
        <p:spPr>
          <a:xfrm rot="19503600">
            <a:off x="4211280" y="1700280"/>
            <a:ext cx="1657440" cy="11048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6"/>
          <a:stretch/>
        </p:blipFill>
        <p:spPr>
          <a:xfrm>
            <a:off x="-1371600" y="0"/>
            <a:ext cx="1371600" cy="495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7"/>
          <a:stretch/>
        </p:blipFill>
        <p:spPr>
          <a:xfrm>
            <a:off x="7596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2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9000"/>
                            </p:stCondLst>
                            <p:childTnLst>
                              <p:par>
                                <p:cTn id="1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5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9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7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3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3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2500"/>
                            </p:stCondLst>
                            <p:childTnLst>
                              <p:par>
                                <p:cTn id="132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3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5500"/>
                            </p:stCondLst>
                            <p:childTnLst>
                              <p:par>
                                <p:cTn id="137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" dur="3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3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85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9000"/>
                            </p:stCondLst>
                            <p:childTnLst>
                              <p:par>
                                <p:cTn id="1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0"/>
                            </p:stCondLst>
                            <p:childTnLst>
                              <p:par>
                                <p:cTn id="1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1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1500"/>
                            </p:stCondLst>
                            <p:childTnLst>
                              <p:par>
                                <p:cTn id="16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25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3000"/>
                            </p:stCondLst>
                            <p:childTnLst>
                              <p:par>
                                <p:cTn id="1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4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4500"/>
                            </p:stCondLst>
                            <p:childTnLst>
                              <p:par>
                                <p:cTn id="1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5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0.00035 -0.80532 E">
                                      <p:cBhvr>
                                        <p:cTn id="186" dur="3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8500"/>
                            </p:stCondLst>
                            <p:childTnLst>
                              <p:par>
                                <p:cTn id="1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0.80382 -0.01018 E">
                                      <p:cBhvr>
                                        <p:cTn id="195" dur="3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1500"/>
                            </p:stCondLst>
                            <p:childTnLst>
                              <p:par>
                                <p:cTn id="1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4" dur="3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3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45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55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1991 C 0.02951 0.0875 -0.01042 0.2169 -0.09566 0.26829 C -0.1809 0.32084 -0.28021 0.27384 -0.31649 0.16667 C -0.35295 0.05926 -0.31319 -0.06944 -0.2276 -0.12106 C -0.14236 -0.17245 -0.0434 -0.12731 -0.00677 -0.01991 Z">
                                      <p:cBhvr>
                                        <p:cTn id="216" dur="3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75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85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95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0500"/>
                            </p:stCondLst>
                            <p:childTnLst>
                              <p:par>
                                <p:cTn id="23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3500"/>
                            </p:stCondLst>
                            <p:childTnLst>
                              <p:par>
                                <p:cTn id="235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6500"/>
                            </p:stCondLst>
                            <p:childTnLst>
                              <p:par>
                                <p:cTn id="23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4444E-006 L -0.13385 0.30463 E">
                                      <p:cBhvr>
                                        <p:cTn id="240" dur="3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2" dur="3000" fill="hold"/>
                                        <p:tgtEl>
                                          <p:spTgt spid="18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69500"/>
                            </p:stCondLst>
                            <p:childTnLst>
                              <p:par>
                                <p:cTn id="24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5" dur="2000" fill="hold"/>
                                        <p:tgtEl>
                                          <p:spTgt spid="1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71500"/>
                            </p:stCondLst>
                            <p:childTnLst>
                              <p:par>
                                <p:cTn id="2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72500"/>
                            </p:stCondLst>
                            <p:childTnLst>
                              <p:par>
                                <p:cTn id="2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3500"/>
                            </p:stCondLst>
                            <p:childTnLst>
                              <p:par>
                                <p:cTn id="2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74000"/>
                            </p:stCondLst>
                            <p:childTnLst>
                              <p:par>
                                <p:cTn id="2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6696360" cy="57070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 flipH="1">
            <a:off x="1258920" y="2997360"/>
            <a:ext cx="2881440" cy="93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867280" y="836640"/>
            <a:ext cx="144144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2339640" y="3789360"/>
            <a:ext cx="2087640" cy="151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3348000" y="4581360"/>
            <a:ext cx="93672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66920" y="5445000"/>
            <a:ext cx="64908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00720" y="4581360"/>
            <a:ext cx="136692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0160" y="-15264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2000" y="189000"/>
            <a:ext cx="8712360" cy="64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Средняя масса головного мозга взрослого человека: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А) меньше 950 г; Б) 950-1100 г; В) 1100 – 2000 г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2. Головной мозг человека состоит из: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А) ствола и полушарий большого мозга;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Б) мозжечка и полушарий большого мозга;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В) ствола, мозжечка, полушарий большого мозга.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3. Продолговатый мозг является продолжением: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А) среднего мозга; Б) спинного мозга; В) промежуточного мозга.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4. В головном мозге полушария и кору имеют: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А) средний мозг и полушария большого мозга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Б) мозжечок и промежуточный мозг;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В) полушария большого мозга и мозжечок.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5. Какие отделы головного мозга относятся к стволу мозга: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А) средний мозг; Б) продолговатый мозг; В) мозжечок; Г) промежуточный мозг; Д) мост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6. Какой отдел головного мозга является как бы продолжением спинного мозга в полости черепа: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А) средний мозг; Б) продолговатый мозг; В) промежуточный мозг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7. Какой отдел головного мозга содержит двигательные рефлекторные центры, обеспечивающие поворот глазных яблок: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А) мост; Б) средний мозг; В) промежуточный мозг.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0160" y="-15264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2000" y="189000"/>
            <a:ext cx="8712360" cy="64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Средняя масса головного мозга взрослого человека: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А) меньше 950 г; Б) 950-1100 г;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В) 1100 – 2000 г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2. Головной мозг человека состоит из: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А) ствола и полушарий большого мозга;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Б) мозжечка и полушарий большого мозга;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В) ствола, мозжечка, полушарий большого мозга.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3. Продолговатый мозг является продолжением: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А) среднего мозга;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Б) спинного мозга;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В) промежуточного мозга.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4. В головном мозге полушария и кору имеют: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А) средний мозг и полушария большого мозга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Б) мозжечок и промежуточный мозг;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В) полушария большого мозга и мозжечок.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5. Какие отделы головного мозга относятся к стволу мозга: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А) средний мозг; Б) продолговатый мозг;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В) мозжечок;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Г) промежуточный мозг; Д) мост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6. Какой отдел головного мозга является как бы продолжением спинного мозга в полости черепа: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А) средний мозг;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Б) продолговатый мозг;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В) промежуточный мозг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7. Какой отдел головного мозга содержит двигательные рефлекторные центры, обеспечивающие поворот глазных яблок: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А) мост;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Б) средний мозг; В) промежуточный мозг.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800" spc="-1" strike="noStrike">
                <a:solidFill>
                  <a:srgbClr val="4b3384"/>
                </a:solidFill>
                <a:latin typeface="Times New Roman"/>
              </a:rPr>
              <a:t>Домашнее задание.</a:t>
            </a:r>
            <a:br>
              <a:rPr sz="4000"/>
            </a:br>
            <a:endParaRPr b="0" lang="en-US" sz="48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7280" y="198864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.   Изучить тему «Строение и функции головного мозга» по учебнику §45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2.  Практическое задание по выбору: изобразить рис. 93 стр.228 и подписать отделы головного мозга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334800" y="6191280"/>
            <a:ext cx="103320" cy="73080"/>
          </a:xfrm>
          <a:prstGeom prst="rect">
            <a:avLst/>
          </a:prstGeom>
        </p:spPr>
        <p:txBody>
          <a:bodyPr wrap="none" lIns="90000" rIns="90000" tIns="26640" bIns="2664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Comic Sans MS"/>
              </a:rPr>
              <a:t>Приглашаем в гости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Comic Sans MS"/>
              <a:ea typeface="Comic Sans MS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11280" y="692280"/>
            <a:ext cx="8137440" cy="194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Всем спасибо за урок!!!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Рассмотреть общие топографические сведения о положении головного мозга в черепе, его строении и функциях;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раскрыть роль продолговатого, среднего, промежуточного мозга и мозжечка в осуществлении условных рефлексов и выяснить их значение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1125360"/>
            <a:ext cx="7632720" cy="44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Обозначьте цифрами части спинного мозга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Белое вещество –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Серое вещество –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Центральный канал –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Спинномозговой узел –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Передние корешки – 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Задние корешки –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Спинномозговой нерв -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Picture 2" descr="D:\Документы пользователя\Рабочий стол\Безымянный.jpg"/>
          <p:cNvPicPr/>
          <p:nvPr/>
        </p:nvPicPr>
        <p:blipFill>
          <a:blip r:embed="rId1"/>
          <a:stretch/>
        </p:blipFill>
        <p:spPr>
          <a:xfrm>
            <a:off x="4356000" y="2133720"/>
            <a:ext cx="4572000" cy="34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6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1. </a:t>
            </a:r>
            <a:r>
              <a:rPr b="1" lang="en-US" sz="1900" spc="-1" strike="noStrike">
                <a:solidFill>
                  <a:srgbClr val="003366"/>
                </a:solidFill>
                <a:latin typeface="Times New Roman"/>
              </a:rPr>
              <a:t>Значение нервной системы: </a:t>
            </a:r>
            <a:endParaRPr b="1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Обеспечивает регуляторную функцию в организме</a:t>
            </a:r>
            <a:endParaRPr b="1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Удаляет из организма углекислый газ</a:t>
            </a:r>
            <a:endParaRPr b="1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Обеспечивает осуществление высших психологических функций</a:t>
            </a:r>
            <a:endParaRPr b="1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66"/>
                </a:solidFill>
                <a:latin typeface="Times New Roman"/>
              </a:rPr>
              <a:t>2.Проводящая функция спинного мозга осуществляется благодаря наличию: </a:t>
            </a:r>
            <a:endParaRPr b="1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Серого вещества</a:t>
            </a:r>
            <a:endParaRPr b="1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Спинномозговой жидкости</a:t>
            </a:r>
            <a:endParaRPr b="1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Белого вещества</a:t>
            </a:r>
            <a:endParaRPr b="1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Оболочек мозга</a:t>
            </a:r>
            <a:endParaRPr b="1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Times New Roman"/>
              </a:rPr>
              <a:t>3.Рефлекторная функция спинного мозга осуществляется благодаря наличию: </a:t>
            </a:r>
            <a:endParaRPr b="1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Центров врожденных рефлексов</a:t>
            </a:r>
            <a:endParaRPr b="1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Спинномозговой жидкости</a:t>
            </a:r>
            <a:endParaRPr b="1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Вегетативных центров</a:t>
            </a:r>
            <a:endParaRPr b="1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Оболочек мозга</a:t>
            </a:r>
            <a:endParaRPr b="1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Times New Roman"/>
              </a:rPr>
              <a:t>4.Серое вещество спинного мозга:</a:t>
            </a:r>
            <a:r>
              <a:rPr b="1" lang="en-US" sz="2100" spc="-1" strike="noStrike">
                <a:solidFill>
                  <a:srgbClr val="003366"/>
                </a:solidFill>
                <a:latin typeface="Times New Roman"/>
              </a:rPr>
              <a:t> </a:t>
            </a:r>
            <a:endParaRPr b="1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Располагается внутри</a:t>
            </a:r>
            <a:endParaRPr b="1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Состоит из тел нейронов и их дендритов</a:t>
            </a:r>
            <a:endParaRPr b="1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Состоит из нервных волокон</a:t>
            </a:r>
            <a:endParaRPr b="1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Times New Roman"/>
              </a:rPr>
              <a:t>Располагается снаружи</a:t>
            </a:r>
            <a:endParaRPr b="1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98100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b3384"/>
                </a:solidFill>
                <a:latin typeface="Times New Roman"/>
              </a:rPr>
              <a:t>Узнать: особенности строения головного мозга, функции основных отделов.</a:t>
            </a:r>
            <a:endParaRPr b="0" lang="en-US" sz="4800" spc="-1" strike="noStrike">
              <a:solidFill>
                <a:srgbClr val="4b338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D:\Документы пользователя\Рабочий стол\resD458647D-0A01-022A-0121-6F5A88F83BFA.jpg"/>
          <p:cNvPicPr/>
          <p:nvPr/>
        </p:nvPicPr>
        <p:blipFill>
          <a:blip r:embed="rId1"/>
          <a:stretch/>
        </p:blipFill>
        <p:spPr>
          <a:xfrm>
            <a:off x="3995640" y="3035160"/>
            <a:ext cx="5148360" cy="38228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041720" cy="47242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7280" y="274320"/>
            <a:ext cx="42591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ий вид головного моз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D:\Документы пользователя\Рабочий стол\res2654A160-5E11-4387-8C58-30AB320A21B8.jpg"/>
          <p:cNvPicPr/>
          <p:nvPr/>
        </p:nvPicPr>
        <p:blipFill>
          <a:blip r:embed="rId1"/>
          <a:stretch/>
        </p:blipFill>
        <p:spPr>
          <a:xfrm>
            <a:off x="179280" y="549360"/>
            <a:ext cx="871236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349440" y="620280"/>
            <a:ext cx="119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Мозг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88000" y="1052640"/>
            <a:ext cx="576000" cy="2887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45640" y="1196640"/>
            <a:ext cx="379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лушария большог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озг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84720" y="1268280"/>
            <a:ext cx="1008000" cy="100836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39240" y="2275920"/>
            <a:ext cx="181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озжечо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53800" y="2275920"/>
            <a:ext cx="11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тво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626920" y="1268280"/>
            <a:ext cx="792360" cy="9367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5600" y="3357360"/>
            <a:ext cx="287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родолговатый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оз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23960" y="3499920"/>
            <a:ext cx="298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ромежуточный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оз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47240" y="4868280"/>
            <a:ext cx="24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редний моз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37800" y="3715560"/>
            <a:ext cx="101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ос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547280" y="2781360"/>
            <a:ext cx="792360" cy="7189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3640" y="2781360"/>
            <a:ext cx="647640" cy="9349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19640" y="2708280"/>
            <a:ext cx="1728720" cy="7920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2781360"/>
            <a:ext cx="360360" cy="22320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684360" y="620640"/>
          <a:ext cx="7920000" cy="6067440"/>
        </p:xfrm>
        <a:graphic>
          <a:graphicData uri="http://schemas.openxmlformats.org/drawingml/2006/table">
            <a:tbl>
              <a:tblPr/>
              <a:tblGrid>
                <a:gridCol w="1874520"/>
                <a:gridCol w="2373480"/>
                <a:gridCol w="36720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тдел головного мозг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труктуры отделов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Функции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тво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Продолговатый мозг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Мост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Средний мозг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Промежуточный мозг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Мозжечок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олушария большого мозг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08:29:51Z</dcterms:created>
  <dc:creator>BLACKEDITION</dc:creator>
  <dc:description/>
  <dc:language>en-US</dc:language>
  <cp:lastModifiedBy>BLACKEDITION</cp:lastModifiedBy>
  <dcterms:modified xsi:type="dcterms:W3CDTF">2013-03-01T05:25:33Z</dcterms:modified>
  <cp:revision>6</cp:revision>
  <dc:subject/>
  <dc:title>Строение и функции головного мозга</dc:title>
</cp:coreProperties>
</file>