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3B5A-7E17-486C-8223-0C442C45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3E2-259B-4BD5-9B13-2C748FC8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0004-AF1A-4ACB-AFAB-6B49D71C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B9B-F9D9-4795-9318-09D4E15F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E7F5-F30B-42CB-AA2C-FD9844E4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583-F6DC-4C18-B15D-A4BF332D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18E1-13AB-4CD3-B6AE-B1FA9302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40B-61ED-4CBD-A0E9-5EA56D0C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347-AE4F-4DA8-B47A-7DB77F76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BF0-9D55-4176-9ECF-E448D8AE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661-7FCE-45C6-93AD-9A249C90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F2DD-5A88-4435-91F7-9A04FEC9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4AEC-6F82-4A57-8ABA-0A4F9F6312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4437000"/>
            <a:ext cx="3816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тельское собрани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76360" y="691920"/>
            <a:ext cx="54925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уицид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ростковой сред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чины суицидов            среди дет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гармония в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сформированное понимание смер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сутствие идеологии в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разрушающее пове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нняя половая жизнь, приводящая к разочарова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п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уппа 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95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законченная  попытка суици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ицидальные угрозы, прямые или завуалирован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нденции к самоповрежден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ициды в семь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коголизм, употребление наркотик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ронические или смертельные болез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мейные пробле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ерхкритичные к себе подростки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ица, страдающие от недавно испытанных унижений или трагических утр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ростки, фрустрированные несоответствием между ожидавшимися успехами в жизни и реальными достижени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785016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основных критериев          суицидального риска</a:t>
            </a: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росток злоупотребляет алкоголем, наркотическими  веществам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Имеется  акцентуации характер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анее получал психиатрическое лечени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оживает отдельно от род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мимо данного эпизода у подростка уже был суицидальный эпизод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овесные призна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говоры о смерти: “Я собираюсь покончить с собой”; “Я не могу так дальше жить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мёки  о своем намерении: “Я больше не буду ни для кого проблемой”; “Тебе больше не придется обо мне волноваться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69ca3f2fd1180c9c6083799ea9c5a008"/>
          <p:cNvPicPr/>
          <p:nvPr/>
        </p:nvPicPr>
        <p:blipFill>
          <a:blip r:embed="rId1"/>
          <a:stretch/>
        </p:blipFill>
        <p:spPr>
          <a:xfrm>
            <a:off x="5076720" y="3573360"/>
            <a:ext cx="3667320" cy="27957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332000" y="3789360"/>
            <a:ext cx="36925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 шутят на тему самоуби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интересованность вопросами смер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веденческие признак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18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дают другим вещи, имеющие большую личную значимость, приводят в порядок дела, мирятся с давними враг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емонстрируют радикальные перемены в поведе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_14990"/>
          <p:cNvPicPr/>
          <p:nvPr/>
        </p:nvPicPr>
        <p:blipFill>
          <a:blip r:embed="rId1"/>
          <a:stretch/>
        </p:blipFill>
        <p:spPr>
          <a:xfrm>
            <a:off x="4716360" y="3429000"/>
            <a:ext cx="3849840" cy="2887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332000" y="4076640"/>
            <a:ext cx="3456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являют признаки беспомощности, безнадежности и отча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туационные призна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475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циально изолирован), чувствует себя отверже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Живет в нестабильном окруж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Ощущает себя жертвой насил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Предпринимал раньше попытки суиц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Имеет склонность к самоубийств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Перенес тяжелую поте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лишком критически настроен по отношению к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1210079445_4003791_2237554"/>
          <p:cNvPicPr/>
          <p:nvPr/>
        </p:nvPicPr>
        <p:blipFill>
          <a:blip r:embed="rId1"/>
          <a:stretch/>
        </p:blipFill>
        <p:spPr>
          <a:xfrm>
            <a:off x="5867280" y="1557360"/>
            <a:ext cx="301968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3638520" y="620640"/>
            <a:ext cx="213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о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403280" y="1773360"/>
            <a:ext cx="7416720" cy="41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 Внимательно выслушайте решившегося на самоубийство подростка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 Оцените серьезность намерений и чувств решившегося на самоубийство человека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цените глубину эмоционального кризиса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 Внимательно отнеситесь ко всем, даже самым незначительным обидам и жалобам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е бойтесь прямо спросить, не думают ли он или она о самоубийств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2920" y="549360"/>
            <a:ext cx="72104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Bodoni MT Black"/>
              </a:rPr>
              <a:t>Чтобы ценить жизнь, необходимо знать две основных вещ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280" y="2924280"/>
            <a:ext cx="81723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doni MT Black"/>
              </a:rPr>
              <a:t>Нам нужно, чтобы нас люби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doni MT Black"/>
              </a:rPr>
              <a:t>Нам нужно хорошо к себе относиться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552266908"/>
          <p:cNvPicPr/>
          <p:nvPr/>
        </p:nvPicPr>
        <p:blipFill>
          <a:blip r:embed="rId1"/>
          <a:stretch/>
        </p:blipFill>
        <p:spPr>
          <a:xfrm>
            <a:off x="4211640" y="5445000"/>
            <a:ext cx="1224000" cy="979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3690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618920" y="620640"/>
            <a:ext cx="6994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Мы голосуе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за жизн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вмес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214960" y="4714920"/>
            <a:ext cx="364644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езентацию подготов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едагоги-психолог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трелкова М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ихайлова О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63640" y="981000"/>
            <a:ext cx="712944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ир, вероятно, спасти уже    не удастся, но отдельного человека всегда можно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осиф Брод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37-1"/>
          <p:cNvPicPr/>
          <p:nvPr/>
        </p:nvPicPr>
        <p:blipFill>
          <a:blip r:embed="rId1"/>
          <a:stretch/>
        </p:blipFill>
        <p:spPr>
          <a:xfrm>
            <a:off x="6588000" y="333360"/>
            <a:ext cx="2241720" cy="6051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6120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выбираем жизнь, они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пишем письма, они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мертны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ис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строим планы на будущее,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у них…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них – не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дуще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ется, что мы и они – из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ных ми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0852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год кончают жизнь самоубийством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000 00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елове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и 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suicid-30"/>
          <p:cNvPicPr/>
          <p:nvPr/>
        </p:nvPicPr>
        <p:blipFill>
          <a:blip r:embed="rId1"/>
          <a:stretch/>
        </p:blipFill>
        <p:spPr>
          <a:xfrm>
            <a:off x="5219640" y="306864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971640" y="2708280"/>
            <a:ext cx="424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280 тысяч китайце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30 тысяч американце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25 тысяч японце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20 тысяч француз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50 тысяч русс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16000" y="836280"/>
            <a:ext cx="7834320" cy="55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 самоубийств среди молодежи выросло в 3 раз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двенадцатый подросток в возрасте 13-17 лет пытается совершить попытку самоубийств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 законченных суицидов среди юношей в среднем в 3 раза больше, чем среди девуше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вушки пытаются покончить с собой в 4 раза чаще, чем юнош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формация к размышлени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29840" y="1628640"/>
            <a:ext cx="78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ее частой причиной попытки самоубийств среди подростков - семейные конфликты с родит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втором месте – угроза потери близкого человека (неразделенная любов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третьем месте – несправедливое отношение, обвин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% суицидов предпринимали повторные попытки самоубий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ицид – акт лишения себя жизни, при котором человек действует целенаправленно, преднамеренно, осознанн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1413000"/>
            <a:ext cx="8353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Organization Chart 6"/>
          <p:cNvGrpSpPr/>
          <p:nvPr/>
        </p:nvGrpSpPr>
        <p:grpSpPr>
          <a:xfrm>
            <a:off x="1332000" y="2205000"/>
            <a:ext cx="7632000" cy="3886920"/>
            <a:chOff x="1332000" y="2205000"/>
            <a:chExt cx="7632000" cy="3886920"/>
          </a:xfrm>
        </p:grpSpPr>
        <p:cxnSp>
          <p:nvCxnSpPr>
            <p:cNvPr id="55" name="_s1028"/>
            <p:cNvCxnSpPr>
              <a:stCxn id="56" idx="0"/>
              <a:endCxn id="57" idx="2"/>
            </p:cNvCxnSpPr>
            <p:nvPr/>
          </p:nvCxnSpPr>
          <p:spPr>
            <a:xfrm flipV="1" rot="16200000">
              <a:off x="6094440" y="2811960"/>
              <a:ext cx="777960" cy="2671920"/>
            </a:xfrm>
            <a:prstGeom prst="bentConnector3">
              <a:avLst>
                <a:gd name="adj1" fmla="val 207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29"/>
            <p:cNvCxnSpPr>
              <a:stCxn id="59" idx="0"/>
              <a:endCxn id="57" idx="2"/>
            </p:cNvCxnSpPr>
            <p:nvPr/>
          </p:nvCxnSpPr>
          <p:spPr>
            <a:xfrm flipV="1">
              <a:off x="5148000" y="3759120"/>
              <a:ext cx="2880" cy="77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30"/>
            <p:cNvCxnSpPr>
              <a:stCxn id="61" idx="0"/>
              <a:endCxn id="57" idx="2"/>
            </p:cNvCxnSpPr>
            <p:nvPr/>
          </p:nvCxnSpPr>
          <p:spPr>
            <a:xfrm flipH="1" flipV="1" rot="5400000">
              <a:off x="3424320" y="2813400"/>
              <a:ext cx="777960" cy="2669400"/>
            </a:xfrm>
            <a:prstGeom prst="bentConnector3">
              <a:avLst>
                <a:gd name="adj1" fmla="val 207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" name="_s1031"/>
            <p:cNvSpPr/>
            <p:nvPr/>
          </p:nvSpPr>
          <p:spPr>
            <a:xfrm>
              <a:off x="4003200" y="2205000"/>
              <a:ext cx="2289600" cy="1554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Факторы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суицидальног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риск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2"/>
            <p:cNvSpPr/>
            <p:nvPr/>
          </p:nvSpPr>
          <p:spPr>
            <a:xfrm>
              <a:off x="1332000" y="4537080"/>
              <a:ext cx="2289600" cy="1554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Генетическ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фактор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3"/>
            <p:cNvSpPr/>
            <p:nvPr/>
          </p:nvSpPr>
          <p:spPr>
            <a:xfrm>
              <a:off x="4003200" y="4537080"/>
              <a:ext cx="2289600" cy="1554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сихолого –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сихиатрическ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фактор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4"/>
            <p:cNvSpPr/>
            <p:nvPr/>
          </p:nvSpPr>
          <p:spPr>
            <a:xfrm>
              <a:off x="6674400" y="4537080"/>
              <a:ext cx="2289600" cy="1554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Социально –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средовы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фактор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2480" y="476280"/>
            <a:ext cx="829152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ы                   суицидальной активности</a:t>
            </a:r>
            <a:br>
              <a:rPr sz="3600"/>
            </a:br>
            <a:br>
              <a:rPr sz="12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ицидальные мысли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суицидальные попытк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завершенный суицид</a:t>
            </a:r>
            <a:br>
              <a:rPr sz="3200"/>
            </a:b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                   суицидального поведения</a:t>
            </a:r>
            <a:br>
              <a:rPr sz="3600"/>
            </a:br>
            <a:br>
              <a:rPr sz="12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монстративно – шантажно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самоповреждающе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истинное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283520" cy="58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деляют 5 ведущих мотивов суицидального поведения</a:t>
            </a:r>
            <a:br>
              <a:rPr sz="3600"/>
            </a:b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ризыв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ротес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Избегани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Самонаказани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Отказ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7:41:01Z</dcterms:created>
  <dc:creator>Светлана</dc:creator>
  <dc:description/>
  <dc:language>en-US</dc:language>
  <cp:lastModifiedBy>Admin</cp:lastModifiedBy>
  <dcterms:modified xsi:type="dcterms:W3CDTF">2012-02-27T07:35:14Z</dcterms:modified>
  <cp:revision>40</cp:revision>
  <dc:subject/>
  <dc:title>Что такое суицид и как с ним бороться?</dc:title>
</cp:coreProperties>
</file>