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EF3-9F9F-4D3F-A1EB-3CDECF13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A23-7870-474B-A295-3EA25697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D12-B761-4D4E-83C1-381EF3C6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5B8-67A0-4957-9048-7D154944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3D7-DE35-41F7-975E-5D235ED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87D-B5DB-4E96-99DC-4FAD00A0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CD7-C184-4629-8F3C-0DFB06FF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100-ECD0-4EC3-8E68-D6FF996C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5F7-237F-4090-BA7C-E349578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A16-6C83-4744-A0E4-3FDC4D5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A93-2D85-4925-AAF7-2BAF430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1BD-F62C-4167-A7F3-D350275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6D5-C605-44D3-A0F5-B7992669B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071880" y="5786280"/>
            <a:ext cx="30002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Вопросы из полевой сум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0040" y="16426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Эта песня про птиц, которые мешают спать солдатам. Как она называе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Скругленный прямоугольник 3"/>
          <p:cNvGrpSpPr/>
          <p:nvPr/>
        </p:nvGrpSpPr>
        <p:grpSpPr>
          <a:xfrm>
            <a:off x="2843280" y="4941720"/>
            <a:ext cx="4344840" cy="1116000"/>
            <a:chOff x="2843280" y="4941720"/>
            <a:chExt cx="4344840" cy="111600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843280" y="4941720"/>
              <a:ext cx="4344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949480" y="50083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Соловь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539640" y="3573360"/>
            <a:ext cx="3479760" cy="1116000"/>
            <a:chOff x="539640" y="3573360"/>
            <a:chExt cx="3479760" cy="111600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39640" y="3573360"/>
              <a:ext cx="34797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42600" y="3641760"/>
              <a:ext cx="3067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Жаворонк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5435640" y="3429000"/>
            <a:ext cx="3340080" cy="1116000"/>
            <a:chOff x="5435640" y="3429000"/>
            <a:chExt cx="3340080" cy="111600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435640" y="3429000"/>
              <a:ext cx="3340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541840" y="3497400"/>
              <a:ext cx="2924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Канарейк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 лучшего немецкого катера скорость была 41 узел в час. Какая скорость была у советских торпедных кате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Скругленный прямоугольник 3"/>
          <p:cNvGrpSpPr/>
          <p:nvPr/>
        </p:nvGrpSpPr>
        <p:grpSpPr>
          <a:xfrm>
            <a:off x="3059280" y="4221000"/>
            <a:ext cx="4127400" cy="1116000"/>
            <a:chOff x="3059280" y="4221000"/>
            <a:chExt cx="4127400" cy="1116000"/>
          </a:xfrm>
        </p:grpSpPr>
        <p:pic>
          <p:nvPicPr>
            <p:cNvPr id="1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059280" y="4221000"/>
              <a:ext cx="4127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64040" y="4289400"/>
              <a:ext cx="3709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2 узла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Скругленный прямоугольник 4"/>
          <p:cNvGrpSpPr/>
          <p:nvPr/>
        </p:nvGrpSpPr>
        <p:grpSpPr>
          <a:xfrm>
            <a:off x="611280" y="5157720"/>
            <a:ext cx="3913200" cy="1116000"/>
            <a:chOff x="611280" y="5157720"/>
            <a:chExt cx="3913200" cy="1116000"/>
          </a:xfrm>
        </p:grpSpPr>
        <p:pic>
          <p:nvPicPr>
            <p:cNvPr id="1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611280" y="5157720"/>
              <a:ext cx="3913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7480" y="522432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49 узлов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Скругленный прямоугольник 5"/>
          <p:cNvGrpSpPr/>
          <p:nvPr/>
        </p:nvGrpSpPr>
        <p:grpSpPr>
          <a:xfrm>
            <a:off x="5084640" y="5445000"/>
            <a:ext cx="4059360" cy="1114560"/>
            <a:chOff x="5084640" y="5445000"/>
            <a:chExt cx="4059360" cy="1114560"/>
          </a:xfrm>
        </p:grpSpPr>
        <p:pic>
          <p:nvPicPr>
            <p:cNvPr id="1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84640" y="5445000"/>
              <a:ext cx="40593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90840" y="5514840"/>
              <a:ext cx="3638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4 узла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230328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й знаменитый лётчик испытывал самолёты И-16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Скругленный прямоугольник 3"/>
          <p:cNvGrpSpPr/>
          <p:nvPr/>
        </p:nvGrpSpPr>
        <p:grpSpPr>
          <a:xfrm>
            <a:off x="219240" y="4900680"/>
            <a:ext cx="3200400" cy="1116000"/>
            <a:chOff x="219240" y="4900680"/>
            <a:chExt cx="3200400" cy="1116000"/>
          </a:xfrm>
        </p:grpSpPr>
        <p:pic>
          <p:nvPicPr>
            <p:cNvPr id="16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19240" y="490068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24000" y="4967280"/>
              <a:ext cx="2781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П. Харит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4"/>
          <p:cNvGrpSpPr/>
          <p:nvPr/>
        </p:nvGrpSpPr>
        <p:grpSpPr>
          <a:xfrm>
            <a:off x="5651640" y="2895480"/>
            <a:ext cx="3340080" cy="1116000"/>
            <a:chOff x="5651640" y="2895480"/>
            <a:chExt cx="3340080" cy="1116000"/>
          </a:xfrm>
        </p:grpSpPr>
        <p:pic>
          <p:nvPicPr>
            <p:cNvPr id="17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651640" y="2895480"/>
              <a:ext cx="3340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753160" y="2967120"/>
              <a:ext cx="2924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Н. Гастел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5"/>
          <p:cNvGrpSpPr/>
          <p:nvPr/>
        </p:nvGrpSpPr>
        <p:grpSpPr>
          <a:xfrm>
            <a:off x="3505320" y="3968640"/>
            <a:ext cx="3127320" cy="1116000"/>
            <a:chOff x="3505320" y="3968640"/>
            <a:chExt cx="3127320" cy="1116000"/>
          </a:xfrm>
        </p:grpSpPr>
        <p:pic>
          <p:nvPicPr>
            <p:cNvPr id="17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05320" y="3968640"/>
              <a:ext cx="3127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610080" y="4038480"/>
              <a:ext cx="2709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В. Чка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011240" y="2781360"/>
            <a:ext cx="1731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ребят осталось на безымянной высо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Скругленный прямоугольник 3"/>
          <p:cNvGrpSpPr/>
          <p:nvPr/>
        </p:nvGrpSpPr>
        <p:grpSpPr>
          <a:xfrm>
            <a:off x="360360" y="4968720"/>
            <a:ext cx="4125960" cy="1114560"/>
            <a:chOff x="360360" y="4968720"/>
            <a:chExt cx="4125960" cy="111456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0360" y="4968720"/>
              <a:ext cx="4125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66560" y="5038560"/>
              <a:ext cx="37101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трое из девят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4"/>
          <p:cNvGrpSpPr/>
          <p:nvPr/>
        </p:nvGrpSpPr>
        <p:grpSpPr>
          <a:xfrm>
            <a:off x="2554200" y="3213000"/>
            <a:ext cx="4334040" cy="1109880"/>
            <a:chOff x="2554200" y="3213000"/>
            <a:chExt cx="4334040" cy="1109880"/>
          </a:xfrm>
        </p:grpSpPr>
        <p:pic>
          <p:nvPicPr>
            <p:cNvPr id="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54200" y="3213000"/>
              <a:ext cx="4334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660760" y="32846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трое из восем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5"/>
          <p:cNvGrpSpPr/>
          <p:nvPr/>
        </p:nvGrpSpPr>
        <p:grpSpPr>
          <a:xfrm>
            <a:off x="4863960" y="4900680"/>
            <a:ext cx="4054680" cy="1116000"/>
            <a:chOff x="4863960" y="4900680"/>
            <a:chExt cx="4054680" cy="1116000"/>
          </a:xfrm>
        </p:grpSpPr>
        <p:pic>
          <p:nvPicPr>
            <p:cNvPr id="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863960" y="4900680"/>
              <a:ext cx="4054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67280" y="4967280"/>
              <a:ext cx="3638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двое из восем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Скругленный прямоугольник 3"/>
          <p:cNvGrpSpPr/>
          <p:nvPr/>
        </p:nvGrpSpPr>
        <p:grpSpPr>
          <a:xfrm>
            <a:off x="4284720" y="3933720"/>
            <a:ext cx="3979800" cy="1116000"/>
            <a:chOff x="4284720" y="3933720"/>
            <a:chExt cx="3979800" cy="111600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284720" y="3933720"/>
              <a:ext cx="3979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87680" y="4003560"/>
              <a:ext cx="3567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Тёмная ночь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"/>
          <p:cNvGrpSpPr/>
          <p:nvPr/>
        </p:nvGrpSpPr>
        <p:grpSpPr>
          <a:xfrm>
            <a:off x="4356000" y="5445000"/>
            <a:ext cx="4346640" cy="1116000"/>
            <a:chOff x="4356000" y="5445000"/>
            <a:chExt cx="4346640" cy="1116000"/>
          </a:xfrm>
        </p:grpSpPr>
        <p:pic>
          <p:nvPicPr>
            <p:cNvPr id="6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356000" y="5445000"/>
              <a:ext cx="4346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462560" y="55116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Катюш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5"/>
          <p:cNvGrpSpPr/>
          <p:nvPr/>
        </p:nvGrpSpPr>
        <p:grpSpPr>
          <a:xfrm>
            <a:off x="324000" y="4221000"/>
            <a:ext cx="3841560" cy="1116000"/>
            <a:chOff x="324000" y="4221000"/>
            <a:chExt cx="3841560" cy="1116000"/>
          </a:xfrm>
        </p:grpSpPr>
        <p:pic>
          <p:nvPicPr>
            <p:cNvPr id="7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24000" y="4221000"/>
              <a:ext cx="3841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30200" y="4290840"/>
              <a:ext cx="34243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В землянке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468360" y="16286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оки, взятые из личного письма поэта-фронтовика А. Суркова к жене, стали впоследствии текстом песни. Ка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м могучим танком Второй мировой войны считается этот тяжёлый танк, насквозь пробивавший броню фашистской «пантер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Скругленный прямоугольник 3"/>
          <p:cNvGrpSpPr/>
          <p:nvPr/>
        </p:nvGrpSpPr>
        <p:grpSpPr>
          <a:xfrm>
            <a:off x="324000" y="5516640"/>
            <a:ext cx="4340160" cy="1114200"/>
            <a:chOff x="324000" y="5516640"/>
            <a:chExt cx="4340160" cy="1114200"/>
          </a:xfrm>
        </p:grpSpPr>
        <p:pic>
          <p:nvPicPr>
            <p:cNvPr id="7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5516640"/>
              <a:ext cx="434016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28760" y="5582880"/>
              <a:ext cx="3924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КВ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Скругленный прямоугольник 4"/>
          <p:cNvGrpSpPr/>
          <p:nvPr/>
        </p:nvGrpSpPr>
        <p:grpSpPr>
          <a:xfrm>
            <a:off x="250920" y="4292640"/>
            <a:ext cx="4333680" cy="1109520"/>
            <a:chOff x="250920" y="4292640"/>
            <a:chExt cx="4333680" cy="1109520"/>
          </a:xfrm>
        </p:grpSpPr>
        <p:pic>
          <p:nvPicPr>
            <p:cNvPr id="8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0920" y="4292640"/>
              <a:ext cx="43336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5680" y="43639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Т-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Скругленный прямоугольник 5"/>
          <p:cNvGrpSpPr/>
          <p:nvPr/>
        </p:nvGrpSpPr>
        <p:grpSpPr>
          <a:xfrm>
            <a:off x="4500720" y="5445000"/>
            <a:ext cx="4340160" cy="1116000"/>
            <a:chOff x="4500720" y="5445000"/>
            <a:chExt cx="4340160" cy="1116000"/>
          </a:xfrm>
        </p:grpSpPr>
        <p:pic>
          <p:nvPicPr>
            <p:cNvPr id="8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500720" y="5445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05480" y="55130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С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243036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шисты хоть и называли их «русс-фанер», но очень боялись этих «небесных тихоход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3"/>
          <p:cNvGrpSpPr/>
          <p:nvPr/>
        </p:nvGrpSpPr>
        <p:grpSpPr>
          <a:xfrm>
            <a:off x="179280" y="3789360"/>
            <a:ext cx="3914640" cy="1114560"/>
            <a:chOff x="179280" y="3789360"/>
            <a:chExt cx="3914640" cy="1114560"/>
          </a:xfrm>
        </p:grpSpPr>
        <p:pic>
          <p:nvPicPr>
            <p:cNvPr id="9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79280" y="3789360"/>
              <a:ext cx="3914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84040" y="38559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ПО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4"/>
          <p:cNvGrpSpPr/>
          <p:nvPr/>
        </p:nvGrpSpPr>
        <p:grpSpPr>
          <a:xfrm>
            <a:off x="3924360" y="3357720"/>
            <a:ext cx="3767040" cy="1114200"/>
            <a:chOff x="3924360" y="3357720"/>
            <a:chExt cx="3767040" cy="1114200"/>
          </a:xfrm>
        </p:grpSpPr>
        <p:pic>
          <p:nvPicPr>
            <p:cNvPr id="9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924360" y="3357720"/>
              <a:ext cx="376704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027320" y="3424320"/>
              <a:ext cx="3353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Л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5"/>
          <p:cNvGrpSpPr/>
          <p:nvPr/>
        </p:nvGrpSpPr>
        <p:grpSpPr>
          <a:xfrm>
            <a:off x="611280" y="4724280"/>
            <a:ext cx="3841560" cy="1116000"/>
            <a:chOff x="611280" y="4724280"/>
            <a:chExt cx="3841560" cy="1116000"/>
          </a:xfrm>
        </p:grpSpPr>
        <p:pic>
          <p:nvPicPr>
            <p:cNvPr id="9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611280" y="4724280"/>
              <a:ext cx="3841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040" y="4794120"/>
              <a:ext cx="3423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ЯК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521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«Самолёт-солдат», «летающий танк» - так с гордостью называли воины этот штурмовик конструктора С.В. Ильюш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Скругленный прямоугольник 3"/>
          <p:cNvGrpSpPr/>
          <p:nvPr/>
        </p:nvGrpSpPr>
        <p:grpSpPr>
          <a:xfrm>
            <a:off x="4140360" y="5742000"/>
            <a:ext cx="3987720" cy="1116000"/>
            <a:chOff x="4140360" y="5742000"/>
            <a:chExt cx="3987720" cy="1116000"/>
          </a:xfrm>
        </p:grpSpPr>
        <p:pic>
          <p:nvPicPr>
            <p:cNvPr id="10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140360" y="5742000"/>
              <a:ext cx="39877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246560" y="5808600"/>
              <a:ext cx="3567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Л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"/>
          <p:cNvGrpSpPr/>
          <p:nvPr/>
        </p:nvGrpSpPr>
        <p:grpSpPr>
          <a:xfrm>
            <a:off x="179280" y="3933720"/>
            <a:ext cx="3986280" cy="1116000"/>
            <a:chOff x="179280" y="3933720"/>
            <a:chExt cx="3986280" cy="1116000"/>
          </a:xfrm>
        </p:grpSpPr>
        <p:pic>
          <p:nvPicPr>
            <p:cNvPr id="10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79280" y="3933720"/>
              <a:ext cx="3986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84040" y="4000320"/>
              <a:ext cx="3567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ЯК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5"/>
          <p:cNvGrpSpPr/>
          <p:nvPr/>
        </p:nvGrpSpPr>
        <p:grpSpPr>
          <a:xfrm>
            <a:off x="1187280" y="4797360"/>
            <a:ext cx="4340160" cy="1116000"/>
            <a:chOff x="1187280" y="4797360"/>
            <a:chExt cx="4340160" cy="1116000"/>
          </a:xfrm>
        </p:grpSpPr>
        <p:pic>
          <p:nvPicPr>
            <p:cNvPr id="11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187280" y="479736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290240" y="48690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-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227640" y="3860640"/>
            <a:ext cx="172908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571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количество знамён разгромленных немецко-фашистских войск, брошенных советскими воинами к подножию Мавзолея В.И. Лен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Скругленный прямоугольник 3"/>
          <p:cNvGrpSpPr/>
          <p:nvPr/>
        </p:nvGrpSpPr>
        <p:grpSpPr>
          <a:xfrm>
            <a:off x="4572000" y="5742000"/>
            <a:ext cx="4340160" cy="1116000"/>
            <a:chOff x="4572000" y="5742000"/>
            <a:chExt cx="4340160" cy="1116000"/>
          </a:xfrm>
        </p:grpSpPr>
        <p:pic>
          <p:nvPicPr>
            <p:cNvPr id="11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572000" y="5742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76760" y="58086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3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4"/>
          <p:cNvGrpSpPr/>
          <p:nvPr/>
        </p:nvGrpSpPr>
        <p:grpSpPr>
          <a:xfrm>
            <a:off x="324000" y="5516640"/>
            <a:ext cx="4340160" cy="1116000"/>
            <a:chOff x="324000" y="5516640"/>
            <a:chExt cx="4340160" cy="1116000"/>
          </a:xfrm>
        </p:grpSpPr>
        <p:pic>
          <p:nvPicPr>
            <p:cNvPr id="12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4000" y="551664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6960" y="5586480"/>
              <a:ext cx="3924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Скругленный прямоугольник 5"/>
          <p:cNvGrpSpPr/>
          <p:nvPr/>
        </p:nvGrpSpPr>
        <p:grpSpPr>
          <a:xfrm>
            <a:off x="4797360" y="4724280"/>
            <a:ext cx="4346640" cy="1116000"/>
            <a:chOff x="4797360" y="4724280"/>
            <a:chExt cx="4346640" cy="1116000"/>
          </a:xfrm>
        </p:grpSpPr>
        <p:pic>
          <p:nvPicPr>
            <p:cNvPr id="12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797360" y="4724280"/>
              <a:ext cx="4346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05360" y="47941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17082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Эта песня про русского солдата, памятник которому был поставлен в Болгарии. Как она называ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Скругленный прямоугольник 3"/>
          <p:cNvGrpSpPr/>
          <p:nvPr/>
        </p:nvGrpSpPr>
        <p:grpSpPr>
          <a:xfrm>
            <a:off x="324000" y="4365720"/>
            <a:ext cx="4340160" cy="1116000"/>
            <a:chOff x="324000" y="4365720"/>
            <a:chExt cx="4340160" cy="1116000"/>
          </a:xfrm>
        </p:grpSpPr>
        <p:pic>
          <p:nvPicPr>
            <p:cNvPr id="13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436572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30200" y="44341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Александ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Скругленный прямоугольник 4"/>
          <p:cNvGrpSpPr/>
          <p:nvPr/>
        </p:nvGrpSpPr>
        <p:grpSpPr>
          <a:xfrm>
            <a:off x="0" y="3213000"/>
            <a:ext cx="4340160" cy="1116000"/>
            <a:chOff x="0" y="3213000"/>
            <a:chExt cx="4340160" cy="1116000"/>
          </a:xfrm>
        </p:grpSpPr>
        <p:pic>
          <p:nvPicPr>
            <p:cNvPr id="13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0" y="3213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06200" y="32828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Иван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5"/>
          <p:cNvGrpSpPr/>
          <p:nvPr/>
        </p:nvGrpSpPr>
        <p:grpSpPr>
          <a:xfrm>
            <a:off x="324000" y="5589720"/>
            <a:ext cx="4340160" cy="1116000"/>
            <a:chOff x="324000" y="5589720"/>
            <a:chExt cx="4340160" cy="1116000"/>
          </a:xfrm>
        </p:grpSpPr>
        <p:pic>
          <p:nvPicPr>
            <p:cNvPr id="13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24000" y="558972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0200" y="566136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Алёш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17" descr="C:\Documents and Settings\Администратор\Рабочий стол\06.jpg"/>
          <p:cNvPicPr/>
          <p:nvPr/>
        </p:nvPicPr>
        <p:blipFill>
          <a:blip r:embed="rId5"/>
          <a:stretch/>
        </p:blipFill>
        <p:spPr>
          <a:xfrm>
            <a:off x="5003640" y="378936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Елена</cp:lastModifiedBy>
  <dcterms:modified xsi:type="dcterms:W3CDTF">2009-11-23T05:48:51Z</dcterms:modified>
  <cp:revision>753</cp:revision>
  <dc:subject/>
  <dc:title>Слайд 1</dc:title>
</cp:coreProperties>
</file>