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B3C-B73E-4A67-88E1-AA310B80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243-E957-4EBA-9E3F-2ECEEFA1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94A-8169-4865-8B89-4DBFCDAD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E47-6F7B-425E-8D6C-49B8C9EC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0B6-A99D-4CBB-ABDD-7B37A458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D1C-4BB8-4E52-A67A-9E91A5DE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AF7-F9A5-4D7E-8E52-CD9AD61D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494-1154-4EF0-B8D6-9D7F4C69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B0E-B7C7-4BAF-BB55-04E7BC9E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E15-242D-4727-A82F-2CAC567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FE6-15D9-4238-A9A4-33BED1C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7CE-7067-4131-AD85-30EC45DA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D6E2-9956-42D7-BC7C-FEBADD31C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3071880" y="5786280"/>
            <a:ext cx="300024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Arial"/>
              </a:rPr>
              <a:t>Вопросы из полевой сум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0040" y="16426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Эта песня про птиц, которые мешают спать солдатам. Как она называет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Скругленный прямоугольник 3"/>
          <p:cNvGrpSpPr/>
          <p:nvPr/>
        </p:nvGrpSpPr>
        <p:grpSpPr>
          <a:xfrm>
            <a:off x="2843280" y="4941720"/>
            <a:ext cx="4344840" cy="1116000"/>
            <a:chOff x="2843280" y="4941720"/>
            <a:chExt cx="4344840" cy="1116000"/>
          </a:xfrm>
        </p:grpSpPr>
        <p:pic>
          <p:nvPicPr>
            <p:cNvPr id="14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843280" y="4941720"/>
              <a:ext cx="43448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949480" y="500832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Соловьи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4"/>
          <p:cNvGrpSpPr/>
          <p:nvPr/>
        </p:nvGrpSpPr>
        <p:grpSpPr>
          <a:xfrm>
            <a:off x="539640" y="3573360"/>
            <a:ext cx="3479760" cy="1116000"/>
            <a:chOff x="539640" y="3573360"/>
            <a:chExt cx="3479760" cy="1116000"/>
          </a:xfrm>
        </p:grpSpPr>
        <p:pic>
          <p:nvPicPr>
            <p:cNvPr id="14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539640" y="3573360"/>
              <a:ext cx="34797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42600" y="3641760"/>
              <a:ext cx="3067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Жаворонки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5"/>
          <p:cNvGrpSpPr/>
          <p:nvPr/>
        </p:nvGrpSpPr>
        <p:grpSpPr>
          <a:xfrm>
            <a:off x="5435640" y="3429000"/>
            <a:ext cx="3340080" cy="1116000"/>
            <a:chOff x="5435640" y="3429000"/>
            <a:chExt cx="3340080" cy="1116000"/>
          </a:xfrm>
        </p:grpSpPr>
        <p:pic>
          <p:nvPicPr>
            <p:cNvPr id="15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435640" y="3429000"/>
              <a:ext cx="33400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541840" y="3497400"/>
              <a:ext cx="2924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Канарейки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У лучшего немецкого катера скорость была 41 узел в час. Какая скорость была у советских торпедных катер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Скругленный прямоугольник 3"/>
          <p:cNvGrpSpPr/>
          <p:nvPr/>
        </p:nvGrpSpPr>
        <p:grpSpPr>
          <a:xfrm>
            <a:off x="3059280" y="4221000"/>
            <a:ext cx="4127400" cy="1116000"/>
            <a:chOff x="3059280" y="4221000"/>
            <a:chExt cx="4127400" cy="1116000"/>
          </a:xfrm>
        </p:grpSpPr>
        <p:pic>
          <p:nvPicPr>
            <p:cNvPr id="15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059280" y="4221000"/>
              <a:ext cx="4127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164040" y="4289400"/>
              <a:ext cx="3709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52 узла в ча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Скругленный прямоугольник 4"/>
          <p:cNvGrpSpPr/>
          <p:nvPr/>
        </p:nvGrpSpPr>
        <p:grpSpPr>
          <a:xfrm>
            <a:off x="611280" y="5157720"/>
            <a:ext cx="3913200" cy="1116000"/>
            <a:chOff x="611280" y="5157720"/>
            <a:chExt cx="3913200" cy="1116000"/>
          </a:xfrm>
        </p:grpSpPr>
        <p:pic>
          <p:nvPicPr>
            <p:cNvPr id="1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611280" y="5157720"/>
              <a:ext cx="39132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7480" y="522432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49 узлов в ча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Скругленный прямоугольник 5"/>
          <p:cNvGrpSpPr/>
          <p:nvPr/>
        </p:nvGrpSpPr>
        <p:grpSpPr>
          <a:xfrm>
            <a:off x="5084640" y="5445000"/>
            <a:ext cx="4059360" cy="1114560"/>
            <a:chOff x="5084640" y="5445000"/>
            <a:chExt cx="4059360" cy="1114560"/>
          </a:xfrm>
        </p:grpSpPr>
        <p:pic>
          <p:nvPicPr>
            <p:cNvPr id="16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084640" y="5445000"/>
              <a:ext cx="40593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90840" y="5514840"/>
              <a:ext cx="36388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54 узла в ча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24000" y="3789360"/>
            <a:ext cx="230328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й знаменитый лётчик испытывал самолёты И-16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Скругленный прямоугольник 3"/>
          <p:cNvGrpSpPr/>
          <p:nvPr/>
        </p:nvGrpSpPr>
        <p:grpSpPr>
          <a:xfrm>
            <a:off x="219240" y="4900680"/>
            <a:ext cx="3200400" cy="1116000"/>
            <a:chOff x="219240" y="4900680"/>
            <a:chExt cx="3200400" cy="1116000"/>
          </a:xfrm>
        </p:grpSpPr>
        <p:pic>
          <p:nvPicPr>
            <p:cNvPr id="169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19240" y="4900680"/>
              <a:ext cx="3200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24000" y="4967280"/>
              <a:ext cx="2781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П. Харитон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Скругленный прямоугольник 4"/>
          <p:cNvGrpSpPr/>
          <p:nvPr/>
        </p:nvGrpSpPr>
        <p:grpSpPr>
          <a:xfrm>
            <a:off x="5651640" y="2895480"/>
            <a:ext cx="3340080" cy="1116000"/>
            <a:chOff x="5651640" y="2895480"/>
            <a:chExt cx="3340080" cy="1116000"/>
          </a:xfrm>
        </p:grpSpPr>
        <p:pic>
          <p:nvPicPr>
            <p:cNvPr id="17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5651640" y="2895480"/>
              <a:ext cx="33400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753160" y="2967120"/>
              <a:ext cx="2924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Н. Гастел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Скругленный прямоугольник 5"/>
          <p:cNvGrpSpPr/>
          <p:nvPr/>
        </p:nvGrpSpPr>
        <p:grpSpPr>
          <a:xfrm>
            <a:off x="3505320" y="3968640"/>
            <a:ext cx="3127320" cy="1116000"/>
            <a:chOff x="3505320" y="3968640"/>
            <a:chExt cx="3127320" cy="1116000"/>
          </a:xfrm>
        </p:grpSpPr>
        <p:pic>
          <p:nvPicPr>
            <p:cNvPr id="17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505320" y="3968640"/>
              <a:ext cx="3127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610080" y="4038480"/>
              <a:ext cx="27097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В. Чкал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011240" y="2781360"/>
            <a:ext cx="17319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557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ребят осталось на безымянной высот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Скругленный прямоугольник 3"/>
          <p:cNvGrpSpPr/>
          <p:nvPr/>
        </p:nvGrpSpPr>
        <p:grpSpPr>
          <a:xfrm>
            <a:off x="360360" y="4968720"/>
            <a:ext cx="4125960" cy="1114560"/>
            <a:chOff x="360360" y="4968720"/>
            <a:chExt cx="4125960" cy="1114560"/>
          </a:xfrm>
        </p:grpSpPr>
        <p:pic>
          <p:nvPicPr>
            <p:cNvPr id="5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60360" y="4968720"/>
              <a:ext cx="4125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66560" y="5038560"/>
              <a:ext cx="37101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Нас оставалось только трое из девятнадцати ребят…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4"/>
          <p:cNvGrpSpPr/>
          <p:nvPr/>
        </p:nvGrpSpPr>
        <p:grpSpPr>
          <a:xfrm>
            <a:off x="2554200" y="3213000"/>
            <a:ext cx="4334040" cy="1109880"/>
            <a:chOff x="2554200" y="3213000"/>
            <a:chExt cx="4334040" cy="1109880"/>
          </a:xfrm>
        </p:grpSpPr>
        <p:pic>
          <p:nvPicPr>
            <p:cNvPr id="5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54200" y="3213000"/>
              <a:ext cx="43340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660760" y="328464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Нас оставалось только трое из восемнадцати ребят…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5"/>
          <p:cNvGrpSpPr/>
          <p:nvPr/>
        </p:nvGrpSpPr>
        <p:grpSpPr>
          <a:xfrm>
            <a:off x="4863960" y="4900680"/>
            <a:ext cx="4054680" cy="1116000"/>
            <a:chOff x="4863960" y="4900680"/>
            <a:chExt cx="4054680" cy="1116000"/>
          </a:xfrm>
        </p:grpSpPr>
        <p:pic>
          <p:nvPicPr>
            <p:cNvPr id="6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863960" y="4900680"/>
              <a:ext cx="40546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967280" y="4967280"/>
              <a:ext cx="3638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Нас оставалось только двое из восемнадцати ребят…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Скругленный прямоугольник 3"/>
          <p:cNvGrpSpPr/>
          <p:nvPr/>
        </p:nvGrpSpPr>
        <p:grpSpPr>
          <a:xfrm>
            <a:off x="4284720" y="3933720"/>
            <a:ext cx="3979800" cy="1116000"/>
            <a:chOff x="4284720" y="3933720"/>
            <a:chExt cx="3979800" cy="1116000"/>
          </a:xfrm>
        </p:grpSpPr>
        <p:pic>
          <p:nvPicPr>
            <p:cNvPr id="6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284720" y="3933720"/>
              <a:ext cx="3979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387680" y="4003560"/>
              <a:ext cx="35672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Тёмная ночь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4"/>
          <p:cNvGrpSpPr/>
          <p:nvPr/>
        </p:nvGrpSpPr>
        <p:grpSpPr>
          <a:xfrm>
            <a:off x="4356000" y="5445000"/>
            <a:ext cx="4346640" cy="1116000"/>
            <a:chOff x="4356000" y="5445000"/>
            <a:chExt cx="4346640" cy="1116000"/>
          </a:xfrm>
        </p:grpSpPr>
        <p:pic>
          <p:nvPicPr>
            <p:cNvPr id="6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356000" y="5445000"/>
              <a:ext cx="43466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462560" y="551160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Катюш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5"/>
          <p:cNvGrpSpPr/>
          <p:nvPr/>
        </p:nvGrpSpPr>
        <p:grpSpPr>
          <a:xfrm>
            <a:off x="324000" y="4221000"/>
            <a:ext cx="3841560" cy="1116000"/>
            <a:chOff x="324000" y="4221000"/>
            <a:chExt cx="3841560" cy="1116000"/>
          </a:xfrm>
        </p:grpSpPr>
        <p:pic>
          <p:nvPicPr>
            <p:cNvPr id="7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24000" y="4221000"/>
              <a:ext cx="3841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30200" y="4290840"/>
              <a:ext cx="34243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В землянке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468360" y="162864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оки, взятые из личного письма поэта-фронтовика А. Суркова к жене, стали впоследствии текстом песни. Как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ым могучим танком Второй мировой войны считается этот тяжёлый танк, насквозь пробивавший броню фашистской «пантер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Скругленный прямоугольник 3"/>
          <p:cNvGrpSpPr/>
          <p:nvPr/>
        </p:nvGrpSpPr>
        <p:grpSpPr>
          <a:xfrm>
            <a:off x="324000" y="5516640"/>
            <a:ext cx="4340160" cy="1114200"/>
            <a:chOff x="324000" y="5516640"/>
            <a:chExt cx="4340160" cy="1114200"/>
          </a:xfrm>
        </p:grpSpPr>
        <p:pic>
          <p:nvPicPr>
            <p:cNvPr id="79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4000" y="5516640"/>
              <a:ext cx="434016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28760" y="5582880"/>
              <a:ext cx="3924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КВ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Скругленный прямоугольник 4"/>
          <p:cNvGrpSpPr/>
          <p:nvPr/>
        </p:nvGrpSpPr>
        <p:grpSpPr>
          <a:xfrm>
            <a:off x="250920" y="4292640"/>
            <a:ext cx="4333680" cy="1109520"/>
            <a:chOff x="250920" y="4292640"/>
            <a:chExt cx="4333680" cy="1109520"/>
          </a:xfrm>
        </p:grpSpPr>
        <p:pic>
          <p:nvPicPr>
            <p:cNvPr id="8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0920" y="4292640"/>
              <a:ext cx="43336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55680" y="436392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Т-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Скругленный прямоугольник 5"/>
          <p:cNvGrpSpPr/>
          <p:nvPr/>
        </p:nvGrpSpPr>
        <p:grpSpPr>
          <a:xfrm>
            <a:off x="4500720" y="5445000"/>
            <a:ext cx="4340160" cy="1116000"/>
            <a:chOff x="4500720" y="5445000"/>
            <a:chExt cx="4340160" cy="1116000"/>
          </a:xfrm>
        </p:grpSpPr>
        <p:pic>
          <p:nvPicPr>
            <p:cNvPr id="8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500720" y="544500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605480" y="551304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ИС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443640" y="3716280"/>
            <a:ext cx="243036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Фашисты хоть и называли их «русс-фанер», но очень боялись этих «небесных тихоход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Скругленный прямоугольник 3"/>
          <p:cNvGrpSpPr/>
          <p:nvPr/>
        </p:nvGrpSpPr>
        <p:grpSpPr>
          <a:xfrm>
            <a:off x="179280" y="3789360"/>
            <a:ext cx="3914640" cy="1114560"/>
            <a:chOff x="179280" y="3789360"/>
            <a:chExt cx="3914640" cy="1114560"/>
          </a:xfrm>
        </p:grpSpPr>
        <p:pic>
          <p:nvPicPr>
            <p:cNvPr id="92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79280" y="3789360"/>
              <a:ext cx="39146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84040" y="38559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ПО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4"/>
          <p:cNvGrpSpPr/>
          <p:nvPr/>
        </p:nvGrpSpPr>
        <p:grpSpPr>
          <a:xfrm>
            <a:off x="3924360" y="3357720"/>
            <a:ext cx="3767040" cy="1114200"/>
            <a:chOff x="3924360" y="3357720"/>
            <a:chExt cx="3767040" cy="1114200"/>
          </a:xfrm>
        </p:grpSpPr>
        <p:pic>
          <p:nvPicPr>
            <p:cNvPr id="95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924360" y="3357720"/>
              <a:ext cx="376704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027320" y="3424320"/>
              <a:ext cx="3353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ИЛ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ый прямоугольник 5"/>
          <p:cNvGrpSpPr/>
          <p:nvPr/>
        </p:nvGrpSpPr>
        <p:grpSpPr>
          <a:xfrm>
            <a:off x="611280" y="4724280"/>
            <a:ext cx="3841560" cy="1116000"/>
            <a:chOff x="611280" y="4724280"/>
            <a:chExt cx="3841560" cy="1116000"/>
          </a:xfrm>
        </p:grpSpPr>
        <p:pic>
          <p:nvPicPr>
            <p:cNvPr id="98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611280" y="4724280"/>
              <a:ext cx="38415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6040" y="4794120"/>
              <a:ext cx="3423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ЯК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52108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«Самолёт-солдат», «летающий танк» - так с гордостью называли воины этот штурмовик конструктора С.В. Ильюш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Скругленный прямоугольник 3"/>
          <p:cNvGrpSpPr/>
          <p:nvPr/>
        </p:nvGrpSpPr>
        <p:grpSpPr>
          <a:xfrm>
            <a:off x="4140360" y="5742000"/>
            <a:ext cx="3987720" cy="1116000"/>
            <a:chOff x="4140360" y="5742000"/>
            <a:chExt cx="3987720" cy="1116000"/>
          </a:xfrm>
        </p:grpSpPr>
        <p:pic>
          <p:nvPicPr>
            <p:cNvPr id="10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140360" y="5742000"/>
              <a:ext cx="39877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246560" y="5808600"/>
              <a:ext cx="3567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ИЛ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"/>
          <p:cNvGrpSpPr/>
          <p:nvPr/>
        </p:nvGrpSpPr>
        <p:grpSpPr>
          <a:xfrm>
            <a:off x="179280" y="3933720"/>
            <a:ext cx="3986280" cy="1116000"/>
            <a:chOff x="179280" y="3933720"/>
            <a:chExt cx="3986280" cy="1116000"/>
          </a:xfrm>
        </p:grpSpPr>
        <p:pic>
          <p:nvPicPr>
            <p:cNvPr id="10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79280" y="3933720"/>
              <a:ext cx="39862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84040" y="4000320"/>
              <a:ext cx="3567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ЯК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5"/>
          <p:cNvGrpSpPr/>
          <p:nvPr/>
        </p:nvGrpSpPr>
        <p:grpSpPr>
          <a:xfrm>
            <a:off x="1187280" y="4797360"/>
            <a:ext cx="4340160" cy="1116000"/>
            <a:chOff x="1187280" y="4797360"/>
            <a:chExt cx="4340160" cy="1116000"/>
          </a:xfrm>
        </p:grpSpPr>
        <p:pic>
          <p:nvPicPr>
            <p:cNvPr id="11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187280" y="479736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290240" y="486900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И-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227640" y="3860640"/>
            <a:ext cx="1729080" cy="18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571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количество знамён разгромленных немецко-фашистских войск, брошенных советскими воинами к подножию Мавзолея В.И. Лен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Скругленный прямоугольник 3"/>
          <p:cNvGrpSpPr/>
          <p:nvPr/>
        </p:nvGrpSpPr>
        <p:grpSpPr>
          <a:xfrm>
            <a:off x="4572000" y="5742000"/>
            <a:ext cx="4340160" cy="1116000"/>
            <a:chOff x="4572000" y="5742000"/>
            <a:chExt cx="4340160" cy="1116000"/>
          </a:xfrm>
        </p:grpSpPr>
        <p:pic>
          <p:nvPicPr>
            <p:cNvPr id="11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572000" y="574200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76760" y="580860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3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Скругленный прямоугольник 4"/>
          <p:cNvGrpSpPr/>
          <p:nvPr/>
        </p:nvGrpSpPr>
        <p:grpSpPr>
          <a:xfrm>
            <a:off x="324000" y="5516640"/>
            <a:ext cx="4340160" cy="1116000"/>
            <a:chOff x="324000" y="5516640"/>
            <a:chExt cx="4340160" cy="1116000"/>
          </a:xfrm>
        </p:grpSpPr>
        <p:pic>
          <p:nvPicPr>
            <p:cNvPr id="121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24000" y="551664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26960" y="5586480"/>
              <a:ext cx="3924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Скругленный прямоугольник 5"/>
          <p:cNvGrpSpPr/>
          <p:nvPr/>
        </p:nvGrpSpPr>
        <p:grpSpPr>
          <a:xfrm>
            <a:off x="4797360" y="4724280"/>
            <a:ext cx="4346640" cy="1116000"/>
            <a:chOff x="4797360" y="4724280"/>
            <a:chExt cx="4346640" cy="1116000"/>
          </a:xfrm>
        </p:grpSpPr>
        <p:pic>
          <p:nvPicPr>
            <p:cNvPr id="12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797360" y="4724280"/>
              <a:ext cx="43466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905360" y="479412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50920" y="4005360"/>
            <a:ext cx="17082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Администратор\Рабочий стол\Рисунок2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557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Эта песня про русского солдата, памятник которому был поставлен в Болгарии. Как она называ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Скругленный прямоугольник 3"/>
          <p:cNvGrpSpPr/>
          <p:nvPr/>
        </p:nvGrpSpPr>
        <p:grpSpPr>
          <a:xfrm>
            <a:off x="324000" y="4365720"/>
            <a:ext cx="4340160" cy="1116000"/>
            <a:chOff x="324000" y="4365720"/>
            <a:chExt cx="4340160" cy="1116000"/>
          </a:xfrm>
        </p:grpSpPr>
        <p:pic>
          <p:nvPicPr>
            <p:cNvPr id="131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4000" y="436572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30200" y="443412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Александ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Скругленный прямоугольник 4"/>
          <p:cNvGrpSpPr/>
          <p:nvPr/>
        </p:nvGrpSpPr>
        <p:grpSpPr>
          <a:xfrm>
            <a:off x="0" y="3213000"/>
            <a:ext cx="4340160" cy="1116000"/>
            <a:chOff x="0" y="3213000"/>
            <a:chExt cx="4340160" cy="1116000"/>
          </a:xfrm>
        </p:grpSpPr>
        <p:pic>
          <p:nvPicPr>
            <p:cNvPr id="134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0" y="321300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06200" y="328284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Иван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Скругленный прямоугольник 5"/>
          <p:cNvGrpSpPr/>
          <p:nvPr/>
        </p:nvGrpSpPr>
        <p:grpSpPr>
          <a:xfrm>
            <a:off x="324000" y="5589720"/>
            <a:ext cx="4340160" cy="1116000"/>
            <a:chOff x="324000" y="5589720"/>
            <a:chExt cx="4340160" cy="1116000"/>
          </a:xfrm>
        </p:grpSpPr>
        <p:pic>
          <p:nvPicPr>
            <p:cNvPr id="13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24000" y="5589720"/>
              <a:ext cx="43401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30200" y="5661360"/>
              <a:ext cx="39243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«Алёш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17" descr="C:\Documents and Settings\Администратор\Рабочий стол\06.jpg"/>
          <p:cNvPicPr/>
          <p:nvPr/>
        </p:nvPicPr>
        <p:blipFill>
          <a:blip r:embed="rId5"/>
          <a:stretch/>
        </p:blipFill>
        <p:spPr>
          <a:xfrm>
            <a:off x="5003640" y="3789360"/>
            <a:ext cx="3810240" cy="26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Елена</cp:lastModifiedBy>
  <dcterms:modified xsi:type="dcterms:W3CDTF">2009-11-23T05:48:51Z</dcterms:modified>
  <cp:revision>753</cp:revision>
  <dc:subject/>
  <dc:title>Слайд 1</dc:title>
</cp:coreProperties>
</file>