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1286-DB33-4DAA-A0A8-00B0F3C561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1952-A02F-4B3A-8A46-2EAF8D27405D}" type="slidenum">
              <a:rPr b="0" lang="ru-RU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ДАРЮ ВАС ЗА УРОК!!!  МОЖЕТЕ БЫТЬ СВОБОДНЫМИ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DCDF-60E6-467D-8F5D-4A71CC5B1A49}" type="slidenum">
              <a:rPr b="0" lang="ru-RU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ИЕ СВОЙСТВА УГАРНОГО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957-1131-4E10-AA9A-09AEB23C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FE5-010C-43F7-8EAF-8AEE973B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FAC-E720-4E68-A990-00FC53B2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A67-AD9E-4CCE-BFEA-733F07DA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C56A-CA89-4820-81C8-4A3306D2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FE3B-0348-4950-8959-AA8A224B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D021-0B70-4347-A2FC-54A10D36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3356-B217-4A3B-8984-0A52C53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F918-AAD2-442E-B23A-2AC77DAA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9A8F-B5BC-409D-A67E-84B840C2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60D4-DB74-46D0-8588-02914A1F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3BE-D59D-4104-BCC7-DFD9A02E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5525-CCBD-43C1-815A-E2C0D65F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28CD-708A-43D3-B78E-DB904600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65B-AF41-4B56-8BE5-6CEA483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D544-4B2F-438B-BBB3-51038AFE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3D9C-8C9A-400D-8D87-5E067CC6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FF4-FD2D-4527-A76C-E3D2491D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DC1-3946-4CE0-AF99-A4F74C1A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1E4-C15A-4AC0-A6EE-FF726734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458-7ADA-45E3-A705-1884869C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92A-1D71-4309-9EC2-7049A72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BEA-D302-41B4-91D6-1B30A09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786-6576-4E4A-824C-347B63F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207A-9A09-4132-A08D-F330AD8137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39E9-220B-4D45-8517-C9F6EAB886CC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ТЕМА: УГЛЕРОД И ЕГО СОЕДИНЕНИ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 +С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=С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+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(ОВР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= С = О (вид связи?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Углекислый газ, 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состав, строение, свойства, значение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+Н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=Н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3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тип реакций?)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+ СаО =Са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3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+2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Н =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3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+ Н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-это кислотный оксид.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 какими классами он реагирует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Опыт: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Пропускание углекислого газа через известковую воду: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м= 7,4г       -           м= х г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Са(ОН)</a:t>
            </a:r>
            <a:r>
              <a:rPr b="0" lang="ru-RU" sz="32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+ СО</a:t>
            </a:r>
            <a:r>
              <a:rPr b="0" lang="ru-RU" sz="32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=СаСО</a:t>
            </a:r>
            <a:r>
              <a:rPr b="0" lang="ru-RU" sz="3200" spc="-1" strike="noStrike" baseline="-14000">
                <a:solidFill>
                  <a:srgbClr val="660066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+Н</a:t>
            </a:r>
            <a:r>
              <a:rPr b="0" lang="ru-RU" sz="32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Реши задачу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: какая масса карбоната кальция образуется из 7,4г гидроксида кальция?</a:t>
            </a:r>
            <a:br>
              <a:rPr sz="2400"/>
            </a:b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(Что делали   - Что наблюдали  - Выводы.)</a:t>
            </a:r>
            <a:br>
              <a:rPr sz="2400"/>
            </a:b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Опыт с яйцом:</a:t>
            </a:r>
            <a:br>
              <a:rPr sz="2400"/>
            </a:b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аСО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+2НС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=СаС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+ Н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-(Н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О +СО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(запишите его полное и сокращённое ионное уравнение)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+Н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= Н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3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Н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+ 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15382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Picture 2" descr="A:\Сотникова А.В..jpg"/>
          <p:cNvPicPr/>
          <p:nvPr/>
        </p:nvPicPr>
        <p:blipFill>
          <a:blip r:embed="rId1"/>
          <a:stretch/>
        </p:blipFill>
        <p:spPr>
          <a:xfrm>
            <a:off x="838080" y="990720"/>
            <a:ext cx="81536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Экологические проблемы и пути их решения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жигание угля: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 +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=С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жигание природного газа: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Н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+2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=С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+2Н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жигание бензина: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2С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Н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18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+ 25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=16С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+18Н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ктан (определи экзо-или эндотермические это реакции?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762120" y="1828800"/>
            <a:ext cx="76197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Цели: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овторить,систематизировать и расширить знания учащихся по данной теме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Развивать логическое мышление учащихся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рививать ответственность за получение знани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оложение углерода 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 П.С.Х.Э. Д.И.Менделеева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Название элемент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период, малый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группа, главная подгруппа (группа А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/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знак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№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А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оение атома углерод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+ 6)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)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2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р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19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РЕМНИЙ:</a:t>
            </a:r>
            <a:br>
              <a:rPr sz="44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Строение атома: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2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2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ерескок электронов: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    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 природе:в организме человека массой 70 кг его содержится 16 кг а в мышечной ткани –64%, 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 костной –36%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191120" y="3809880"/>
            <a:ext cx="53316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Аллотропные видоизменения углерода: 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1-алмаз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-графит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Химические свойства углерода             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Что делал - Что наблюдал – Выводы.</a:t>
            </a:r>
            <a:br>
              <a:rPr sz="6000"/>
            </a:b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С +2Н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=СН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4</a:t>
            </a:r>
            <a:br>
              <a:rPr sz="4800"/>
            </a:b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2С +Са =СаС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br>
              <a:rPr sz="4800"/>
            </a:b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С +О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=СО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br>
              <a:rPr sz="4800"/>
            </a:b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С +2С</a:t>
            </a: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О =2С</a:t>
            </a: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+СО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сид углерода (2),состав,строение, свойства, значение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С  +О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=2СО (ОВР)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2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+ С =2СО(ОВР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Физические свойства СО (2)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 (C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) =28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возд.) =29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Д=?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4моль         _              х кДж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СО + 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 =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+572 кД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(реши задачу: какое количество теплоты выделится при сжигании 4 моль угарного газа?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365120" y="533520"/>
            <a:ext cx="640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Химические свойства угарного газа</a:t>
            </a: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7:18:03Z</dcterms:created>
  <dc:creator>Алиханова Людмила Ренгольтовна</dc:creator>
  <dc:description/>
  <dc:language>en-US</dc:language>
  <cp:lastModifiedBy>Людмила</cp:lastModifiedBy>
  <dcterms:modified xsi:type="dcterms:W3CDTF">2013-03-01T05:31:28Z</dcterms:modified>
  <cp:revision>5</cp:revision>
  <dc:subject/>
  <dc:title>ТЕМА: УГЛЕРОД И ЕГО СОЕДИНЕНИЯ.</dc:title>
</cp:coreProperties>
</file>