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25B3-8637-474E-AC39-F852972899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4A40-3E5D-4247-8CFC-7FFBAA1BB160}" type="slidenum">
              <a:rPr b="0" lang="ru-RU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ЛАГОДАРЮ ВАС ЗА УРОК!!!  МОЖЕТЕ БЫТЬ СВОБОДНЫМИ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490C-4EC7-4371-BDCB-513CBAE2A08D}" type="slidenum">
              <a:rPr b="0" lang="ru-RU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ИМИЧЕСКИЕ СВОЙСТВА УГАРНОГО ГА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E80C-A1DA-451A-8FE0-B76BB254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9A6E-F2F9-446E-9833-F14E4106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51B2-91DB-43F4-A179-2D37B2623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234F-7D22-4268-A75B-2CC70E288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9CEC-B2F5-48AF-BDE7-1748F47DB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F5C8-5B6A-47EC-93CB-93806309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583D-DE91-46E7-8ECB-45EC8AA9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7B1F-0AC0-4F30-BF94-00C7679F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7BFC-1924-4889-B23D-6FBF7642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3589-6B1D-4C88-B7E3-A5635504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E6E8-451C-48FC-93CC-942A352C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9817-4601-4802-946A-C45BC1F3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116E-3350-427A-9700-C7DC9451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B290-DD68-458E-91C5-0863A41D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8DFC-9220-4789-B399-8AC03F5C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2F31-FED9-4308-80A5-FC5F4166D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2B11-7C57-447A-BB23-C72D1DF26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6404-5F6D-496C-BF96-9B969222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1B72-DD24-4E43-BA9B-2648AAF1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3A4C-5B02-4BB3-AD74-7257E48B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0656-D52F-46E6-8406-E03240E3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1398-B7ED-43B4-A894-9A47C92F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92E0-4EF6-4305-9A34-A5CC8632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BCEA-53D3-4E02-A8D7-1CC0EC53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037E-A169-4F02-9565-3006915794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0FF9-C3ED-410E-9860-4F245D105828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ТЕМА: УГЛЕРОД И ЕГО СОЕДИНЕНИЯ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О +С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 =С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+СО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2 (ОВР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 = С = О (вид связи?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Углекислый газ, </a:t>
            </a:r>
            <a:br>
              <a:rPr sz="3200"/>
            </a:b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состав, строение, свойства, значение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О</a:t>
            </a:r>
            <a:r>
              <a:rPr b="0" lang="ru-RU" sz="44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 +Н</a:t>
            </a:r>
            <a:r>
              <a:rPr b="0" lang="ru-RU" sz="44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 =Н</a:t>
            </a:r>
            <a:r>
              <a:rPr b="0" lang="ru-RU" sz="44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О</a:t>
            </a:r>
            <a:r>
              <a:rPr b="0" lang="ru-RU" sz="4400" spc="-1" strike="noStrike" baseline="-16000">
                <a:solidFill>
                  <a:srgbClr val="660066"/>
                </a:solidFill>
                <a:latin typeface="Tahoma"/>
              </a:rPr>
              <a:t>3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(тип реакций?)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О</a:t>
            </a:r>
            <a:r>
              <a:rPr b="0" lang="ru-RU" sz="44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+ СаО =СаСО</a:t>
            </a:r>
            <a:r>
              <a:rPr b="0" lang="ru-RU" sz="4400" spc="-1" strike="noStrike" baseline="-16000">
                <a:solidFill>
                  <a:srgbClr val="660066"/>
                </a:solidFill>
                <a:latin typeface="Tahoma"/>
              </a:rPr>
              <a:t>3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О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2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+2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Н =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3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+ Н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О</a:t>
            </a:r>
            <a:r>
              <a:rPr b="0" lang="ru-RU" sz="44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-это кислотный оксид.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 какими классами он реагирует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Опыт: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 Пропускание углекислого газа через известковую воду:</a:t>
            </a:r>
            <a:br>
              <a:rPr sz="3200"/>
            </a:b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м= 7,4г       -           м= х г</a:t>
            </a:r>
            <a:br>
              <a:rPr sz="3200"/>
            </a:b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Са(ОН)</a:t>
            </a:r>
            <a:r>
              <a:rPr b="0" lang="ru-RU" sz="32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 + СО</a:t>
            </a:r>
            <a:r>
              <a:rPr b="0" lang="ru-RU" sz="32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 =СаСО</a:t>
            </a:r>
            <a:r>
              <a:rPr b="0" lang="ru-RU" sz="3200" spc="-1" strike="noStrike" baseline="-14000">
                <a:solidFill>
                  <a:srgbClr val="660066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 +Н</a:t>
            </a:r>
            <a:r>
              <a:rPr b="0" lang="ru-RU" sz="32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О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4400"/>
            </a:b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Реши задачу</a:t>
            </a: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: какая масса карбоната кальция образуется из 7,4г гидроксида кальция?</a:t>
            </a:r>
            <a:br>
              <a:rPr sz="2400"/>
            </a:b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(Что делали   - Что наблюдали  - Выводы.)</a:t>
            </a:r>
            <a:br>
              <a:rPr sz="2400"/>
            </a:b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Опыт с яйцом:</a:t>
            </a:r>
            <a:br>
              <a:rPr sz="2400"/>
            </a:b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СаСО</a:t>
            </a:r>
            <a:r>
              <a:rPr b="0" lang="ru-RU" sz="2400" spc="-1" strike="noStrike" baseline="-16000">
                <a:solidFill>
                  <a:srgbClr val="660066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 +2НС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l</a:t>
            </a: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=СаС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l</a:t>
            </a:r>
            <a:r>
              <a:rPr b="0" lang="ru-RU" sz="24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 + Н</a:t>
            </a:r>
            <a:r>
              <a:rPr b="0" lang="ru-RU" sz="24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СО</a:t>
            </a:r>
            <a:r>
              <a:rPr b="0" lang="ru-RU" sz="2400" spc="-1" strike="noStrike" baseline="-16000">
                <a:solidFill>
                  <a:srgbClr val="660066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-(Н</a:t>
            </a:r>
            <a:r>
              <a:rPr b="0" lang="ru-RU" sz="24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О +СО</a:t>
            </a:r>
            <a:r>
              <a:rPr b="0" lang="ru-RU" sz="24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)</a:t>
            </a:r>
            <a:br>
              <a:rPr sz="2400"/>
            </a:b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(запишите его полное и сокращённое ионное уравнение)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О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2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+Н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 = Н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О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3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(Н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 + СО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15382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5" name="Picture 2" descr="A:\Сотникова А.В..jpg"/>
          <p:cNvPicPr/>
          <p:nvPr/>
        </p:nvPicPr>
        <p:blipFill>
          <a:blip r:embed="rId1"/>
          <a:stretch/>
        </p:blipFill>
        <p:spPr>
          <a:xfrm>
            <a:off x="838080" y="990720"/>
            <a:ext cx="815364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391520" cy="5410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Экологические проблемы и пути их решения</a:t>
            </a:r>
            <a:br>
              <a:rPr sz="2800"/>
            </a:b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Сжигание угля:</a:t>
            </a:r>
            <a:br>
              <a:rPr sz="2800"/>
            </a:b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С +О</a:t>
            </a:r>
            <a:r>
              <a:rPr b="0" lang="ru-RU" sz="28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 =СО</a:t>
            </a:r>
            <a:r>
              <a:rPr b="0" lang="ru-RU" sz="28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br>
              <a:rPr sz="2800"/>
            </a:b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Сжигание природного газа:</a:t>
            </a:r>
            <a:br>
              <a:rPr sz="2800"/>
            </a:b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СН</a:t>
            </a:r>
            <a:r>
              <a:rPr b="0" lang="ru-RU" sz="2800" spc="-1" strike="noStrike" baseline="-16000">
                <a:solidFill>
                  <a:srgbClr val="660066"/>
                </a:solidFill>
                <a:latin typeface="Tahoma"/>
              </a:rPr>
              <a:t>4</a:t>
            </a: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 +2О</a:t>
            </a:r>
            <a:r>
              <a:rPr b="0" lang="ru-RU" sz="28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  =СО</a:t>
            </a:r>
            <a:r>
              <a:rPr b="0" lang="ru-RU" sz="28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 +2Н</a:t>
            </a:r>
            <a:r>
              <a:rPr b="0" lang="ru-RU" sz="28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О</a:t>
            </a:r>
            <a:br>
              <a:rPr sz="2800"/>
            </a:b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Сжигание бензина:</a:t>
            </a:r>
            <a:br>
              <a:rPr sz="2800"/>
            </a:b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2С</a:t>
            </a:r>
            <a:r>
              <a:rPr b="0" lang="ru-RU" sz="2800" spc="-1" strike="noStrike" baseline="-16000">
                <a:solidFill>
                  <a:srgbClr val="660066"/>
                </a:solidFill>
                <a:latin typeface="Tahoma"/>
              </a:rPr>
              <a:t>8</a:t>
            </a: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Н</a:t>
            </a:r>
            <a:r>
              <a:rPr b="0" lang="ru-RU" sz="2800" spc="-1" strike="noStrike" baseline="-16000">
                <a:solidFill>
                  <a:srgbClr val="660066"/>
                </a:solidFill>
                <a:latin typeface="Tahoma"/>
              </a:rPr>
              <a:t>18</a:t>
            </a: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 + 25О</a:t>
            </a:r>
            <a:r>
              <a:rPr b="0" lang="ru-RU" sz="28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 =16СО</a:t>
            </a:r>
            <a:r>
              <a:rPr b="0" lang="ru-RU" sz="28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 +18Н</a:t>
            </a:r>
            <a:r>
              <a:rPr b="0" lang="ru-RU" sz="28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О</a:t>
            </a:r>
            <a:br>
              <a:rPr sz="2800"/>
            </a:b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октан (определи экзо-или эндотермические это реакции?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WordArt 4"/>
          <p:cNvSpPr txBox="1"/>
          <p:nvPr/>
        </p:nvSpPr>
        <p:spPr>
          <a:xfrm>
            <a:off x="762120" y="1828800"/>
            <a:ext cx="76197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пасибо за урок!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Цели: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Повторить,систематизировать и расширить знания учащихся по данной теме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Развивать логическое мышление учащихся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Прививать ответственность за получение знани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Положение углерода </a:t>
            </a:r>
            <a:br>
              <a:rPr sz="3600"/>
            </a:b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в П.С.Х.Э. Д.И.Менделеева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Название элемент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период, малый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V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группа, главная подгруппа (группа А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Х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/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знак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№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А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троение атома углерод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+ 6)</a:t>
            </a:r>
            <a:r>
              <a:rPr b="0" lang="ru-RU" sz="1400" spc="-1" strike="noStrike">
                <a:solidFill>
                  <a:srgbClr val="545472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)</a:t>
            </a:r>
            <a:r>
              <a:rPr b="0" lang="ru-RU" sz="1400" spc="-1" strike="noStrike">
                <a:solidFill>
                  <a:srgbClr val="545472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2 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р</a:t>
            </a:r>
            <a:r>
              <a:rPr b="0" lang="ru-RU" sz="1400" spc="-1" strike="noStrike">
                <a:solidFill>
                  <a:srgbClr val="545472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6019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КРЕМНИЙ:</a:t>
            </a:r>
            <a:br>
              <a:rPr sz="4400"/>
            </a:b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Строение атома:</a:t>
            </a:r>
            <a:br>
              <a:rPr sz="3600"/>
            </a:b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3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s2</a:t>
            </a: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р2</a:t>
            </a:r>
            <a:br>
              <a:rPr sz="3600"/>
            </a:b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перескок электронов: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[</a:t>
            </a: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11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]</a:t>
            </a: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[</a:t>
            </a: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]</a:t>
            </a: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[</a:t>
            </a: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]    [</a:t>
            </a: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]</a:t>
            </a: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[</a:t>
            </a: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]</a:t>
            </a: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[</a:t>
            </a: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]</a:t>
            </a: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[</a:t>
            </a: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]</a:t>
            </a:r>
            <a:br>
              <a:rPr sz="3600"/>
            </a:b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В природе:в организме человека массой 70 кг его содержится 16 кг а в мышечной ткани –64%, </a:t>
            </a:r>
            <a:br>
              <a:rPr sz="3600"/>
            </a:b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в костной –36%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Line 4"/>
          <p:cNvSpPr/>
          <p:nvPr/>
        </p:nvSpPr>
        <p:spPr>
          <a:xfrm>
            <a:off x="4191120" y="3809880"/>
            <a:ext cx="53316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Аллотропные видоизменения углерода:  </a:t>
            </a:r>
            <a:br>
              <a:rPr sz="3200"/>
            </a:b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1-алмаз</a:t>
            </a:r>
            <a:br>
              <a:rPr sz="3200"/>
            </a:b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2-графит</a:t>
            </a:r>
            <a:br>
              <a:rPr sz="3200"/>
            </a:b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Химические свойства углерода              </a:t>
            </a:r>
            <a:br>
              <a:rPr sz="3200"/>
            </a:b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Что делал - Что наблюдал – Выводы.</a:t>
            </a:r>
            <a:br>
              <a:rPr sz="6000"/>
            </a:br>
            <a:r>
              <a:rPr b="0" lang="ru-RU" sz="4800" spc="-1" strike="noStrike">
                <a:solidFill>
                  <a:srgbClr val="660066"/>
                </a:solidFill>
                <a:latin typeface="Tahoma"/>
              </a:rPr>
              <a:t>С +2Н</a:t>
            </a:r>
            <a:r>
              <a:rPr b="0" lang="ru-RU" sz="48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4800" spc="-1" strike="noStrike">
                <a:solidFill>
                  <a:srgbClr val="660066"/>
                </a:solidFill>
                <a:latin typeface="Tahoma"/>
              </a:rPr>
              <a:t> =СН</a:t>
            </a:r>
            <a:r>
              <a:rPr b="0" lang="ru-RU" sz="4800" spc="-1" strike="noStrike" baseline="-16000">
                <a:solidFill>
                  <a:srgbClr val="660066"/>
                </a:solidFill>
                <a:latin typeface="Tahoma"/>
              </a:rPr>
              <a:t>4</a:t>
            </a:r>
            <a:br>
              <a:rPr sz="4800"/>
            </a:br>
            <a:r>
              <a:rPr b="0" lang="ru-RU" sz="4800" spc="-1" strike="noStrike">
                <a:solidFill>
                  <a:srgbClr val="660066"/>
                </a:solidFill>
                <a:latin typeface="Tahoma"/>
              </a:rPr>
              <a:t>2С +Са =СаС</a:t>
            </a:r>
            <a:r>
              <a:rPr b="0" lang="ru-RU" sz="48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br>
              <a:rPr sz="4800"/>
            </a:br>
            <a:r>
              <a:rPr b="0" lang="ru-RU" sz="4800" spc="-1" strike="noStrike">
                <a:solidFill>
                  <a:srgbClr val="660066"/>
                </a:solidFill>
                <a:latin typeface="Tahoma"/>
              </a:rPr>
              <a:t>С +О</a:t>
            </a:r>
            <a:r>
              <a:rPr b="0" lang="ru-RU" sz="48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4800" spc="-1" strike="noStrike">
                <a:solidFill>
                  <a:srgbClr val="660066"/>
                </a:solidFill>
                <a:latin typeface="Tahoma"/>
              </a:rPr>
              <a:t> =СО</a:t>
            </a:r>
            <a:r>
              <a:rPr b="0" lang="ru-RU" sz="48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br>
              <a:rPr sz="4800"/>
            </a:br>
            <a:r>
              <a:rPr b="0" lang="ru-RU" sz="4800" spc="-1" strike="noStrike">
                <a:solidFill>
                  <a:srgbClr val="660066"/>
                </a:solidFill>
                <a:latin typeface="Tahoma"/>
              </a:rPr>
              <a:t>С +2С</a:t>
            </a:r>
            <a:r>
              <a:rPr b="0" lang="en-US" sz="4800" spc="-1" strike="noStrike">
                <a:solidFill>
                  <a:srgbClr val="660066"/>
                </a:solidFill>
                <a:latin typeface="Tahoma"/>
              </a:rPr>
              <a:t>u</a:t>
            </a:r>
            <a:r>
              <a:rPr b="0" lang="ru-RU" sz="4800" spc="-1" strike="noStrike">
                <a:solidFill>
                  <a:srgbClr val="660066"/>
                </a:solidFill>
                <a:latin typeface="Tahoma"/>
              </a:rPr>
              <a:t>О =2С</a:t>
            </a:r>
            <a:r>
              <a:rPr b="0" lang="en-US" sz="4800" spc="-1" strike="noStrike">
                <a:solidFill>
                  <a:srgbClr val="660066"/>
                </a:solidFill>
                <a:latin typeface="Tahoma"/>
              </a:rPr>
              <a:t>u</a:t>
            </a:r>
            <a:r>
              <a:rPr b="0" lang="ru-RU" sz="4800" spc="-1" strike="noStrike">
                <a:solidFill>
                  <a:srgbClr val="660066"/>
                </a:solidFill>
                <a:latin typeface="Tahoma"/>
              </a:rPr>
              <a:t> +СО</a:t>
            </a:r>
            <a:r>
              <a:rPr b="0" lang="ru-RU" sz="4800" spc="-1" strike="noStrike" baseline="-16000">
                <a:solidFill>
                  <a:srgbClr val="660066"/>
                </a:solidFill>
                <a:latin typeface="Tahoma"/>
              </a:rPr>
              <a:t>2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5715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ксид углерода (2),состав,строение, свойства, значение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2С  +О</a:t>
            </a: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=2СО (ОВР)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О</a:t>
            </a: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2 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+ С =2СО(ОВР)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Физические свойства СО (2)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М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 (C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) =28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М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(возд.) =29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Д=?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4моль         _              х кДж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2СО + О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2  =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2СО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2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+572 кДж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(реши задачу: какое количество теплоты выделится при сжигании 4 моль угарного газа?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365120" y="533520"/>
            <a:ext cx="640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Химические свойства угарного газа</a:t>
            </a:r>
            <a:br>
              <a:rPr sz="32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07:18:03Z</dcterms:created>
  <dc:creator>Алиханова Людмила Ренгольтовна</dc:creator>
  <dc:description/>
  <dc:language>en-US</dc:language>
  <cp:lastModifiedBy>Людмила</cp:lastModifiedBy>
  <dcterms:modified xsi:type="dcterms:W3CDTF">2013-03-01T05:31:28Z</dcterms:modified>
  <cp:revision>5</cp:revision>
  <dc:subject/>
  <dc:title>ТЕМА: УГЛЕРОД И ЕГО СОЕДИНЕНИЯ.</dc:title>
</cp:coreProperties>
</file>