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141-2D57-4212-A5C7-A6C2CBC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C3D-CB7A-4439-A023-E2A60B3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75C-58E1-467B-9A6D-729E71D8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9E4-92C5-4240-BF64-9759597E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5575-851D-47BE-9FB3-D94288D4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D943-8D23-4CB0-ADA2-5A9E3771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B50-B58C-41C1-BA57-DEE0566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638-D1C8-4862-AD6F-69B592C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B45-5E8B-4499-8BEB-DD7B2AC0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A8E-DD99-4799-96D3-3257226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3B96-1473-41E0-9700-ABDB355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34C-3466-4691-B09A-78FA86A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0B22-1CA4-4F8F-A945-65F727F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8F6-3D87-4DCE-852F-56980C2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91CB-0872-4523-8112-2E4E7EC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FEBD-521E-4A37-85CE-715F068E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780F-4C7A-44B2-BBA3-F1A45565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CFB-1588-4BB7-9923-06FC116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6DE-63AB-4A72-B8F5-27198CE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B87-F9F7-4235-9D5C-2D5DF1E9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9A1-855B-4B7D-975B-DA45A9B0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EB2-AD7E-4AB9-91C8-0ACE84C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E50-3160-40EA-A296-70A6113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1A0-67B2-4FAB-BE49-D2D1B0F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5E1C-B352-43D0-A723-2B362326A7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66A-FA89-41BC-8E86-62CC18724F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8920" y="0"/>
            <a:ext cx="6553080" cy="6524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1197000"/>
            <a:ext cx="4319640" cy="4206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68760" y="1201680"/>
            <a:ext cx="1800" cy="420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3284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40000" y="620640"/>
            <a:ext cx="431964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машлы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77336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3640" y="2349360"/>
            <a:ext cx="229752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Зат һә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предметларг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773360"/>
            <a:ext cx="19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ый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21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Предметның билгес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5772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Рәве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386064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Эш-хәл билгес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35772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ff"/>
                </a:solidFill>
                <a:latin typeface="Comic Sans MS"/>
              </a:rPr>
              <a:t>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3933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Предмет-ларның исәбен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25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250"/>
                            </p:stCondLst>
                            <p:childTnLst>
                              <p:par>
                                <p:cTn id="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250"/>
                            </p:stCondLst>
                            <p:childTnLst>
                              <p:par>
                                <p:cTn id="9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Comic Sans MS"/>
              </a:rPr>
              <a:t>Грамматик якта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Исем 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урынына йөри торган алмашлыклар килеш, сан һәм тартым белән төрләнәлә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b200"/>
                </a:solidFill>
                <a:latin typeface="Comic Sans MS"/>
              </a:rPr>
              <a:t>Сыйфатны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алыштыручылар тәрләнмиләр (исемләшмәгәндә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tt-RU" sz="2800" spc="-1" strike="noStrike">
                <a:solidFill>
                  <a:srgbClr val="ff9933"/>
                </a:solidFill>
                <a:latin typeface="Comic Sans MS"/>
              </a:rPr>
              <a:t>Рәвешне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алыштыручылар тәрләнмиләр (исемләшмәгәндә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66ff"/>
                </a:solidFill>
                <a:latin typeface="Comic Sans MS"/>
              </a:rPr>
              <a:t>Сан </a:t>
            </a: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урынына йөри торган алмашлыклар төрлечә үзгәрәлә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Comic Sans MS"/>
              </a:rPr>
              <a:t>Синтаксик якт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628640"/>
            <a:ext cx="22827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Бу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- минем ә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39240" y="1775880"/>
            <a:ext cx="2800800" cy="71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Хәбә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Минем әнием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шундый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2997360"/>
            <a:ext cx="20876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Тәмамл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безне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я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24280"/>
            <a:ext cx="237672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Хә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ем </a:t>
            </a: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шунда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эш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437000"/>
            <a:ext cx="25196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Аерг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0000"/>
                </a:solidFill>
                <a:latin typeface="Comic Sans MS"/>
              </a:rPr>
              <a:t>Минем </a:t>
            </a: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әнием м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692000" y="981000"/>
            <a:ext cx="158436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26920" y="1052640"/>
            <a:ext cx="1081080" cy="18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1052640"/>
            <a:ext cx="1008000" cy="19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981000"/>
            <a:ext cx="0" cy="345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1052640"/>
            <a:ext cx="25210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35640" y="3789360"/>
            <a:ext cx="3197160" cy="260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Лекс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Исем, сыйфат,сан һәм рәвеш урынына килеп,шул сү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төркемнәренең гомуми мәг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ъ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нәләренә ишарә итәлә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2.    Граммат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Үзләре белән мөнәсәбәттәш сүз төркемнәренең морфол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гик категорияләре буенча төрләнәлә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Синтаксик мәг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ъ</a:t>
            </a: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нә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tt-RU" sz="2400" spc="-1" strike="noStrike">
                <a:solidFill>
                  <a:srgbClr val="000000"/>
                </a:solidFill>
                <a:latin typeface="Comic Sans MS"/>
              </a:rPr>
              <a:t>Теләсә кайсы җөмлә кисәге булып килә 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2000" y="0"/>
            <a:ext cx="65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әтиҗ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4869000"/>
            <a:ext cx="4896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72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48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4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76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7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21:44Z</dcterms:created>
  <dc:creator>Айрат</dc:creator>
  <dc:description/>
  <dc:language>en-US</dc:language>
  <cp:lastModifiedBy>Айрат</cp:lastModifiedBy>
  <dcterms:modified xsi:type="dcterms:W3CDTF">2007-04-03T17:09:18Z</dcterms:modified>
  <cp:revision>2</cp:revision>
  <dc:subject/>
  <dc:title>Слайд 1</dc:title>
</cp:coreProperties>
</file>