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7306-EBF9-417F-AA2B-BC3D499F9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A6A1-5C92-439D-95B9-02249459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C897-D00D-481E-897E-480A3C1DA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3FBD-1E53-4312-B047-57CC343DB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30E3-D77D-41EF-B202-7C604B2DE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0BBB-E0E9-4A38-A7BB-CD55BBEF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2941-312B-4E38-BA5D-E35AA20A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9BBE9-FAA5-4B50-B5CE-E6573A5E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159A-51F2-48D5-940C-A5301F50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D5C39-2982-4DC2-A529-1AEC5EE7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21FF-CA08-4E3A-A1FE-537C2C54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10F8-9B1F-4DB5-BA20-8D2C9FAF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73DD-F883-4F6D-B4D6-D160AF4E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5578-21FF-407F-8C1A-CB36E20B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3C159-57B2-4AE1-A34C-A9705979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6BE01-3B18-4D61-83D7-A40286D83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2791-A649-4983-8278-D75070398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299C-1514-4052-BEAB-26BF2F04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4B78-C575-481A-8FB5-2A6F4B20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6457-6B71-40BB-8261-23666C18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9C79-6029-4F81-86A2-E13CDF3B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A62F-1D87-4687-AE20-3A967C17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FB62-EFC5-4AB2-8163-1622986B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C30D-E04F-44E5-AC8B-ADBD63B3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B1F0-60A7-48B4-AE1F-8DAD9CD46C6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705D-1DC9-4111-BF05-F04A812FD7D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258920" y="0"/>
            <a:ext cx="6553080" cy="65246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2920" y="1197000"/>
            <a:ext cx="4319640" cy="42069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568760" y="1201680"/>
            <a:ext cx="1800" cy="420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84360" y="3284640"/>
            <a:ext cx="42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340000" y="620640"/>
            <a:ext cx="4319640" cy="266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лмашлык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16360" y="1773360"/>
            <a:ext cx="1942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Ис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3640" y="2349360"/>
            <a:ext cx="2297520" cy="14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Зат һәм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предметларга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56000" y="1773360"/>
            <a:ext cx="1943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Сыйф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00720" y="2421000"/>
            <a:ext cx="2158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Comic Sans MS"/>
              </a:rPr>
              <a:t>Предметның билгесен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56000" y="3357720"/>
            <a:ext cx="1942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9933"/>
                </a:solidFill>
                <a:latin typeface="Comic Sans MS"/>
              </a:rPr>
              <a:t>Рәве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00360" y="3860640"/>
            <a:ext cx="194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Comic Sans MS"/>
              </a:rPr>
              <a:t>Эш-хәл билгесен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00720" y="3357720"/>
            <a:ext cx="1942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66ff"/>
                </a:solidFill>
                <a:latin typeface="Comic Sans MS"/>
              </a:rPr>
              <a:t>С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56000" y="3933720"/>
            <a:ext cx="19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Comic Sans MS"/>
              </a:rPr>
              <a:t>Предмет-ларның исәбен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500"/>
                            </p:stCondLst>
                            <p:childTnLst>
                              <p:par>
                                <p:cTn id="5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500"/>
                            </p:stCondLst>
                            <p:childTnLst>
                              <p:par>
                                <p:cTn id="7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9250"/>
                            </p:stCondLst>
                            <p:childTnLst>
                              <p:par>
                                <p:cTn id="8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4250"/>
                            </p:stCondLst>
                            <p:childTnLst>
                              <p:par>
                                <p:cTn id="8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8250"/>
                            </p:stCondLst>
                            <p:childTnLst>
                              <p:par>
                                <p:cTn id="9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55280" y="-243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ff0000"/>
                </a:solidFill>
                <a:latin typeface="Comic Sans MS"/>
              </a:rPr>
              <a:t>Грамматик яктан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0000"/>
                </a:solidFill>
                <a:latin typeface="Comic Sans MS"/>
              </a:rPr>
              <a:t>Исем </a:t>
            </a:r>
            <a:r>
              <a:rPr b="0" lang="tt-RU" sz="2800" spc="-1" strike="noStrike">
                <a:solidFill>
                  <a:srgbClr val="000000"/>
                </a:solidFill>
                <a:latin typeface="Comic Sans MS"/>
              </a:rPr>
              <a:t>урынына йөри торган алмашлыклар килеш, сан һәм тартым белән төрләнәләр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b200"/>
                </a:solidFill>
                <a:latin typeface="Comic Sans MS"/>
              </a:rPr>
              <a:t>Сыйфатны</a:t>
            </a:r>
            <a:r>
              <a:rPr b="0" lang="tt-RU" sz="2800" spc="-1" strike="noStrike">
                <a:solidFill>
                  <a:srgbClr val="000000"/>
                </a:solidFill>
                <a:latin typeface="Comic Sans MS"/>
              </a:rPr>
              <a:t> алыштыручылар тәрләнмиләр (исемләшмәгәндә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0" lang="tt-RU" sz="2800" spc="-1" strike="noStrike">
                <a:solidFill>
                  <a:srgbClr val="ff9933"/>
                </a:solidFill>
                <a:latin typeface="Comic Sans MS"/>
              </a:rPr>
              <a:t>Рәвешне</a:t>
            </a:r>
            <a:r>
              <a:rPr b="0" lang="tt-RU" sz="2800" spc="-1" strike="noStrike">
                <a:solidFill>
                  <a:srgbClr val="000000"/>
                </a:solidFill>
                <a:latin typeface="Comic Sans MS"/>
              </a:rPr>
              <a:t> алыштыручылар тәрләнмиләр (исемләшмәгәндә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66ff"/>
                </a:solidFill>
                <a:latin typeface="Comic Sans MS"/>
              </a:rPr>
              <a:t>Сан </a:t>
            </a:r>
            <a:r>
              <a:rPr b="0" lang="tt-RU" sz="2800" spc="-1" strike="noStrike">
                <a:solidFill>
                  <a:srgbClr val="000000"/>
                </a:solidFill>
                <a:latin typeface="Comic Sans MS"/>
              </a:rPr>
              <a:t>урынына йөри торган алмашлыклар төрлечә үзгәрәләр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10920" y="-459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0000"/>
                </a:solidFill>
                <a:latin typeface="Comic Sans MS"/>
              </a:rPr>
              <a:t>Синтаксик яктан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1628640"/>
            <a:ext cx="228276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0000"/>
                </a:solidFill>
                <a:latin typeface="Comic Sans MS"/>
              </a:rPr>
              <a:t>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0000"/>
                </a:solidFill>
                <a:latin typeface="Comic Sans MS"/>
              </a:rPr>
              <a:t>Бу</a:t>
            </a:r>
            <a:r>
              <a:rPr b="0" lang="tt-RU" sz="1800" spc="-1" strike="noStrike">
                <a:solidFill>
                  <a:srgbClr val="000000"/>
                </a:solidFill>
                <a:latin typeface="Comic Sans MS"/>
              </a:rPr>
              <a:t>- минем ә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439240" y="1775880"/>
            <a:ext cx="2800800" cy="713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0000"/>
                </a:solidFill>
                <a:latin typeface="Comic Sans MS"/>
              </a:rPr>
              <a:t>Хәбә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Comic Sans MS"/>
              </a:rPr>
              <a:t>Минем әнием </a:t>
            </a:r>
            <a:r>
              <a:rPr b="0" lang="tt-RU" sz="1800" spc="-1" strike="noStrike">
                <a:solidFill>
                  <a:srgbClr val="ff0000"/>
                </a:solidFill>
                <a:latin typeface="Comic Sans MS"/>
              </a:rPr>
              <a:t>шундый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4284720" y="2997360"/>
            <a:ext cx="208764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0000"/>
                </a:solidFill>
                <a:latin typeface="Comic Sans MS"/>
              </a:rPr>
              <a:t>Тәмамлы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Comic Sans MS"/>
              </a:rPr>
              <a:t>Әни </a:t>
            </a:r>
            <a:r>
              <a:rPr b="0" lang="tt-RU" sz="1800" spc="-1" strike="noStrike">
                <a:solidFill>
                  <a:srgbClr val="ff0000"/>
                </a:solidFill>
                <a:latin typeface="Comic Sans MS"/>
              </a:rPr>
              <a:t>безне </a:t>
            </a:r>
            <a:r>
              <a:rPr b="0" lang="tt-RU" sz="1800" spc="-1" strike="noStrike">
                <a:solidFill>
                  <a:srgbClr val="000000"/>
                </a:solidFill>
                <a:latin typeface="Comic Sans MS"/>
              </a:rPr>
              <a:t>я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87280" y="2924280"/>
            <a:ext cx="2376720" cy="11523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0000"/>
                </a:solidFill>
                <a:latin typeface="Comic Sans MS"/>
              </a:rPr>
              <a:t>Хә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Comic Sans MS"/>
              </a:rPr>
              <a:t>Әнием </a:t>
            </a:r>
            <a:r>
              <a:rPr b="0" lang="tt-RU" sz="1800" spc="-1" strike="noStrike">
                <a:solidFill>
                  <a:srgbClr val="ff0000"/>
                </a:solidFill>
                <a:latin typeface="Comic Sans MS"/>
              </a:rPr>
              <a:t>шунда </a:t>
            </a:r>
            <a:r>
              <a:rPr b="0" lang="tt-RU" sz="1800" spc="-1" strike="noStrike">
                <a:solidFill>
                  <a:srgbClr val="000000"/>
                </a:solidFill>
                <a:latin typeface="Comic Sans MS"/>
              </a:rPr>
              <a:t>эш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1640" y="4437000"/>
            <a:ext cx="251964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0000"/>
                </a:solidFill>
                <a:latin typeface="Comic Sans MS"/>
              </a:rPr>
              <a:t>Аергы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0000"/>
                </a:solidFill>
                <a:latin typeface="Comic Sans MS"/>
              </a:rPr>
              <a:t>Минем </a:t>
            </a:r>
            <a:r>
              <a:rPr b="0" lang="tt-RU" sz="1800" spc="-1" strike="noStrike">
                <a:solidFill>
                  <a:srgbClr val="000000"/>
                </a:solidFill>
                <a:latin typeface="Comic Sans MS"/>
              </a:rPr>
              <a:t>әнием мату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692000" y="981000"/>
            <a:ext cx="1584360" cy="647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626920" y="1052640"/>
            <a:ext cx="1081080" cy="18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67280" y="1052640"/>
            <a:ext cx="1008000" cy="194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24360" y="981000"/>
            <a:ext cx="0" cy="345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356000" y="1052640"/>
            <a:ext cx="2521080" cy="57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435640" y="3789360"/>
            <a:ext cx="3197160" cy="2602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9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000"/>
                            </p:stCondLst>
                            <p:childTnLst>
                              <p:par>
                                <p:cTn id="1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00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7500"/>
                            </p:stCondLst>
                            <p:childTnLst>
                              <p:par>
                                <p:cTn id="1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85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9000"/>
                            </p:stCondLst>
                            <p:childTnLst>
                              <p:par>
                                <p:cTn id="1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15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893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0000"/>
                </a:solidFill>
                <a:latin typeface="Comic Sans MS"/>
              </a:rPr>
              <a:t>Лексик мәг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ъ</a:t>
            </a:r>
            <a:r>
              <a:rPr b="0" lang="tt-RU" sz="2800" spc="-1" strike="noStrike">
                <a:solidFill>
                  <a:srgbClr val="ff0000"/>
                </a:solidFill>
                <a:latin typeface="Comic Sans MS"/>
              </a:rPr>
              <a:t>нәс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tt-RU" sz="2400" spc="-1" strike="noStrike">
                <a:solidFill>
                  <a:srgbClr val="000000"/>
                </a:solidFill>
                <a:latin typeface="Comic Sans MS"/>
              </a:rPr>
              <a:t>Исем, сыйфат,сан һәм рәвеш урынына килеп,шул сүз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Comic Sans MS"/>
              </a:rPr>
              <a:t>төркемнәренең гомуми мәг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ъ</a:t>
            </a:r>
            <a:r>
              <a:rPr b="0" lang="tt-RU" sz="2400" spc="-1" strike="noStrike">
                <a:solidFill>
                  <a:srgbClr val="000000"/>
                </a:solidFill>
                <a:latin typeface="Comic Sans MS"/>
              </a:rPr>
              <a:t>нәләренә ишарә итәләр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0000"/>
                </a:solidFill>
                <a:latin typeface="Comic Sans MS"/>
              </a:rPr>
              <a:t>2.    Грамматик мәг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ъ</a:t>
            </a:r>
            <a:r>
              <a:rPr b="0" lang="tt-RU" sz="2800" spc="-1" strike="noStrike">
                <a:solidFill>
                  <a:srgbClr val="ff0000"/>
                </a:solidFill>
                <a:latin typeface="Comic Sans MS"/>
              </a:rPr>
              <a:t>нәс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tt-RU" sz="2400" spc="-1" strike="noStrike">
                <a:solidFill>
                  <a:srgbClr val="000000"/>
                </a:solidFill>
                <a:latin typeface="Comic Sans MS"/>
              </a:rPr>
              <a:t>Үзләре белән мөнәсәбәттәш сүз төркемнәренең морфоло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Comic Sans MS"/>
              </a:rPr>
              <a:t>гик категорияләре буенча төрләнәләр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0000"/>
                </a:solidFill>
                <a:latin typeface="Comic Sans MS"/>
              </a:rPr>
              <a:t>Синтаксик мәг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ъ</a:t>
            </a:r>
            <a:r>
              <a:rPr b="0" lang="tt-RU" sz="2800" spc="-1" strike="noStrike">
                <a:solidFill>
                  <a:srgbClr val="ff0000"/>
                </a:solidFill>
                <a:latin typeface="Comic Sans MS"/>
              </a:rPr>
              <a:t>нәс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tt-RU" sz="2400" spc="-1" strike="noStrike">
                <a:solidFill>
                  <a:srgbClr val="000000"/>
                </a:solidFill>
                <a:latin typeface="Comic Sans MS"/>
              </a:rPr>
              <a:t>Теләсә кайсы җөмлә кисәге булып килә ал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332000" y="0"/>
            <a:ext cx="6553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Нәтиҗә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411280" y="4869000"/>
            <a:ext cx="4896000" cy="18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77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1" dur="770" fill="hold"/>
                                        <p:tgtEl>
                                          <p:spTgt spid="1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3" dur="77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5" dur="77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0"/>
                            </p:stCondLst>
                            <p:childTnLst>
                              <p:par>
                                <p:cTn id="24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77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77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7" dur="77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9" dur="77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7000"/>
                            </p:stCondLst>
                            <p:childTnLst>
                              <p:par>
                                <p:cTn id="2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872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480"/>
                            </p:stCondLst>
                            <p:childTnLst>
                              <p:par>
                                <p:cTn id="26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77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7" dur="77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9" dur="77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1" dur="77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2480"/>
                            </p:stCondLst>
                            <p:childTnLst>
                              <p:par>
                                <p:cTn id="2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4400"/>
                            </p:stCondLst>
                            <p:childTnLst>
                              <p:par>
                                <p:cTn id="2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5760"/>
                            </p:stCondLst>
                            <p:childTnLst>
                              <p:par>
                                <p:cTn id="28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77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77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1" dur="77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3" dur="77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7760"/>
                            </p:stCondLst>
                            <p:childTnLst>
                              <p:par>
                                <p:cTn id="2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15:21:44Z</dcterms:created>
  <dc:creator>Айрат</dc:creator>
  <dc:description/>
  <dc:language>en-US</dc:language>
  <cp:lastModifiedBy>Айрат</cp:lastModifiedBy>
  <dcterms:modified xsi:type="dcterms:W3CDTF">2007-04-03T17:09:18Z</dcterms:modified>
  <cp:revision>2</cp:revision>
  <dc:subject/>
  <dc:title>Слайд 1</dc:title>
</cp:coreProperties>
</file>