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C58B-9A3A-49F6-B92D-D84446493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D116-D986-46C4-8A58-406097C8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3765-579E-4746-A887-C194D743F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8585-9B77-4402-96CE-E5182A118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D5DD01-FA5A-40B6-A588-51767BC14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CEF0E-0E28-4B5F-9828-7D393B2C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67BD1-348C-4A22-8D2C-92ED42A9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3C152-DCFC-4933-B9FA-37411AA1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E8E019-07C9-414B-B63B-A76583A7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27A96-4C42-4FAB-8B7A-7B9FC072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D26A9-9488-40FB-8598-C9C06342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CF58-A39C-42A5-A95D-65419A05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1D5B0-271B-4F82-A912-A772BD07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53768-C53B-4056-8ADE-4A1BE243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59C6E0-B5EA-403A-B848-506B21C5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FCB539-7CD6-45C3-AA40-FFBF05368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FF57DE-55A6-4F9B-A818-17F0D98A4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20FB-4D48-4CC0-AA07-01D1EB2F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226E-C0B7-4781-B1C9-9878CE3D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B86A-78AF-460A-82C5-3090C0E0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D179-4055-4DA4-9655-6CAC14B6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B641-D259-469D-8E9F-BF75CEE8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100E-AF20-4B7E-B51B-3DF9A545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BC22-A4AC-4CF6-9CBB-AE007CD8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103D-A769-4682-B448-A8D3FD1429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BA8F-8CFD-4A9C-90A1-085B06A0F0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&#1052;&#1086;&#1080;%20&#1076;&#1086;&#1082;&#1091;&#1084;&#1077;&#1085;&#1090;&#1099;/&#1052;&#1086;&#1080;%20&#1088;&#1080;&#1089;&#1091;&#1085;&#1082;&#1080;/iceberg2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419720" y="1219320"/>
            <a:ext cx="4038480" cy="46479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28600" y="990720"/>
            <a:ext cx="4038480" cy="4952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2590920" y="304920"/>
            <a:ext cx="58482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родяги морей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Фабрика  айсберг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рабли обходят айсберги стороной, ученые их изучают, а любители необычного устремляются к ледяным гигант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9913680" y="6858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697320" y="5029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219320" y="3124080"/>
            <a:ext cx="7086600" cy="345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становка в пути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редко ледяные горы преграждают путь пингвинам, мигрирующим с одного арктического острова на другой. Уставшие птицы устраивают на айсберге перевалочный пунк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се краски ль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Эти плавающие горы всегда представляют опасность для судов. Но их краса влечет искателей приключе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914400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крытая угроз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сновная часть ледяного гиганта скрыта под водой. Верхушка – это всего одна шестая айсберг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1447920"/>
            <a:ext cx="881388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пасно для суд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езервуары пресной в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а год океан принимает 3500 кубических километров ль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za</cp:lastModifiedBy>
  <dcterms:modified xsi:type="dcterms:W3CDTF">2010-01-29T18:41:56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