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21D-796A-4A58-BB59-481C81B2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22D-DCF0-420A-973F-0BE19ACA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17F-DC36-4116-967E-9FB06E9E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EF8-E5D9-40B7-A558-FD12A284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98D40-8F6D-4AD6-A318-B66DB282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1FFAB-6A47-4E81-AA20-1E488BC3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618DB-5FC1-4AEB-A8EF-4254A4E2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6AA63-04CB-456D-8220-BC2A01B4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E6960-AC17-48B9-BFE7-2F59452E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08744-BC97-4DC7-8268-205B78D8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BED7A-6F6C-490C-B869-C9369F24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AF9-29A4-4DF1-8B4D-68D10182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57667-35FE-4C34-BB97-875F3FE7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821C9-AA6D-42C3-A125-3720BB06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91FDE-D63F-4EEE-ACAF-8F298603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1D043-BF6F-4F93-B295-F5BEA296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E3853-6E9D-4876-865F-AF895E4F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A1E-BF43-4926-8734-2E4E6329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DEE-7F6E-4358-B668-5D2CC318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C37-A697-44D3-A484-8F87D9DA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618-947E-4D8F-AED5-93B88B70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CB9-BE23-4F28-9287-20F53A4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CBC-39DF-458F-8A24-87857F44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C28-8F58-4343-A77C-4C43284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BD7B-73C7-404C-8CEA-CB893CD45A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C671-7A93-4428-945B-9333E9DB51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&#1052;&#1086;&#1080;%20&#1076;&#1086;&#1082;&#1091;&#1084;&#1077;&#1085;&#1090;&#1099;/&#1052;&#1086;&#1080;%20&#1088;&#1080;&#1089;&#1091;&#1085;&#1082;&#1080;/iceberg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038480" cy="464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4038480" cy="495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90920" y="304920"/>
            <a:ext cx="58482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родяги море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абрика  айсберг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абли обходят айсберги стороной, ученые их изучают, а любители необычного устремляются к ледяным гиган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913680" y="6858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697320" y="5029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7086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тановка в пути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редко ледяные горы преграждают путь пингвинам, мигрирующим с одного арктического острова на другой. Уставшие птицы устраивают на айсберге перевалочный пун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се краски ль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и плавающие горы всегда представляют опасность для судов. Но их краса влечет искателей приключ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крытая угро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ная часть ледяного гиганта скрыта под водой. Верхушка – это всего одна шестая айсбе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88138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асно для суд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зервуары пресной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 год океан принимает 3500 кубических километров ль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za</cp:lastModifiedBy>
  <dcterms:modified xsi:type="dcterms:W3CDTF">2010-01-29T18:41:5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