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D890-D5ED-458C-91AF-B15A21622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BC1C-35E1-43AF-96DD-2FDE0EE0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8EAF-0B80-42BE-B856-3D5F82468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49FE-0254-4C64-A9EB-F0778F72A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D5E3-99A9-437D-9396-BB3AF3EBD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5F78-3414-4BD1-BDFC-F99F0726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55FD-60D8-4236-85A5-2D59154F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D863-8430-44E5-9039-E878D7F4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B469-41CA-4AF5-8492-A4BBDEF7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5206-8234-4D4C-8C99-57941D88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6460-5473-49BC-874D-D795E91C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09EA-7584-431D-AB34-532CE16A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92D6-9AE0-4E87-B90A-FB820423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6ADD-E06B-4B3D-BDCF-D687A074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180A-70DA-454A-9B59-352E4120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6D3F-FBF7-4C4E-85FD-07E8395E9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DC27-229E-4AAD-8F31-96F5ECC36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41C2D6-3494-461B-886B-4E02CB33C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285EED-B885-42AE-B42A-EFCEA057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43ECC7-87BD-4A24-A086-A5DB8A75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F82E41-7726-4B65-B5B0-BED157A6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0CEBC3-407C-4A2A-A39B-A037AF8C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83ED-3E7C-43DF-83F5-4674DE30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B3B389-54A8-4628-B0F4-A15580B1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4B33CE-BBC1-4332-813F-DF199B65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79D387-299B-4B7C-8752-59453B46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7F4A8C-B6A4-4A7A-B72F-1DE8144C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7C82D1-1D82-46D5-9A15-2FF8E46F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0FA86E-614E-4E37-BDDB-EA9D7E789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9477E7-8009-479F-A744-854E07FB1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16CA0-CEA3-4667-B641-3D8D718BC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A48CE-E5FB-47FE-8896-83D9BF67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44400-976A-400B-B827-E4A7946A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4306-5F27-49F2-BD8C-C97BA23E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6C189-8DCE-48AC-8FF8-2669BE7C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DA083-435C-43E0-9447-DD8DDDA6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AD795-C413-44DF-AB23-9EA9ABE7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2C9D7-D4CF-426A-B1F2-7A8CB4E5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83DAD-5060-4D87-856E-34384CBE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992D9-DD95-4964-B40E-F0A78BD8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BEA4D-C31B-4A97-9D03-471583A1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2B99D-DC86-4D34-B461-5EAB67120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37AFE-DEFC-4444-8B3C-E54E0E472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5DF0D8-733E-41E8-BA84-8274B96CE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F519-7045-4572-8838-B33F4FD8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3453EA-DC6A-4D5A-B7AA-B169F77D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2DB031-F4FA-4BFC-9A6D-4478C857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7E1F97-D59A-4FD5-9C96-9B64D3D0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C2B2EB-3917-4E69-A934-EDAA4527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03BB51-DFEB-4CB0-8DEE-252AE488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E7E790-E491-4206-AE91-0547C733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C08A02-324B-4E14-8690-ABEC8ACC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F21C02-9D48-4A80-923E-01511802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84E539-BE31-40AC-BF88-F7FC23A3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C70C3A-8F0B-4B8C-B044-676AD30E7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85DB-4338-4369-A1EF-9B4178AD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FA3DEC-D3A7-4C77-9CB1-33625449F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744DE5-5772-4706-A249-815B68CF2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02E7C9-C273-4197-88FF-60235174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1699CF-7DD7-4E00-B71E-05C631B2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EF30B3-FE93-448A-977D-459E7469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FDA862-85D9-4605-84E4-4465C8D2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FB5538-A876-4D18-935C-1944C869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0F3889-A773-4528-94DA-DE06589F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BD9F3C-7B83-4FE5-8B06-80D07B79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EE8F56-54E0-485B-B0DC-A5E5B4A2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A122-912E-45D2-8C45-87BF2B5B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980F8D-9D78-46E5-81C8-B08BFAD4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725E93-342B-47DC-B0FA-3E2F97332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70161E-3399-4325-B25C-4EB2EE390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29E4E0-B55C-45F0-815E-03CD91044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CE194E-243C-465D-B1B5-6DFE4159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D1E001-D50A-48BE-85A7-D115132A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6BDCD2-A2CA-4E17-A1DA-6FF4CBF4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B8F1D4-C564-4047-AD8D-0F0F68B0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BEBF98-CAAA-4481-8DC0-3FD8F5E2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93F412-8C65-4D74-83E7-81AA7CDB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E313-9B33-41A1-A73C-8F0A3884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860148-BBED-40F0-A514-7D7AC198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58246F-C390-489E-BAFA-BC28DFB3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7694F4-FAFD-4129-910E-059B37BC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F5705A-268A-419F-BF00-0BB73FE59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4F96D6-2BBE-483C-BB5C-75AC6C261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FCB3-C613-4508-9442-5021115D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60CF-78F8-4143-97F2-9CB5ECB6BE3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6938-58E1-4B87-8702-1066474DA76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C0D1-B8D2-4E19-B036-5534A591B53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EBFC-389C-4DB2-A05D-B2EE9B1D4DB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83C4-6B0F-4AC1-938F-002335F4D7E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087D-A6DC-4563-A1E7-C7C57DDC641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CE50-C57F-4392-B7E8-4E7438619C7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ИГРОВЫЕ ТЕХНОЛОГИИ НА УРОКАХ МАТЕМАТИК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Учитель: Сюсина Анастасия Владимировн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1071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ОСНОВНЫМИ СТРУКТУРНЫМИ КОМПОНЕНТАМИ ДИДАКТИЧЕСКОЙ ИГРЫ ЯВЛЯЮТСЯ: 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28400" y="2571480"/>
            <a:ext cx="7467480" cy="38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гровой замысел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авила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гровые действия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знавательное содержание или дидактические задачи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орудование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езультат игр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575f6d"/>
                </a:solidFill>
                <a:uFillTx/>
                <a:latin typeface="Century Schoolbook"/>
              </a:rPr>
              <a:t>ИГРА «МАТЕМАТИЧЕСКОЕ ЛОТО - ПАЗЛЫ»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500040" y="2857680"/>
          <a:ext cx="7467480" cy="2971800"/>
        </p:xfrm>
        <a:graphic>
          <a:graphicData uri="http://schemas.openxmlformats.org/drawingml/2006/table">
            <a:tbl>
              <a:tblPr/>
              <a:tblGrid>
                <a:gridCol w="2489400"/>
                <a:gridCol w="2489040"/>
                <a:gridCol w="2489040"/>
              </a:tblGrid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502-122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734+204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256+54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6-13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2-22 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65-06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78+2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219 - 213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7+102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sp>
        <p:nvSpPr>
          <p:cNvPr id="374" name="TextBox 4"/>
          <p:cNvSpPr/>
          <p:nvPr/>
        </p:nvSpPr>
        <p:spPr>
          <a:xfrm>
            <a:off x="714240" y="1357200"/>
            <a:ext cx="63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точка для ре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КАРТИНКА С ОТВЕТАМИ НА ОБРАТНОЙ СТОРОНЕ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6" name="Содержимое 3" descr="016.jpg"/>
          <p:cNvPicPr/>
          <p:nvPr/>
        </p:nvPicPr>
        <p:blipFill>
          <a:blip r:embed="rId1"/>
          <a:stretch/>
        </p:blipFill>
        <p:spPr>
          <a:xfrm>
            <a:off x="941400" y="1600200"/>
            <a:ext cx="6499080" cy="4873680"/>
          </a:xfrm>
          <a:prstGeom prst="rect">
            <a:avLst/>
          </a:prstGeom>
          <a:ln w="9360">
            <a:solidFill>
              <a:srgbClr val="b32c16"/>
            </a:solidFill>
            <a:miter/>
          </a:ln>
        </p:spPr>
      </p:pic>
      <p:graphicFrame>
        <p:nvGraphicFramePr>
          <p:cNvPr id="377" name=""/>
          <p:cNvGraphicFramePr/>
          <p:nvPr/>
        </p:nvGraphicFramePr>
        <p:xfrm>
          <a:off x="928800" y="1571760"/>
          <a:ext cx="6500880" cy="4889520"/>
        </p:xfrm>
        <a:graphic>
          <a:graphicData uri="http://schemas.openxmlformats.org/drawingml/2006/table">
            <a:tbl>
              <a:tblPr/>
              <a:tblGrid>
                <a:gridCol w="2143080"/>
                <a:gridCol w="2190600"/>
                <a:gridCol w="2167200"/>
              </a:tblGrid>
              <a:tr h="16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941400" y="1590840"/>
          <a:ext cx="2130480" cy="4910040"/>
        </p:xfrm>
        <a:graphic>
          <a:graphicData uri="http://schemas.openxmlformats.org/drawingml/2006/table">
            <a:tbl>
              <a:tblPr/>
              <a:tblGrid>
                <a:gridCol w="2130480"/>
              </a:tblGrid>
              <a:tr h="49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928800" y="3200400"/>
          <a:ext cx="6500880" cy="1636560"/>
        </p:xfrm>
        <a:graphic>
          <a:graphicData uri="http://schemas.openxmlformats.org/drawingml/2006/table">
            <a:tbl>
              <a:tblPr/>
              <a:tblGrid>
                <a:gridCol w="6500880"/>
              </a:tblGrid>
              <a:tr h="16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ru-RU" sz="2700" spc="-1" strike="noStrike" u="sng">
                <a:solidFill>
                  <a:srgbClr val="575f6d"/>
                </a:solidFill>
                <a:uFillTx/>
                <a:latin typeface="Century Schoolbook"/>
              </a:rPr>
              <a:t>ЦЕПОЧКА ДЛЯ УСТНОГО СЧЕТА.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grpSp>
        <p:nvGrpSpPr>
          <p:cNvPr id="381" name="Содержимое 3"/>
          <p:cNvGrpSpPr/>
          <p:nvPr/>
        </p:nvGrpSpPr>
        <p:grpSpPr>
          <a:xfrm>
            <a:off x="500040" y="1143000"/>
            <a:ext cx="8072640" cy="4873680"/>
            <a:chOff x="500040" y="1143000"/>
            <a:chExt cx="8072640" cy="4873680"/>
          </a:xfrm>
        </p:grpSpPr>
        <p:sp>
          <p:nvSpPr>
            <p:cNvPr id="382" name="Text Box 26"/>
            <p:cNvSpPr/>
            <p:nvPr/>
          </p:nvSpPr>
          <p:spPr>
            <a:xfrm>
              <a:off x="500040" y="3970440"/>
              <a:ext cx="1329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ff"/>
                  </a:solidFill>
                  <a:latin typeface="Arial"/>
                </a:rPr>
                <a:t>*10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4"/>
            <p:cNvSpPr/>
            <p:nvPr/>
          </p:nvSpPr>
          <p:spPr>
            <a:xfrm>
              <a:off x="1158840" y="1744920"/>
              <a:ext cx="1324800" cy="842040"/>
            </a:xfrm>
            <a:prstGeom prst="rect">
              <a:avLst/>
            </a:prstGeom>
            <a:solidFill>
              <a:srgbClr val="ffe7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5"/>
            <p:cNvSpPr/>
            <p:nvPr/>
          </p:nvSpPr>
          <p:spPr>
            <a:xfrm>
              <a:off x="1291680" y="1685160"/>
              <a:ext cx="1323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0000ff"/>
                  </a:solidFill>
                  <a:latin typeface="Arial"/>
                </a:rPr>
                <a:t>20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6"/>
            <p:cNvSpPr/>
            <p:nvPr/>
          </p:nvSpPr>
          <p:spPr>
            <a:xfrm>
              <a:off x="2484000" y="2165400"/>
              <a:ext cx="105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7"/>
            <p:cNvSpPr/>
            <p:nvPr/>
          </p:nvSpPr>
          <p:spPr>
            <a:xfrm>
              <a:off x="2549520" y="1143000"/>
              <a:ext cx="1125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0000ff"/>
                  </a:solidFill>
                  <a:latin typeface="Arial"/>
                </a:rPr>
                <a:t>*5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8"/>
            <p:cNvSpPr/>
            <p:nvPr/>
          </p:nvSpPr>
          <p:spPr>
            <a:xfrm>
              <a:off x="3541680" y="1503720"/>
              <a:ext cx="1323360" cy="1202760"/>
            </a:xfrm>
            <a:prstGeom prst="ellipse">
              <a:avLst/>
            </a:prstGeom>
            <a:solidFill>
              <a:srgbClr val="ffe7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9"/>
            <p:cNvSpPr/>
            <p:nvPr/>
          </p:nvSpPr>
          <p:spPr>
            <a:xfrm>
              <a:off x="4865040" y="2165400"/>
              <a:ext cx="119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0"/>
            <p:cNvSpPr/>
            <p:nvPr/>
          </p:nvSpPr>
          <p:spPr>
            <a:xfrm>
              <a:off x="6057360" y="1564560"/>
              <a:ext cx="1388880" cy="1022400"/>
            </a:xfrm>
            <a:prstGeom prst="rect">
              <a:avLst/>
            </a:prstGeom>
            <a:solidFill>
              <a:srgbClr val="ffe7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1"/>
            <p:cNvSpPr/>
            <p:nvPr/>
          </p:nvSpPr>
          <p:spPr>
            <a:xfrm>
              <a:off x="4932360" y="1143000"/>
              <a:ext cx="9921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0000ff"/>
                  </a:solidFill>
                  <a:latin typeface="Arial"/>
                </a:rPr>
                <a:t>: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12"/>
            <p:cNvSpPr/>
            <p:nvPr/>
          </p:nvSpPr>
          <p:spPr>
            <a:xfrm>
              <a:off x="6918120" y="2586960"/>
              <a:ext cx="0" cy="66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3"/>
            <p:cNvSpPr/>
            <p:nvPr/>
          </p:nvSpPr>
          <p:spPr>
            <a:xfrm>
              <a:off x="6255720" y="3249000"/>
              <a:ext cx="1390320" cy="1143000"/>
            </a:xfrm>
            <a:prstGeom prst="ellipse">
              <a:avLst/>
            </a:prstGeom>
            <a:solidFill>
              <a:srgbClr val="ffe7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4"/>
            <p:cNvSpPr/>
            <p:nvPr/>
          </p:nvSpPr>
          <p:spPr>
            <a:xfrm>
              <a:off x="7116480" y="2586960"/>
              <a:ext cx="14562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0000ff"/>
                  </a:solidFill>
                  <a:latin typeface="Arial"/>
                </a:rPr>
                <a:t>-17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15"/>
            <p:cNvSpPr/>
            <p:nvPr/>
          </p:nvSpPr>
          <p:spPr>
            <a:xfrm>
              <a:off x="6984000" y="4392000"/>
              <a:ext cx="0" cy="48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6"/>
            <p:cNvSpPr/>
            <p:nvPr/>
          </p:nvSpPr>
          <p:spPr>
            <a:xfrm>
              <a:off x="6057360" y="4873680"/>
              <a:ext cx="1388880" cy="1022400"/>
            </a:xfrm>
            <a:prstGeom prst="rect">
              <a:avLst/>
            </a:prstGeom>
            <a:solidFill>
              <a:srgbClr val="ffe7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17"/>
            <p:cNvSpPr/>
            <p:nvPr/>
          </p:nvSpPr>
          <p:spPr>
            <a:xfrm>
              <a:off x="7446240" y="3970440"/>
              <a:ext cx="10591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0000ff"/>
                  </a:solidFill>
                  <a:latin typeface="Arial"/>
                </a:rPr>
                <a:t>*3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8"/>
            <p:cNvSpPr/>
            <p:nvPr/>
          </p:nvSpPr>
          <p:spPr>
            <a:xfrm flipH="1">
              <a:off x="4864680" y="5353560"/>
              <a:ext cx="119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19"/>
            <p:cNvSpPr/>
            <p:nvPr/>
          </p:nvSpPr>
          <p:spPr>
            <a:xfrm>
              <a:off x="4535280" y="4451760"/>
              <a:ext cx="14562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0000ff"/>
                  </a:solidFill>
                  <a:latin typeface="Arial"/>
                </a:rPr>
                <a:t>-12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20"/>
            <p:cNvSpPr/>
            <p:nvPr/>
          </p:nvSpPr>
          <p:spPr>
            <a:xfrm>
              <a:off x="3476160" y="4812480"/>
              <a:ext cx="1388880" cy="1204200"/>
            </a:xfrm>
            <a:prstGeom prst="ellipse">
              <a:avLst/>
            </a:prstGeom>
            <a:solidFill>
              <a:srgbClr val="ffe7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21"/>
            <p:cNvSpPr/>
            <p:nvPr/>
          </p:nvSpPr>
          <p:spPr>
            <a:xfrm flipH="1">
              <a:off x="2350800" y="5414760"/>
              <a:ext cx="112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22"/>
            <p:cNvSpPr/>
            <p:nvPr/>
          </p:nvSpPr>
          <p:spPr>
            <a:xfrm>
              <a:off x="2484000" y="4451760"/>
              <a:ext cx="9262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0000ff"/>
                  </a:solidFill>
                  <a:latin typeface="Arial"/>
                </a:rPr>
                <a:t>:6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23"/>
            <p:cNvSpPr/>
            <p:nvPr/>
          </p:nvSpPr>
          <p:spPr>
            <a:xfrm>
              <a:off x="1158840" y="4753080"/>
              <a:ext cx="1191960" cy="1202760"/>
            </a:xfrm>
            <a:prstGeom prst="rect">
              <a:avLst/>
            </a:prstGeom>
            <a:solidFill>
              <a:srgbClr val="ffe7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25"/>
            <p:cNvSpPr/>
            <p:nvPr/>
          </p:nvSpPr>
          <p:spPr>
            <a:xfrm flipV="1">
              <a:off x="1755720" y="4150800"/>
              <a:ext cx="0" cy="60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utoShape 27"/>
            <p:cNvSpPr/>
            <p:nvPr/>
          </p:nvSpPr>
          <p:spPr>
            <a:xfrm>
              <a:off x="1158840" y="3128400"/>
              <a:ext cx="1257480" cy="1022400"/>
            </a:xfrm>
            <a:prstGeom prst="triangle">
              <a:avLst>
                <a:gd name="adj" fmla="val 50000"/>
              </a:avLst>
            </a:prstGeom>
            <a:solidFill>
              <a:srgbClr val="ffe7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pSp>
        <p:nvGrpSpPr>
          <p:cNvPr id="406" name="Содержимое 3"/>
          <p:cNvGrpSpPr/>
          <p:nvPr/>
        </p:nvGrpSpPr>
        <p:grpSpPr>
          <a:xfrm>
            <a:off x="866520" y="642960"/>
            <a:ext cx="6683400" cy="5019480"/>
            <a:chOff x="866520" y="642960"/>
            <a:chExt cx="6683400" cy="5019480"/>
          </a:xfrm>
        </p:grpSpPr>
        <p:sp>
          <p:nvSpPr>
            <p:cNvPr id="407" name="TextBox 33"/>
            <p:cNvSpPr/>
            <p:nvPr/>
          </p:nvSpPr>
          <p:spPr>
            <a:xfrm>
              <a:off x="866520" y="2216880"/>
              <a:ext cx="5298480" cy="34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000000"/>
                  </a:solidFill>
                  <a:latin typeface="Century Schoolbook"/>
                </a:rPr>
                <a:t>( x  +  29 )  -  35  =  5,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000000"/>
                  </a:solidFill>
                  <a:latin typeface="Century Schoolbook"/>
                </a:rPr>
                <a:t>x + 29  =         +      ,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000000"/>
                  </a:solidFill>
                  <a:latin typeface="Century Schoolbook"/>
                </a:rPr>
                <a:t>x  +         =       ,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000000"/>
                  </a:solidFill>
                  <a:latin typeface="Century Schoolbook"/>
                </a:rPr>
                <a:t>x =                   ,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000000"/>
                  </a:solidFill>
                  <a:latin typeface="Century Schoolbook"/>
                </a:rPr>
                <a:t>x =        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Box 4"/>
            <p:cNvSpPr/>
            <p:nvPr/>
          </p:nvSpPr>
          <p:spPr>
            <a:xfrm>
              <a:off x="1852200" y="642960"/>
              <a:ext cx="5697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575f6d"/>
                  </a:solidFill>
                  <a:latin typeface="Century Schoolbook"/>
                </a:rPr>
                <a:t>Заполни пропуски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Прямоугольник 6"/>
          <p:cNvSpPr/>
          <p:nvPr/>
        </p:nvSpPr>
        <p:spPr>
          <a:xfrm>
            <a:off x="2928960" y="3143160"/>
            <a:ext cx="1000080" cy="357120"/>
          </a:xfrm>
          <a:prstGeom prst="rect">
            <a:avLst/>
          </a:prstGeom>
          <a:solidFill>
            <a:srgbClr val="ffe7d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8"/>
          <p:cNvSpPr/>
          <p:nvPr/>
        </p:nvSpPr>
        <p:spPr>
          <a:xfrm>
            <a:off x="4643280" y="3071880"/>
            <a:ext cx="714600" cy="428400"/>
          </a:xfrm>
          <a:prstGeom prst="rect">
            <a:avLst/>
          </a:prstGeom>
          <a:solidFill>
            <a:srgbClr val="ffe7d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9"/>
          <p:cNvSpPr/>
          <p:nvPr/>
        </p:nvSpPr>
        <p:spPr>
          <a:xfrm>
            <a:off x="1571760" y="3786120"/>
            <a:ext cx="1143000" cy="428760"/>
          </a:xfrm>
          <a:prstGeom prst="rect">
            <a:avLst/>
          </a:prstGeom>
          <a:solidFill>
            <a:srgbClr val="ffe7d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10"/>
          <p:cNvSpPr/>
          <p:nvPr/>
        </p:nvSpPr>
        <p:spPr>
          <a:xfrm>
            <a:off x="3357720" y="3786120"/>
            <a:ext cx="928440" cy="428760"/>
          </a:xfrm>
          <a:prstGeom prst="rect">
            <a:avLst/>
          </a:prstGeom>
          <a:solidFill>
            <a:srgbClr val="ffe7d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оугольник 11"/>
          <p:cNvSpPr/>
          <p:nvPr/>
        </p:nvSpPr>
        <p:spPr>
          <a:xfrm>
            <a:off x="1428840" y="4429080"/>
            <a:ext cx="714240" cy="428760"/>
          </a:xfrm>
          <a:prstGeom prst="rect">
            <a:avLst/>
          </a:prstGeom>
          <a:solidFill>
            <a:srgbClr val="ffe7d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оугольник 12"/>
          <p:cNvSpPr/>
          <p:nvPr/>
        </p:nvSpPr>
        <p:spPr>
          <a:xfrm>
            <a:off x="2357280" y="4429080"/>
            <a:ext cx="642960" cy="428760"/>
          </a:xfrm>
          <a:prstGeom prst="rect">
            <a:avLst/>
          </a:prstGeom>
          <a:solidFill>
            <a:srgbClr val="ffe7d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13"/>
          <p:cNvSpPr/>
          <p:nvPr/>
        </p:nvSpPr>
        <p:spPr>
          <a:xfrm>
            <a:off x="3286080" y="4429080"/>
            <a:ext cx="785880" cy="428760"/>
          </a:xfrm>
          <a:prstGeom prst="rect">
            <a:avLst/>
          </a:prstGeom>
          <a:solidFill>
            <a:srgbClr val="ffe7d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14"/>
          <p:cNvSpPr/>
          <p:nvPr/>
        </p:nvSpPr>
        <p:spPr>
          <a:xfrm>
            <a:off x="1500120" y="5143680"/>
            <a:ext cx="928800" cy="500040"/>
          </a:xfrm>
          <a:prstGeom prst="rect">
            <a:avLst/>
          </a:prstGeom>
          <a:solidFill>
            <a:srgbClr val="ffe7d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НАЙДИ ОШИБКУ.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(72 - 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) +53 = 86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72 – 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= 53 + 86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72 – 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= 139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= 139 + 72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= 33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идактическая игра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не самоцель на уроке, а средство обучения и воспитания. Использование дидактической игры в системе обучения математике в 5-11 классах является важным средством интенсификации учебной деятельности школьников, осуществления преемственности между обучением в 1-4 и 5-11 классах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3" name="Прямоугольник 3" descr=""/>
          <p:cNvPicPr/>
          <p:nvPr/>
        </p:nvPicPr>
        <p:blipFill>
          <a:blip r:embed="rId1"/>
          <a:stretch/>
        </p:blipFill>
        <p:spPr>
          <a:xfrm>
            <a:off x="1212840" y="2779560"/>
            <a:ext cx="648036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08440"/>
            <a:ext cx="746748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28760" y="10000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Если ученик в школе не научился сам ничего творить, то в жизни он всегда будет только подражать, копировать…». Л.Н.Толст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Содержимое 7" descr="Kramskoy_Ivan_Nickolaevich_Portrait_of_the_Writer_L_N_Tolstoy_a_fragment_art_gallerys_prints_arts_b.jpg"/>
          <p:cNvPicPr/>
          <p:nvPr/>
        </p:nvPicPr>
        <p:blipFill>
          <a:blip r:embed="rId1"/>
          <a:stretch/>
        </p:blipFill>
        <p:spPr>
          <a:xfrm>
            <a:off x="4292640" y="1600200"/>
            <a:ext cx="3612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428760"/>
            <a:ext cx="81154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Технология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 от греч. «техне» - искусство, мастерство, умение, и «логос» - учение, наука, закон; буквально) - это учение о мастерстве, умении специалиста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Игровые уроки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это умение учителя показать своё мастерство, искусство, знание предмета, свой артистизм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Игр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- это путь к познанию ребёнком самого себя, своих возможностей, способностей, своих предел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499680"/>
            <a:ext cx="746748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575f6d"/>
                </a:solidFill>
                <a:latin typeface="Century Schoolbook"/>
              </a:rPr>
              <a:t>ИГРЫ:</a:t>
            </a:r>
            <a:endParaRPr b="0" lang="en-US" sz="7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индивидуальные, 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парные, 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групповые, 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общеклассные. 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ПО ОБРАЗОВАТЕЛЬНЫМ ЗАДАЧАМ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формирующие умения и навыки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изучающие новый материал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повторения и контроля знаний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571680"/>
            <a:ext cx="74674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br>
              <a:rPr sz="2700"/>
            </a:br>
            <a:r>
              <a:rPr b="0" lang="ru-RU" sz="4300" spc="-1" strike="noStrike">
                <a:solidFill>
                  <a:srgbClr val="575f6d"/>
                </a:solidFill>
                <a:latin typeface="Century Schoolbook"/>
              </a:rPr>
              <a:t>:</a:t>
            </a:r>
            <a:br>
              <a:rPr sz="4300"/>
            </a:br>
            <a:r>
              <a:rPr b="0" lang="ru-RU" sz="4300" spc="-1" strike="noStrike">
                <a:solidFill>
                  <a:srgbClr val="575f6d"/>
                </a:solidFill>
                <a:latin typeface="Century Schoolbook"/>
              </a:rPr>
              <a:t>ПО ТИПАМ:</a:t>
            </a:r>
            <a:endParaRPr b="0" lang="en-US" sz="4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познавательные,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ролевые,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деловые,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комплексные  игры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9680" y="642960"/>
            <a:ext cx="74674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0" lang="ru-RU" sz="4300" spc="-1" strike="noStrike">
                <a:solidFill>
                  <a:srgbClr val="575f6d"/>
                </a:solidFill>
                <a:latin typeface="Century Schoolbook"/>
              </a:rPr>
              <a:t>ПО ФОРМЕ ПРОВЕДЕНИЯ :</a:t>
            </a:r>
            <a:endParaRPr b="0" lang="en-US" sz="4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гры - аукционы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ревнования на лучшее качество, скорость, количество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утешествие по станциям с чередованием игровых ситуаций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митация событий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есс - конференция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гры - драматизации, инсценировки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иск решения проблем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гры - исследования, открыт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Дидактическая игра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– это одна из нескольких математических задач, предлагаемых в занимательной форме и, как правило, с элементами соревнований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ДЛЯ ПРОВЕДЕНИЯ ИГРЫ НЕОБХОДИМО РЕШИТЬ СЛЕДУЮЩИЕ ВОПРОСЫ: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285560"/>
            <a:ext cx="7467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пределение места дидактических игр и игровых ситуаций в системе других видов деятельности на урок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Целесообразное использование их на разных этапах изучения различного характера математического материал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зработка методики проведения дидактических игр с учётом дидактической цели урока и уровня подготовленности учащихс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ребования к содержанию игровой деятельности в свете идей развивающего обуч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8:18:15Z</dcterms:created>
  <dc:creator>Admin</dc:creator>
  <dc:description/>
  <dc:language>en-US</dc:language>
  <cp:lastModifiedBy>Admin</cp:lastModifiedBy>
  <dcterms:modified xsi:type="dcterms:W3CDTF">2010-11-08T13:29:48Z</dcterms:modified>
  <cp:revision>15</cp:revision>
  <dc:subject/>
  <dc:title>Игровые технологии на уроках математики</dc:title>
</cp:coreProperties>
</file>