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DDB-0537-4B09-BC52-E1A7ED84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7EBA-C5ED-49E8-A7A1-65980694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6F33-6B7C-4D66-B249-99F884BF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5467-56A4-461F-9353-75A663AA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E4AE-41AB-4DF3-B6AF-7F9BF3B4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74C6-93F8-441D-8799-9A613F6D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DAF1-3AB7-400C-9EC6-4E322AF6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C25E-71E2-44E8-9AB4-A4C8E2E5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FA58-8A19-4903-B2CE-AACDB63E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75DE-8734-41B2-B55F-D0C942A6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7C5C-2393-4062-985A-D1D857BE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DF0-7AAE-4560-A063-23277921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B9B2-E8D9-444E-BA99-26F4FE04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D5D1-BCBD-4639-BE37-AC4784E6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3324-B46E-444E-A768-1C662BA7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EEFC-40A6-4423-8DD5-DF3BBDA6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7774-8AF3-443E-A4D8-90D4DF82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E2F86-F171-47A6-A4CF-3F368A10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99AD0-CC7C-443A-ADA7-9D03EFD8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C31E5-A501-42C6-8122-12BF9DC8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086C7-ED6E-4204-BD0B-E69AAF5B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F4327-73CE-4777-BAAC-AED626A9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D3E-DB85-4150-9CFB-AA31E078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B7EE4-D2C1-49A3-864F-8AA06B06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9E4F4-8867-4E20-88AA-F8153614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BB049-6887-475F-B363-DF6E7D8C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DB702-C1B1-4C55-98C3-C738C303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69DF3-EFBF-4A60-89C3-7C4F796A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394D7-62CB-4C87-9B80-6745F29A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19019-29FB-4E80-A51B-B993FBDE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74BF5-43E6-4BFA-8ED4-A1FB72C5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1F3F4-47B1-4D2F-A500-25835DCE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66589-9680-43C4-ABBD-EDF0CB8A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D1F-CF5E-4098-B9BD-7EFFA620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8CF1A-6967-45F3-8D33-A8AF5DB3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6902A-C2B6-4056-A102-B71FD436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5FB86-47C6-4CC4-893B-049A5A0F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75CFD-6B94-4991-8CE0-7F206DF3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9D7FF-6A04-4DA6-B76E-EF05683C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5900D-F3FC-4EF3-879F-121845B5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2A760-81D4-473E-A5C4-A2669409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77BAA-2C8F-436B-BC1C-21058F26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0BD6F-CA56-45D5-8278-E9A0303F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B63C13-C6D1-43DD-A792-ED92B981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845A-0B4F-4E47-97AC-8F36CCF5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353F8-7260-4742-AB26-B5CEFDD3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763D6A-5DAE-401F-9402-5CBCF701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2455C-D982-45C0-A51F-F30D7FA3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D4CB42-179E-4155-85F0-717799EE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826E26-CC1A-4D3F-BCF9-208B4E2B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58F892-406D-4598-997F-688A8DEB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2559AE-737E-4EFC-BD7E-AFEE87AA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28DB1-F0F7-4D7B-8C8D-ED9AE372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F33211-BE92-4E18-AAC4-F226B6D8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DA96E3-8FAA-42DB-8238-AFA5802F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5ACE-A1A5-4000-8735-27F786CE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AE6BB5-1439-4E09-9FBC-251AAA56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BF21BA-B1B5-4A41-A323-43C063B6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A96F4-0E8F-4319-8C02-4ED9350F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B391B4-FF72-4E0C-9C2B-DC00DF83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80AD55-6188-4D05-A15B-87CCF4DA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D864F9-934D-4755-A21E-7D607152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DA9B70-48D1-4469-BD8C-6E77898D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DB34E1-FCFA-47C1-807D-14BAE874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26365A-BB29-4163-ADE6-7880230B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636D6-C910-4FE8-BBEA-3238BD62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23E-76B3-4A61-8F6E-A207A017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6DCC67-3D94-45E2-BF93-DC69F8EF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9D610E-ECE5-47CB-8946-0FA219BD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2607E5-508F-457A-9135-A1392895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F32C18-429B-46A3-9E70-777409FF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CED7EB-2767-4D5C-AE1B-C9D8A094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5B43A7-EC38-49DF-AB7B-20ED2AC5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72C9AF-725D-4FD6-8FC4-09E64D31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5E7415-5BF0-454D-8099-984EA845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F7D030-675B-49DF-8B45-E13948A8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47B49F-2E0D-4D16-BDE0-CBEB6F94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51B7-53F0-4DE2-934A-515DD00C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517C56-19C7-42DD-8CDB-E4B9554F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BC5E5B-79D5-4BBE-8D2F-624FA551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706433-E8F3-46E6-889A-E468C1CA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C46CAA-535B-40C0-B81D-FC8ACC11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A42DE0-6B28-4B2D-9F7D-72663AAD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BFB-11CA-443A-A338-A7A87F87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E508-BE28-4974-B153-0D3E1C39062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FFA3-3239-42C4-B88A-BBC781904EA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87E9-8BF6-411B-9788-4C24C936759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01A6-71C6-4B14-89AE-1FDEF0A83DA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E227-999E-4079-84C9-C0A6085CBD6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49BC-FEEC-407D-AAB2-13E7312FD0A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B26B-0083-4EDA-8D91-49AA6F77D24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ИГРОВЫЕ ТЕХНОЛОГИИ НА УРОКАХ МАТЕМАТИ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Учитель: Сюсина Анастасия Владими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1071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ОСНОВНЫМИ СТРУКТУРНЫМИ КОМПОНЕНТАМИ ДИДАКТИЧЕСКОЙ ИГРЫ ЯВЛЯЮТСЯ: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28400" y="2571480"/>
            <a:ext cx="7467480" cy="38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гровой замысел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авила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гровые действия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знавательное содержание или дидактические задач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рудование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зультат иг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575f6d"/>
                </a:solidFill>
                <a:uFillTx/>
                <a:latin typeface="Century Schoolbook"/>
              </a:rPr>
              <a:t>ИГРА «МАТЕМАТИЧЕСКОЕ ЛОТО - ПАЗЛЫ»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500040" y="2857680"/>
          <a:ext cx="7467480" cy="2971800"/>
        </p:xfrm>
        <a:graphic>
          <a:graphicData uri="http://schemas.openxmlformats.org/drawingml/2006/table">
            <a:tbl>
              <a:tblPr/>
              <a:tblGrid>
                <a:gridCol w="2489400"/>
                <a:gridCol w="2489040"/>
                <a:gridCol w="248904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02-122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734+204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56+54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6-13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2-22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65-06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78+2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219 - 213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7+102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74" name="TextBox 4"/>
          <p:cNvSpPr/>
          <p:nvPr/>
        </p:nvSpPr>
        <p:spPr>
          <a:xfrm>
            <a:off x="714240" y="135720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очка для р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КАРТИНКА С ОТВЕТАМИ НА ОБРАТНОЙ СТОРОНЕ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Содержимое 3" descr="016.jpg"/>
          <p:cNvPicPr/>
          <p:nvPr/>
        </p:nvPicPr>
        <p:blipFill>
          <a:blip r:embed="rId1"/>
          <a:stretch/>
        </p:blipFill>
        <p:spPr>
          <a:xfrm>
            <a:off x="941400" y="1600200"/>
            <a:ext cx="6499080" cy="4873680"/>
          </a:xfrm>
          <a:prstGeom prst="rect">
            <a:avLst/>
          </a:prstGeom>
          <a:ln w="9360">
            <a:solidFill>
              <a:srgbClr val="b32c16"/>
            </a:solidFill>
            <a:miter/>
          </a:ln>
        </p:spPr>
      </p:pic>
      <p:graphicFrame>
        <p:nvGraphicFramePr>
          <p:cNvPr id="377" name=""/>
          <p:cNvGraphicFramePr/>
          <p:nvPr/>
        </p:nvGraphicFramePr>
        <p:xfrm>
          <a:off x="928800" y="1571760"/>
          <a:ext cx="6500880" cy="4889520"/>
        </p:xfrm>
        <a:graphic>
          <a:graphicData uri="http://schemas.openxmlformats.org/drawingml/2006/table">
            <a:tbl>
              <a:tblPr/>
              <a:tblGrid>
                <a:gridCol w="2143080"/>
                <a:gridCol w="2190600"/>
                <a:gridCol w="2167200"/>
              </a:tblGrid>
              <a:tr h="16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941400" y="1590840"/>
          <a:ext cx="2130480" cy="4910040"/>
        </p:xfrm>
        <a:graphic>
          <a:graphicData uri="http://schemas.openxmlformats.org/drawingml/2006/table">
            <a:tbl>
              <a:tblPr/>
              <a:tblGrid>
                <a:gridCol w="2130480"/>
              </a:tblGrid>
              <a:tr h="49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928800" y="3200400"/>
          <a:ext cx="6500880" cy="1636560"/>
        </p:xfrm>
        <a:graphic>
          <a:graphicData uri="http://schemas.openxmlformats.org/drawingml/2006/table">
            <a:tbl>
              <a:tblPr/>
              <a:tblGrid>
                <a:gridCol w="6500880"/>
              </a:tblGrid>
              <a:tr h="16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 u="sng">
                <a:solidFill>
                  <a:srgbClr val="575f6d"/>
                </a:solidFill>
                <a:uFillTx/>
                <a:latin typeface="Century Schoolbook"/>
              </a:rPr>
              <a:t>ЦЕПОЧКА ДЛЯ УСТНОГО СЧЕТА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381" name="Содержимое 3"/>
          <p:cNvGrpSpPr/>
          <p:nvPr/>
        </p:nvGrpSpPr>
        <p:grpSpPr>
          <a:xfrm>
            <a:off x="500040" y="1143000"/>
            <a:ext cx="8072640" cy="4873680"/>
            <a:chOff x="500040" y="1143000"/>
            <a:chExt cx="8072640" cy="4873680"/>
          </a:xfrm>
        </p:grpSpPr>
        <p:sp>
          <p:nvSpPr>
            <p:cNvPr id="382" name="Text Box 26"/>
            <p:cNvSpPr/>
            <p:nvPr/>
          </p:nvSpPr>
          <p:spPr>
            <a:xfrm>
              <a:off x="500040" y="3970440"/>
              <a:ext cx="1329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ff"/>
                  </a:solidFill>
                  <a:latin typeface="Arial"/>
                </a:rPr>
                <a:t>*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4"/>
            <p:cNvSpPr/>
            <p:nvPr/>
          </p:nvSpPr>
          <p:spPr>
            <a:xfrm>
              <a:off x="1158840" y="1744920"/>
              <a:ext cx="1324800" cy="842040"/>
            </a:xfrm>
            <a:prstGeom prst="rect">
              <a:avLst/>
            </a:prstGeom>
            <a:solidFill>
              <a:srgbClr val="ffe7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5"/>
            <p:cNvSpPr/>
            <p:nvPr/>
          </p:nvSpPr>
          <p:spPr>
            <a:xfrm>
              <a:off x="1291680" y="1685160"/>
              <a:ext cx="1323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ff"/>
                  </a:solidFill>
                  <a:latin typeface="Arial"/>
                </a:rPr>
                <a:t>20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6"/>
            <p:cNvSpPr/>
            <p:nvPr/>
          </p:nvSpPr>
          <p:spPr>
            <a:xfrm>
              <a:off x="2484000" y="2165400"/>
              <a:ext cx="105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7"/>
            <p:cNvSpPr/>
            <p:nvPr/>
          </p:nvSpPr>
          <p:spPr>
            <a:xfrm>
              <a:off x="2549520" y="1143000"/>
              <a:ext cx="1125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ff"/>
                  </a:solidFill>
                  <a:latin typeface="Arial"/>
                </a:rPr>
                <a:t>*5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8"/>
            <p:cNvSpPr/>
            <p:nvPr/>
          </p:nvSpPr>
          <p:spPr>
            <a:xfrm>
              <a:off x="3541680" y="1503720"/>
              <a:ext cx="1323360" cy="1202760"/>
            </a:xfrm>
            <a:prstGeom prst="ellipse">
              <a:avLst/>
            </a:prstGeom>
            <a:solidFill>
              <a:srgbClr val="ffe7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9"/>
            <p:cNvSpPr/>
            <p:nvPr/>
          </p:nvSpPr>
          <p:spPr>
            <a:xfrm>
              <a:off x="4865040" y="2165400"/>
              <a:ext cx="11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0"/>
            <p:cNvSpPr/>
            <p:nvPr/>
          </p:nvSpPr>
          <p:spPr>
            <a:xfrm>
              <a:off x="6057360" y="1564560"/>
              <a:ext cx="1388880" cy="1022400"/>
            </a:xfrm>
            <a:prstGeom prst="rect">
              <a:avLst/>
            </a:prstGeom>
            <a:solidFill>
              <a:srgbClr val="ffe7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4932360" y="1143000"/>
              <a:ext cx="9921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ff"/>
                  </a:solidFill>
                  <a:latin typeface="Arial"/>
                </a:rPr>
                <a:t>: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2"/>
            <p:cNvSpPr/>
            <p:nvPr/>
          </p:nvSpPr>
          <p:spPr>
            <a:xfrm>
              <a:off x="6918120" y="2586960"/>
              <a:ext cx="0" cy="66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"/>
            <p:cNvSpPr/>
            <p:nvPr/>
          </p:nvSpPr>
          <p:spPr>
            <a:xfrm>
              <a:off x="6255720" y="3249000"/>
              <a:ext cx="1390320" cy="1143000"/>
            </a:xfrm>
            <a:prstGeom prst="ellipse">
              <a:avLst/>
            </a:prstGeom>
            <a:solidFill>
              <a:srgbClr val="ffe7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4"/>
            <p:cNvSpPr/>
            <p:nvPr/>
          </p:nvSpPr>
          <p:spPr>
            <a:xfrm>
              <a:off x="7116480" y="2586960"/>
              <a:ext cx="1456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ff"/>
                  </a:solidFill>
                  <a:latin typeface="Arial"/>
                </a:rPr>
                <a:t>-17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5"/>
            <p:cNvSpPr/>
            <p:nvPr/>
          </p:nvSpPr>
          <p:spPr>
            <a:xfrm>
              <a:off x="6984000" y="4392000"/>
              <a:ext cx="0" cy="48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6"/>
            <p:cNvSpPr/>
            <p:nvPr/>
          </p:nvSpPr>
          <p:spPr>
            <a:xfrm>
              <a:off x="6057360" y="4873680"/>
              <a:ext cx="1388880" cy="1022400"/>
            </a:xfrm>
            <a:prstGeom prst="rect">
              <a:avLst/>
            </a:prstGeom>
            <a:solidFill>
              <a:srgbClr val="ffe7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7"/>
            <p:cNvSpPr/>
            <p:nvPr/>
          </p:nvSpPr>
          <p:spPr>
            <a:xfrm>
              <a:off x="7446240" y="3970440"/>
              <a:ext cx="1059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ff"/>
                  </a:solidFill>
                  <a:latin typeface="Arial"/>
                </a:rPr>
                <a:t>*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8"/>
            <p:cNvSpPr/>
            <p:nvPr/>
          </p:nvSpPr>
          <p:spPr>
            <a:xfrm flipH="1">
              <a:off x="4864680" y="5353560"/>
              <a:ext cx="11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4535280" y="4451760"/>
              <a:ext cx="1456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ff"/>
                  </a:solidFill>
                  <a:latin typeface="Arial"/>
                </a:rPr>
                <a:t>-1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20"/>
            <p:cNvSpPr/>
            <p:nvPr/>
          </p:nvSpPr>
          <p:spPr>
            <a:xfrm>
              <a:off x="3476160" y="4812480"/>
              <a:ext cx="1388880" cy="1204200"/>
            </a:xfrm>
            <a:prstGeom prst="ellipse">
              <a:avLst/>
            </a:prstGeom>
            <a:solidFill>
              <a:srgbClr val="ffe7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1"/>
            <p:cNvSpPr/>
            <p:nvPr/>
          </p:nvSpPr>
          <p:spPr>
            <a:xfrm flipH="1">
              <a:off x="2350800" y="5414760"/>
              <a:ext cx="112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2"/>
            <p:cNvSpPr/>
            <p:nvPr/>
          </p:nvSpPr>
          <p:spPr>
            <a:xfrm>
              <a:off x="2484000" y="4451760"/>
              <a:ext cx="926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ff"/>
                  </a:solidFill>
                  <a:latin typeface="Arial"/>
                </a:rPr>
                <a:t>:6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23"/>
            <p:cNvSpPr/>
            <p:nvPr/>
          </p:nvSpPr>
          <p:spPr>
            <a:xfrm>
              <a:off x="1158840" y="4753080"/>
              <a:ext cx="1191960" cy="1202760"/>
            </a:xfrm>
            <a:prstGeom prst="rect">
              <a:avLst/>
            </a:prstGeom>
            <a:solidFill>
              <a:srgbClr val="ffe7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25"/>
            <p:cNvSpPr/>
            <p:nvPr/>
          </p:nvSpPr>
          <p:spPr>
            <a:xfrm flipV="1">
              <a:off x="1755720" y="4150800"/>
              <a:ext cx="0" cy="60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27"/>
            <p:cNvSpPr/>
            <p:nvPr/>
          </p:nvSpPr>
          <p:spPr>
            <a:xfrm>
              <a:off x="1158840" y="3128400"/>
              <a:ext cx="1257480" cy="1022400"/>
            </a:xfrm>
            <a:prstGeom prst="triangle">
              <a:avLst>
                <a:gd name="adj" fmla="val 50000"/>
              </a:avLst>
            </a:prstGeom>
            <a:solidFill>
              <a:srgbClr val="ffe7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406" name="Содержимое 3"/>
          <p:cNvGrpSpPr/>
          <p:nvPr/>
        </p:nvGrpSpPr>
        <p:grpSpPr>
          <a:xfrm>
            <a:off x="866520" y="642960"/>
            <a:ext cx="6683400" cy="5019480"/>
            <a:chOff x="866520" y="642960"/>
            <a:chExt cx="6683400" cy="5019480"/>
          </a:xfrm>
        </p:grpSpPr>
        <p:sp>
          <p:nvSpPr>
            <p:cNvPr id="407" name="TextBox 33"/>
            <p:cNvSpPr/>
            <p:nvPr/>
          </p:nvSpPr>
          <p:spPr>
            <a:xfrm>
              <a:off x="866520" y="2216880"/>
              <a:ext cx="529848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Century Schoolbook"/>
                </a:rPr>
                <a:t>( x  +  29 )  -  35  =  5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Century Schoolbook"/>
                </a:rPr>
                <a:t>x + 29  =         +      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Century Schoolbook"/>
                </a:rPr>
                <a:t>x  +         =       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Century Schoolbook"/>
                </a:rPr>
                <a:t>x =                   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Century Schoolbook"/>
                </a:rPr>
                <a:t>x =        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4"/>
            <p:cNvSpPr/>
            <p:nvPr/>
          </p:nvSpPr>
          <p:spPr>
            <a:xfrm>
              <a:off x="1852200" y="642960"/>
              <a:ext cx="5697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575f6d"/>
                  </a:solidFill>
                  <a:latin typeface="Century Schoolbook"/>
                </a:rPr>
                <a:t>Заполни пропуски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Прямоугольник 6"/>
          <p:cNvSpPr/>
          <p:nvPr/>
        </p:nvSpPr>
        <p:spPr>
          <a:xfrm>
            <a:off x="2928960" y="3143160"/>
            <a:ext cx="1000080" cy="357120"/>
          </a:xfrm>
          <a:prstGeom prst="rect">
            <a:avLst/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8"/>
          <p:cNvSpPr/>
          <p:nvPr/>
        </p:nvSpPr>
        <p:spPr>
          <a:xfrm>
            <a:off x="4643280" y="3071880"/>
            <a:ext cx="714600" cy="428400"/>
          </a:xfrm>
          <a:prstGeom prst="rect">
            <a:avLst/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9"/>
          <p:cNvSpPr/>
          <p:nvPr/>
        </p:nvSpPr>
        <p:spPr>
          <a:xfrm>
            <a:off x="1571760" y="3786120"/>
            <a:ext cx="1143000" cy="428760"/>
          </a:xfrm>
          <a:prstGeom prst="rect">
            <a:avLst/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10"/>
          <p:cNvSpPr/>
          <p:nvPr/>
        </p:nvSpPr>
        <p:spPr>
          <a:xfrm>
            <a:off x="3357720" y="3786120"/>
            <a:ext cx="928440" cy="428760"/>
          </a:xfrm>
          <a:prstGeom prst="rect">
            <a:avLst/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11"/>
          <p:cNvSpPr/>
          <p:nvPr/>
        </p:nvSpPr>
        <p:spPr>
          <a:xfrm>
            <a:off x="1428840" y="4429080"/>
            <a:ext cx="714240" cy="428760"/>
          </a:xfrm>
          <a:prstGeom prst="rect">
            <a:avLst/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12"/>
          <p:cNvSpPr/>
          <p:nvPr/>
        </p:nvSpPr>
        <p:spPr>
          <a:xfrm>
            <a:off x="2357280" y="4429080"/>
            <a:ext cx="642960" cy="428760"/>
          </a:xfrm>
          <a:prstGeom prst="rect">
            <a:avLst/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3"/>
          <p:cNvSpPr/>
          <p:nvPr/>
        </p:nvSpPr>
        <p:spPr>
          <a:xfrm>
            <a:off x="3286080" y="4429080"/>
            <a:ext cx="785880" cy="428760"/>
          </a:xfrm>
          <a:prstGeom prst="rect">
            <a:avLst/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4"/>
          <p:cNvSpPr/>
          <p:nvPr/>
        </p:nvSpPr>
        <p:spPr>
          <a:xfrm>
            <a:off x="1500120" y="5143680"/>
            <a:ext cx="928800" cy="500040"/>
          </a:xfrm>
          <a:prstGeom prst="rect">
            <a:avLst/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НАЙДИ ОШИБКУ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(72 - 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) +53 = 86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72 – 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= 53 + 86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72 – 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= 139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= 139 + 72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= 33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ая игра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не самоцель на уроке, а средство обучения и воспитания. Использование дидактической игры в системе обучения математике в 5-11 классах является важным средством интенсификации учебной деятельности школьников, осуществления преемственности между обучением в 1-4 и 5-11 классах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3" name="Прямоугольник 3" descr=""/>
          <p:cNvPicPr/>
          <p:nvPr/>
        </p:nvPicPr>
        <p:blipFill>
          <a:blip r:embed="rId1"/>
          <a:stretch/>
        </p:blipFill>
        <p:spPr>
          <a:xfrm>
            <a:off x="1212840" y="2779560"/>
            <a:ext cx="64803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0844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28760" y="10000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Если ученик в школе не научился сам ничего творить, то в жизни он всегда будет только подражать, копировать…». Л.Н.Толст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Содержимое 7" descr="Kramskoy_Ivan_Nickolaevich_Portrait_of_the_Writer_L_N_Tolstoy_a_fragment_art_gallerys_prints_arts_b.jpg"/>
          <p:cNvPicPr/>
          <p:nvPr/>
        </p:nvPicPr>
        <p:blipFill>
          <a:blip r:embed="rId1"/>
          <a:stretch/>
        </p:blipFill>
        <p:spPr>
          <a:xfrm>
            <a:off x="4292640" y="1600200"/>
            <a:ext cx="3612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428760"/>
            <a:ext cx="8115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Технология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 от греч. «техне» - искусство, мастерство, умение, и «логос» - учение, наука, закон; буквально) - это учение о мастерстве, умении специалист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Игровые урок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это умение учителя показать своё мастерство, искусство, знание предмета, свой артистизм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Игр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- это путь к познанию ребёнком самого себя, своих возможностей, способностей, своих предел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74674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575f6d"/>
                </a:solidFill>
                <a:latin typeface="Century Schoolbook"/>
              </a:rPr>
              <a:t>ИГРЫ: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индивидуальные,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парные,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групповые,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общеклассные.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ПО ОБРАЗОВАТЕЛЬНЫМ ЗАДАЧАМ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формирующие умения и навыки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изучающие новый материал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овторения и контроля знаний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74674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r>
              <a:rPr b="0" lang="ru-RU" sz="4300" spc="-1" strike="noStrike">
                <a:solidFill>
                  <a:srgbClr val="575f6d"/>
                </a:solidFill>
                <a:latin typeface="Century Schoolbook"/>
              </a:rPr>
              <a:t>:</a:t>
            </a:r>
            <a:br>
              <a:rPr sz="4300"/>
            </a:br>
            <a:r>
              <a:rPr b="0" lang="ru-RU" sz="4300" spc="-1" strike="noStrike">
                <a:solidFill>
                  <a:srgbClr val="575f6d"/>
                </a:solidFill>
                <a:latin typeface="Century Schoolbook"/>
              </a:rPr>
              <a:t>ПО ТИПАМ: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ознавательные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ролевые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деловые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комплексные  игры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9680" y="642960"/>
            <a:ext cx="746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4300" spc="-1" strike="noStrike">
                <a:solidFill>
                  <a:srgbClr val="575f6d"/>
                </a:solidFill>
                <a:latin typeface="Century Schoolbook"/>
              </a:rPr>
              <a:t>ПО ФОРМЕ ПРОВЕДЕНИЯ :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гры - аукционы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ревнования на лучшее качество, скорость, количество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утешествие по станциям с чередованием игровых ситуаций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митация событий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сс - конференци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гры - драматизации, инсценировк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иск решения проблем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гры - исследования, открыт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Дидактическая игра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– это одна из нескольких математических задач, предлагаемых в занимательной форме и, как правило, с элементами соревнований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ДЛЯ ПРОВЕДЕНИЯ ИГРЫ НЕОБХОДИМО РЕШИТЬ СЛЕДУЮЩИЕ ВОПРОСЫ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285560"/>
            <a:ext cx="7467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еделение места дидактических игр и игровых ситуаций в системе других видов деятельности на урок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лесообразное использование их на разных этапах изучения различного характера математического материал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работка методики проведения дидактических игр с учётом дидактической цели урока и уровня подготовленности учащих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ебования к содержанию игровой деятельности в свете идей развивающего обуч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8:18:15Z</dcterms:created>
  <dc:creator>Admin</dc:creator>
  <dc:description/>
  <dc:language>en-US</dc:language>
  <cp:lastModifiedBy>Admin</cp:lastModifiedBy>
  <dcterms:modified xsi:type="dcterms:W3CDTF">2010-11-08T13:29:48Z</dcterms:modified>
  <cp:revision>15</cp:revision>
  <dc:subject/>
  <dc:title>Игровые технологии на уроках математики</dc:title>
</cp:coreProperties>
</file>