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7014-C64E-486D-A040-0ADC9F0FC8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B1D-F05D-4CB1-9977-5EA2F7E45C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468-4994-48BD-B273-F9A4A028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E86-E81D-4846-AAC0-E65A7690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BEB-C55C-48AA-811B-55AAFF8E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D47-1652-4244-B33B-7671D47C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6509-FDA0-49DC-9A7E-9DF12C20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09BA-F27A-4027-B697-B108BFDB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7435-DC70-41F8-B6B7-46F89DA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04F8-141E-4B87-B3B1-85FF5B5F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77C5-18EB-4D0F-B1C7-1A25E120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D83F-8946-43A8-8C4E-2115DC9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C352-9196-4634-94BD-8E7B8D53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3F2-6CED-4056-8296-267C2914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022E-1283-4805-9FAB-DFC93DBA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B8C-C773-4F5B-B543-AEF12A7B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1111-8643-4740-836F-05A2B3D4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E303-ED56-4427-8FFD-2AD41C26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F458-3221-4776-A04A-B56DA013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5CFE-B485-427D-AD2D-5130F7DD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E741F-7FF2-4199-B63F-D3441713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5A28-7BF7-4203-82B3-73CA17AD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AC6A-8947-48B8-80D7-503C4D0E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DAE8-DD0D-4DB7-8D91-20DD4163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5CD-069B-4468-A1CB-DD27F751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53F1-8284-4CDC-A6E1-03B5504A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53B4-1730-434D-A1BE-46437294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784E-81BB-41B4-8DDA-0527D6FF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E8B5-8EF7-4357-B6C3-9094AC5A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5349-5839-4B31-844C-DB13613F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4CBF-2FF1-4B2E-9D98-0722F35B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A699-E801-4013-840A-9E23EDFF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B1252-404F-4142-819F-0B40E101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7170-CD58-4156-A13B-1D3ECF27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DE63-6951-45F1-B722-05025551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59B-9997-41F3-99AC-EF8E4725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941A2-9572-4E43-BD6E-741C1621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D2FE-9F16-46D5-971E-A978DC68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0D7C7-30DB-4819-A331-7F6A217B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2FED-3F55-48C9-BAAB-5B2E699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E308-AC22-45CE-A748-9189AAD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3266-FE83-4BA2-9837-C1FAD0A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BA8FE-3459-456E-90BA-ABD72E49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24517-25E0-479F-9E31-33B69B9C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25754-305E-4FCE-8ADC-6C057E64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F10-9614-40A9-9FB1-674D53DA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F7D-A967-48CC-B582-2B9E6114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645-25B3-4ACC-9E57-C0458DA1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231-A9C9-4162-92BC-114AD36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FA1-64D2-433C-B6B5-6420495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A2E-E7E5-4E38-A60E-EC49D2637AF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F63F-E3AF-44A5-984D-1C3EE4AF91D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299A-833E-495B-AD8B-6601D6297E9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0BCF-5440-4470-BA84-681AB7A7B8F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1779480" y="206280"/>
            <a:ext cx="560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rebuchet MS"/>
              </a:rPr>
              <a:t>Как зимуют 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"/>
          <p:cNvPicPr/>
          <p:nvPr/>
        </p:nvPicPr>
        <p:blipFill>
          <a:blip r:embed="rId1"/>
          <a:stretch/>
        </p:blipFill>
        <p:spPr>
          <a:xfrm>
            <a:off x="1384200" y="2708280"/>
            <a:ext cx="5905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"/>
          <p:cNvPicPr/>
          <p:nvPr/>
        </p:nvPicPr>
        <p:blipFill>
          <a:blip r:embed="rId1"/>
          <a:stretch/>
        </p:blipFill>
        <p:spPr>
          <a:xfrm>
            <a:off x="108000" y="244440"/>
            <a:ext cx="4319640" cy="32558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tretch/>
        </p:blipFill>
        <p:spPr>
          <a:xfrm>
            <a:off x="3975120" y="2852640"/>
            <a:ext cx="5138640" cy="38545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4654440" y="1052640"/>
            <a:ext cx="44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Летом много ест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-322560" y="4921200"/>
            <a:ext cx="48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Зимой много спит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334600" y="0"/>
            <a:ext cx="25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Загадки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-473400" y="2295360"/>
            <a:ext cx="71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Зимой белый - летом серы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5"/>
          <p:cNvSpPr/>
          <p:nvPr/>
        </p:nvSpPr>
        <p:spPr>
          <a:xfrm>
            <a:off x="123840" y="676440"/>
            <a:ext cx="848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ыжая с пушистым хвостом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живет в лесу под кустом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6"/>
          <p:cNvSpPr/>
          <p:nvPr/>
        </p:nvSpPr>
        <p:spPr>
          <a:xfrm>
            <a:off x="58680" y="3279600"/>
            <a:ext cx="861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Он зимой в берлоге спит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отихонечку храпит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А проснется, ну реветь,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как зовут его –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Рисунок 15" descr=""/>
          <p:cNvPicPr/>
          <p:nvPr/>
        </p:nvPicPr>
        <p:blipFill>
          <a:blip r:embed="rId1"/>
          <a:stretch/>
        </p:blipFill>
        <p:spPr>
          <a:xfrm>
            <a:off x="6305400" y="281160"/>
            <a:ext cx="2657520" cy="19922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6" descr=""/>
          <p:cNvPicPr/>
          <p:nvPr/>
        </p:nvPicPr>
        <p:blipFill>
          <a:blip r:embed="rId2"/>
          <a:stretch/>
        </p:blipFill>
        <p:spPr>
          <a:xfrm>
            <a:off x="6508800" y="2565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7" descr=""/>
          <p:cNvPicPr/>
          <p:nvPr/>
        </p:nvPicPr>
        <p:blipFill>
          <a:blip r:embed="rId3"/>
          <a:stretch/>
        </p:blipFill>
        <p:spPr>
          <a:xfrm>
            <a:off x="5133960" y="4465800"/>
            <a:ext cx="27496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2"/>
          <p:cNvSpPr/>
          <p:nvPr/>
        </p:nvSpPr>
        <p:spPr>
          <a:xfrm>
            <a:off x="179280" y="189000"/>
            <a:ext cx="84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Кто с высоких сосен в ребятишек шишку бросил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431640" y="2133720"/>
            <a:ext cx="871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Дружбу водит лишь с лисой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этот зверь сердитый, злой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Он зубами щёлк да щёлк, очень страшный серы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184320" y="4581360"/>
            <a:ext cx="79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ердитый недотрога живет в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глуши лесной,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Иголок очень много, а нитки ни одно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Рисунок 5" descr=""/>
          <p:cNvPicPr/>
          <p:nvPr/>
        </p:nvPicPr>
        <p:blipFill>
          <a:blip r:embed="rId1"/>
          <a:stretch/>
        </p:blipFill>
        <p:spPr>
          <a:xfrm>
            <a:off x="3805200" y="914400"/>
            <a:ext cx="1895400" cy="14288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"/>
          <p:cNvPicPr/>
          <p:nvPr/>
        </p:nvPicPr>
        <p:blipFill>
          <a:blip r:embed="rId2"/>
          <a:stretch/>
        </p:blipFill>
        <p:spPr>
          <a:xfrm>
            <a:off x="7083360" y="162864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7" descr=""/>
          <p:cNvPicPr/>
          <p:nvPr/>
        </p:nvPicPr>
        <p:blipFill>
          <a:blip r:embed="rId3"/>
          <a:stretch/>
        </p:blipFill>
        <p:spPr>
          <a:xfrm>
            <a:off x="7236000" y="4205160"/>
            <a:ext cx="16761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173160" y="1554120"/>
            <a:ext cx="4667040" cy="38098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916440" cy="29530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251760" y="4221000"/>
            <a:ext cx="212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бел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361800" y="317520"/>
            <a:ext cx="842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Белка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елка, веселый зверек, по деревьям скок да скок. Но зимой я меняюсь, в шубку серую переодеваюсь. Всю осень дупло утепляла, Пуха, соломки туда натаскала. К зиме готовила запас: грибы, ягоды, орехи… Чтоб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зимой не голодать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де ж еду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мороз достать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 людям я тогда скачу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мощи у них ищ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36338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50920" y="1890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                          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«Еж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Зимой я крепко сплю, Зарывшись в теплую нору. Готовил с осени запас: грибы и ягоды припас. Трудился – не ленился! У меня зимой одна работа – крепко спать и весны ждать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4932360" y="3178080"/>
            <a:ext cx="3800520" cy="3286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2"/>
          <a:stretch/>
        </p:blipFill>
        <p:spPr>
          <a:xfrm>
            <a:off x="250920" y="3821040"/>
            <a:ext cx="40971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0" y="0"/>
            <a:ext cx="91440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Заяц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Я заяц, расскажу, как живется мне в лесу. К зиме, ребята, побелел, шубку новую надел. Под кусточком я присяду, спрячусь под сосной. Не увидит, не узнает зверь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еня лесной!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Я хотя и не трус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о всего,всего боюсь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 питаюсь я корой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ягодо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замерзшей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3924360" y="2637000"/>
            <a:ext cx="4992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5191200" cy="33843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2"/>
          <a:stretch/>
        </p:blipFill>
        <p:spPr>
          <a:xfrm>
            <a:off x="3672000" y="3492360"/>
            <a:ext cx="4697280" cy="31896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5779080" y="1557360"/>
            <a:ext cx="16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летом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667520" y="5300640"/>
            <a:ext cx="17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зимо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395280" y="260280"/>
            <a:ext cx="653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«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Лиса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Я зимы не боюсь, в шубу теплую ряжусь. Хвост красивый какой – мне он нравится самой! Живу в норе. Там сплю, отдыхаю, а затем охотится начинаю. Ищу мышку полевую или живность какую. Хочу зайца поймать, но мне его не догнать! Об этом, наверное, мало кто знает, но и мне зимой трудно бывае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1"/>
          <a:stretch/>
        </p:blipFill>
        <p:spPr>
          <a:xfrm>
            <a:off x="0" y="25560"/>
            <a:ext cx="9504360" cy="69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08000" y="692280"/>
            <a:ext cx="8928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А еще есть зверь лесной, он, ребята, очень злой. Вы с ним даже не встречались! Вы б его испугались. Угадайте? Это – волк! Волк зимой очень злой. В одиночку не ходит; волки стаями бродят. Серые, худые, голодные и злые. Воют сильно по ночам, даже страшно зверям! Лучше им не попадаться, надо их остерегаться. Но и волку трудно зимой… Еды не хватает, и он голодает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2688840" y="11592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Волк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Рисунок 3" descr=""/>
          <p:cNvPicPr/>
          <p:nvPr/>
        </p:nvPicPr>
        <p:blipFill>
          <a:blip r:embed="rId1"/>
          <a:stretch/>
        </p:blipFill>
        <p:spPr>
          <a:xfrm>
            <a:off x="133200" y="115920"/>
            <a:ext cx="887760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179280" y="115920"/>
            <a:ext cx="7777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Медведь в берлоге крепко спит, и его нельзя будить. Он с осени свой жир копил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много ел и много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ил. У медведя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зимой одна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крепко спать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и весны ждать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Рисунок 2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1497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4:58:09Z</dcterms:created>
  <dc:creator>natasha</dc:creator>
  <dc:description/>
  <dc:language>en-US</dc:language>
  <cp:lastModifiedBy>natasha</cp:lastModifiedBy>
  <dcterms:modified xsi:type="dcterms:W3CDTF">2013-01-20T15:59:59Z</dcterms:modified>
  <cp:revision>6</cp:revision>
  <dc:subject/>
  <dc:title>Презентация PowerPoint</dc:title>
</cp:coreProperties>
</file>