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0.gif" ContentType="image/gif"/>
  <Override PartName="/ppt/media/image12.jpeg" ContentType="image/jpe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13.jpeg" ContentType="image/jpeg"/>
  <Override PartName="/ppt/media/image24.jpeg" ContentType="image/jpeg"/>
  <Override PartName="/ppt/media/image19.jpeg" ContentType="image/jpeg"/>
  <Override PartName="/ppt/media/image5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41CD9-A6EC-42B2-B292-2B85B396CE9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828A5-F377-4767-9F24-563F5BDBCFB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2763-B2E2-406D-92CB-644D33E8E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36EB-19CA-425D-A179-023F75BA4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3EA7-56BC-4101-836D-624836473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C215-D3C8-461F-90CA-64A484FE1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20579-4ABE-41B3-87D3-092F836D5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CA841-A650-423F-BD94-94617B83B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132DC-C43B-4E1C-89E1-4B24A233F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515BF-2BC9-4198-B676-49D2697AD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03E6C-ED13-4935-8076-8983C535A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0208F-93F1-4EE5-9D84-CB38A3019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528F3-D773-439F-85F0-5740BD77D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B5BC-0976-4EE6-A652-55E7459AC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76076-9073-4E91-85AA-20BBCA3F0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EA987-476A-4A86-8144-A2179148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7F03E-9D8C-45BA-A470-2E388724B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CB2BB-68D3-4264-AD73-6E6CC6FBA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E6739-D318-4BDF-A5CF-16301F07B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2F6B1-3EC9-4728-980E-6F4F5F4EA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83FAF-6C11-4E66-B411-D61AA3F0D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EE493-B105-48AC-921D-4F8516D28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14B83-1A49-4F90-AA0A-CC4E0EA7C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51E92-A9FC-4B90-A3F0-5C894AEDD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BF24-DB78-4FBD-9486-257EDE1F9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FED53-2BE1-4DAC-9C3F-9A25AE768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650CB-47E9-4B3E-BA35-D7A9B3756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02FCA-6343-4FC3-AF23-C843752FC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C76AC-A17E-4A50-B17B-CD8016C66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3A532-6A0A-4A67-BEB6-39297F105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3D60E-A28F-4670-8C22-210CF86A0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B2528-2050-40E8-B746-473539145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0B0C8-11F7-4301-81A8-D13928EC0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44A80-83ED-4922-BCEE-355DEF661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EBBB7-B256-429E-B2A5-AD0B0B191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9A6D-98A5-4ADC-BF6F-5EEFCFB0C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D8893-4983-48A1-8523-D96D41D1F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9227F-AAB4-4B0F-AB15-8DCECF699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FD8FC-0E94-4C0C-8AC5-EB9499C99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3C316-A2B1-4F53-BD84-CBAB5EC30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E3C11B-724E-462D-8069-E84F512A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E40EB2-35A9-4FE6-B821-8B1665529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29161-6A63-4A2E-88DA-C0B3A8060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F6D94-4E6D-4021-8397-D6CE728EA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EBF48-2367-4C71-B320-83F380DEE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9840-00E7-4CFB-ABDA-08BFD605B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3CE6-07CC-4DD6-8C0A-38F847991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9486-5065-4063-BCCD-63009E8F8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7C3F-4E97-4451-BF99-06AB21958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7681-7770-4656-8C17-812FEE8FF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7C92B-D800-4A0A-B687-2B33C024B1AD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65CA2-8649-42B7-840A-592125923C09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B139F-5D91-4CB6-ACB8-49E125125165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1FD6F-4B64-494E-9CC1-EF00CDAF3A70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6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Box 3"/>
          <p:cNvSpPr/>
          <p:nvPr/>
        </p:nvSpPr>
        <p:spPr>
          <a:xfrm>
            <a:off x="1779480" y="206280"/>
            <a:ext cx="5604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Trebuchet MS"/>
              </a:rPr>
              <a:t>Как зимуют </a:t>
            </a:r>
            <a:endParaRPr b="0" lang="en-US" sz="7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Trebuchet MS"/>
              </a:rPr>
              <a:t>животные</a:t>
            </a:r>
            <a:endParaRPr b="0" lang="en-US" sz="7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2" name="Рисунок 5" descr=""/>
          <p:cNvPicPr/>
          <p:nvPr/>
        </p:nvPicPr>
        <p:blipFill>
          <a:blip r:embed="rId1"/>
          <a:stretch/>
        </p:blipFill>
        <p:spPr>
          <a:xfrm>
            <a:off x="1384200" y="2708280"/>
            <a:ext cx="5905440" cy="38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Рисунок 1" descr=""/>
          <p:cNvPicPr/>
          <p:nvPr/>
        </p:nvPicPr>
        <p:blipFill>
          <a:blip r:embed="rId1"/>
          <a:stretch/>
        </p:blipFill>
        <p:spPr>
          <a:xfrm>
            <a:off x="108000" y="244440"/>
            <a:ext cx="4319640" cy="3255840"/>
          </a:xfrm>
          <a:prstGeom prst="rect">
            <a:avLst/>
          </a:prstGeom>
          <a:ln w="0">
            <a:noFill/>
          </a:ln>
        </p:spPr>
      </p:pic>
      <p:pic>
        <p:nvPicPr>
          <p:cNvPr id="245" name="Рисунок 2" descr=""/>
          <p:cNvPicPr/>
          <p:nvPr/>
        </p:nvPicPr>
        <p:blipFill>
          <a:blip r:embed="rId2"/>
          <a:stretch/>
        </p:blipFill>
        <p:spPr>
          <a:xfrm>
            <a:off x="3975120" y="2852640"/>
            <a:ext cx="5138640" cy="3854520"/>
          </a:xfrm>
          <a:prstGeom prst="rect">
            <a:avLst/>
          </a:prstGeom>
          <a:ln w="0">
            <a:noFill/>
          </a:ln>
        </p:spPr>
      </p:pic>
      <p:sp>
        <p:nvSpPr>
          <p:cNvPr id="246" name="TextBox 3"/>
          <p:cNvSpPr/>
          <p:nvPr/>
        </p:nvSpPr>
        <p:spPr>
          <a:xfrm>
            <a:off x="4654440" y="1052640"/>
            <a:ext cx="446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rebuchet MS"/>
              </a:rPr>
              <a:t>Летом много ест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TextBox 4"/>
          <p:cNvSpPr/>
          <p:nvPr/>
        </p:nvSpPr>
        <p:spPr>
          <a:xfrm>
            <a:off x="-322560" y="4921200"/>
            <a:ext cx="487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rebuchet MS"/>
              </a:rPr>
              <a:t>Зимой много спит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5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0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5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0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Box 1"/>
          <p:cNvSpPr/>
          <p:nvPr/>
        </p:nvSpPr>
        <p:spPr>
          <a:xfrm>
            <a:off x="2334600" y="0"/>
            <a:ext cx="250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rebuchet MS"/>
              </a:rPr>
              <a:t>Загадки.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Прямоугольник 4"/>
          <p:cNvSpPr/>
          <p:nvPr/>
        </p:nvSpPr>
        <p:spPr>
          <a:xfrm>
            <a:off x="-473400" y="2295360"/>
            <a:ext cx="712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Зимой белый - летом серый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Прямоугольник 5"/>
          <p:cNvSpPr/>
          <p:nvPr/>
        </p:nvSpPr>
        <p:spPr>
          <a:xfrm>
            <a:off x="123840" y="676440"/>
            <a:ext cx="848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Рыжая с пушистым хвостом,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живет в лесу под кустом.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Прямоугольник 6"/>
          <p:cNvSpPr/>
          <p:nvPr/>
        </p:nvSpPr>
        <p:spPr>
          <a:xfrm>
            <a:off x="58680" y="3279600"/>
            <a:ext cx="8615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Он зимой в берлоге спит,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потихонечку храпит,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А проснется, ну реветь,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как зовут его –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Рисунок 15" descr=""/>
          <p:cNvPicPr/>
          <p:nvPr/>
        </p:nvPicPr>
        <p:blipFill>
          <a:blip r:embed="rId1"/>
          <a:stretch/>
        </p:blipFill>
        <p:spPr>
          <a:xfrm>
            <a:off x="6305400" y="281160"/>
            <a:ext cx="2657520" cy="1992240"/>
          </a:xfrm>
          <a:prstGeom prst="rect">
            <a:avLst/>
          </a:prstGeom>
          <a:ln w="0">
            <a:noFill/>
          </a:ln>
        </p:spPr>
      </p:pic>
      <p:pic>
        <p:nvPicPr>
          <p:cNvPr id="253" name="Рисунок 16" descr=""/>
          <p:cNvPicPr/>
          <p:nvPr/>
        </p:nvPicPr>
        <p:blipFill>
          <a:blip r:embed="rId2"/>
          <a:stretch/>
        </p:blipFill>
        <p:spPr>
          <a:xfrm>
            <a:off x="6508800" y="256536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254" name="Рисунок 17" descr=""/>
          <p:cNvPicPr/>
          <p:nvPr/>
        </p:nvPicPr>
        <p:blipFill>
          <a:blip r:embed="rId3"/>
          <a:stretch/>
        </p:blipFill>
        <p:spPr>
          <a:xfrm>
            <a:off x="5133960" y="4465800"/>
            <a:ext cx="2749680" cy="20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7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2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7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2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оугольник 2"/>
          <p:cNvSpPr/>
          <p:nvPr/>
        </p:nvSpPr>
        <p:spPr>
          <a:xfrm>
            <a:off x="179280" y="189000"/>
            <a:ext cx="848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Кто с высоких сосен в ребятишек шишку бросил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Trebuchet MS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Прямоугольник 3"/>
          <p:cNvSpPr/>
          <p:nvPr/>
        </p:nvSpPr>
        <p:spPr>
          <a:xfrm>
            <a:off x="431640" y="2133720"/>
            <a:ext cx="871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Дружбу водит лишь с лисой,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этот зверь сердитый, злой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Он зубами щёлк да щёлк, очень страшный серый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Прямоугольник 4"/>
          <p:cNvSpPr/>
          <p:nvPr/>
        </p:nvSpPr>
        <p:spPr>
          <a:xfrm>
            <a:off x="184320" y="4581360"/>
            <a:ext cx="799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Сердитый недотрога живет в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глуши лесной,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Иголок очень много, а нитки ни одной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8" name="Рисунок 5" descr=""/>
          <p:cNvPicPr/>
          <p:nvPr/>
        </p:nvPicPr>
        <p:blipFill>
          <a:blip r:embed="rId1"/>
          <a:stretch/>
        </p:blipFill>
        <p:spPr>
          <a:xfrm>
            <a:off x="3805200" y="914400"/>
            <a:ext cx="1895400" cy="1428840"/>
          </a:xfrm>
          <a:prstGeom prst="rect">
            <a:avLst/>
          </a:prstGeom>
          <a:ln w="0">
            <a:noFill/>
          </a:ln>
        </p:spPr>
      </p:pic>
      <p:pic>
        <p:nvPicPr>
          <p:cNvPr id="259" name="Рисунок 6" descr=""/>
          <p:cNvPicPr/>
          <p:nvPr/>
        </p:nvPicPr>
        <p:blipFill>
          <a:blip r:embed="rId2"/>
          <a:stretch/>
        </p:blipFill>
        <p:spPr>
          <a:xfrm>
            <a:off x="7083360" y="1628640"/>
            <a:ext cx="1981440" cy="1486080"/>
          </a:xfrm>
          <a:prstGeom prst="rect">
            <a:avLst/>
          </a:prstGeom>
          <a:ln w="0">
            <a:noFill/>
          </a:ln>
        </p:spPr>
      </p:pic>
      <p:pic>
        <p:nvPicPr>
          <p:cNvPr id="260" name="Рисунок 7" descr=""/>
          <p:cNvPicPr/>
          <p:nvPr/>
        </p:nvPicPr>
        <p:blipFill>
          <a:blip r:embed="rId3"/>
          <a:stretch/>
        </p:blipFill>
        <p:spPr>
          <a:xfrm>
            <a:off x="7236000" y="4205160"/>
            <a:ext cx="1676160" cy="14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3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8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8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Рисунок 1" descr=""/>
          <p:cNvPicPr/>
          <p:nvPr/>
        </p:nvPicPr>
        <p:blipFill>
          <a:blip r:embed="rId1"/>
          <a:stretch/>
        </p:blipFill>
        <p:spPr>
          <a:xfrm>
            <a:off x="173160" y="1554120"/>
            <a:ext cx="4667040" cy="380988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2" descr=""/>
          <p:cNvPicPr/>
          <p:nvPr/>
        </p:nvPicPr>
        <p:blipFill>
          <a:blip r:embed="rId2"/>
          <a:stretch/>
        </p:blipFill>
        <p:spPr>
          <a:xfrm>
            <a:off x="5003640" y="404640"/>
            <a:ext cx="3916440" cy="2953080"/>
          </a:xfrm>
          <a:prstGeom prst="rect">
            <a:avLst/>
          </a:prstGeom>
          <a:ln w="0">
            <a:noFill/>
          </a:ln>
        </p:spPr>
      </p:pic>
      <p:sp>
        <p:nvSpPr>
          <p:cNvPr id="225" name="TextBox 3"/>
          <p:cNvSpPr/>
          <p:nvPr/>
        </p:nvSpPr>
        <p:spPr>
          <a:xfrm>
            <a:off x="6251760" y="4221000"/>
            <a:ext cx="212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rebuchet MS"/>
              </a:rPr>
              <a:t>белка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Прямоугольник 1"/>
          <p:cNvSpPr/>
          <p:nvPr/>
        </p:nvSpPr>
        <p:spPr>
          <a:xfrm>
            <a:off x="361800" y="317520"/>
            <a:ext cx="84250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«</a:t>
            </a: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Белка»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Белка, веселый зверек, по деревьям скок да скок. Но зимой я меняюсь, в шубку серую переодеваюсь. Всю осень дупло утепляла, Пуха, соломки туда натаскала. К зиме готовила запас: грибы, ягоды, орехи… Чтоб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зимой не голодать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Где ж еду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в мороз достать?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К людям я тогда скачу,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помощи у них ищу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7" name="Рисунок 2" descr=""/>
          <p:cNvPicPr/>
          <p:nvPr/>
        </p:nvPicPr>
        <p:blipFill>
          <a:blip r:embed="rId1"/>
          <a:stretch/>
        </p:blipFill>
        <p:spPr>
          <a:xfrm>
            <a:off x="4932360" y="3429000"/>
            <a:ext cx="3633840" cy="29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угольник 1"/>
          <p:cNvSpPr/>
          <p:nvPr/>
        </p:nvSpPr>
        <p:spPr>
          <a:xfrm>
            <a:off x="250920" y="189000"/>
            <a:ext cx="871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Trebuchet MS"/>
              </a:rPr>
              <a:t>                              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Trebuchet MS"/>
              </a:rPr>
              <a:t>«Еж»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Зимой я крепко сплю, Зарывшись в теплую нору. Готовил с осени запас: грибы и ягоды припас. Трудился – не ленился! У меня зимой одна работа – крепко спать и весны ждать!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9" name="Рисунок 2" descr=""/>
          <p:cNvPicPr/>
          <p:nvPr/>
        </p:nvPicPr>
        <p:blipFill>
          <a:blip r:embed="rId1"/>
          <a:stretch/>
        </p:blipFill>
        <p:spPr>
          <a:xfrm>
            <a:off x="4932360" y="3178080"/>
            <a:ext cx="3800520" cy="328608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3" descr=""/>
          <p:cNvPicPr/>
          <p:nvPr/>
        </p:nvPicPr>
        <p:blipFill>
          <a:blip r:embed="rId2"/>
          <a:stretch/>
        </p:blipFill>
        <p:spPr>
          <a:xfrm>
            <a:off x="250920" y="3821040"/>
            <a:ext cx="409716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Прямоугольник 1"/>
          <p:cNvSpPr/>
          <p:nvPr/>
        </p:nvSpPr>
        <p:spPr>
          <a:xfrm>
            <a:off x="0" y="0"/>
            <a:ext cx="9144000" cy="55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rebuchet MS"/>
              </a:rPr>
              <a:t>                                   </a:t>
            </a:r>
            <a:r>
              <a:rPr b="0" lang="ru-RU" sz="4000" spc="-1" strike="noStrike">
                <a:solidFill>
                  <a:srgbClr val="000000"/>
                </a:solidFill>
                <a:latin typeface="Trebuchet MS"/>
              </a:rPr>
              <a:t>Заяц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Я заяц, расскажу, как живется мне в лесу. К зиме, ребята, побелел, шубку новую надел. Под кусточком я присяду, спрячусь под сосной. Не увидит, не узнает зверь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меня лесной!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Я хотя и не трус,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но всего,всего боюсь.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А питаюсь я корой,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ягодой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замерзшей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2" name="Рисунок 2" descr=""/>
          <p:cNvPicPr/>
          <p:nvPr/>
        </p:nvPicPr>
        <p:blipFill>
          <a:blip r:embed="rId1"/>
          <a:stretch/>
        </p:blipFill>
        <p:spPr>
          <a:xfrm>
            <a:off x="3924360" y="2637000"/>
            <a:ext cx="499248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5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Рисунок 1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5191200" cy="3384360"/>
          </a:xfrm>
          <a:prstGeom prst="rect">
            <a:avLst/>
          </a:prstGeom>
          <a:ln w="0">
            <a:noFill/>
          </a:ln>
        </p:spPr>
      </p:pic>
      <p:pic>
        <p:nvPicPr>
          <p:cNvPr id="234" name="Рисунок 2" descr=""/>
          <p:cNvPicPr/>
          <p:nvPr/>
        </p:nvPicPr>
        <p:blipFill>
          <a:blip r:embed="rId2"/>
          <a:stretch/>
        </p:blipFill>
        <p:spPr>
          <a:xfrm>
            <a:off x="3672000" y="3492360"/>
            <a:ext cx="4697280" cy="3189600"/>
          </a:xfrm>
          <a:prstGeom prst="rect">
            <a:avLst/>
          </a:prstGeom>
          <a:ln w="0">
            <a:noFill/>
          </a:ln>
        </p:spPr>
      </p:pic>
      <p:sp>
        <p:nvSpPr>
          <p:cNvPr id="235" name="TextBox 3"/>
          <p:cNvSpPr/>
          <p:nvPr/>
        </p:nvSpPr>
        <p:spPr>
          <a:xfrm>
            <a:off x="5779080" y="1557360"/>
            <a:ext cx="16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rebuchet MS"/>
              </a:rPr>
              <a:t>летом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TextBox 4"/>
          <p:cNvSpPr/>
          <p:nvPr/>
        </p:nvSpPr>
        <p:spPr>
          <a:xfrm>
            <a:off x="1667520" y="5300640"/>
            <a:ext cx="176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rebuchet MS"/>
              </a:rPr>
              <a:t>зимой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7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Прямоугольник 1"/>
          <p:cNvSpPr/>
          <p:nvPr/>
        </p:nvSpPr>
        <p:spPr>
          <a:xfrm>
            <a:off x="395280" y="260280"/>
            <a:ext cx="653400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.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rebuchet MS"/>
              </a:rPr>
              <a:t>«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Trebuchet MS"/>
              </a:rPr>
              <a:t>Лиса»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Я зимы не боюсь, в шубу теплую ряжусь. Хвост красивый какой – мне он нравится самой! Живу в норе. Там сплю, отдыхаю, а затем охотится начинаю. Ищу мышку полевую или живность какую. Хочу зайца поймать, но мне его не догнать! Об этом, наверное, мало кто знает, но и мне зимой трудно бывает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8" name="Рисунок 2" descr=""/>
          <p:cNvPicPr/>
          <p:nvPr/>
        </p:nvPicPr>
        <p:blipFill>
          <a:blip r:embed="rId1"/>
          <a:stretch/>
        </p:blipFill>
        <p:spPr>
          <a:xfrm>
            <a:off x="0" y="25560"/>
            <a:ext cx="9504360" cy="6984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9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Прямоугольник 1"/>
          <p:cNvSpPr/>
          <p:nvPr/>
        </p:nvSpPr>
        <p:spPr>
          <a:xfrm>
            <a:off x="108000" y="692280"/>
            <a:ext cx="8928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А еще есть зверь лесной, он, ребята, очень злой. Вы с ним даже не встречались! Вы б его испугались. Угадайте? Это – волк! Волк зимой очень злой. В одиночку не ходит; волки стаями бродят. Серые, худые, голодные и злые. Воют сильно по ночам, даже страшно зверям! Лучше им не попадаться, надо их остерегаться. Но и волку трудно зимой… Еды не хватает, и он голодает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TextBox 2"/>
          <p:cNvSpPr/>
          <p:nvPr/>
        </p:nvSpPr>
        <p:spPr>
          <a:xfrm>
            <a:off x="2688840" y="115920"/>
            <a:ext cx="157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rebuchet MS"/>
              </a:rPr>
              <a:t>Волк.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1" name="Рисунок 3" descr=""/>
          <p:cNvPicPr/>
          <p:nvPr/>
        </p:nvPicPr>
        <p:blipFill>
          <a:blip r:embed="rId1"/>
          <a:stretch/>
        </p:blipFill>
        <p:spPr>
          <a:xfrm>
            <a:off x="133200" y="115920"/>
            <a:ext cx="8877600" cy="66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1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6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Прямоугольник 1"/>
          <p:cNvSpPr/>
          <p:nvPr/>
        </p:nvSpPr>
        <p:spPr>
          <a:xfrm>
            <a:off x="179280" y="115920"/>
            <a:ext cx="777744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Медведь в берлоге крепко спит, и его нельзя будить. Он с осени свой жир копил, 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много ел и много 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пил. У медведя 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зимой одна 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работа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 – </a:t>
            </a: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крепко спать 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и весны ждать!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3" name="Рисунок 2" descr=""/>
          <p:cNvPicPr/>
          <p:nvPr/>
        </p:nvPicPr>
        <p:blipFill>
          <a:blip r:embed="rId1"/>
          <a:stretch/>
        </p:blipFill>
        <p:spPr>
          <a:xfrm>
            <a:off x="4643280" y="2997360"/>
            <a:ext cx="4149720" cy="29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3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0T14:58:09Z</dcterms:created>
  <dc:creator>natasha</dc:creator>
  <dc:description/>
  <dc:language>en-US</dc:language>
  <cp:lastModifiedBy>natasha</cp:lastModifiedBy>
  <dcterms:modified xsi:type="dcterms:W3CDTF">2013-01-20T15:59:59Z</dcterms:modified>
  <cp:revision>6</cp:revision>
  <dc:subject/>
  <dc:title>Презентация PowerPoint</dc:title>
</cp:coreProperties>
</file>