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426-5BEF-4195-84C9-11BFD10B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ED6-193A-446C-978B-EEA70244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6CF-20B2-4FEB-9200-49DDE641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7E9-E837-4AB0-B28C-2C76D660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F83-253A-4B52-8DB9-D8E763EE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841-846D-49D6-B68B-2D6DD32B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C77-41FE-4E52-AB51-DC2E9A29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0E8-76B1-41DE-8817-4F140DBE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48F-5212-4244-99BC-98A562D3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A4E-7F7C-4CD2-80A9-5157CE5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43A-1D01-4FF1-A49B-78D511A7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DE2-46B6-45F6-B872-F741DD5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40F8-761D-4EFE-BAFB-B391B1CB4A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 rot="21072000">
            <a:off x="440280" y="69048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344893"/>
                </a:solidFill>
                <a:uFillTx/>
                <a:latin typeface="comic"/>
              </a:rPr>
              <a:t>Die  Filmkuns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0" y="53006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doni MT Black"/>
              </a:rPr>
              <a:t>Das achte  Weltwund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4" descr="к.лента1.jpg"/>
          <p:cNvPicPr/>
          <p:nvPr/>
        </p:nvPicPr>
        <p:blipFill>
          <a:blip r:embed="rId1"/>
          <a:stretch/>
        </p:blipFill>
        <p:spPr>
          <a:xfrm>
            <a:off x="1816200" y="1925640"/>
            <a:ext cx="3944880" cy="32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 rot="21388800">
            <a:off x="213840" y="285840"/>
            <a:ext cx="82425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344893"/>
                </a:solidFill>
                <a:uFillTx/>
                <a:latin typeface="comic"/>
              </a:rPr>
              <a:t>Sieben Weltwunder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500960" y="92880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0" y="28576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ie Pyramiden Egyptens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-91080" y="4286160"/>
            <a:ext cx="31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ffff"/>
                </a:solidFill>
                <a:uFillTx/>
                <a:latin typeface="Bodoni MT Black"/>
              </a:rPr>
              <a:t>Die Hängenden Gärten in Babil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3"/>
          <p:cNvSpPr/>
          <p:nvPr/>
        </p:nvSpPr>
        <p:spPr>
          <a:xfrm>
            <a:off x="-28800" y="6143760"/>
            <a:ext cx="32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ffff"/>
                </a:solidFill>
                <a:uFillTx/>
                <a:latin typeface="Bodoni MT Black"/>
              </a:rPr>
              <a:t>Der Tempel der Artemis in Ephe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3136320" y="21430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ie Zeusstatue in Olymp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2471760" y="364320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as Mausoleum in Halikarnassos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2836440" y="542916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er Koloss von Rh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22"/>
          <p:cNvSpPr/>
          <p:nvPr/>
        </p:nvSpPr>
        <p:spPr>
          <a:xfrm>
            <a:off x="5641200" y="4643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Bodoni MT Black"/>
              </a:rPr>
              <a:t>Der Leuchtturm in Alexand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720" y="535752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ccffff"/>
                </a:solidFill>
                <a:uFillTx/>
                <a:latin typeface="Bodoni MT Black"/>
              </a:rPr>
              <a:t>Die Filmkunst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Рисунок 10" descr="i8--.jpg"/>
          <p:cNvPicPr/>
          <p:nvPr/>
        </p:nvPicPr>
        <p:blipFill>
          <a:blip r:embed="rId1"/>
          <a:stretch/>
        </p:blipFill>
        <p:spPr>
          <a:xfrm>
            <a:off x="1023840" y="1279440"/>
            <a:ext cx="5658120" cy="3438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2"/>
          <p:cNvSpPr/>
          <p:nvPr/>
        </p:nvSpPr>
        <p:spPr>
          <a:xfrm>
            <a:off x="8215200" y="1214280"/>
            <a:ext cx="42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ownloads\марлин\img_22c1286fba40b082e316506dd578971f.jpg"/>
          <p:cNvPicPr/>
          <p:nvPr/>
        </p:nvPicPr>
        <p:blipFill>
          <a:blip r:embed="rId1"/>
          <a:stretch/>
        </p:blipFill>
        <p:spPr>
          <a:xfrm>
            <a:off x="42840" y="487440"/>
            <a:ext cx="4121280" cy="3591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50920" y="4179960"/>
            <a:ext cx="4321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lene Dietrich ist eine deutsche Schauspielerin, Sängerin und Weltstar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F:\титаник.bmp"/>
          <p:cNvPicPr/>
          <p:nvPr/>
        </p:nvPicPr>
        <p:blipFill>
          <a:blip r:embed="rId2"/>
          <a:stretch/>
        </p:blipFill>
        <p:spPr>
          <a:xfrm>
            <a:off x="4608360" y="2163600"/>
            <a:ext cx="4121280" cy="5821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427640" y="76500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89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44893"/>
                </a:solidFill>
                <a:latin typeface="Arial"/>
              </a:rPr>
              <a:t>Titanic” ist ein schöner Film über die  schöne Lie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"/>
          <p:cNvSpPr/>
          <p:nvPr/>
        </p:nvSpPr>
        <p:spPr>
          <a:xfrm>
            <a:off x="785880" y="1785960"/>
            <a:ext cx="7632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Die Hausaufgabe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Bereitet einen Bericht über den deutschen  Regisseur  vor.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09:28:23Z</dcterms:created>
  <dc:creator>User</dc:creator>
  <dc:description/>
  <dc:language>en-US</dc:language>
  <cp:lastModifiedBy>ВЛАДИМИР</cp:lastModifiedBy>
  <dcterms:modified xsi:type="dcterms:W3CDTF">2013-03-02T07:28:03Z</dcterms:modified>
  <cp:revision>218</cp:revision>
  <dc:subject/>
  <dc:title>Das achte Weltwunder</dc:title>
</cp:coreProperties>
</file>