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8.gif" ContentType="image/gif"/>
  <Override PartName="/ppt/media/image12.jpeg" ContentType="image/jpeg"/>
  <Override PartName="/ppt/media/image10.wmf" ContentType="image/x-wmf"/>
  <Override PartName="/ppt/media/image2.png" ContentType="image/png"/>
  <Override PartName="/ppt/media/image7.jpeg" ContentType="image/jpeg"/>
  <Override PartName="/ppt/media/image11.gif" ContentType="image/gif"/>
  <Override PartName="/ppt/media/image6.gif" ContentType="image/gif"/>
  <Override PartName="/ppt/media/image17.wmf" ContentType="image/x-wmf"/>
  <Override PartName="/ppt/media/image19.gif" ContentType="image/gif"/>
  <Override PartName="/ppt/media/image1.jpeg" ContentType="image/jpeg"/>
  <Override PartName="/ppt/media/image5.png" ContentType="image/png"/>
  <Override PartName="/ppt/media/image22.png" ContentType="image/png"/>
  <Override PartName="/ppt/media/image21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9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8.gif" ContentType="image/gif"/>
  <Override PartName="/ppt/media/image20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8376-9C82-43C7-B1B4-B6FC04FEC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C55B-E93F-4B69-B694-E8230521B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21A8-FA5F-44EC-A673-E0ADDE2FD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39CF-57B2-491F-A601-E7A98A460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BCAF-2383-4E10-B952-0210968C1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450B-6196-4D94-858B-45221618B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B039-55AD-46A8-A6F8-D63D2920F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C86F-1967-4C05-9769-DF4F258C5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EE10-0F3C-4164-BCB5-99ACDFFB4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9416-3B7B-492E-8D31-B31ECF88C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4186-D3CA-451C-9322-F6C436314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7202-5F16-4B3A-96A8-F405BA305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8E325-E6AC-422F-9574-6C3FCFEF199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gif"/><Relationship Id="rId3" Type="http://schemas.openxmlformats.org/officeDocument/2006/relationships/image" Target="../media/image19.gif"/><Relationship Id="rId4" Type="http://schemas.openxmlformats.org/officeDocument/2006/relationships/image" Target="../media/image20.gif"/><Relationship Id="rId5" Type="http://schemas.openxmlformats.org/officeDocument/2006/relationships/image" Target="../media/image21.jpe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8.gi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68360" y="765000"/>
            <a:ext cx="8280360" cy="223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Impact"/>
              </a:rPr>
              <a:t>Компьютер - это здорово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Impact"/>
              <a:ea typeface="Impact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012000" y="3500280"/>
            <a:ext cx="1733400" cy="80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Авторы: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5292720" y="4508640"/>
            <a:ext cx="3581280" cy="16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группа учащихся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9 классов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0" y="3213000"/>
          <a:ext cx="5005440" cy="2874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3213000"/>
                    <a:ext cx="5005440" cy="2874960"/>
                  </a:xfrm>
                  <a:prstGeom prst="rect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324000" y="6237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92771"/>
                            </p:stCondLst>
                            <p:childTnLst>
                              <p:par>
                                <p:cTn id="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94771"/>
                            </p:stCondLst>
                            <p:childTnLst>
                              <p:par>
                                <p:cTn id="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96771"/>
                            </p:stCondLst>
                            <p:childTnLst>
                              <p:par>
                                <p:cTn id="1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2843280" y="549360"/>
            <a:ext cx="28810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ff6600"/>
                  </a:solidFill>
                  <a:miter/>
                </a:ln>
                <a:gradFill rotWithShape="0">
                  <a:gsLst>
                    <a:gs pos="0">
                      <a:srgbClr val="a603ab">
                        <a:alpha val="50196"/>
                      </a:srgbClr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Анкета</a:t>
            </a:r>
            <a:endParaRPr b="1" lang="en-US" sz="2400" spc="1" strike="noStrike">
              <a:ln w="12600">
                <a:solidFill>
                  <a:srgbClr val="ff6600"/>
                </a:solidFill>
                <a:miter/>
              </a:ln>
              <a:gradFill rotWithShape="0">
                <a:gsLst>
                  <a:gs pos="0">
                    <a:srgbClr val="a603ab">
                      <a:alpha val="50196"/>
                    </a:srgbClr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39640" y="1628640"/>
            <a:ext cx="82803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8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00"/>
                </a:solidFill>
                <a:latin typeface="Times New Roman"/>
              </a:rPr>
              <a:t>В</a:t>
            </a:r>
            <a:r>
              <a:rPr b="1" i="1" lang="ru-RU" sz="2800" spc="-1" strike="noStrike">
                <a:solidFill>
                  <a:srgbClr val="800000"/>
                </a:solidFill>
                <a:latin typeface="Times New Roman"/>
              </a:rPr>
              <a:t>ы считаете, что компьютер – это прогресс</a:t>
            </a:r>
            <a:r>
              <a:rPr b="1" i="1" lang="en-US" sz="2800" spc="-1" strike="noStrike">
                <a:solidFill>
                  <a:srgbClr val="800000"/>
                </a:solidFill>
                <a:latin typeface="Times New Roman"/>
              </a:rPr>
              <a:t>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8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Times New Roman"/>
              </a:rPr>
              <a:t>Вы</a:t>
            </a:r>
            <a:r>
              <a:rPr b="1" i="1" lang="en-US" sz="2800" spc="-1" strike="noStrike">
                <a:solidFill>
                  <a:srgbClr val="800000"/>
                </a:solidFill>
                <a:latin typeface="Times New Roman"/>
              </a:rPr>
              <a:t> часто </a:t>
            </a:r>
            <a:r>
              <a:rPr b="1" i="1" lang="ru-RU" sz="2800" spc="-1" strike="noStrike">
                <a:solidFill>
                  <a:srgbClr val="800000"/>
                </a:solidFill>
                <a:latin typeface="Times New Roman"/>
              </a:rPr>
              <a:t>р</a:t>
            </a:r>
            <a:r>
              <a:rPr b="1" i="1" lang="en-US" sz="2800" spc="-1" strike="noStrike">
                <a:solidFill>
                  <a:srgbClr val="800000"/>
                </a:solidFill>
                <a:latin typeface="Times New Roman"/>
              </a:rPr>
              <a:t>а</a:t>
            </a:r>
            <a:r>
              <a:rPr b="1" i="1" lang="ru-RU" sz="2800" spc="-1" strike="noStrike">
                <a:solidFill>
                  <a:srgbClr val="800000"/>
                </a:solidFill>
                <a:latin typeface="Times New Roman"/>
              </a:rPr>
              <a:t>ботаете  з</a:t>
            </a:r>
            <a:r>
              <a:rPr b="1" i="1" lang="en-US" sz="2800" spc="-1" strike="noStrike">
                <a:solidFill>
                  <a:srgbClr val="800000"/>
                </a:solidFill>
                <a:latin typeface="Times New Roman"/>
              </a:rPr>
              <a:t>а</a:t>
            </a:r>
            <a:r>
              <a:rPr b="1" i="1" lang="ru-RU" sz="28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800000"/>
                </a:solidFill>
                <a:latin typeface="Times New Roman"/>
              </a:rPr>
              <a:t>компьютер</a:t>
            </a:r>
            <a:r>
              <a:rPr b="1" i="1" lang="ru-RU" sz="2800" spc="-1" strike="noStrike">
                <a:solidFill>
                  <a:srgbClr val="800000"/>
                </a:solidFill>
                <a:latin typeface="Times New Roman"/>
              </a:rPr>
              <a:t>ом</a:t>
            </a:r>
            <a:r>
              <a:rPr b="1" i="1" lang="en-US" sz="2800" spc="-1" strike="noStrike">
                <a:solidFill>
                  <a:srgbClr val="8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8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00"/>
                </a:solidFill>
                <a:latin typeface="Times New Roman"/>
              </a:rPr>
              <a:t>Интересна ли для вас работа с компьютером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8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00"/>
                </a:solidFill>
                <a:latin typeface="Times New Roman"/>
              </a:rPr>
              <a:t>Может ли компьютер заменить все средства информации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8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00"/>
                </a:solidFill>
                <a:latin typeface="Times New Roman"/>
              </a:rPr>
              <a:t>Как Вы думаете нужен ли компьютер в жизни человека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8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Times New Roman"/>
              </a:rPr>
              <a:t>Главн</a:t>
            </a:r>
            <a:r>
              <a:rPr b="1" i="1" lang="en-US" sz="2800" spc="-1" strike="noStrike">
                <a:solidFill>
                  <a:srgbClr val="800000"/>
                </a:solidFill>
                <a:latin typeface="Times New Roman"/>
              </a:rPr>
              <a:t>ое место в Вашей жизни занимает компьютер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"/>
          <p:cNvGraphicFramePr/>
          <p:nvPr/>
        </p:nvGraphicFramePr>
        <p:xfrm>
          <a:off x="324000" y="1700280"/>
          <a:ext cx="4032000" cy="3105000"/>
        </p:xfrm>
        <a:graphic>
          <a:graphicData uri="http://schemas.openxmlformats.org/drawingml/2006/table">
            <a:tbl>
              <a:tblPr/>
              <a:tblGrid>
                <a:gridCol w="1058760"/>
                <a:gridCol w="804960"/>
                <a:gridCol w="1008000"/>
                <a:gridCol w="116028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прос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beb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beb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т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beb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зна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beb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beb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beb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beb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beb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beb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beb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beb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beb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beb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beb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beb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beb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beb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beb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beb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beb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beb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beb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beb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beb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beb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beb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beb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beb3"/>
                    </a:solidFill>
                  </a:tcPr>
                </a:tc>
              </a:tr>
            </a:tbl>
          </a:graphicData>
        </a:graphic>
      </p:graphicFrame>
      <p:sp>
        <p:nvSpPr>
          <p:cNvPr id="91" name=""/>
          <p:cNvSpPr txBox="1"/>
          <p:nvPr/>
        </p:nvSpPr>
        <p:spPr>
          <a:xfrm>
            <a:off x="755640" y="549360"/>
            <a:ext cx="77040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32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>
                        <a:alpha val="50196"/>
                      </a:srgbClr>
                    </a:gs>
                    <a:gs pos="100000">
                      <a:srgbClr val="ff8200"/>
                    </a:gs>
                  </a:gsLst>
                  <a:lin ang="108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Результаты анкетирования </a:t>
            </a:r>
            <a:endParaRPr b="1" lang="en-US" sz="2400" spc="1" strike="noStrike">
              <a:ln w="32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>
                      <a:alpha val="50196"/>
                    </a:srgbClr>
                  </a:gs>
                  <a:gs pos="100000">
                    <a:srgbClr val="ff8200"/>
                  </a:gs>
                </a:gsLst>
                <a:lin ang="108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3780000" y="3141720"/>
          <a:ext cx="6095880" cy="406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780000" y="3141720"/>
                    <a:ext cx="60958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diamond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 rot="10800000">
            <a:off x="1979280" y="3212640"/>
            <a:ext cx="5329080" cy="863640"/>
          </a:xfrm>
          <a:prstGeom prst="wedgeRectCallout">
            <a:avLst>
              <a:gd name="adj1" fmla="val -51013"/>
              <a:gd name="adj2" fmla="val 7224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9640" y="1125360"/>
            <a:ext cx="8353440" cy="1295640"/>
          </a:xfrm>
          <a:prstGeom prst="wedgeRectCallout">
            <a:avLst>
              <a:gd name="adj1" fmla="val -46939"/>
              <a:gd name="adj2" fmla="val 9191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556000" y="260280"/>
            <a:ext cx="3744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3333cc"/>
                  </a:solidFill>
                  <a:miter/>
                </a:ln>
                <a:gradFill rotWithShape="0">
                  <a:gsLst>
                    <a:gs pos="0">
                      <a:srgbClr val="000082">
                        <a:alpha val="50196"/>
                      </a:srgbClr>
                    </a:gs>
                    <a:gs pos="100000">
                      <a:srgbClr val="ff8200"/>
                    </a:gs>
                  </a:gsLst>
                  <a:lin ang="108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ыводы:</a:t>
            </a:r>
            <a:endParaRPr b="1" lang="en-US" sz="3200" spc="1" strike="noStrike">
              <a:ln w="12600">
                <a:solidFill>
                  <a:srgbClr val="3333cc"/>
                </a:solidFill>
                <a:miter/>
              </a:ln>
              <a:gradFill rotWithShape="0">
                <a:gsLst>
                  <a:gs pos="0">
                    <a:srgbClr val="000082">
                      <a:alpha val="50196"/>
                    </a:srgbClr>
                  </a:gs>
                  <a:gs pos="100000">
                    <a:srgbClr val="ff8200"/>
                  </a:gs>
                </a:gsLst>
                <a:lin ang="108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68360" y="981000"/>
            <a:ext cx="8424720" cy="42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Мы не можем представить современную жизнь без компьютера. Компьютер помогает человеку в любой сфере его деятельнос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Компьютер – это класс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Компьютеризация – это прогресс человечества!!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24000" y="5373720"/>
            <a:ext cx="1171440" cy="11714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3851280" y="5372280"/>
            <a:ext cx="1152360" cy="11523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451640" y="5373720"/>
            <a:ext cx="1098720" cy="10983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5"/>
          <a:stretch/>
        </p:blipFill>
        <p:spPr>
          <a:xfrm>
            <a:off x="7451640" y="2421000"/>
            <a:ext cx="1352520" cy="15127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6"/>
          <a:stretch/>
        </p:blipFill>
        <p:spPr>
          <a:xfrm>
            <a:off x="0" y="2492280"/>
            <a:ext cx="1316160" cy="259236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8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4000"/>
                            </p:stCondLst>
                            <p:childTnLst>
                              <p:par>
                                <p:cTn id="9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2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6000"/>
                            </p:stCondLst>
                            <p:childTnLst>
                              <p:par>
                                <p:cTn id="9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6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8000"/>
                            </p:stCondLst>
                            <p:childTnLst>
                              <p:par>
                                <p:cTn id="9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0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250920" y="4110120"/>
          <a:ext cx="4321080" cy="2481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4110120"/>
                    <a:ext cx="4321080" cy="2481120"/>
                  </a:xfrm>
                  <a:prstGeom prst="rect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755640" y="333360"/>
            <a:ext cx="8064360" cy="3024360"/>
          </a:xfrm>
          <a:prstGeom prst="wedgeRoundRectCallout">
            <a:avLst>
              <a:gd name="adj1" fmla="val -43407"/>
              <a:gd name="adj2" fmla="val 78291"/>
              <a:gd name="adj3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76360" y="836640"/>
            <a:ext cx="633564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9933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lang="en-US" sz="2400" spc="1" strike="noStrike">
                <a:ln w="12600">
                  <a:solidFill>
                    <a:srgbClr val="9933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ока. </a:t>
            </a:r>
            <a:endParaRPr b="1" lang="en-US" sz="2400" spc="1" strike="noStrike">
              <a:ln w="12600">
                <a:solidFill>
                  <a:srgbClr val="9933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9933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До новых встреч!</a:t>
            </a:r>
            <a:endParaRPr b="1" lang="en-US" sz="2400" spc="1" strike="noStrike">
              <a:ln w="12600">
                <a:solidFill>
                  <a:srgbClr val="9933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8244000" y="6093000"/>
            <a:ext cx="647640" cy="502920"/>
          </a:xfrm>
          <a:custGeom>
            <a:avLst/>
            <a:gdLst>
              <a:gd name="textAreaLeft" fmla="*/ 32400 w 647640"/>
              <a:gd name="textAreaRight" fmla="*/ 615240 w 64764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27811" h="21600">
                <a:moveTo>
                  <a:pt x="0" y="0"/>
                </a:moveTo>
                <a:lnTo>
                  <a:pt x="27811" y="0"/>
                </a:lnTo>
                <a:lnTo>
                  <a:pt x="27811" y="21600"/>
                </a:lnTo>
                <a:lnTo>
                  <a:pt x="0" y="21600"/>
                </a:lnTo>
                <a:close/>
              </a:path>
              <a:path fill="lightenLess" w="27811" h="21600">
                <a:moveTo>
                  <a:pt x="0" y="0"/>
                </a:moveTo>
                <a:lnTo>
                  <a:pt x="27811" y="0"/>
                </a:lnTo>
                <a:lnTo>
                  <a:pt x="26411" y="1400"/>
                </a:lnTo>
                <a:lnTo>
                  <a:pt x="1400" y="1400"/>
                </a:lnTo>
                <a:close/>
              </a:path>
              <a:path fill="darken" w="27811" h="21600">
                <a:moveTo>
                  <a:pt x="27811" y="0"/>
                </a:moveTo>
                <a:lnTo>
                  <a:pt x="27811" y="21600"/>
                </a:lnTo>
                <a:lnTo>
                  <a:pt x="26411" y="20200"/>
                </a:lnTo>
                <a:lnTo>
                  <a:pt x="26411" y="1400"/>
                </a:lnTo>
                <a:close/>
              </a:path>
              <a:path fill="darkenLess" w="27811" h="21600">
                <a:moveTo>
                  <a:pt x="278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411" y="20200"/>
                </a:lnTo>
                <a:close/>
              </a:path>
              <a:path fill="lighten" w="278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811" h="21600">
                <a:moveTo>
                  <a:pt x="13906" y="3837"/>
                </a:moveTo>
                <a:lnTo>
                  <a:pt x="16482" y="6448"/>
                </a:lnTo>
                <a:lnTo>
                  <a:pt x="16482" y="4707"/>
                </a:lnTo>
                <a:lnTo>
                  <a:pt x="18257" y="4707"/>
                </a:lnTo>
                <a:lnTo>
                  <a:pt x="18257" y="8224"/>
                </a:lnTo>
                <a:lnTo>
                  <a:pt x="20869" y="10800"/>
                </a:lnTo>
                <a:lnTo>
                  <a:pt x="19215" y="10800"/>
                </a:lnTo>
                <a:lnTo>
                  <a:pt x="19215" y="17989"/>
                </a:lnTo>
                <a:lnTo>
                  <a:pt x="8596" y="17989"/>
                </a:lnTo>
                <a:lnTo>
                  <a:pt x="8596" y="10800"/>
                </a:lnTo>
                <a:lnTo>
                  <a:pt x="6943" y="10800"/>
                </a:lnTo>
                <a:close/>
              </a:path>
              <a:path fill="darkenLess" w="27811" h="21600">
                <a:moveTo>
                  <a:pt x="16482" y="6448"/>
                </a:moveTo>
                <a:lnTo>
                  <a:pt x="16482" y="4707"/>
                </a:lnTo>
                <a:lnTo>
                  <a:pt x="18257" y="4707"/>
                </a:lnTo>
                <a:lnTo>
                  <a:pt x="18257" y="8224"/>
                </a:lnTo>
                <a:close/>
              </a:path>
              <a:path fill="darkenLess" w="27811" h="21600">
                <a:moveTo>
                  <a:pt x="12983" y="14299"/>
                </a:moveTo>
                <a:lnTo>
                  <a:pt x="14828" y="14299"/>
                </a:lnTo>
                <a:lnTo>
                  <a:pt x="14828" y="17989"/>
                </a:lnTo>
                <a:lnTo>
                  <a:pt x="19215" y="17989"/>
                </a:lnTo>
                <a:lnTo>
                  <a:pt x="19215" y="10800"/>
                </a:lnTo>
                <a:lnTo>
                  <a:pt x="8596" y="10800"/>
                </a:lnTo>
                <a:lnTo>
                  <a:pt x="8596" y="17989"/>
                </a:lnTo>
                <a:lnTo>
                  <a:pt x="12983" y="17989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amond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539640" y="549360"/>
          <a:ext cx="4060800" cy="1873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9640" y="549360"/>
                    <a:ext cx="4060800" cy="18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 txBox="1"/>
          <p:nvPr/>
        </p:nvSpPr>
        <p:spPr>
          <a:xfrm>
            <a:off x="4932360" y="404640"/>
            <a:ext cx="3591000" cy="177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ривет!</a:t>
            </a:r>
            <a:endParaRPr b="1" lang="en-US" sz="4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ас зовут</a:t>
            </a:r>
            <a:endParaRPr b="1" lang="en-US" sz="4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Ляля и Болик!</a:t>
            </a:r>
            <a:endParaRPr b="1" lang="en-US" sz="4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116000" y="2708280"/>
            <a:ext cx="6985080" cy="29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66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омпьютер</a:t>
            </a:r>
            <a:endParaRPr b="1" lang="en-US" sz="4400" spc="1" strike="noStrike">
              <a:ln w="12600">
                <a:solidFill>
                  <a:srgbClr val="800000"/>
                </a:solidFill>
                <a:miter/>
              </a:ln>
              <a:solidFill>
                <a:srgbClr val="ff66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66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помощник человеку!</a:t>
            </a:r>
            <a:endParaRPr b="1" lang="en-US" sz="4400" spc="1" strike="noStrike">
              <a:ln w="12600">
                <a:solidFill>
                  <a:srgbClr val="800000"/>
                </a:solidFill>
                <a:miter/>
              </a:ln>
              <a:solidFill>
                <a:srgbClr val="ff66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50920" y="333360"/>
            <a:ext cx="5400720" cy="3311640"/>
          </a:xfrm>
          <a:prstGeom prst="wedgeRoundRectCallout">
            <a:avLst>
              <a:gd name="adj1" fmla="val 51527"/>
              <a:gd name="adj2" fmla="val 71620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5848200" y="3068640"/>
          <a:ext cx="2872080" cy="3340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848200" y="3068640"/>
                    <a:ext cx="2872080" cy="3340080"/>
                  </a:xfrm>
                  <a:prstGeom prst="rect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4" name=""/>
          <p:cNvSpPr/>
          <p:nvPr/>
        </p:nvSpPr>
        <p:spPr>
          <a:xfrm>
            <a:off x="324000" y="333360"/>
            <a:ext cx="511164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Times New Roman"/>
              </a:rPr>
              <a:t>Я очень люблю слушать плеер, с помощью компьютера можно в него загружать новую музыку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Times New Roman"/>
              </a:rPr>
              <a:t>Классно! Компьютер – это здорово!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403280" y="3932280"/>
            <a:ext cx="2160720" cy="21607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1476360" y="549360"/>
            <a:ext cx="64803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Цель нашей беседы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5580000" y="3932280"/>
            <a:ext cx="2089080" cy="20890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1403280" y="2133720"/>
            <a:ext cx="6458040" cy="157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ыявить прогрессивную роль </a:t>
            </a:r>
            <a:endParaRPr b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омпьютера в жизни человека.</a:t>
            </a:r>
            <a:endParaRPr b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slow">
    <p:diamond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4000" y="691920"/>
            <a:ext cx="51847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cc"/>
                </a:solidFill>
                <a:latin typeface="Times New Roman"/>
              </a:rPr>
              <a:t>Чтобы выяснить, </a:t>
            </a:r>
            <a:br>
              <a:rPr sz="2800"/>
            </a:br>
            <a:r>
              <a:rPr b="1" i="1" lang="ru-RU" sz="2800" spc="-1" strike="noStrike">
                <a:solidFill>
                  <a:srgbClr val="3333cc"/>
                </a:solidFill>
                <a:latin typeface="Times New Roman"/>
              </a:rPr>
              <a:t>как компьютер</a:t>
            </a:r>
            <a:br>
              <a:rPr sz="2800"/>
            </a:br>
            <a:r>
              <a:rPr b="1" i="1" lang="ru-RU" sz="2800" spc="-1" strike="noStrike">
                <a:solidFill>
                  <a:srgbClr val="3333cc"/>
                </a:solidFill>
                <a:latin typeface="Times New Roman"/>
              </a:rPr>
              <a:t> помогает человеку</a:t>
            </a:r>
            <a:br>
              <a:rPr sz="2800"/>
            </a:br>
            <a:r>
              <a:rPr b="1" i="1" lang="ru-RU" sz="2800" spc="-1" strike="noStrike">
                <a:solidFill>
                  <a:srgbClr val="3333cc"/>
                </a:solidFill>
                <a:latin typeface="Times New Roman"/>
              </a:rPr>
              <a:t> в повседневной жизни,</a:t>
            </a:r>
            <a:br>
              <a:rPr sz="2800"/>
            </a:br>
            <a:r>
              <a:rPr b="1" i="1" lang="ru-RU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ru-RU" sz="2800" spc="-1" strike="noStrike" u="sng">
                <a:solidFill>
                  <a:srgbClr val="3333cc"/>
                </a:solidFill>
                <a:uFillTx/>
                <a:latin typeface="Times New Roman"/>
              </a:rPr>
              <a:t>мы решили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250920" y="4797360"/>
          <a:ext cx="4060800" cy="1873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4797360"/>
                    <a:ext cx="4060800" cy="187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2484360" y="1484280"/>
            <a:ext cx="6408720" cy="3600360"/>
          </a:xfrm>
          <a:prstGeom prst="cloudCallout">
            <a:avLst>
              <a:gd name="adj1" fmla="val -67462"/>
              <a:gd name="adj2" fmla="val 42064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Провести анализ по использованию компьютера в жизни челове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Провести опрос людей на улице о том, какое место занимает компьютер в их жизн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amond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684360" y="260280"/>
            <a:ext cx="784836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Impact"/>
              </a:rPr>
              <a:t>Анализ использования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Impact"/>
              </a:rPr>
              <a:t>компьютера в жизни человека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Impact"/>
              <a:ea typeface="Impact"/>
            </a:endParaRPr>
          </a:p>
        </p:txBody>
      </p:sp>
      <p:sp>
        <p:nvSpPr>
          <p:cNvPr id="64" name=""/>
          <p:cNvSpPr/>
          <p:nvPr/>
        </p:nvSpPr>
        <p:spPr>
          <a:xfrm>
            <a:off x="0" y="22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-468360" y="3068640"/>
          <a:ext cx="9124920" cy="2928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468360" y="3068640"/>
                    <a:ext cx="9124920" cy="292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0"/>
            <a:ext cx="590544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Промышленность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– компьютерное управление процессом производств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Образование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– дистанционное обучени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Медицин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– диагностика и обследование пациент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Экономик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– быстрая обработка информации и ее хранение в электронном вид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059280" y="3573360"/>
            <a:ext cx="608472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Связь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– быстрая и качественная передача информации на большие расстоя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Сельское хозяйство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– автоматизированные комплексы в животноводств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Строительство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– компьютерное проектировани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5724360" y="260280"/>
            <a:ext cx="3168720" cy="23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ff"/>
                </a:solidFill>
                <a:latin typeface="Impact"/>
              </a:rPr>
              <a:t>Применение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ff"/>
                </a:solidFill>
                <a:latin typeface="Impact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ff"/>
                </a:solidFill>
                <a:latin typeface="Impact"/>
              </a:rPr>
              <a:t>компьютера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ccff"/>
              </a:solidFill>
              <a:latin typeface="Impact"/>
              <a:ea typeface="Impact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50920" y="4221000"/>
            <a:ext cx="2592360" cy="192420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8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5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250920" y="4110120"/>
          <a:ext cx="4321080" cy="2481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4110120"/>
                    <a:ext cx="4321080" cy="2481120"/>
                  </a:xfrm>
                  <a:prstGeom prst="rect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468360" y="189000"/>
            <a:ext cx="8278920" cy="3527280"/>
          </a:xfrm>
          <a:prstGeom prst="wedgeRoundRectCallout">
            <a:avLst>
              <a:gd name="adj1" fmla="val -40870"/>
              <a:gd name="adj2" fmla="val 6084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116000" y="476280"/>
            <a:ext cx="68407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так мы можем сказать, что компьютер играет очень большую роль в жизни людей. Он активно применяется в медицине для лечения пациентов,  в образовании для организации учебного процесса и в промышленности для усовершенствования производительности труда и повышения качества производимой продукции. Компьютер можно применять и для домашних дел. Развивается система применения ПК и в общественных организациях при проведении выборов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250920" y="4110120"/>
          <a:ext cx="4321080" cy="2481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4110120"/>
                    <a:ext cx="4321080" cy="2481120"/>
                  </a:xfrm>
                  <a:prstGeom prst="rect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7236000" y="260280"/>
            <a:ext cx="1415880" cy="158436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78" name="" descr=""/>
          <p:cNvPicPr/>
          <p:nvPr/>
        </p:nvPicPr>
        <p:blipFill>
          <a:blip r:embed="rId5"/>
          <a:stretch/>
        </p:blipFill>
        <p:spPr>
          <a:xfrm>
            <a:off x="7308720" y="1916280"/>
            <a:ext cx="1352520" cy="1511280"/>
          </a:xfrm>
          <a:prstGeom prst="rect">
            <a:avLst/>
          </a:prstGeom>
          <a:ln w="9360">
            <a:solidFill>
              <a:srgbClr val="ff6600"/>
            </a:solidFill>
            <a:miter/>
          </a:ln>
        </p:spPr>
      </p:pic>
      <p:pic>
        <p:nvPicPr>
          <p:cNvPr id="79" name="" descr=""/>
          <p:cNvPicPr/>
          <p:nvPr/>
        </p:nvPicPr>
        <p:blipFill>
          <a:blip r:embed="rId6"/>
          <a:stretch/>
        </p:blipFill>
        <p:spPr>
          <a:xfrm>
            <a:off x="7920000" y="4292640"/>
            <a:ext cx="1224000" cy="136836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  <p:pic>
        <p:nvPicPr>
          <p:cNvPr id="80" name="" descr=""/>
          <p:cNvPicPr/>
          <p:nvPr/>
        </p:nvPicPr>
        <p:blipFill>
          <a:blip r:embed="rId7"/>
          <a:stretch/>
        </p:blipFill>
        <p:spPr>
          <a:xfrm>
            <a:off x="7020000" y="3573360"/>
            <a:ext cx="927000" cy="1282680"/>
          </a:xfrm>
          <a:prstGeom prst="rect">
            <a:avLst/>
          </a:prstGeom>
          <a:ln w="9360">
            <a:solidFill>
              <a:srgbClr val="800080"/>
            </a:solidFill>
            <a:miter/>
          </a:ln>
        </p:spPr>
      </p:pic>
      <p:sp>
        <p:nvSpPr>
          <p:cNvPr id="81" name=""/>
          <p:cNvSpPr txBox="1"/>
          <p:nvPr/>
        </p:nvSpPr>
        <p:spPr>
          <a:xfrm>
            <a:off x="250920" y="692280"/>
            <a:ext cx="6445080" cy="23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Мы провили </a:t>
            </a:r>
            <a:endParaRPr b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оциологические</a:t>
            </a:r>
            <a:endParaRPr b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исследования</a:t>
            </a:r>
            <a:endParaRPr b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рохожих</a:t>
            </a:r>
            <a:endParaRPr b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780000" y="1699920"/>
            <a:ext cx="3456000" cy="2376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4427640" y="2923920"/>
            <a:ext cx="2808360" cy="1152360"/>
          </a:xfrm>
          <a:prstGeom prst="line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4572000" y="4005360"/>
            <a:ext cx="2448000" cy="287280"/>
          </a:xfrm>
          <a:prstGeom prst="line">
            <a:avLst/>
          </a:prstGeom>
          <a:ln w="93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572000" y="5084640"/>
            <a:ext cx="3313080" cy="0"/>
          </a:xfrm>
          <a:prstGeom prst="line">
            <a:avLst/>
          </a:prstGeom>
          <a:ln w="9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8"/>
          <a:stretch/>
        </p:blipFill>
        <p:spPr>
          <a:xfrm>
            <a:off x="6732720" y="5373720"/>
            <a:ext cx="1244520" cy="1257120"/>
          </a:xfrm>
          <a:prstGeom prst="rect">
            <a:avLst/>
          </a:prstGeom>
          <a:ln w="9360">
            <a:solidFill>
              <a:srgbClr val="008000"/>
            </a:solidFill>
            <a:miter/>
          </a:ln>
        </p:spPr>
      </p:pic>
      <p:sp>
        <p:nvSpPr>
          <p:cNvPr id="87" name=""/>
          <p:cNvSpPr/>
          <p:nvPr/>
        </p:nvSpPr>
        <p:spPr>
          <a:xfrm>
            <a:off x="4572000" y="5661000"/>
            <a:ext cx="2160720" cy="36036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галина</cp:lastModifiedBy>
  <dcterms:modified xsi:type="dcterms:W3CDTF">2004-10-10T19:06:31Z</dcterms:modified>
  <cp:revision>156</cp:revision>
  <dc:subject/>
  <dc:title>PowerPoint Presentation</dc:title>
</cp:coreProperties>
</file>