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11.gif" ContentType="image/gif"/>
  <Override PartName="/ppt/media/image6.gif" ContentType="image/gif"/>
  <Override PartName="/ppt/media/image17.wmf" ContentType="image/x-wmf"/>
  <Override PartName="/ppt/media/image19.gif" ContentType="image/gif"/>
  <Override PartName="/ppt/media/image1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8.gif" ContentType="image/gif"/>
  <Override PartName="/ppt/media/image2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FB2-D281-4CB0-8A3A-45DDA562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6E3-80F8-47F9-893A-DA7860D5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E5C-CEB3-442B-B19C-63E562B3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BB9-ABCF-409E-9295-A38E630D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B2A-8A41-46F5-999E-98320B7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87D-47F4-452B-9392-646BDDC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0BD-23A8-4F58-97BB-29E8FCA6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D57-FA6E-4C23-851D-26AB4AFD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3D9-745C-47FB-A4E3-376DDD23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322-BBAB-4F79-A3FD-751BC86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4F4-FB99-48B6-A0A2-79630D3C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821-CCEC-492A-8138-5DA65A8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FD8-3B45-42E1-A348-F530C98895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765000"/>
            <a:ext cx="8280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Компьютер - это здорово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12000" y="3500280"/>
            <a:ext cx="173340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втор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92720" y="4508640"/>
            <a:ext cx="35812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руппа учащих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9 класс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3213000"/>
          <a:ext cx="5005440" cy="28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13000"/>
                    <a:ext cx="5005440" cy="2874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9277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4771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6771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843280" y="549360"/>
            <a:ext cx="288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нкета</a:t>
            </a:r>
            <a:endParaRPr b="1" lang="en-US" sz="24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62864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ы считаете, что компьютер – это прогресс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Вы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часто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р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ботаете  з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компьютер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ом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Интересна ли для вас работа с компьютер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Может ли компьютер заменить все средства информ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Как Вы думаете нужен ли компьютер в жизни челове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Главн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ое место в Вашей жизни занимает компьюте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24000" y="1700280"/>
          <a:ext cx="4032000" cy="3105000"/>
        </p:xfrm>
        <a:graphic>
          <a:graphicData uri="http://schemas.openxmlformats.org/drawingml/2006/table">
            <a:tbl>
              <a:tblPr/>
              <a:tblGrid>
                <a:gridCol w="1058760"/>
                <a:gridCol w="804960"/>
                <a:gridCol w="1008000"/>
                <a:gridCol w="1160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 txBox="1"/>
          <p:nvPr/>
        </p:nvSpPr>
        <p:spPr>
          <a:xfrm>
            <a:off x="755640" y="549360"/>
            <a:ext cx="770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50196"/>
                      </a:srgbClr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 анкетирования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>
                      <a:alpha val="50196"/>
                    </a:srgbClr>
                  </a:gs>
                  <a:gs pos="100000">
                    <a:srgbClr val="ff8200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780000" y="314172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3141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10800000">
            <a:off x="1979280" y="3212640"/>
            <a:ext cx="5329080" cy="863640"/>
          </a:xfrm>
          <a:prstGeom prst="wedgeRectCallout">
            <a:avLst>
              <a:gd name="adj1" fmla="val -51013"/>
              <a:gd name="adj2" fmla="val 722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125360"/>
            <a:ext cx="8353440" cy="1295640"/>
          </a:xfrm>
          <a:prstGeom prst="wedgeRectCallout">
            <a:avLst>
              <a:gd name="adj1" fmla="val -46939"/>
              <a:gd name="adj2" fmla="val 91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56000" y="260280"/>
            <a:ext cx="37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50196"/>
                      </a:srgbClr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ы: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82">
                      <a:alpha val="50196"/>
                    </a:srgbClr>
                  </a:gs>
                  <a:gs pos="100000">
                    <a:srgbClr val="ff8200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981000"/>
            <a:ext cx="842472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Мы не можем представить современную жизнь без компьютера. Компьютер помогает человеку в любой сфере его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омпьютер – это класс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омпьютеризация – это прогресс человечества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537372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51280" y="5372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451640" y="5373720"/>
            <a:ext cx="1098720" cy="109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451640" y="2421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0" y="2492280"/>
            <a:ext cx="13161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50920" y="4110120"/>
          <a:ext cx="432108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110120"/>
                    <a:ext cx="4321080" cy="24811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55640" y="333360"/>
            <a:ext cx="8064360" cy="3024360"/>
          </a:xfrm>
          <a:prstGeom prst="wedgeRoundRectCallout">
            <a:avLst>
              <a:gd name="adj1" fmla="val -43407"/>
              <a:gd name="adj2" fmla="val 78291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360" y="836640"/>
            <a:ext cx="63356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ка.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ых встреч!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24400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13906" y="3837"/>
                </a:moveTo>
                <a:lnTo>
                  <a:pt x="16482" y="6448"/>
                </a:lnTo>
                <a:lnTo>
                  <a:pt x="16482" y="4707"/>
                </a:lnTo>
                <a:lnTo>
                  <a:pt x="18257" y="4707"/>
                </a:lnTo>
                <a:lnTo>
                  <a:pt x="18257" y="8224"/>
                </a:lnTo>
                <a:lnTo>
                  <a:pt x="20869" y="10800"/>
                </a:lnTo>
                <a:lnTo>
                  <a:pt x="19215" y="10800"/>
                </a:lnTo>
                <a:lnTo>
                  <a:pt x="19215" y="17989"/>
                </a:lnTo>
                <a:lnTo>
                  <a:pt x="8596" y="17989"/>
                </a:lnTo>
                <a:lnTo>
                  <a:pt x="8596" y="10800"/>
                </a:lnTo>
                <a:lnTo>
                  <a:pt x="6943" y="10800"/>
                </a:lnTo>
                <a:close/>
              </a:path>
              <a:path fill="darkenLess" w="27811" h="21600">
                <a:moveTo>
                  <a:pt x="16482" y="6448"/>
                </a:moveTo>
                <a:lnTo>
                  <a:pt x="16482" y="4707"/>
                </a:lnTo>
                <a:lnTo>
                  <a:pt x="18257" y="4707"/>
                </a:lnTo>
                <a:lnTo>
                  <a:pt x="18257" y="8224"/>
                </a:lnTo>
                <a:close/>
              </a:path>
              <a:path fill="darkenLess" w="27811" h="21600">
                <a:moveTo>
                  <a:pt x="12983" y="14299"/>
                </a:moveTo>
                <a:lnTo>
                  <a:pt x="14828" y="14299"/>
                </a:lnTo>
                <a:lnTo>
                  <a:pt x="14828" y="17989"/>
                </a:lnTo>
                <a:lnTo>
                  <a:pt x="19215" y="17989"/>
                </a:lnTo>
                <a:lnTo>
                  <a:pt x="19215" y="10800"/>
                </a:lnTo>
                <a:lnTo>
                  <a:pt x="8596" y="10800"/>
                </a:lnTo>
                <a:lnTo>
                  <a:pt x="8596" y="17989"/>
                </a:lnTo>
                <a:lnTo>
                  <a:pt x="12983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9640" y="549360"/>
          <a:ext cx="4060800" cy="18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549360"/>
                    <a:ext cx="40608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 txBox="1"/>
          <p:nvPr/>
        </p:nvSpPr>
        <p:spPr>
          <a:xfrm>
            <a:off x="4932360" y="404640"/>
            <a:ext cx="359100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вет!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 зовут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яля и Болик!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16000" y="2708280"/>
            <a:ext cx="6985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помощник человеку!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333360"/>
            <a:ext cx="5400720" cy="3311640"/>
          </a:xfrm>
          <a:prstGeom prst="wedgeRoundRectCallout">
            <a:avLst>
              <a:gd name="adj1" fmla="val 51527"/>
              <a:gd name="adj2" fmla="val 7162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848200" y="3068640"/>
          <a:ext cx="2872080" cy="33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8200" y="3068640"/>
                    <a:ext cx="2872080" cy="33400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24000" y="333360"/>
            <a:ext cx="51116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Я очень люблю слушать плеер, с помощью компьютера можно в него загружать новую музы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лассно! Компьютер – это здорово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393228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476360" y="549360"/>
            <a:ext cx="64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Цель нашей беседы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580000" y="393228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403280" y="2133720"/>
            <a:ext cx="64580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явить прогрессивную роль 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ьютера в жизни человека.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518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Чтобы выяснить, 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ак компьютер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помогает человеку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в повседневной жизни,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мы реши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4797360"/>
          <a:ext cx="4060800" cy="18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97360"/>
                    <a:ext cx="406080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484360" y="1484280"/>
            <a:ext cx="6408720" cy="3600360"/>
          </a:xfrm>
          <a:prstGeom prst="cloudCallout">
            <a:avLst>
              <a:gd name="adj1" fmla="val -67462"/>
              <a:gd name="adj2" fmla="val 4206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вести анализ по использованию компьютера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вести опрос людей на улице о том, какое место занимает компьютер в их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4360" y="260280"/>
            <a:ext cx="784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Анализ использован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компьютера в жизни человека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-468360" y="3068640"/>
          <a:ext cx="9124920" cy="29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360" y="3068640"/>
                    <a:ext cx="912492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5905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омышленнос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компьютерное управление процессом производ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браз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дистанционное обу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Медиц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диагностика и обследование паци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Экономи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быстрая обработка информации и ее хранение в электронном ви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3573360"/>
            <a:ext cx="6084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яз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быстрая и качественная передача информации на большие расстоя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ельское хозяй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автоматизированные комплексы в животновод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троитель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компьютерное проект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24360" y="260280"/>
            <a:ext cx="3168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Приме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компьют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259236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0920" y="4110120"/>
          <a:ext cx="432108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110120"/>
                    <a:ext cx="4321080" cy="24811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68360" y="189000"/>
            <a:ext cx="8278920" cy="3527280"/>
          </a:xfrm>
          <a:prstGeom prst="wedgeRoundRectCallout">
            <a:avLst>
              <a:gd name="adj1" fmla="val -40870"/>
              <a:gd name="adj2" fmla="val 60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76280"/>
            <a:ext cx="684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так мы можем сказать, что компьютер играет очень большую роль в жизни людей. Он активно применяется в медицине для лечения пациентов,  в образовании для организации учебного процесса и в промышленности для усовершенствования производительности труда и повышения качества производимой продукции. Компьютер можно применять и для домашних дел. Развивается система применения ПК и в общественных организациях при проведении выбор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4110120"/>
          <a:ext cx="432108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110120"/>
                    <a:ext cx="4321080" cy="24811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236000" y="260280"/>
            <a:ext cx="1415880" cy="1584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352520" cy="15112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920000" y="4292640"/>
            <a:ext cx="1224000" cy="1368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7020000" y="3573360"/>
            <a:ext cx="927000" cy="12826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250920" y="692280"/>
            <a:ext cx="644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ы провили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циологическ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следования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хожих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780000" y="1699920"/>
            <a:ext cx="3456000" cy="23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427640" y="2923920"/>
            <a:ext cx="2808360" cy="11523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72000" y="4005360"/>
            <a:ext cx="2448000" cy="2872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5084640"/>
            <a:ext cx="331308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6732720" y="5373720"/>
            <a:ext cx="1244520" cy="12571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572000" y="5661000"/>
            <a:ext cx="2160720" cy="360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04-10-10T19:06:31Z</dcterms:modified>
  <cp:revision>156</cp:revision>
  <dc:subject/>
  <dc:title>PowerPoint Presentation</dc:title>
</cp:coreProperties>
</file>