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92E-0005-4715-941F-B6F1AAC6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75F-D270-4EF9-976D-5D35CCE7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B55-2B1E-43DF-AC8D-EB218855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457-7D2F-4D28-B6ED-830FCC4C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A5E-8B37-40C1-A42C-7620ABC1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C41-F1EC-4D74-8233-D4F1B5F2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532-BC46-455A-9A4E-ECF01600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FE4-55B8-436F-9D33-F24E568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26A-0A92-4EA7-AC66-013C83A5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A40-12C1-4897-A775-6497A08C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248-4455-49B8-AFC5-069ED03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B0D-E77B-490E-82E0-D7AB217F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9D00-5B9C-489A-B466-576CE55D5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cab 105\Desktop\КОНТРОЛЬ ЗНАНИЙ\Контроль знаний ВТО\Слайд1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cab 105\Desktop\КОНТРОЛЬ ЗНАНИЙ\Контроль знаний ВТО\Слайд2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cab 105\Desktop\КОНТРОЛЬ ЗНАНИЙ\Контроль знаний ВТО\Слайд3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cab 105\Desktop\КОНТРОЛЬ ЗНАНИЙ\Контроль знаний ВТО\Слайд4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cab 105\Desktop\КОНТРОЛЬ ЗНАНИЙ\Контроль знаний ВТО\Слайд5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cab 105\Desktop\КОНТРОЛЬ ЗНАНИЙ\Контроль знаний ВТО\Слайд6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cab 105\Desktop\КОНТРОЛЬ ЗНАНИЙ\Контроль знаний ВТО\Слайд7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cab 105\Desktop\КОНТРОЛЬ ЗНАНИЙ\Контроль знаний ВТО\Слайд8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cab 105\Desktop\КОНТРОЛЬ ЗНАНИЙ\Контроль знаний ВТО\Слайд9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5:17:46Z</dcterms:created>
  <dc:creator>cab 105</dc:creator>
  <dc:description/>
  <dc:language>en-US</dc:language>
  <cp:lastModifiedBy>cab 105</cp:lastModifiedBy>
  <dcterms:modified xsi:type="dcterms:W3CDTF">2013-03-02T15:26:37Z</dcterms:modified>
  <cp:revision>1</cp:revision>
  <dc:subject/>
  <dc:title>Презентация PowerPoint</dc:title>
</cp:coreProperties>
</file>