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6CB-F29C-47EC-8FE6-31545BBF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7FF-3888-4E8B-8EE0-9784AC8F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394-153D-460A-B137-2EA6D4F8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76F-E525-446C-ACBB-90FDFE65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78B-4E02-4DD1-BE9F-563D2C7A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912-9579-4913-ACE6-04E9413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DBE-FD0C-47B7-87B4-BC2A1B0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98A-341D-4704-849C-8148A20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091-C75B-4A93-9D87-221ECE4A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7DF-FA6E-4168-80A1-7877DFD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E7D-DCBE-4D44-85CD-4580AF2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C9A-E736-43CE-8766-8EB60F0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78F4-EB8C-4ACF-9E31-9DCB58F12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cab 105\Desktop\КОНТРОЛЬ ЗНАНИЙ\Контроль знаний ВТО\Слайд1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cab 105\Desktop\КОНТРОЛЬ ЗНАНИЙ\Контроль знаний ВТО\Слайд2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cab 105\Desktop\КОНТРОЛЬ ЗНАНИЙ\Контроль знаний ВТО\Слайд3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cab 105\Desktop\КОНТРОЛЬ ЗНАНИЙ\Контроль знаний ВТО\Слайд4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cab 105\Desktop\КОНТРОЛЬ ЗНАНИЙ\Контроль знаний ВТО\Слайд5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cab 105\Desktop\КОНТРОЛЬ ЗНАНИЙ\Контроль знаний ВТО\Слайд6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cab 105\Desktop\КОНТРОЛЬ ЗНАНИЙ\Контроль знаний ВТО\Слайд7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cab 105\Desktop\КОНТРОЛЬ ЗНАНИЙ\Контроль знаний ВТО\Слайд8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ab 105\Desktop\КОНТРОЛЬ ЗНАНИЙ\Контроль знаний ВТО\Слайд9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5:17:46Z</dcterms:created>
  <dc:creator>cab 105</dc:creator>
  <dc:description/>
  <dc:language>en-US</dc:language>
  <cp:lastModifiedBy>cab 105</cp:lastModifiedBy>
  <dcterms:modified xsi:type="dcterms:W3CDTF">2013-03-02T15:26:37Z</dcterms:modified>
  <cp:revision>1</cp:revision>
  <dc:subject/>
  <dc:title>Презентация PowerPoint</dc:title>
</cp:coreProperties>
</file>