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15.gif" ContentType="image/gi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ECE3-7CDF-4698-8341-8A5CFED6F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3F96-2BFC-4AA7-82FC-52A56F317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4558-D75C-4CCC-969A-A51A3B0BA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9988-3F43-4ADB-A7B4-09FF7AE01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9B2-6A7D-4134-B983-8CBB5567D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BD0-CF96-4A5D-A3BE-11B51180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C8E-B37D-4E1E-8616-8874546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F0C-430F-44AF-97A3-D04AEA19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393-4247-458B-8B91-4755CD2D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0AA-41DD-4D8B-952F-7BF7131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21B-2D77-4013-814B-4D42B4E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4FA-74E9-4EE3-9AC8-7F59419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8E2-0156-4165-ADCC-5C75903F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F2B-233C-4CD1-A6C8-EA5A257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F59-BAFB-4F32-A050-CCC356B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B18-AAD9-4E46-A926-53203C9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C7F-A5CD-4FF2-B280-E37268D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4D3-3657-4F91-8C83-359C9FC2B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9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Times New Roman"/>
              </a:rPr>
              <a:t>ВНЕУРОЧНАЯ ДЕЯТЕЛЬНОСТЬ                            как важное звено в условиях внедрения ФГОС второго поколен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Выполнила: учитель английского языка </a:t>
            </a:r>
            <a:br>
              <a:rPr sz="1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МОУ Заларинской СОШ №1 </a:t>
            </a:r>
            <a:br>
              <a:rPr sz="1800"/>
            </a:br>
            <a:r>
              <a:rPr b="1" lang="ru-RU" sz="1800" spc="-1" strike="noStrike">
                <a:solidFill>
                  <a:srgbClr val="3c8c93"/>
                </a:solidFill>
                <a:latin typeface="Times New Roman"/>
              </a:rPr>
              <a:t>Баландина Яна Васильевн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ение творческих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Мои документы\Мои рисунки\20120405\05042012.jpg"/>
          <p:cNvPicPr/>
          <p:nvPr/>
        </p:nvPicPr>
        <p:blipFill>
          <a:blip r:embed="rId1"/>
          <a:stretch/>
        </p:blipFill>
        <p:spPr>
          <a:xfrm>
            <a:off x="1450800" y="1643040"/>
            <a:ext cx="6242400" cy="5000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Мои документы\Мои рисунки\20120322\21032012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зна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ированные подх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подходы в обучении позволяют учитывать индивидуальность кажд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идов восприятия задействовано, тем эффективнее за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8"/>
          <p:cNvGrpSpPr/>
          <p:nvPr/>
        </p:nvGrpSpPr>
        <p:grpSpPr>
          <a:xfrm>
            <a:off x="1200240" y="1927080"/>
            <a:ext cx="6672240" cy="1143000"/>
            <a:chOff x="1200240" y="1927080"/>
            <a:chExt cx="6672240" cy="1143000"/>
          </a:xfrm>
        </p:grpSpPr>
        <p:cxnSp>
          <p:nvCxnSpPr>
            <p:cNvPr id="79" name="_s1028"/>
            <p:cNvCxnSpPr>
              <a:stCxn id="80" idx="0"/>
              <a:endCxn id="81" idx="2"/>
            </p:cNvCxnSpPr>
            <p:nvPr/>
          </p:nvCxnSpPr>
          <p:spPr>
            <a:xfrm flipV="1" rot="16200000">
              <a:off x="5571720" y="1346760"/>
              <a:ext cx="229320" cy="230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29"/>
            <p:cNvCxnSpPr>
              <a:stCxn id="83" idx="0"/>
              <a:endCxn id="81" idx="2"/>
            </p:cNvCxnSpPr>
            <p:nvPr/>
          </p:nvCxnSpPr>
          <p:spPr>
            <a:xfrm flipV="1" rot="16200000">
              <a:off x="4421520" y="249696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0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3271680" y="1348560"/>
              <a:ext cx="229320" cy="229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031"/>
            <p:cNvSpPr/>
            <p:nvPr/>
          </p:nvSpPr>
          <p:spPr>
            <a:xfrm>
              <a:off x="3687840" y="1927080"/>
              <a:ext cx="16952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1200240" y="2612880"/>
              <a:ext cx="20714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узык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3500280" y="26128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образи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4"/>
            <p:cNvSpPr/>
            <p:nvPr/>
          </p:nvSpPr>
          <p:spPr>
            <a:xfrm>
              <a:off x="5800680" y="2612880"/>
              <a:ext cx="2071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стру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8"/>
          <p:cNvSpPr/>
          <p:nvPr/>
        </p:nvSpPr>
        <p:spPr>
          <a:xfrm>
            <a:off x="368784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ы - победит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G0037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58040" y="364320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9"/>
          <p:cNvSpPr/>
          <p:nvPr/>
        </p:nvSpPr>
        <p:spPr>
          <a:xfrm>
            <a:off x="714240" y="2643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ма: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Быть или не быть английским словам в русской речи?»</a:t>
            </a:r>
            <a:br>
              <a:rPr sz="2800"/>
            </a:br>
            <a:r>
              <a:rPr b="1" lang="ru-RU" sz="2800" spc="-1" strike="noStrike">
                <a:solidFill>
                  <a:srgbClr val="1a01c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Documents and Settings\Admin\Мои документы\Мои рисунки\20120322\21032012_002.jpg"/>
          <p:cNvPicPr/>
          <p:nvPr/>
        </p:nvPicPr>
        <p:blipFill>
          <a:blip r:embed="rId2"/>
          <a:stretch/>
        </p:blipFill>
        <p:spPr>
          <a:xfrm>
            <a:off x="428760" y="3500280"/>
            <a:ext cx="2786040" cy="2643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5"/>
          <p:cNvSpPr/>
          <p:nvPr/>
        </p:nvSpPr>
        <p:spPr>
          <a:xfrm>
            <a:off x="4929120" y="4929120"/>
            <a:ext cx="3264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Выполнила: ученица 6 «б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Галеев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Руководитель: Баландина Яна Васи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01cf"/>
                </a:solidFill>
                <a:latin typeface="Arial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8-tub.yandex.net/i?id=118744916-09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500040"/>
            <a:ext cx="7772400" cy="180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ы английского произнош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71360" y="3000240"/>
            <a:ext cx="658476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Жихарева 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итенко Влад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и 3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З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аландина Я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12042011_004.jpg"/>
          <p:cNvPicPr/>
          <p:nvPr/>
        </p:nvPicPr>
        <p:blipFill>
          <a:blip r:embed="rId1"/>
          <a:stretch/>
        </p:blipFill>
        <p:spPr>
          <a:xfrm>
            <a:off x="0" y="3429000"/>
            <a:ext cx="32860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G00373_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215120" y="542916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395280" y="0"/>
            <a:ext cx="8424720" cy="6264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тельные, блестящие уроки есть 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имеются еще что-то замечательное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уроков, где имеются и успешно приме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разнообразные формы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спитания учащихся вне урока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9"/>
          <p:cNvSpPr/>
          <p:nvPr/>
        </p:nvSpPr>
        <p:spPr>
          <a:xfrm>
            <a:off x="642960" y="24289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Documents and Settings\Admin\Мои документы\Загрузки\hw17.gif"/>
          <p:cNvPicPr/>
          <p:nvPr/>
        </p:nvPicPr>
        <p:blipFill>
          <a:blip r:embed="rId1"/>
          <a:stretch/>
        </p:blipFill>
        <p:spPr>
          <a:xfrm>
            <a:off x="142920" y="1071720"/>
            <a:ext cx="2857320" cy="316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3c8c93"/>
                </a:solidFill>
                <a:latin typeface="Times New Roman"/>
              </a:rPr>
              <a:t>ВНЕУРОЧНАЯ ДЕЯТЕЛЬНО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28760" y="1428840"/>
          <a:ext cx="8229600" cy="52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c8c9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c8c93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b3b3b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b3b3b3"/>
                          </a:solidFill>
                          <a:latin typeface="Times New Roman"/>
                        </a:rPr>
                        <a:t>Туристско-краеведческая 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900000" y="1628640"/>
            <a:ext cx="60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К р у ж о 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971640" y="2565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а н г л и й с к о г 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68360" y="3429000"/>
            <a:ext cx="38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яз ы к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6760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ние навыков правильного произношения: произнесение звуков изолированно, в отдельных словах и ф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тие коммуникативных навыков на англий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Учить устанавливать контакт с партнерами по общению в игровых ситуациях, понимать и отдавать простые ука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ть словарный запас англий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вать навыки говорения на английском языке: учить называть предметы, описывать их, отвечать на вопросы и зада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звивать навыки аудирования с опорой на нагля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.Расширять кругозор детей, знакомя их со страной изучаемого языка. Знакомство с культурой страны изучаемого языка является средством обогащения духовного мира ребенка, развития у него способности к восприятию  английского языка и интереса к родному. Таким образом, расширяется кругозор, мышление, память и толерантное отношение к другим нар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Развитие творческой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ARROWPIN"/>
          <p:cNvPicPr/>
          <p:nvPr/>
        </p:nvPicPr>
        <p:blipFill>
          <a:blip r:embed="rId1"/>
          <a:stretch/>
        </p:blipFill>
        <p:spPr>
          <a:xfrm>
            <a:off x="0" y="285840"/>
            <a:ext cx="1512720" cy="68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5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програм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Английский с удовольствием»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е содержание речи  предлагаемое в программе полностью включает темы  предусмотренные федеральным компонентом государственного стандарта по иностранным языкам. Ряд тем рассматривается более подробн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ё первое знакомство с Англи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 моя сем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и друзья - живот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игр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любим праздник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я живу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ружков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ок-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южетно-ролевые игры и инсцен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знаний(олимпиа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 газ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ARROWPIN"/>
          <p:cNvPicPr/>
          <p:nvPr/>
        </p:nvPicPr>
        <p:blipFill>
          <a:blip r:embed="rId2"/>
          <a:stretch/>
        </p:blipFill>
        <p:spPr>
          <a:xfrm>
            <a:off x="324000" y="476280"/>
            <a:ext cx="1655640" cy="68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Мои рисунки\20110413\11042011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ценирование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Admin\Мои документы\Мои рисунки\20110330\23032011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дение празд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Мои документы\Мои рисунки\20111028\28102011_004.jpg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AG00408_"/>
          <p:cNvPicPr/>
          <p:nvPr/>
        </p:nvPicPr>
        <p:blipFill>
          <a:blip r:embed="rId2"/>
          <a:stretch/>
        </p:blipFill>
        <p:spPr>
          <a:xfrm>
            <a:off x="-214200" y="2071800"/>
            <a:ext cx="2201760" cy="2519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3:33:46Z</dcterms:created>
  <dc:creator>слушатель</dc:creator>
  <dc:description/>
  <dc:language>en-US</dc:language>
  <cp:lastModifiedBy>Admin</cp:lastModifiedBy>
  <dcterms:modified xsi:type="dcterms:W3CDTF">2012-04-05T16:31:25Z</dcterms:modified>
  <cp:revision>35</cp:revision>
  <dc:subject/>
  <dc:title>Кружок английского языка</dc:title>
</cp:coreProperties>
</file>