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BA1B-FFE5-47C4-B731-AE1728AB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FF68-950F-404C-A143-A37D4F28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C9EF-00F8-4089-8B57-6EBDD30F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D06-479A-4616-AB19-3E62E395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7FCE-3D92-4AF2-B2A1-6FB30D60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C90B-170D-42EA-A2E9-C6CFB527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84E4-7FEE-4D99-9FCD-E392EFB1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01B2-4624-4002-970D-4281A2D5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E93E-DA60-42B9-A78F-63857790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8983-8F52-47F2-8889-477E38F1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5624-6115-42BB-8C8B-6A552D37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090-54A0-43D9-9DFC-EBE76ED3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3D70-EFC8-41B1-B695-84FBD0C9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766D-B3F8-4760-90A8-C3AAD3D6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C607-BEBB-46B0-95A2-51CA9B8F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0932-6445-44D2-A7F4-CCA80696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9B09-28F1-41F7-9AF5-28D6FE0D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D16F-8061-4B90-BF83-4545D650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AFF0-EC59-4EA5-A01D-37970A5B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235-466E-4C91-9893-2F8352A0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19A-210E-4983-873A-FA731F1A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8932-EA39-46CD-B1C5-4F50F48A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FF3-C6F9-4DF9-8C59-DA055B61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E91-8DCE-4CFA-AD52-809C6A95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8CDF-8752-4361-A957-91C54B2D1FB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1C0B-8780-4AFD-9BE1-18E254E5E00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ЛАРРА И ДАНКО: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жестокий эгоизм и подвиг во имя люде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Каждый сам себе судьба!.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М. Горьки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Отношение к жизн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АР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ерет от жизни все, ничего не давая взаме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… он считает себя первым на земле и, кроме себя, не видит ничего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АН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отов пожертвовать (и жертвует) собой ради спасения люд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Легенды и наше врем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жете ли вы привести факты, свидетельствующие о том, что такие индивидуалисты, как Ларра, были во все време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ерены ли вы, что в нашем обществе оценили бы подвиг Данк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о сегодня можно назвать герое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ВЫБ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чинение-миниатюра «Мой выбор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делать коллаж по легенд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писать из легенд понравившиеся афориз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gorky"/>
          <p:cNvPicPr/>
          <p:nvPr/>
        </p:nvPicPr>
        <p:blipFill>
          <a:blip r:embed="rId1"/>
          <a:stretch/>
        </p:blipFill>
        <p:spPr>
          <a:xfrm>
            <a:off x="380880" y="380880"/>
            <a:ext cx="4081680" cy="5943600"/>
          </a:xfrm>
          <a:prstGeom prst="rect">
            <a:avLst/>
          </a:prstGeom>
          <a:ln w="0">
            <a:noFill/>
          </a:ln>
        </p:spPr>
      </p:pic>
      <p:sp>
        <p:nvSpPr>
          <p:cNvPr id="91" name="WordArt 5"/>
          <p:cNvSpPr txBox="1"/>
          <p:nvPr/>
        </p:nvSpPr>
        <p:spPr>
          <a:xfrm rot="20376600">
            <a:off x="1530360" y="3203280"/>
            <a:ext cx="7626240" cy="23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Максим Горький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791320" y="55627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1868-193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генда о ЛАРР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жна ли история появления юноши на свет для понимания его характер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относится Ларра к другим людя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стало причиной конфликта между Ларрой и людь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такое гордость и что такое гордын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правка из толкового словар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ОРДОСТЬ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увство собственного достоинства, самоуваж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сокое мнение о себ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ОРДЫНЯ 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померная горд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3" descr="D:\Документы\Мои рисунки\582-09.jpg"/>
          <p:cNvPicPr/>
          <p:nvPr/>
        </p:nvPicPr>
        <p:blipFill>
          <a:blip r:embed="rId1"/>
          <a:stretch/>
        </p:blipFill>
        <p:spPr>
          <a:xfrm>
            <a:off x="4572000" y="3284640"/>
            <a:ext cx="40640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генда о ЛАРР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28720" y="1600200"/>
            <a:ext cx="4257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кажите, что именно гордыня, а не гордость характерна для Ларр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чему приводит крайний индивидуализм героя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е наказание понес Ларра за свою гордыню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ы думаете, почему такое наказание страшнее наказание смертью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95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генда о ДАНК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главные черты можно выделить в характере Данко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лежит в основе его поступков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складываются отношения между Данко и толпой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ы думаете, почему именно легендой о Данко заканчивается рассказ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1"/>
          <p:cNvPicPr/>
          <p:nvPr/>
        </p:nvPicPr>
        <p:blipFill>
          <a:blip r:embed="rId1"/>
          <a:stretch/>
        </p:blipFill>
        <p:spPr>
          <a:xfrm>
            <a:off x="4762440" y="1628640"/>
            <a:ext cx="40575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СРАВНИ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7040" cy="4495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danko"/>
          <p:cNvPicPr/>
          <p:nvPr/>
        </p:nvPicPr>
        <p:blipFill>
          <a:blip r:embed="rId2"/>
          <a:stretch/>
        </p:blipFill>
        <p:spPr>
          <a:xfrm>
            <a:off x="4756320" y="160020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Отношение к людя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АР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зр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сокомер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считается с ни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есток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нфлик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АН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юбов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страд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илосерд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елание помоч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нфлик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Главные черты характе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АР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орды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го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есток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айний индивидуал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АН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юбов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мел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уж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орд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ескорыст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18:00:57Z</dcterms:created>
  <dc:creator>Customer</dc:creator>
  <dc:description/>
  <dc:language>en-US</dc:language>
  <cp:lastModifiedBy>Customer</cp:lastModifiedBy>
  <dcterms:modified xsi:type="dcterms:W3CDTF">2013-02-26T18:46:41Z</dcterms:modified>
  <cp:revision>5</cp:revision>
  <dc:subject/>
  <dc:title>ЛАРРА И ДАНКО:  жестокий эгоизм и подвиг во имя людей</dc:title>
</cp:coreProperties>
</file>