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585-70BB-438B-8DFA-5F4F40F4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DDA-55D4-45BD-BE41-25E215AC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376-3C55-4F3F-8AC0-1D88096E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078-42A8-4833-88ED-311B5465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6F5E-C096-4281-82FA-EE4887AC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1AC5-7E21-44A4-9EB0-5BA598E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0BE-3A6E-4D5E-ADFE-9A2364E3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A3C6-5E13-40C8-AA3B-3D3E021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784-1586-40E5-94FD-AB6701E8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FC57-C815-4E4B-9636-6B8FC68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230-2E4B-400F-99CE-D2C3C31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9BB-5ABF-4625-96F1-D105E19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61CE-442D-4CE4-B59C-BB10251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64C3-88CE-455E-AA1A-E3692E1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733A-55D1-4E73-8216-AEF39B8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48EA-969F-4641-A9CA-3DFC9521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832A-596A-49F3-B8E6-5BA829F4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260-EA66-434C-8439-9C61EA84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1D2-F0C8-47A3-B548-3342F6EB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7E3-E066-4E22-946B-DBCB997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BA9-1009-43A0-8329-EA0BBFD5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C70-02AD-488C-819F-1818992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C7F-C9D5-471C-AB4B-161770D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553-9DA2-4D39-82DD-A655CAAE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81D6-DF7F-4EBD-A0A6-B6DC337EC7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D82-FBB2-4319-BFF4-7057DC0AA5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ЛАРРА И ДАНКО: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жестокий эгоизм и подвиг во имя люд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Каждый сам себе судьба!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М. Горьк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тношение к жиз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АР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рет от жизни все, ничего не давая взам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… он считает себя первым на земле и, кроме себя, не видит ничего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А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тов пожертвовать (и жертвует) собой ради спасения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Легенды и наше врем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те ли вы привести факты, свидетельствующие о том, что такие индивидуалисты, как Ларра, были во все врем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рены ли вы, что в нашем обществе оценили бы подвиг Данк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о сегодня можно назвать геро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ЫБ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-миниатюра «Мой выбор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коллаж по легенд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исать из легенд понравившиеся афо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gorky"/>
          <p:cNvPicPr/>
          <p:nvPr/>
        </p:nvPicPr>
        <p:blipFill>
          <a:blip r:embed="rId1"/>
          <a:stretch/>
        </p:blipFill>
        <p:spPr>
          <a:xfrm>
            <a:off x="380880" y="380880"/>
            <a:ext cx="4081680" cy="59436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 rot="20376600">
            <a:off x="1530360" y="3203280"/>
            <a:ext cx="762624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аксим Горький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791320" y="5562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1868-193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енда о ЛАР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а ли история появления юноши на свет для понимания его характер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относится Ларра к другим людя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стало причиной конфликта между Ларрой и людь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гордость и что такое гордын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равка из толкового словар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ОРДОСТЬ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увство собственного достоинства, самоува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окое мнение о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ОРДЫНЯ 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померная горд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D:\Документы\Мои рисунки\582-09.jpg"/>
          <p:cNvPicPr/>
          <p:nvPr/>
        </p:nvPicPr>
        <p:blipFill>
          <a:blip r:embed="rId1"/>
          <a:stretch/>
        </p:blipFill>
        <p:spPr>
          <a:xfrm>
            <a:off x="4572000" y="3284640"/>
            <a:ext cx="40640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енда о ЛАР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28720" y="1600200"/>
            <a:ext cx="4257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жите, что именно гордыня, а не гордость характерна для Лар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чему приводит крайний индивидуализм геро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е наказание понес Ларра за свою гордыню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думаете, почему такое наказание страшнее наказание смертью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енда о ДАНК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главные черты можно выделить в характере Данко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лежит в основе его поступков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кладываются отношения между Данко и толпой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думаете, почему именно легендой о Данко заканчивается рассказ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4762440" y="1628640"/>
            <a:ext cx="4057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РАВНИ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704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anko"/>
          <p:cNvPicPr/>
          <p:nvPr/>
        </p:nvPicPr>
        <p:blipFill>
          <a:blip r:embed="rId2"/>
          <a:stretch/>
        </p:blipFill>
        <p:spPr>
          <a:xfrm>
            <a:off x="4756320" y="160020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тношение к людя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Р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з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считается с н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сток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фли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р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лание помо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фли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лавные черты характе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Р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ды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го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сток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йний индивидуал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е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ж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скорыс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8:00:57Z</dcterms:created>
  <dc:creator>Customer</dc:creator>
  <dc:description/>
  <dc:language>en-US</dc:language>
  <cp:lastModifiedBy>Customer</cp:lastModifiedBy>
  <dcterms:modified xsi:type="dcterms:W3CDTF">2013-02-26T18:46:41Z</dcterms:modified>
  <cp:revision>5</cp:revision>
  <dc:subject/>
  <dc:title>ЛАРРА И ДАНКО:  жестокий эгоизм и подвиг во имя людей</dc:title>
</cp:coreProperties>
</file>