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6FF7-7479-45EF-9AAE-AB434D3F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A7E-9614-46AC-B3A7-85E8CAD7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B57-9E79-4A2A-A7C2-4F86CE33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DBF5-6566-423F-B510-00317CF9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ED1D-8242-4896-8526-A87710D5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9632-D5EE-47C1-9DDC-9B70C53B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F915-06DD-4962-BF2F-C370CAD7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B01E-F55E-4953-A8DF-2D0D012F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00F4-F2D4-4172-ADAB-E8C049DE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78D2-F6CA-431F-9B6A-E8E0AB43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78AA-4BF3-47DE-B230-9E845FB2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038-3095-4E9B-93E5-24859E15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F980-D930-4900-9125-46D7B99B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981F-77BE-43D3-B24D-270067EA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6F40-E994-43EC-AEA9-9C42921F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F253-3254-4B4D-8946-81C9D5A4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ECF7-549A-4595-8DDE-681D9A5C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576-ECD0-418B-8ED9-ED31CA10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58B-C741-4002-9B1B-741AF0A4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2C5-DBBB-4E64-B087-5C962D50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9CC-A124-448B-A1CD-32834CE5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2DD-3325-40D0-8AEC-CAB901D1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26F-08E2-43DA-9726-97AD3D94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29F-5186-4469-96EA-1C5E305E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9023-7AF5-4F11-84B5-C30CEC6162B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8282-FF9C-475D-97D9-CEC333AE0BB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London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he capital of the UK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53341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Tower of Lond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s a very big  castle. It is the oldest place in London. It was a castle, a palace, a zoo, a prison, and a museum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" descr="Тауэр"/>
          <p:cNvPicPr/>
          <p:nvPr/>
        </p:nvPicPr>
        <p:blipFill>
          <a:blip r:embed="rId1"/>
          <a:stretch/>
        </p:blipFill>
        <p:spPr>
          <a:xfrm>
            <a:off x="4724280" y="25146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40006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uckingham Palac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is is the most famous place in London. It is the home of the Queen. There are 600 rooms in it. It has an indoor swimming pool and a cinem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" descr="Букингемский дворец"/>
          <p:cNvPicPr/>
          <p:nvPr/>
        </p:nvPicPr>
        <p:blipFill>
          <a:blip r:embed="rId1"/>
          <a:stretch/>
        </p:blipFill>
        <p:spPr>
          <a:xfrm>
            <a:off x="4495680" y="348624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rafalgar squar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s the most popular place far people to meet. In the middle of the square there is Nelson’s Column, which is 51 m hig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" descr="Колонна Нельсона"/>
          <p:cNvPicPr/>
          <p:nvPr/>
        </p:nvPicPr>
        <p:blipFill>
          <a:blip r:embed="rId1"/>
          <a:stretch/>
        </p:blipFill>
        <p:spPr>
          <a:xfrm>
            <a:off x="3352680" y="28954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ig Be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s the biggest bell in the clock tower in Britai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57718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London Ey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s the biggest wheel in Britain. Its highest point is 135 m. It was opened on 1 February 2000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00400" y="2473200"/>
            <a:ext cx="54100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Tham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river Thames is the deepest and most beautiful river in Britai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657600" y="2732040"/>
            <a:ext cx="502920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adame Tussaud’s museum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s the world’s famous waxwork museum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Музей Мадам Тюссо и Лондонский Планетарий."/>
          <p:cNvPicPr/>
          <p:nvPr/>
        </p:nvPicPr>
        <p:blipFill>
          <a:blip r:embed="rId1"/>
          <a:stretch/>
        </p:blipFill>
        <p:spPr>
          <a:xfrm>
            <a:off x="2895480" y="2359080"/>
            <a:ext cx="586764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ower Bridg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s one of the oldest bridges in London. It is over a hundred years ol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" descr="Тауэрский мост"/>
          <p:cNvPicPr/>
          <p:nvPr/>
        </p:nvPicPr>
        <p:blipFill>
          <a:blip r:embed="rId1"/>
          <a:stretch/>
        </p:blipFill>
        <p:spPr>
          <a:xfrm>
            <a:off x="3657600" y="270504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Hyde Park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s the most famous park in London. Londoners walk and jog in the park, eat sandwiches, talk, sunbathe, read books and enjoy music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720108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0-03-07T17:40:1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