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2CF-5FD8-4871-9349-D0D2C0AB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05E-D05E-4B6B-84EF-307DBE4A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936-DCAC-4B72-A77C-5BABB71A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C23-CAFA-44F2-AA27-8248E65C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9CB8-1AA5-48C0-A01A-98AC0D0F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4D74-D49F-4F1A-9C76-D5C3C25C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977E-7C7F-467A-806F-1ED3B71E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E508-0456-4D71-8621-140B9BF0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A720-05C8-41D0-BF5A-DCA2BE59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E145-A52C-43CA-932A-AF4E29E4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A8AB-D7EF-4A6C-AB53-0BF6F8EF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478-DAC1-4875-94F2-BD2F35B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CCF7-8BA1-47CF-83A5-2835502B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CFDD-F08B-4A76-8B9C-CAAC3F6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6572-9E93-496A-B970-F909CF9C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727D-0FDF-41EC-962B-2BBFD4FD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E95C-92B2-47F8-8C26-E5F82A42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5B9-8A4A-4CE2-8E4C-7A5BBBA8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557-54A8-42D6-B226-C8967388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99B-122F-43AE-B6F9-545C4DB6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087-6AF8-46A7-A483-C36A9EEC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33B-C31F-4DDA-8706-268C84A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128-809E-441B-BDB2-570C3707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9B2-FD8D-4D3A-9696-F135A30E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FEB8-A068-4D66-8652-D121EEF75D8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1A5-8BBA-4F91-82F7-4C01A228F08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London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he capital of the UK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3341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Tower of Lond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 a very big  castle. It is the oldest place in London. It was a castle, a palace, a zoo, a prison, and a museum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Тауэр"/>
          <p:cNvPicPr/>
          <p:nvPr/>
        </p:nvPicPr>
        <p:blipFill>
          <a:blip r:embed="rId1"/>
          <a:stretch/>
        </p:blipFill>
        <p:spPr>
          <a:xfrm>
            <a:off x="4724280" y="2514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4000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uckingham Pala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s is the most famous place in London. It is the home of the Queen. There are 600 rooms in it. It has an indoor swimming pool and a cinem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Букингемский дворец"/>
          <p:cNvPicPr/>
          <p:nvPr/>
        </p:nvPicPr>
        <p:blipFill>
          <a:blip r:embed="rId1"/>
          <a:stretch/>
        </p:blipFill>
        <p:spPr>
          <a:xfrm>
            <a:off x="4495680" y="348624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rafalgar squar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 the most popular place far people to meet. In the middle of the square there is Nelson’s Column, which is 51 m hig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" descr="Колонна Нельсона"/>
          <p:cNvPicPr/>
          <p:nvPr/>
        </p:nvPicPr>
        <p:blipFill>
          <a:blip r:embed="rId1"/>
          <a:stretch/>
        </p:blipFill>
        <p:spPr>
          <a:xfrm>
            <a:off x="3352680" y="28954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ig Be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the biggest bell in the clock tower in Britai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57718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London Ey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 the biggest wheel in Britain. Its highest point is 135 m. It was opened on 1 February 2000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00400" y="2473200"/>
            <a:ext cx="5410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Tham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river Thames is the deepest and most beautiful river in Britai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657600" y="2732040"/>
            <a:ext cx="50292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dame Tussaud’s museu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the world’s famous waxwork museu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Музей Мадам Тюссо и Лондонский Планетарий."/>
          <p:cNvPicPr/>
          <p:nvPr/>
        </p:nvPicPr>
        <p:blipFill>
          <a:blip r:embed="rId1"/>
          <a:stretch/>
        </p:blipFill>
        <p:spPr>
          <a:xfrm>
            <a:off x="2895480" y="2359080"/>
            <a:ext cx="58676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ower Bridg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one of the oldest bridges in London. It is over a hundred years ol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Тауэрский мост"/>
          <p:cNvPicPr/>
          <p:nvPr/>
        </p:nvPicPr>
        <p:blipFill>
          <a:blip r:embed="rId1"/>
          <a:stretch/>
        </p:blipFill>
        <p:spPr>
          <a:xfrm>
            <a:off x="3657600" y="270504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Hyde Par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 the most famous park in London. Londoners walk and jog in the park, eat sandwiches, talk, sunbathe, read books and enjoy music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2010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0-03-07T17:40:1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