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263-F56B-4CE4-97C1-D75B1CB8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B10-26A4-4D50-891D-D14D8CF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A24-5C73-458F-A0D6-E8A252EF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659-1232-4E59-BD72-1640E272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E3B9-957F-4778-8ABB-978D3430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168-BE44-40FD-937F-6BF6EBE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4B10-7544-476C-8C30-2F75EA34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15EF-21A7-4B3B-9F5F-87C29D2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FA2-E36A-43C4-8FA8-4652D130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FEC-367B-40C3-ADBD-BFBD1DE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D37C-469B-4276-ABF9-7DE9F9EA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03A-D64A-4726-A7EC-30F5820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75E1-8AB9-4F0A-803F-C87CF97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CB7-18E4-4815-8C12-B00E610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2B66-000E-49E3-B349-96C198FB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25E4-23DE-404A-ADB7-9279F2A1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D919-8FA2-495A-9391-F6777F69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21A-F708-434D-9CAA-88A5B9C6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046-C196-46AB-85F9-346E747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083-AAF4-4F2C-9D31-8B29FC84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812-9821-4DB2-B3A6-FF7B4D9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D2B-0013-4E4D-A475-9F1171E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EB1-5EAB-408B-8ECE-ADC5075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9CA-68FD-49F8-89BB-97A8A24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FB8-1DCC-48C5-B4DA-1608F0782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F0D-2F55-415E-9A2E-572071581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Техника макраме в интерьере дома</a:t>
            </a:r>
            <a:r>
              <a:rPr b="1" lang="en-US" sz="5400" spc="-1" strike="noStrike">
                <a:solidFill>
                  <a:srgbClr val="feec94"/>
                </a:solidFill>
                <a:latin typeface="Arial"/>
              </a:rPr>
              <a:t>.ч1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 технолог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стоброва Г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У Пискловская СО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Штора и украшения на ней 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макраме"/>
          <p:cNvPicPr/>
          <p:nvPr/>
        </p:nvPicPr>
        <p:blipFill>
          <a:blip r:embed="rId1"/>
          <a:stretch/>
        </p:blipFill>
        <p:spPr>
          <a:xfrm>
            <a:off x="826920" y="1120680"/>
            <a:ext cx="7201080" cy="5408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летенные кашпо позволяют украсить не только окна, но и стены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5" descr="занавес"/>
          <p:cNvPicPr/>
          <p:nvPr/>
        </p:nvPicPr>
        <p:blipFill>
          <a:blip r:embed="rId1"/>
          <a:srcRect l="51822" t="0" r="0" b="40164"/>
          <a:stretch/>
        </p:blipFill>
        <p:spPr>
          <a:xfrm>
            <a:off x="2212920" y="1413000"/>
            <a:ext cx="41515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3-makrame-master-klass"/>
          <p:cNvPicPr/>
          <p:nvPr/>
        </p:nvPicPr>
        <p:blipFill>
          <a:blip r:embed="rId1"/>
          <a:stretch/>
        </p:blipFill>
        <p:spPr>
          <a:xfrm>
            <a:off x="2162160" y="189000"/>
            <a:ext cx="4676760" cy="628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01"/>
          <p:cNvPicPr/>
          <p:nvPr/>
        </p:nvPicPr>
        <p:blipFill>
          <a:blip r:embed="rId1"/>
          <a:stretch/>
        </p:blipFill>
        <p:spPr>
          <a:xfrm>
            <a:off x="2322360" y="620640"/>
            <a:ext cx="46720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Что такое макраме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187280" y="870480"/>
            <a:ext cx="6759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 арабск. — тесьма, бахрома, кружево) — техника узелкового плет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ика этого узелкового плетения известна ещё с древности. По некоторым данным в Европу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шло в VIII—IX веках с Востока. Эту технику знали в Древнем Египте, Ассирии, Иране, Перу, Китае, Древней Гре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итию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чень помог парусный флот. Издавна моряки плели сети, сращивали с помощью узлов тросы, оплетали различные конструкции, украшали плетёными покрышками рулевые колёса. Известно около четырёх тысяч морских узлов. Комбинации узлов очень часто бывали необыкновенно сложными. Многие морские узлы благодаря своей красоте и оригинальности перешли в художественное ремесло —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олучаемые узоры отличаются не только красотой, но и прочностью. Недаром один из основных узло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— двойной плоский — в древности называли Геркулесовым узл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простых современных материалов при правильном подборе узлов, узоров и их сочетании можно создать настоящие произведения искусств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нно, картины, декоративные вазы, женские украшения, тарелки, кашпо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далеко не полный перечень изделий в технике макраме. Владея техникой макраме можно красиво и практично украсить интерьер своего дома. Возможности макраме в оформлении комнат безграничны. Панно, покрывала, салфетки, дорожки, выполненные в технике макраме, украсят любое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кашпо"/>
          <p:cNvPicPr/>
          <p:nvPr/>
        </p:nvPicPr>
        <p:blipFill>
          <a:blip r:embed="rId1"/>
          <a:srcRect l="0" t="0" r="3306" b="0"/>
          <a:stretch/>
        </p:blipFill>
        <p:spPr>
          <a:xfrm>
            <a:off x="2886120" y="1268280"/>
            <a:ext cx="3341520" cy="558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летеные полочки и панно с карманами можно прикрепить к стене, повесить на дверцу шкафа и даже на входную дверь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Газетниц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1963"/>
          <p:cNvPicPr/>
          <p:nvPr/>
        </p:nvPicPr>
        <p:blipFill>
          <a:blip r:embed="rId1"/>
          <a:srcRect l="0" t="21945" r="0" b="0"/>
          <a:stretch/>
        </p:blipFill>
        <p:spPr>
          <a:xfrm>
            <a:off x="2743200" y="1197000"/>
            <a:ext cx="38448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екоративное панно  с карманом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3" descr="sam_0897"/>
          <p:cNvPicPr/>
          <p:nvPr/>
        </p:nvPicPr>
        <p:blipFill>
          <a:blip r:embed="rId1"/>
          <a:stretch/>
        </p:blipFill>
        <p:spPr>
          <a:xfrm>
            <a:off x="3102120" y="1143000"/>
            <a:ext cx="255564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С современной обстановкой хорошо сочетаются различные фантазийные композиции. Например рамочки для фот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06052011199"/>
          <p:cNvPicPr/>
          <p:nvPr/>
        </p:nvPicPr>
        <p:blipFill>
          <a:blip r:embed="rId1"/>
          <a:stretch/>
        </p:blipFill>
        <p:spPr>
          <a:xfrm>
            <a:off x="900000" y="1430280"/>
            <a:ext cx="6840720" cy="512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Окна и дверные проемы можно оформить  - оригинальными портьерам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7" descr="штора"/>
          <p:cNvPicPr/>
          <p:nvPr/>
        </p:nvPicPr>
        <p:blipFill>
          <a:blip r:embed="rId1"/>
          <a:srcRect l="-17185" t="0" r="0" b="2753"/>
          <a:stretch/>
        </p:blipFill>
        <p:spPr>
          <a:xfrm>
            <a:off x="1676520" y="1268280"/>
            <a:ext cx="5257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makrame2"/>
          <p:cNvPicPr/>
          <p:nvPr/>
        </p:nvPicPr>
        <p:blipFill>
          <a:blip r:embed="rId1"/>
          <a:stretch/>
        </p:blipFill>
        <p:spPr>
          <a:xfrm>
            <a:off x="250920" y="40464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2:53:48Z</dcterms:created>
  <dc:creator>Алиханова Людмила Ренгольтовна</dc:creator>
  <dc:description/>
  <dc:language>en-US</dc:language>
  <cp:lastModifiedBy>222</cp:lastModifiedBy>
  <dcterms:modified xsi:type="dcterms:W3CDTF">2013-03-02T06:20:02Z</dcterms:modified>
  <cp:revision>18</cp:revision>
  <dc:subject/>
  <dc:title>Слайд 1</dc:title>
</cp:coreProperties>
</file>