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A6A-988D-4F46-A844-0DEC4140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A55-AD69-4ADE-AF4C-AFEEB6BA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20E-0BD5-4A2C-8160-9C4D19FD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BBD7-E677-4BE5-B870-08C28973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3DF8-F4F7-487B-A75F-7FDA87D2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9F1F-2B33-4DD0-8A84-0E85B531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9486-1D27-4D93-8306-0DE14FA4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EF91-A447-4246-91AF-929BF449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5918-7F56-4A4B-9A3C-2E5F3FC9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0D2C-AD7A-4771-A38F-C05F0A7E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3F4D-6239-42D3-AD03-AEB4A740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BDB-B36F-4E86-AA92-F054A7EF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9D39-A49C-4A20-9922-E94D9388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DED9-FA27-4B81-ABF2-5F34E4A7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660D-25BA-46DD-BAE9-EDB2157B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5EE1-DB75-4EC6-9511-57B0C92A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030F-D7B0-4D30-B734-368A9B3D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B4A-337D-4F41-9CBF-480E5891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7B35-22DD-419E-BB49-58E06200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E2F-0012-4502-A773-2849A8DB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C5F-4977-4E49-8580-BA90FD94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EAE-C6FB-405E-9DAF-EA446002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EAD-FC61-4569-ABCE-154A1BAE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BCA-3D13-48F5-8D99-8CE7D4F4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AB74-46C9-4A8A-9F15-E4BEB2176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DBFE-D0D9-491A-8481-484E1FC4E0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Техника макраме в интерьере дома</a:t>
            </a:r>
            <a:r>
              <a:rPr b="1" lang="en-US" sz="5400" spc="-1" strike="noStrike">
                <a:solidFill>
                  <a:srgbClr val="feec94"/>
                </a:solidFill>
                <a:latin typeface="Arial"/>
              </a:rPr>
              <a:t>.ч1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  технолог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лстоброва Г.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У Пискловская СО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Штора и украшения на ней 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макраме"/>
          <p:cNvPicPr/>
          <p:nvPr/>
        </p:nvPicPr>
        <p:blipFill>
          <a:blip r:embed="rId1"/>
          <a:stretch/>
        </p:blipFill>
        <p:spPr>
          <a:xfrm>
            <a:off x="826920" y="1120680"/>
            <a:ext cx="7201080" cy="5408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Плетенные кашпо позволяют украсить не только окна, но и стены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Picture 5" descr="занавес"/>
          <p:cNvPicPr/>
          <p:nvPr/>
        </p:nvPicPr>
        <p:blipFill>
          <a:blip r:embed="rId1"/>
          <a:srcRect l="51822" t="0" r="0" b="40164"/>
          <a:stretch/>
        </p:blipFill>
        <p:spPr>
          <a:xfrm>
            <a:off x="2212920" y="1413000"/>
            <a:ext cx="41515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3-makrame-master-klass"/>
          <p:cNvPicPr/>
          <p:nvPr/>
        </p:nvPicPr>
        <p:blipFill>
          <a:blip r:embed="rId1"/>
          <a:stretch/>
        </p:blipFill>
        <p:spPr>
          <a:xfrm>
            <a:off x="2162160" y="189000"/>
            <a:ext cx="4676760" cy="6288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01"/>
          <p:cNvPicPr/>
          <p:nvPr/>
        </p:nvPicPr>
        <p:blipFill>
          <a:blip r:embed="rId1"/>
          <a:stretch/>
        </p:blipFill>
        <p:spPr>
          <a:xfrm>
            <a:off x="2322360" y="620640"/>
            <a:ext cx="4672080" cy="583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Что такое макраме?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187280" y="870480"/>
            <a:ext cx="675972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акрам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т арабск. — тесьма, бахрома, кружево) — техника узелкового плет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хника этого узелкового плетения известна ещё с древности. По некоторым данным в Европу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акрам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ишло в VIII—IX веках с Востока. Эту технику знали в Древнем Египте, Ассирии, Иране, Перу, Китае, Древней Гре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витию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акрам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очень помог парусный флот. Издавна моряки плели сети, сращивали с помощью узлов тросы, оплетали различные конструкции, украшали плетёными покрышками рулевые колёса. Известно около четырёх тысяч морских узлов. Комбинации узлов очень часто бывали необыкновенно сложными. Многие морские узлы благодаря своей красоте и оригинальности перешли в художественное ремесло —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акрам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Получаемые узоры отличаются не только красотой, но и прочностью. Недаром один из основных узлов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акрам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— двойной плоский — в древности называли Геркулесовым узл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 простых современных материалов при правильном подборе узлов, узоров и их сочетании можно создать настоящие произведения искусства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анно, картины, декоративные вазы, женские украшения, тарелки, кашпо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то далеко не полный перечень изделий в технике макраме. Владея техникой макраме можно красиво и практично украсить интерьер своего дома. Возможности макраме в оформлении комнат безграничны. Панно, покрывала, салфетки, дорожки, выполненные в технике макраме, украсят любое помещ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кашпо"/>
          <p:cNvPicPr/>
          <p:nvPr/>
        </p:nvPicPr>
        <p:blipFill>
          <a:blip r:embed="rId1"/>
          <a:srcRect l="0" t="0" r="3306" b="0"/>
          <a:stretch/>
        </p:blipFill>
        <p:spPr>
          <a:xfrm>
            <a:off x="2886120" y="1268280"/>
            <a:ext cx="3341520" cy="5589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Плетеные полочки и панно с карманами можно прикрепить к стене, повесить на дверцу шкафа и даже на входную дверь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Газетниц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1963"/>
          <p:cNvPicPr/>
          <p:nvPr/>
        </p:nvPicPr>
        <p:blipFill>
          <a:blip r:embed="rId1"/>
          <a:srcRect l="0" t="21945" r="0" b="0"/>
          <a:stretch/>
        </p:blipFill>
        <p:spPr>
          <a:xfrm>
            <a:off x="2743200" y="1197000"/>
            <a:ext cx="3844800" cy="5472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Декоративное панно  с карманом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3" descr="sam_0897"/>
          <p:cNvPicPr/>
          <p:nvPr/>
        </p:nvPicPr>
        <p:blipFill>
          <a:blip r:embed="rId1"/>
          <a:stretch/>
        </p:blipFill>
        <p:spPr>
          <a:xfrm>
            <a:off x="3102120" y="1143000"/>
            <a:ext cx="2555640" cy="538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С современной обстановкой хорошо сочетаются различные фантазийные композиции. Например рамочки для фото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06052011199"/>
          <p:cNvPicPr/>
          <p:nvPr/>
        </p:nvPicPr>
        <p:blipFill>
          <a:blip r:embed="rId1"/>
          <a:stretch/>
        </p:blipFill>
        <p:spPr>
          <a:xfrm>
            <a:off x="900000" y="1430280"/>
            <a:ext cx="6840720" cy="5129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Окна и дверные проемы можно оформить  - оригинальными портьерами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Picture 7" descr="штора"/>
          <p:cNvPicPr/>
          <p:nvPr/>
        </p:nvPicPr>
        <p:blipFill>
          <a:blip r:embed="rId1"/>
          <a:srcRect l="-17185" t="0" r="0" b="2753"/>
          <a:stretch/>
        </p:blipFill>
        <p:spPr>
          <a:xfrm>
            <a:off x="1676520" y="1268280"/>
            <a:ext cx="525780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makrame2"/>
          <p:cNvPicPr/>
          <p:nvPr/>
        </p:nvPicPr>
        <p:blipFill>
          <a:blip r:embed="rId1"/>
          <a:stretch/>
        </p:blipFill>
        <p:spPr>
          <a:xfrm>
            <a:off x="250920" y="404640"/>
            <a:ext cx="8208720" cy="6156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02:53:48Z</dcterms:created>
  <dc:creator>Алиханова Людмила Ренгольтовна</dc:creator>
  <dc:description/>
  <dc:language>en-US</dc:language>
  <cp:lastModifiedBy>222</cp:lastModifiedBy>
  <dcterms:modified xsi:type="dcterms:W3CDTF">2013-03-02T06:20:02Z</dcterms:modified>
  <cp:revision>18</cp:revision>
  <dc:subject/>
  <dc:title>Слайд 1</dc:title>
</cp:coreProperties>
</file>