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798-51FC-472E-8B0D-12D20B80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785-584C-4BDF-B636-158E96A5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D7C-60D1-4087-9518-28B6261B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D88-B1DF-405E-ABF9-9649F500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134-F332-4B9B-829A-95C9356E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AB69-00A0-4322-8905-5851BB2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631-2B77-47A5-9A61-C2B7FB0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B935-8AF1-4EF4-8080-5CA8C2D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5DE9-F583-489A-94A5-570C699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FB5D-A275-4840-9893-DE7B4894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7E3-5933-42F5-8664-16326AD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384-4DDF-4122-8E58-A8DEF79D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2D1-A898-497E-AE33-2AF2C2EB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65B-B130-4ED4-AF6D-C2E3901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065-A2AE-4C16-9C5F-6A427C5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02D7-AA75-4E3D-903C-352351F7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564C-CF01-4627-A2A2-2A70D64C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159-33D2-47EB-97CA-EF66F8C8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3E8-549F-4825-9C33-AEA1BE6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5C3-664D-40E7-90D4-D4F8D1A8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5DE-F8F1-45B1-8C92-C49B2BA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EBE-0B8A-45ED-8651-D973771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9D5-8BC4-427B-B2D2-CED409C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5EB-B863-480A-80DF-38F5523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BC0-E7CD-40A9-B528-9ACECD8EA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AB3-DA47-449D-BF18-9B2A37D16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crame.by.ru/knots/fixation/fixation_1.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ехника макраме в интерьере дома</a:t>
            </a:r>
            <a:r>
              <a:rPr b="1" lang="ru-RU" sz="5400" spc="-1" strike="noStrike">
                <a:solidFill>
                  <a:srgbClr val="feec94"/>
                </a:solidFill>
                <a:latin typeface="Arial"/>
              </a:rPr>
              <a:t>. ч2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 технолог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стоброва Г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Пискловская СО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лоский узел (а), скручивающаяся цепочка или «»Винт» (в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5" descr="сканирование0003"/>
          <p:cNvPicPr/>
          <p:nvPr/>
        </p:nvPicPr>
        <p:blipFill>
          <a:blip r:embed="rId1"/>
          <a:srcRect l="9354" t="47846" r="56200" b="34160"/>
          <a:stretch/>
        </p:blipFill>
        <p:spPr>
          <a:xfrm>
            <a:off x="2411280" y="1700280"/>
            <a:ext cx="3673440" cy="4430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Двойной плоский узел (ДПУ) (а), цепочка из ДПУ (в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4" descr="сканирование0003"/>
          <p:cNvPicPr/>
          <p:nvPr/>
        </p:nvPicPr>
        <p:blipFill>
          <a:blip r:embed="rId1"/>
          <a:srcRect l="12478" t="69909" r="56541" b="11394"/>
          <a:stretch/>
        </p:blipFill>
        <p:spPr>
          <a:xfrm>
            <a:off x="2484360" y="1600200"/>
            <a:ext cx="29815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Схема плетения кашпо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3" descr="сканирование0003"/>
          <p:cNvPicPr/>
          <p:nvPr/>
        </p:nvPicPr>
        <p:blipFill>
          <a:blip r:embed="rId1"/>
          <a:srcRect l="52686" t="1213" r="4156" b="36594"/>
          <a:stretch/>
        </p:blipFill>
        <p:spPr>
          <a:xfrm>
            <a:off x="2340000" y="1125360"/>
            <a:ext cx="251784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Интересные и полезные ссыл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nimated Knots by Gro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Chinese knots by Suzen Millod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удожественное панно в технике нетрадиционного макрам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macrame.by.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атериалы и приспособления для макраме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териалы для плетения могут быть самыми разными: пеньковая или льняная верёвки, бумажная бечёвка, кордовая или шёлковая леска, льняные, х/б, шёлковые или синтетические нити, плоская тесьма, сизаль. Главное — правильно подобрать уз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рые ножниц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Сантиметр" или рулетка (а удобнее всего - метровая линейка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язальные крючки разной толщины для протягивания нит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чные булавки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ушка для плетения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1. Крепление нитей на основу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Фиксация нитей на основе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вый способ крепления ните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4" descr="Первый способ крепления, фото 1">
            <a:hlinkClick r:id="rId1"/>
          </p:cNvPr>
          <p:cNvPicPr/>
          <p:nvPr/>
        </p:nvPicPr>
        <p:blipFill>
          <a:blip r:embed="rId2"/>
          <a:srcRect l="0" t="0" r="0" b="12750"/>
          <a:stretch/>
        </p:blipFill>
        <p:spPr>
          <a:xfrm>
            <a:off x="0" y="1268280"/>
            <a:ext cx="2349360" cy="273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Первый способ крепления, фото 2"/>
          <p:cNvPicPr/>
          <p:nvPr/>
        </p:nvPicPr>
        <p:blipFill>
          <a:blip r:embed="rId3"/>
          <a:srcRect l="0" t="0" r="0" b="12669"/>
          <a:stretch/>
        </p:blipFill>
        <p:spPr>
          <a:xfrm>
            <a:off x="2411280" y="1916280"/>
            <a:ext cx="235296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Первый способ крепления, фото 3"/>
          <p:cNvPicPr/>
          <p:nvPr/>
        </p:nvPicPr>
        <p:blipFill>
          <a:blip r:embed="rId4"/>
          <a:srcRect l="0" t="0" r="0" b="14310"/>
          <a:stretch/>
        </p:blipFill>
        <p:spPr>
          <a:xfrm>
            <a:off x="4859280" y="1341360"/>
            <a:ext cx="176220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Первый способ крепления, фото 4"/>
          <p:cNvPicPr/>
          <p:nvPr/>
        </p:nvPicPr>
        <p:blipFill>
          <a:blip r:embed="rId5"/>
          <a:srcRect l="0" t="0" r="0" b="14941"/>
          <a:stretch/>
        </p:blipFill>
        <p:spPr>
          <a:xfrm>
            <a:off x="6791400" y="3068640"/>
            <a:ext cx="23526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Второй способ крепления нитей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Второй способ крепления, фото 1"/>
          <p:cNvPicPr/>
          <p:nvPr/>
        </p:nvPicPr>
        <p:blipFill>
          <a:blip r:embed="rId1"/>
          <a:srcRect l="0" t="0" r="0" b="12807"/>
          <a:stretch/>
        </p:blipFill>
        <p:spPr>
          <a:xfrm>
            <a:off x="250920" y="981000"/>
            <a:ext cx="2349360" cy="273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Второй способ крепления, фото 2"/>
          <p:cNvPicPr/>
          <p:nvPr/>
        </p:nvPicPr>
        <p:blipFill>
          <a:blip r:embed="rId2"/>
          <a:srcRect l="0" t="0" r="0" b="14999"/>
          <a:stretch/>
        </p:blipFill>
        <p:spPr>
          <a:xfrm>
            <a:off x="2627280" y="1773360"/>
            <a:ext cx="235260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Второй способ крепления, фото 3"/>
          <p:cNvPicPr/>
          <p:nvPr/>
        </p:nvPicPr>
        <p:blipFill>
          <a:blip r:embed="rId3"/>
          <a:srcRect l="0" t="0" r="0" b="14310"/>
          <a:stretch/>
        </p:blipFill>
        <p:spPr>
          <a:xfrm>
            <a:off x="6443640" y="105264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Второй способ крепления, фото 4"/>
          <p:cNvPicPr/>
          <p:nvPr/>
        </p:nvPicPr>
        <p:blipFill>
          <a:blip r:embed="rId4"/>
          <a:srcRect l="0" t="0" r="0" b="12669"/>
          <a:stretch/>
        </p:blipFill>
        <p:spPr>
          <a:xfrm>
            <a:off x="5651640" y="3284640"/>
            <a:ext cx="235260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актическая работа.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зготовление кашпо для цветов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работы понадобится кольцо диаметром 5 см, рыболовный шнур 3 мм. Он может быть синтетическим, вискозным, но лучше пеньковым или льняным. Из него нарез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нити дл.10 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нити по 3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крепление ните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сканирование0003"/>
          <p:cNvPicPr/>
          <p:nvPr/>
        </p:nvPicPr>
        <p:blipFill>
          <a:blip r:embed="rId1"/>
          <a:srcRect l="6297" t="3440" r="53183" b="78056"/>
          <a:stretch/>
        </p:blipFill>
        <p:spPr>
          <a:xfrm>
            <a:off x="2124000" y="1197000"/>
            <a:ext cx="4076640" cy="493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канирование0003"/>
          <p:cNvPicPr/>
          <p:nvPr/>
        </p:nvPicPr>
        <p:blipFill>
          <a:blip r:embed="rId1"/>
          <a:srcRect l="7339" t="25603" r="79570" b="56112"/>
          <a:stretch/>
        </p:blipFill>
        <p:spPr>
          <a:xfrm>
            <a:off x="1692360" y="1989000"/>
            <a:ext cx="1655640" cy="453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сканирование0003"/>
          <p:cNvPicPr/>
          <p:nvPr/>
        </p:nvPicPr>
        <p:blipFill>
          <a:blip r:embed="rId2"/>
          <a:srcRect l="34086" t="25603" r="54312" b="56215"/>
          <a:stretch/>
        </p:blipFill>
        <p:spPr>
          <a:xfrm>
            <a:off x="5867280" y="1989000"/>
            <a:ext cx="158436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зел «Калач» и узел «Геракла» (или «Ткацкий узел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2:53:48Z</dcterms:created>
  <dc:creator>Алиханова Людмила Ренгольтовна</dc:creator>
  <dc:description/>
  <dc:language>en-US</dc:language>
  <cp:lastModifiedBy>222</cp:lastModifiedBy>
  <dcterms:modified xsi:type="dcterms:W3CDTF">2013-03-02T06:42:37Z</dcterms:modified>
  <cp:revision>19</cp:revision>
  <dc:subject/>
  <dc:title>Слайд 1</dc:title>
</cp:coreProperties>
</file>