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200-87AD-448D-9BD5-7C6008B5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1CD-9252-432B-A20C-506A3932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533-67D9-49AD-8D0B-E1293C72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2FC-5A83-4A3B-950C-7D7B9FDA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50A5-F682-4D75-87F9-656E892B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71FB-A9D2-48E1-8B1E-D6811ACE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3396-49CC-4B76-82B6-AB2C1570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283E-C275-4C18-8044-5621B177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6B51-19E0-4DE1-A63C-A22DB8D8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59F9-4ADF-4AF8-A6CB-7CCC453F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4537-548B-4D68-A59A-B3C16B8C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7A1-37E4-4105-8C60-AC9B5885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6574-DEA7-4FFD-BF7F-C7110BFF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1857-2F21-4CE4-B16C-EFE02090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8E8A-E6D5-4DC1-9452-AFFFB173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C6B4-C2E4-4786-AA78-ADBBC6C6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49D0-10A2-4C37-86AF-0D58C359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509-91FE-4FC9-83BB-E8DC905E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6AC-1E4A-4BFA-879C-FC45F81E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7C6-5E1F-4331-A13B-B970FD70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69D-9296-4FF2-AE23-3CFEFA36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E48-F921-4867-AE50-C6D42FC2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FFE3-F0E6-4AB9-B1ED-7CD7DD44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F2A-B8C3-4D22-9CA5-95396E27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3432-0AF3-45E2-B141-D67F42A73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7B3B-D80E-404A-B2C5-DD94FFBB54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acrame.by.ru/knots/fixation/fixation_1.1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Техника макраме в интерьере дома</a:t>
            </a:r>
            <a:r>
              <a:rPr b="1" lang="ru-RU" sz="5400" spc="-1" strike="noStrike">
                <a:solidFill>
                  <a:srgbClr val="feec94"/>
                </a:solidFill>
                <a:latin typeface="Arial"/>
              </a:rPr>
              <a:t>. ч2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  технолог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лстоброва Г.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Пискловская СО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Плоский узел (а), скручивающаяся цепочка или «»Винт» (в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5" descr="сканирование0003"/>
          <p:cNvPicPr/>
          <p:nvPr/>
        </p:nvPicPr>
        <p:blipFill>
          <a:blip r:embed="rId1"/>
          <a:srcRect l="9354" t="47846" r="56200" b="34160"/>
          <a:stretch/>
        </p:blipFill>
        <p:spPr>
          <a:xfrm>
            <a:off x="2411280" y="1700280"/>
            <a:ext cx="3673440" cy="4430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Двойной плоский узел (ДПУ) (а), цепочка из ДПУ (в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Picture 4" descr="сканирование0003"/>
          <p:cNvPicPr/>
          <p:nvPr/>
        </p:nvPicPr>
        <p:blipFill>
          <a:blip r:embed="rId1"/>
          <a:srcRect l="12478" t="69909" r="56541" b="11394"/>
          <a:stretch/>
        </p:blipFill>
        <p:spPr>
          <a:xfrm>
            <a:off x="2484360" y="1600200"/>
            <a:ext cx="29815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Схема плетения кашпо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3" descr="сканирование0003"/>
          <p:cNvPicPr/>
          <p:nvPr/>
        </p:nvPicPr>
        <p:blipFill>
          <a:blip r:embed="rId1"/>
          <a:srcRect l="52686" t="1213" r="4156" b="36594"/>
          <a:stretch/>
        </p:blipFill>
        <p:spPr>
          <a:xfrm>
            <a:off x="2340000" y="1125360"/>
            <a:ext cx="2517840" cy="5732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Интересные и полезные ссылки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Animated Knots by Gro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» Chinese knots by Suzen Millodo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удожественное панно в технике нетрадиционного макрам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macrame.by.r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Материалы и приспособления для макраме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атериалы для плетения могут быть самыми разными: пеньковая или льняная верёвки, бумажная бечёвка, кордовая или шёлковая леска, льняные, х/б, шёлковые или синтетические нити, плоская тесьма, сизаль. Главное — правильно подобрать узл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трые ножниц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Сантиметр" или рулетка (а удобнее всего - метровая линейка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язальные крючки разной толщины для протягивания нит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чные булавки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душка для плетения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991280" cy="5904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1. Крепление нитей на основу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4" descr="Фиксация нитей на основе"/>
          <p:cNvPicPr/>
          <p:nvPr/>
        </p:nvPicPr>
        <p:blipFill>
          <a:blip r:embed="rId1"/>
          <a:stretch/>
        </p:blipFill>
        <p:spPr>
          <a:xfrm>
            <a:off x="324000" y="1557360"/>
            <a:ext cx="835164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ервый способ крепления нитей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Picture 4" descr="Первый способ крепления, фото 1">
            <a:hlinkClick r:id="rId1"/>
          </p:cNvPr>
          <p:cNvPicPr/>
          <p:nvPr/>
        </p:nvPicPr>
        <p:blipFill>
          <a:blip r:embed="rId2"/>
          <a:srcRect l="0" t="0" r="0" b="12750"/>
          <a:stretch/>
        </p:blipFill>
        <p:spPr>
          <a:xfrm>
            <a:off x="0" y="1268280"/>
            <a:ext cx="2349360" cy="273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Первый способ крепления, фото 2"/>
          <p:cNvPicPr/>
          <p:nvPr/>
        </p:nvPicPr>
        <p:blipFill>
          <a:blip r:embed="rId3"/>
          <a:srcRect l="0" t="0" r="0" b="12669"/>
          <a:stretch/>
        </p:blipFill>
        <p:spPr>
          <a:xfrm>
            <a:off x="2411280" y="1916280"/>
            <a:ext cx="2352960" cy="273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Первый способ крепления, фото 3"/>
          <p:cNvPicPr/>
          <p:nvPr/>
        </p:nvPicPr>
        <p:blipFill>
          <a:blip r:embed="rId4"/>
          <a:srcRect l="0" t="0" r="0" b="14310"/>
          <a:stretch/>
        </p:blipFill>
        <p:spPr>
          <a:xfrm>
            <a:off x="4859280" y="1341360"/>
            <a:ext cx="1762200" cy="201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Первый способ крепления, фото 4"/>
          <p:cNvPicPr/>
          <p:nvPr/>
        </p:nvPicPr>
        <p:blipFill>
          <a:blip r:embed="rId5"/>
          <a:srcRect l="0" t="0" r="0" b="14941"/>
          <a:stretch/>
        </p:blipFill>
        <p:spPr>
          <a:xfrm>
            <a:off x="6791400" y="3068640"/>
            <a:ext cx="235260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Второй способ крепления нитей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4" descr="Второй способ крепления, фото 1"/>
          <p:cNvPicPr/>
          <p:nvPr/>
        </p:nvPicPr>
        <p:blipFill>
          <a:blip r:embed="rId1"/>
          <a:srcRect l="0" t="0" r="0" b="12807"/>
          <a:stretch/>
        </p:blipFill>
        <p:spPr>
          <a:xfrm>
            <a:off x="250920" y="981000"/>
            <a:ext cx="2349360" cy="273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Второй способ крепления, фото 2"/>
          <p:cNvPicPr/>
          <p:nvPr/>
        </p:nvPicPr>
        <p:blipFill>
          <a:blip r:embed="rId2"/>
          <a:srcRect l="0" t="0" r="0" b="14999"/>
          <a:stretch/>
        </p:blipFill>
        <p:spPr>
          <a:xfrm>
            <a:off x="2627280" y="1773360"/>
            <a:ext cx="235260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Второй способ крепления, фото 3"/>
          <p:cNvPicPr/>
          <p:nvPr/>
        </p:nvPicPr>
        <p:blipFill>
          <a:blip r:embed="rId3"/>
          <a:srcRect l="0" t="0" r="0" b="14310"/>
          <a:stretch/>
        </p:blipFill>
        <p:spPr>
          <a:xfrm>
            <a:off x="6443640" y="1052640"/>
            <a:ext cx="1762200" cy="20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Второй способ крепления, фото 4"/>
          <p:cNvPicPr/>
          <p:nvPr/>
        </p:nvPicPr>
        <p:blipFill>
          <a:blip r:embed="rId4"/>
          <a:srcRect l="0" t="0" r="0" b="12669"/>
          <a:stretch/>
        </p:blipFill>
        <p:spPr>
          <a:xfrm>
            <a:off x="5651640" y="3284640"/>
            <a:ext cx="235260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актическая работа. 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Изготовление кашпо для цветов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работы понадобится кольцо диаметром 5 см, рыболовный шнур 3 мм. Он может быть синтетическим, вискозным, но лучше пеньковым или льняным. Из него нареза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нити дл.10 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нити по 3 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Закрепление нитей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Picture 4" descr="сканирование0003"/>
          <p:cNvPicPr/>
          <p:nvPr/>
        </p:nvPicPr>
        <p:blipFill>
          <a:blip r:embed="rId1"/>
          <a:srcRect l="6297" t="3440" r="53183" b="78056"/>
          <a:stretch/>
        </p:blipFill>
        <p:spPr>
          <a:xfrm>
            <a:off x="2124000" y="1197000"/>
            <a:ext cx="4076640" cy="4933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сканирование0003"/>
          <p:cNvPicPr/>
          <p:nvPr/>
        </p:nvPicPr>
        <p:blipFill>
          <a:blip r:embed="rId1"/>
          <a:srcRect l="7339" t="25603" r="79570" b="56112"/>
          <a:stretch/>
        </p:blipFill>
        <p:spPr>
          <a:xfrm>
            <a:off x="1692360" y="1989000"/>
            <a:ext cx="1655640" cy="4530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сканирование0003"/>
          <p:cNvPicPr/>
          <p:nvPr/>
        </p:nvPicPr>
        <p:blipFill>
          <a:blip r:embed="rId2"/>
          <a:srcRect l="34086" t="25603" r="54312" b="56215"/>
          <a:stretch/>
        </p:blipFill>
        <p:spPr>
          <a:xfrm>
            <a:off x="5867280" y="1989000"/>
            <a:ext cx="1584360" cy="4392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Узел «Калач» и узел «Геракла» (или «Ткацкий узел»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02:53:48Z</dcterms:created>
  <dc:creator>Алиханова Людмила Ренгольтовна</dc:creator>
  <dc:description/>
  <dc:language>en-US</dc:language>
  <cp:lastModifiedBy>222</cp:lastModifiedBy>
  <dcterms:modified xsi:type="dcterms:W3CDTF">2013-03-02T06:42:37Z</dcterms:modified>
  <cp:revision>19</cp:revision>
  <dc:subject/>
  <dc:title>Слайд 1</dc:title>
</cp:coreProperties>
</file>