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25.gif" ContentType="image/gif"/>
  <Override PartName="/ppt/media/image28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2.gif" ContentType="image/gif"/>
  <Override PartName="/ppt/media/image7.jpeg" ContentType="image/jpeg"/>
  <Override PartName="/ppt/media/image18.png" ContentType="image/png"/>
  <Override PartName="/ppt/media/image6.png" ContentType="image/png"/>
  <Override PartName="/ppt/media/image29.png" ContentType="image/png"/>
  <Override PartName="/ppt/media/image21.png" ContentType="image/png"/>
  <Override PartName="/ppt/media/image20.gif" ContentType="image/gif"/>
  <Override PartName="/ppt/media/image24.png" ContentType="image/png"/>
  <Override PartName="/ppt/media/image19.gif" ContentType="image/gif"/>
  <Override PartName="/ppt/media/image15.png" ContentType="image/png"/>
  <Override PartName="/ppt/media/image5.jpeg" ContentType="image/jpeg"/>
  <Override PartName="/ppt/media/image1.jpeg" ContentType="image/jpeg"/>
  <Override PartName="/ppt/media/image27.gif" ContentType="image/gif"/>
  <Override PartName="/ppt/media/image11.gif" ContentType="image/gif"/>
  <Override PartName="/ppt/media/image14.png" ContentType="image/png"/>
  <Override PartName="/ppt/media/image23.gif" ContentType="image/gif"/>
  <Override PartName="/ppt/media/image26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BB43-E5FD-4683-A671-E28B2AAB08C1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A0AB-9541-4C0F-982F-F44C720EA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1E3F-B8A5-49A8-872B-B0C8F7C725A8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8D12-B0AF-4766-8C03-705B67ABE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98C5-B379-4F14-A2C3-F323A767C22A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FE8C-6893-426D-9B34-0C9E09EA9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641D-2FF6-4D88-B146-781978B9709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7B93-C34A-4C01-A3B9-2B7C601D3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0B25-AA73-4FD0-BC8B-7FCF2AA4A87A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CDF2-3779-49B3-9971-16C5B84F63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7BD6-C46E-4FEF-BF67-293913C2CEED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422E-47D2-4450-A65F-9D1001F2D0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514E-34B9-4327-954B-7C4AB825793C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E59D-24CC-4085-A3B4-A7DBBD81BE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CFDD-8588-4C62-9760-3543990C720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D89B-3158-4693-9271-89F6866515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5BB8-B4F6-4E92-805C-6A7CB781A29D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E7F0-1FCF-46B2-B1CF-93B8335A4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E460-94D8-4065-B8EF-B654621D1CA7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6BDD-DD3E-48CA-A8AC-8798A9BEC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52F-E5B0-4BB8-82B2-938F759D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CEDD-7A96-4D5A-B420-CFD2825D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E38-DED3-4CDD-A2B9-A8215B49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1F1-35BF-42BC-AA0D-A6A10A99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910-CAF1-410D-943E-87456095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7AD-E3CA-4D3D-927C-9D0199FE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33C-EDF8-42B3-AF92-BE4035BB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AEF-08CE-4DDE-877A-40F812C7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6EF-9A76-4596-B173-297D3B3A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527-492F-4C42-B2B0-6501AD05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45F-F533-49E6-9A6B-CAD3E56C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0D1-0CE2-4E4D-9A31-BDC60C8E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Масько Л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4A0E-5F8B-4317-B80A-AA7DC15C32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superroot.narod.ru/gif/view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-6480" y="493560"/>
            <a:ext cx="9156960" cy="2840040"/>
          </a:xfrm>
          <a:prstGeom prst="rect">
            <a:avLst/>
          </a:prstGeom>
          <a:ln w="0">
            <a:noFill/>
          </a:ln>
        </p:spPr>
      </p:pic>
      <p:sp>
        <p:nvSpPr>
          <p:cNvPr id="49" name="Нижний колонтитул 3"/>
          <p:cNvSpPr/>
          <p:nvPr/>
        </p:nvSpPr>
        <p:spPr>
          <a:xfrm>
            <a:off x="3124080" y="5857920"/>
            <a:ext cx="2895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Шестакова Н.В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учитель начальных классов МОУ «Гимназия № 7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85840" y="3886200"/>
            <a:ext cx="55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a3213"/>
                </a:solidFill>
                <a:latin typeface="Times New Roman"/>
              </a:rPr>
              <a:t>«Здоровье – не вс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a3213"/>
                </a:solidFill>
                <a:latin typeface="Times New Roman"/>
              </a:rPr>
              <a:t>Но без здоровья – ничего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a3213"/>
                </a:solidFill>
                <a:latin typeface="Times New Roman"/>
              </a:rPr>
              <a:t>Сокра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1128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1.Оздоровительно-гигиеническ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Их можно выполнять как стоя, так и сидя расправить плечи, прогнуть спину, потянуться, повертеть головой, «поболтать ножками». На уроках можно проводить зарядку для глаз: не поворачивая головы, посмотреть направо, налево, вверх, вни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2.Танцевальны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Они обычно выполняются под музыку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популярных детских песен. Все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движения произвольны, танцуют, кто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как умеет. Они выполняются под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музыку, но отличаются более четким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исполнением элем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j0336776"/>
          <p:cNvPicPr/>
          <p:nvPr/>
        </p:nvPicPr>
        <p:blipFill>
          <a:blip r:embed="rId2"/>
          <a:stretch/>
        </p:blipFill>
        <p:spPr>
          <a:xfrm>
            <a:off x="7715160" y="100008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Новогодний подарок «Чумовая собака»"/>
          <p:cNvPicPr/>
          <p:nvPr/>
        </p:nvPicPr>
        <p:blipFill>
          <a:blip r:embed="rId3"/>
          <a:stretch/>
        </p:blipFill>
        <p:spPr>
          <a:xfrm flipH="1">
            <a:off x="1357200" y="3929040"/>
            <a:ext cx="100800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Это традиционная гимнастика, которая выполняется строго под счет с равномерным чередованием вдохов и выдохов. Каждое упражнение рассчитано для укрепления определенных групп мышц. Сюда можно включать бег, прыжки, приседания, ходьбу на мес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******"/>
          <p:cNvPicPr/>
          <p:nvPr/>
        </p:nvPicPr>
        <p:blipFill>
          <a:blip r:embed="rId2"/>
          <a:stretch/>
        </p:blipFill>
        <p:spPr>
          <a:xfrm>
            <a:off x="785880" y="4143240"/>
            <a:ext cx="153648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uman213"/>
          <p:cNvPicPr/>
          <p:nvPr/>
        </p:nvPicPr>
        <p:blipFill>
          <a:blip r:embed="rId3"/>
          <a:stretch/>
        </p:blipFill>
        <p:spPr>
          <a:xfrm>
            <a:off x="6357960" y="4500720"/>
            <a:ext cx="194472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684360" y="164304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Зависят от фантазии и творчества учите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Можно имитировать движения и звуки машин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паровозиков, животных, птиц, дви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зайчиков, кузнечиков, пчел, обезьянок. Э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физминутки позволяют детям переключиться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поднять настро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a25"/>
          <p:cNvPicPr/>
          <p:nvPr/>
        </p:nvPicPr>
        <p:blipFill>
          <a:blip r:embed="rId2"/>
          <a:stretch/>
        </p:blipFill>
        <p:spPr>
          <a:xfrm flipH="1" rot="21534600">
            <a:off x="5517720" y="4730040"/>
            <a:ext cx="2268720" cy="180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25"/>
          <p:cNvPicPr/>
          <p:nvPr/>
        </p:nvPicPr>
        <p:blipFill>
          <a:blip r:embed="rId3"/>
          <a:stretch/>
        </p:blipFill>
        <p:spPr>
          <a:xfrm>
            <a:off x="3643200" y="4857840"/>
            <a:ext cx="223200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Дети коллективно читают небольшие веселые стихи и одновременно выполняют различные движения, как бы, инсценируя 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1c1538"/>
                </a:solidFill>
                <a:latin typeface="Times New Roman"/>
              </a:rPr>
              <a:t>Ослик был сегодня зо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1538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1c1538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1c1538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1c1538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1c1538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1c1538"/>
                </a:solidFill>
                <a:latin typeface="Times New Roman"/>
              </a:rPr>
              <a:t>Он узнал, что он осел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Новогодний подарок «Танцующий осел»"/>
          <p:cNvPicPr/>
          <p:nvPr/>
        </p:nvPicPr>
        <p:blipFill>
          <a:blip r:embed="rId2"/>
          <a:stretch/>
        </p:blipFill>
        <p:spPr>
          <a:xfrm>
            <a:off x="1357200" y="3714840"/>
            <a:ext cx="129708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1159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i="1" lang="ru-RU" sz="19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19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Чаще всего устают глаза. Согласно проведенному исследованию, 43 % современных школьников имеют отклонения в состоянии зрительного аппарат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Переутомление или непривычная нагрузка часто являются причиной головных бол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Дефициты движения пагубно отражаются на функции глаза. Одна из главных причин такого роста нарушений - в недостаточной тренированности, что ведет к быстрой утомляемости глаз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Для расслабления глаз полезно смотреть на </a:t>
            </a:r>
            <a:r>
              <a:rPr b="1" i="1" lang="ru-RU" sz="2200" spc="-1" strike="noStrike" u="sng">
                <a:solidFill>
                  <a:srgbClr val="663300"/>
                </a:solidFill>
                <a:uFillTx/>
                <a:latin typeface="Times New Roman"/>
              </a:rPr>
              <a:t>зелёный цве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684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«Технология игрового обучения в начальной школ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В.И. Ковалько «Здоровьесберегающие технологии»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В.А. Сухомлиский. Собрание сочинений, т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Журнал «Физическая культура в школе», №1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http://superroot.narod.ru/gif/view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В.И. Варченк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8" descr=""/>
          <p:cNvPicPr/>
          <p:nvPr/>
        </p:nvPicPr>
        <p:blipFill>
          <a:blip r:embed="rId1"/>
          <a:stretch/>
        </p:blipFill>
        <p:spPr>
          <a:xfrm>
            <a:off x="426960" y="-12600"/>
            <a:ext cx="8528040" cy="1560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24000" y="1241280"/>
            <a:ext cx="84247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доровье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нова формирования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.А. Сухомлинск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«…примерно у 85% всех неуспевающих учеников главная причина отставания в учебе - плохое состояние здоровья, какое-нибудь недомогание или заболевание,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deti4"/>
          <p:cNvPicPr/>
          <p:nvPr/>
        </p:nvPicPr>
        <p:blipFill>
          <a:blip r:embed="rId2"/>
          <a:stretch/>
        </p:blipFill>
        <p:spPr>
          <a:xfrm>
            <a:off x="428760" y="1357200"/>
            <a:ext cx="19335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image020"/>
          <p:cNvPicPr/>
          <p:nvPr/>
        </p:nvPicPr>
        <p:blipFill>
          <a:blip r:embed="rId3"/>
          <a:stretch/>
        </p:blipFill>
        <p:spPr>
          <a:xfrm>
            <a:off x="-4428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927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В современных условиях модернизации россий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образования основная ориентация учителя началь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классов должна быть направлена на форм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здорового образа жизни, а имен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- физическое совершенствова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- психическое здоровь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- социальная безопас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- основы экологических зн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Ребенок за компом"/>
          <p:cNvPicPr/>
          <p:nvPr/>
        </p:nvPicPr>
        <p:blipFill>
          <a:blip r:embed="rId2"/>
          <a:stretch/>
        </p:blipFill>
        <p:spPr>
          <a:xfrm>
            <a:off x="2571840" y="4714920"/>
            <a:ext cx="37861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586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857160" y="1604880"/>
            <a:ext cx="77770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95400">
              <a:lnSpc>
                <a:spcPct val="10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Веселые физминутки на уроках в начально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5400">
              <a:lnSpc>
                <a:spcPct val="10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Организация урока в условиях здоровьесберегающей техн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5400">
              <a:lnSpc>
                <a:spcPct val="10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Работа по предупреждению утомляемости глаз на уро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5400">
              <a:lnSpc>
                <a:spcPct val="10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Формирование навыков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5400">
              <a:lnSpc>
                <a:spcPct val="10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Игровые оздоровительные техн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218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Известно, что дети быстро утомляются на урока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поскольку длительное время находятся в статичном положе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Физкультминутки помогают предупреждению и снят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умственного утом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Проводят физкультминутку на 12- 20 минуте от начал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урока. Иногда бывает целесообразным проведение физкультминут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дважды за урок (в</a:t>
            </a:r>
            <a:r>
              <a:rPr b="1" i="1" lang="en-US" sz="20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начале учебного года и в последние дни четвер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на последних уроках, особенно в конце недел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Продолжительность 2-3 мину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j0232431"/>
          <p:cNvPicPr/>
          <p:nvPr/>
        </p:nvPicPr>
        <p:blipFill>
          <a:blip r:embed="rId2"/>
          <a:stretch/>
        </p:blipFill>
        <p:spPr>
          <a:xfrm>
            <a:off x="500040" y="57168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j0283653"/>
          <p:cNvPicPr/>
          <p:nvPr/>
        </p:nvPicPr>
        <p:blipFill>
          <a:blip r:embed="rId3"/>
          <a:stretch/>
        </p:blipFill>
        <p:spPr>
          <a:xfrm>
            <a:off x="7215120" y="5214960"/>
            <a:ext cx="1015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2" descr=""/>
          <p:cNvPicPr/>
          <p:nvPr/>
        </p:nvPicPr>
        <p:blipFill>
          <a:blip r:embed="rId1"/>
          <a:stretch/>
        </p:blipFill>
        <p:spPr>
          <a:xfrm>
            <a:off x="115920" y="195120"/>
            <a:ext cx="8985240" cy="811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42920" y="1093320"/>
            <a:ext cx="8821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          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Один из главных секретов хорошего физического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   самочувствия младших школьников и высокой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       активности в учебном процессе состоит в    использовании  рационально подобранных  электро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     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игр оздоровительной направ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При правильной педагогической инструментовке такие игры способ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95400">
              <a:lnSpc>
                <a:spcPct val="100000"/>
              </a:lnSpc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действительно поддерживать у младших школьников должный запас  «адаптационной энергии»(Г. Сель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95400">
              <a:lnSpc>
                <a:spcPct val="100000"/>
              </a:lnSpc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стимулировать процессы роста и развитие основных физических качеств младшего школьника (сила, быстрота, ловкость, вынослив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95400">
              <a:lnSpc>
                <a:spcPct val="100000"/>
              </a:lnSpc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устранять недостатки в физическом развитии детей, что оказывает лечебно-оздоровительное влия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j0346645"/>
          <p:cNvPicPr/>
          <p:nvPr/>
        </p:nvPicPr>
        <p:blipFill>
          <a:blip r:embed="rId2"/>
          <a:stretch/>
        </p:blipFill>
        <p:spPr>
          <a:xfrm flipH="1" rot="40200">
            <a:off x="580320" y="1077480"/>
            <a:ext cx="1168560" cy="16527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01280" cy="18115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"/>
          <p:cNvGrpSpPr/>
          <p:nvPr/>
        </p:nvGrpSpPr>
        <p:grpSpPr>
          <a:xfrm>
            <a:off x="1071720" y="2071800"/>
            <a:ext cx="7000560" cy="4236840"/>
            <a:chOff x="1071720" y="2071800"/>
            <a:chExt cx="7000560" cy="4236840"/>
          </a:xfrm>
        </p:grpSpPr>
        <p:sp>
          <p:nvSpPr>
            <p:cNvPr id="70" name="AutoShape 5"/>
            <p:cNvSpPr/>
            <p:nvPr/>
          </p:nvSpPr>
          <p:spPr>
            <a:xfrm>
              <a:off x="1071720" y="2071800"/>
              <a:ext cx="7000560" cy="42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1345680" y="2071800"/>
              <a:ext cx="823320" cy="40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7"/>
            <p:cNvSpPr/>
            <p:nvPr/>
          </p:nvSpPr>
          <p:spPr>
            <a:xfrm>
              <a:off x="2499840" y="2214720"/>
              <a:ext cx="685440" cy="818640"/>
            </a:xfrm>
            <a:prstGeom prst="parallelogram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8"/>
            <p:cNvSpPr/>
            <p:nvPr/>
          </p:nvSpPr>
          <p:spPr>
            <a:xfrm>
              <a:off x="3817440" y="2207880"/>
              <a:ext cx="961560" cy="957240"/>
            </a:xfrm>
            <a:custGeom>
              <a:avLst/>
              <a:gdLst>
                <a:gd name="textAreaLeft" fmla="*/ 200160 w 961560"/>
                <a:gd name="textAreaRight" fmla="*/ 761400 w 961560"/>
                <a:gd name="textAreaTop" fmla="*/ 199080 h 957240"/>
                <a:gd name="textAreaBottom" fmla="*/ 758160 h 9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9"/>
            <p:cNvSpPr/>
            <p:nvPr/>
          </p:nvSpPr>
          <p:spPr>
            <a:xfrm>
              <a:off x="6288120" y="2207880"/>
              <a:ext cx="411120" cy="1366920"/>
            </a:xfrm>
            <a:prstGeom prst="diamond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0"/>
            <p:cNvSpPr/>
            <p:nvPr/>
          </p:nvSpPr>
          <p:spPr>
            <a:xfrm>
              <a:off x="1208520" y="4668840"/>
              <a:ext cx="1371600" cy="6832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11"/>
            <p:cNvSpPr/>
            <p:nvPr/>
          </p:nvSpPr>
          <p:spPr>
            <a:xfrm>
              <a:off x="3267720" y="3575160"/>
              <a:ext cx="1234440" cy="955800"/>
            </a:xfrm>
            <a:prstGeom prst="octagon">
              <a:avLst>
                <a:gd name="adj" fmla="val 29287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12"/>
            <p:cNvSpPr/>
            <p:nvPr/>
          </p:nvSpPr>
          <p:spPr>
            <a:xfrm>
              <a:off x="5601240" y="3711600"/>
              <a:ext cx="961560" cy="136620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3"/>
            <p:cNvSpPr/>
            <p:nvPr/>
          </p:nvSpPr>
          <p:spPr>
            <a:xfrm>
              <a:off x="1357200" y="5643720"/>
              <a:ext cx="2470320" cy="547200"/>
            </a:xfrm>
            <a:prstGeom prst="rtTriangl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3071520" y="4857840"/>
              <a:ext cx="1569240" cy="493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5"/>
            <p:cNvSpPr/>
            <p:nvPr/>
          </p:nvSpPr>
          <p:spPr>
            <a:xfrm>
              <a:off x="1345680" y="3027600"/>
              <a:ext cx="549360" cy="9572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6"/>
            <p:cNvSpPr/>
            <p:nvPr/>
          </p:nvSpPr>
          <p:spPr>
            <a:xfrm>
              <a:off x="2285640" y="3285720"/>
              <a:ext cx="685440" cy="821520"/>
            </a:xfrm>
            <a:prstGeom prst="pentagon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17"/>
            <p:cNvSpPr/>
            <p:nvPr/>
          </p:nvSpPr>
          <p:spPr>
            <a:xfrm>
              <a:off x="5071680" y="2500200"/>
              <a:ext cx="412200" cy="820800"/>
            </a:xfrm>
            <a:prstGeom prst="can">
              <a:avLst>
                <a:gd name="adj" fmla="val 250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18"/>
            <p:cNvSpPr/>
            <p:nvPr/>
          </p:nvSpPr>
          <p:spPr>
            <a:xfrm>
              <a:off x="6857640" y="3929040"/>
              <a:ext cx="823320" cy="682560"/>
            </a:xfrm>
            <a:prstGeom prst="cube">
              <a:avLst>
                <a:gd name="adj" fmla="val 25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9"/>
            <p:cNvSpPr/>
            <p:nvPr/>
          </p:nvSpPr>
          <p:spPr>
            <a:xfrm>
              <a:off x="7143480" y="2643480"/>
              <a:ext cx="821520" cy="547920"/>
            </a:xfrm>
            <a:custGeom>
              <a:avLst/>
              <a:gdLst>
                <a:gd name="textAreaLeft" fmla="*/ 120600 w 821520"/>
                <a:gd name="textAreaRight" fmla="*/ 700920 w 821520"/>
                <a:gd name="textAreaTop" fmla="*/ 80280 h 547920"/>
                <a:gd name="textAreaBottom" fmla="*/ 467640 h 5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20"/>
            <p:cNvSpPr/>
            <p:nvPr/>
          </p:nvSpPr>
          <p:spPr>
            <a:xfrm>
              <a:off x="4639680" y="3711600"/>
              <a:ext cx="823320" cy="682560"/>
            </a:xfrm>
            <a:custGeom>
              <a:avLst/>
              <a:gdLst>
                <a:gd name="textAreaLeft" fmla="*/ 254520 w 823320"/>
                <a:gd name="textAreaRight" fmla="*/ 568800 w 823320"/>
                <a:gd name="textAreaTop" fmla="*/ 261000 h 682560"/>
                <a:gd name="textAreaBottom" fmla="*/ 522000 h 682560"/>
              </a:gdLst>
              <a:ahLst/>
              <a:rect l="textAreaLeft" t="textAreaTop" r="textAreaRight" b="textAreaBottom"/>
              <a:pathLst>
                <a:path w="847" h="696">
                  <a:moveTo>
                    <a:pt x="0" y="266"/>
                  </a:moveTo>
                  <a:lnTo>
                    <a:pt x="324" y="266"/>
                  </a:lnTo>
                  <a:lnTo>
                    <a:pt x="424" y="0"/>
                  </a:lnTo>
                  <a:lnTo>
                    <a:pt x="523" y="266"/>
                  </a:lnTo>
                  <a:lnTo>
                    <a:pt x="847" y="266"/>
                  </a:lnTo>
                  <a:lnTo>
                    <a:pt x="585" y="430"/>
                  </a:lnTo>
                  <a:lnTo>
                    <a:pt x="685" y="696"/>
                  </a:lnTo>
                  <a:lnTo>
                    <a:pt x="424" y="532"/>
                  </a:lnTo>
                  <a:lnTo>
                    <a:pt x="162" y="696"/>
                  </a:lnTo>
                  <a:lnTo>
                    <a:pt x="262" y="43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21"/>
            <p:cNvSpPr/>
            <p:nvPr/>
          </p:nvSpPr>
          <p:spPr>
            <a:xfrm>
              <a:off x="4142880" y="5357160"/>
              <a:ext cx="823320" cy="85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22"/>
            <p:cNvSpPr/>
            <p:nvPr/>
          </p:nvSpPr>
          <p:spPr>
            <a:xfrm>
              <a:off x="5601240" y="5488560"/>
              <a:ext cx="960480" cy="409680"/>
            </a:xfrm>
            <a:custGeom>
              <a:avLst/>
              <a:gdLst>
                <a:gd name="textAreaLeft" fmla="*/ 240120 w 960480"/>
                <a:gd name="textAreaRight" fmla="*/ 720360 w 960480"/>
                <a:gd name="textAreaTop" fmla="*/ 11880 h 409680"/>
                <a:gd name="textAreaBottom" fmla="*/ 307440 h 4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23"/>
            <p:cNvSpPr/>
            <p:nvPr/>
          </p:nvSpPr>
          <p:spPr>
            <a:xfrm>
              <a:off x="6699240" y="5488560"/>
              <a:ext cx="548280" cy="546120"/>
            </a:xfrm>
            <a:prstGeom prst="horizontalScroll">
              <a:avLst>
                <a:gd name="adj" fmla="val 125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8242560" cy="1517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Упражнения должны охватывать большие группы мышц и снимать статическое напряжение, вызываемое продолжительным сидением за партой. Это могут быть подтягивания, наклоны, повороты, приседания, подскоки, бег на месте. Движения кистями: сжимание, разжимание, вращ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Упражнения должны быть просты, интересны, доступны детям, по   возможности связаны с содержанием занятий, носить игровой характ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j0232133"/>
          <p:cNvPicPr/>
          <p:nvPr/>
        </p:nvPicPr>
        <p:blipFill>
          <a:blip r:embed="rId2"/>
          <a:stretch/>
        </p:blipFill>
        <p:spPr>
          <a:xfrm>
            <a:off x="714240" y="571680"/>
            <a:ext cx="94464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68000" y="333360"/>
            <a:ext cx="8280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Комплекс должен состоять из одного двух упражнений, повторяющихся 4-6 раз. Замена комплекса проводится не реже 1 раза в две нед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Содержание упражнений дол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зависеть от характера и усл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проведения урока. Так, после  письм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заданий, включают движения ру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сжимание  и разжимание пальцев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Во время контрольных и некотор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практических уроков (труд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физкультура, ритмика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физкультминутку не проводя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j0343359"/>
          <p:cNvPicPr/>
          <p:nvPr/>
        </p:nvPicPr>
        <p:blipFill>
          <a:blip r:embed="rId1"/>
          <a:stretch/>
        </p:blipFill>
        <p:spPr>
          <a:xfrm>
            <a:off x="6858000" y="4429080"/>
            <a:ext cx="1890720" cy="1736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3:25:14Z</dcterms:created>
  <dc:creator>Масько</dc:creator>
  <dc:description/>
  <dc:language>en-US</dc:language>
  <cp:lastModifiedBy>Шестакова</cp:lastModifiedBy>
  <dcterms:modified xsi:type="dcterms:W3CDTF">2012-09-25T05:30:59Z</dcterms:modified>
  <cp:revision>89</cp:revision>
  <dc:subject/>
  <dc:title>Мастерская учителя</dc:title>
</cp:coreProperties>
</file>