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25.gif" ContentType="image/gif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2.gif" ContentType="image/gif"/>
  <Override PartName="/ppt/media/image7.jpeg" ContentType="image/jpeg"/>
  <Override PartName="/ppt/media/image18.png" ContentType="image/png"/>
  <Override PartName="/ppt/media/image6.png" ContentType="image/png"/>
  <Override PartName="/ppt/media/image29.png" ContentType="image/png"/>
  <Override PartName="/ppt/media/image21.png" ContentType="image/png"/>
  <Override PartName="/ppt/media/image20.gif" ContentType="image/gif"/>
  <Override PartName="/ppt/media/image24.png" ContentType="image/png"/>
  <Override PartName="/ppt/media/image19.gif" ContentType="image/gif"/>
  <Override PartName="/ppt/media/image15.png" ContentType="image/png"/>
  <Override PartName="/ppt/media/image5.jpeg" ContentType="image/jpeg"/>
  <Override PartName="/ppt/media/image1.jpeg" ContentType="image/jpeg"/>
  <Override PartName="/ppt/media/image27.gif" ContentType="image/gif"/>
  <Override PartName="/ppt/media/image11.gif" ContentType="image/gif"/>
  <Override PartName="/ppt/media/image14.png" ContentType="image/png"/>
  <Override PartName="/ppt/media/image23.gif" ContentType="image/gif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343B-77DD-45A4-82FB-7EB827AFD52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23A5-475B-488E-A880-125D42247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9754-D992-4E0A-AB67-F8D2DEB47E3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5FC3-015C-4930-8247-59200AB0D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F5FE-8DD8-4A0B-B716-B95567586E4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1130-029D-4B61-A86D-10429538E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F16-0A63-419E-93F9-10DAF624C67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2B5C-0204-483A-A643-8868E280E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5EA2-F5E8-4188-B27D-031C75DE5E8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7EDE-E7F8-4030-8F2C-A1D8B6BDC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47F7-F468-44A3-81B0-AA62CF73BE6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EA56-F160-45D9-B768-DC3D85C96A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254C-FB45-440C-809E-261AD741E56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EE03-AC68-4786-80D6-26522F14E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9419-A370-4034-A682-08D331E79BB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A808-D3B8-4A35-BBE0-C4818ED297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4CBD-C10F-42B9-8F67-57BEC69E143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F4B4-E92E-45A1-A9EE-891061B98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9BCA-4956-4FE1-8383-4A8F11D6A47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1381-F934-4672-B577-6A2A6EC7B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63B-6FE1-4D76-921C-92907DB0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019-9439-4679-B655-81DF035D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83F-56BE-49C0-B615-62C04C06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169-441D-4DD7-B22A-6355E19B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010-F70F-45F9-BEA4-B6C5A1A4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F6F-8849-4D7F-A3AA-21926D6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C62-79C5-45F9-9ACA-ABC98D87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865-7DD1-4B4D-997A-415C4B93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137-DBEC-4430-9170-023D042B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957-84B2-4F05-B745-DB230D7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967-4C4A-4717-8C43-57F6A3D9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BD4-0B6E-4E9B-99E6-A12EE99D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Масько Л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9474-17E1-4B8A-B7B7-084E6BD07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superroot.narod.ru/gif/view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2840040"/>
          </a:xfrm>
          <a:prstGeom prst="rect">
            <a:avLst/>
          </a:prstGeom>
          <a:ln w="0">
            <a:noFill/>
          </a:ln>
        </p:spPr>
      </p:pic>
      <p:sp>
        <p:nvSpPr>
          <p:cNvPr id="49" name="Нижний колонтитул 3"/>
          <p:cNvSpPr/>
          <p:nvPr/>
        </p:nvSpPr>
        <p:spPr>
          <a:xfrm>
            <a:off x="3124080" y="5857920"/>
            <a:ext cx="289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Шестакова Н.В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учитель начальных классов МОУ «Гимназия № 7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5840" y="3886200"/>
            <a:ext cx="55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a3213"/>
                </a:solidFill>
                <a:latin typeface="Times New Roman"/>
              </a:rPr>
              <a:t>«Здоровье – не вс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a3213"/>
                </a:solidFill>
                <a:latin typeface="Times New Roman"/>
              </a:rPr>
              <a:t>Но без здоровья – ничего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a3213"/>
                </a:solidFill>
                <a:latin typeface="Times New Roman"/>
              </a:rPr>
              <a:t>Сокра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1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1.Оздоровительно-гигиеническ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х можно выполнять как стоя, так и сидя расправить плечи, прогнуть спину, потянуться, повертеть головой, «поболтать ножками». На уроках можно проводить зарядку для глаз: не поворачивая головы, посмотреть направо, налево, вверх, вни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2.Танцеваль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ни обычно выполняются под музыку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популярных детских песен. Все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движения произвольны, танцуют, кто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как умеет. Они выполняются под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музыку, но отличаются более четким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исполнением эле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j0336776"/>
          <p:cNvPicPr/>
          <p:nvPr/>
        </p:nvPicPr>
        <p:blipFill>
          <a:blip r:embed="rId2"/>
          <a:stretch/>
        </p:blipFill>
        <p:spPr>
          <a:xfrm>
            <a:off x="7715160" y="100008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Новогодний подарок «Чумовая собака»"/>
          <p:cNvPicPr/>
          <p:nvPr/>
        </p:nvPicPr>
        <p:blipFill>
          <a:blip r:embed="rId3"/>
          <a:stretch/>
        </p:blipFill>
        <p:spPr>
          <a:xfrm flipH="1">
            <a:off x="1357200" y="3929040"/>
            <a:ext cx="100800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о традиционная гимнастика, которая выполняется строго под счет с равномерным чередованием вдохов и выдохов. Каждое упражнение рассчитано для укрепления определенных групп мышц. Сюда можно включать бег, прыжки, приседания, ходьбу на ме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******"/>
          <p:cNvPicPr/>
          <p:nvPr/>
        </p:nvPicPr>
        <p:blipFill>
          <a:blip r:embed="rId2"/>
          <a:stretch/>
        </p:blipFill>
        <p:spPr>
          <a:xfrm>
            <a:off x="785880" y="4143240"/>
            <a:ext cx="15364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uman213"/>
          <p:cNvPicPr/>
          <p:nvPr/>
        </p:nvPicPr>
        <p:blipFill>
          <a:blip r:embed="rId3"/>
          <a:stretch/>
        </p:blipFill>
        <p:spPr>
          <a:xfrm>
            <a:off x="6357960" y="450072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84360" y="164304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Зависят от фантазии и творчества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Можно имитировать движения и звуки маш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аровозиков, животных, птиц,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зайчиков, кузнечиков, пчел, обезьянок. Э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физминутки позволяют детям переключиться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однять настро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a25"/>
          <p:cNvPicPr/>
          <p:nvPr/>
        </p:nvPicPr>
        <p:blipFill>
          <a:blip r:embed="rId2"/>
          <a:stretch/>
        </p:blipFill>
        <p:spPr>
          <a:xfrm flipH="1" rot="21534600">
            <a:off x="5517720" y="4730040"/>
            <a:ext cx="2268720" cy="18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25"/>
          <p:cNvPicPr/>
          <p:nvPr/>
        </p:nvPicPr>
        <p:blipFill>
          <a:blip r:embed="rId3"/>
          <a:stretch/>
        </p:blipFill>
        <p:spPr>
          <a:xfrm>
            <a:off x="3643200" y="485784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Дети коллективно читают небольшие веселые стихи и одновременно выполняют различные движения, как бы, инсценируя 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Ослик был сегодня зо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1c1538"/>
                </a:solidFill>
                <a:latin typeface="Times New Roman"/>
              </a:rPr>
              <a:t>Он узнал, что он осел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Новогодний подарок «Танцующий осел»"/>
          <p:cNvPicPr/>
          <p:nvPr/>
        </p:nvPicPr>
        <p:blipFill>
          <a:blip r:embed="rId2"/>
          <a:stretch/>
        </p:blipFill>
        <p:spPr>
          <a:xfrm>
            <a:off x="1357200" y="3714840"/>
            <a:ext cx="129708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115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i="1" lang="ru-RU" sz="19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19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Чаще всего устают глаза. Согласно проведенному исследованию, 43 % современных школьников имеют отклонения в состоянии зрительного аппара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Переутомление или непривычная нагрузка часто являются причиной головных бол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Дефициты движения пагубно отражаются на функции глаза. Одна из главных причин такого роста нарушений - в недостаточной тренированности, что ведет к быстрой утомляемости глаз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663300"/>
                </a:solidFill>
                <a:latin typeface="Times New Roman"/>
              </a:rPr>
              <a:t>Для расслабления глаз полезно смотреть на </a:t>
            </a:r>
            <a:r>
              <a:rPr b="1" i="1" lang="ru-RU" sz="2200" spc="-1" strike="noStrike" u="sng">
                <a:solidFill>
                  <a:srgbClr val="663300"/>
                </a:solidFill>
                <a:uFillTx/>
                <a:latin typeface="Times New Roman"/>
              </a:rPr>
              <a:t>зелёный цве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84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«Технология игрового обучения в начальной шк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.И. Ковалько «Здоровьесберегающие технологии»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.А. Сухомлиский. Собрание сочинений, т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Журнал «Физическая культура в школе», №1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http://superroot.narod.ru/gif/view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.И. Варченк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8" descr=""/>
          <p:cNvPicPr/>
          <p:nvPr/>
        </p:nvPicPr>
        <p:blipFill>
          <a:blip r:embed="rId1"/>
          <a:stretch/>
        </p:blipFill>
        <p:spPr>
          <a:xfrm>
            <a:off x="426960" y="-12600"/>
            <a:ext cx="8528040" cy="1560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24000" y="1241280"/>
            <a:ext cx="8424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оровь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нова формирования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В.А. Сухомлинск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«…примерно у 85% всех неуспевающих учеников главная причина отставания в учебе - плохое состояние здоровья, какое-нибудь недомогание или заболевание,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deti4"/>
          <p:cNvPicPr/>
          <p:nvPr/>
        </p:nvPicPr>
        <p:blipFill>
          <a:blip r:embed="rId2"/>
          <a:stretch/>
        </p:blipFill>
        <p:spPr>
          <a:xfrm>
            <a:off x="428760" y="1357200"/>
            <a:ext cx="19335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image020"/>
          <p:cNvPicPr/>
          <p:nvPr/>
        </p:nvPicPr>
        <p:blipFill>
          <a:blip r:embed="rId3"/>
          <a:stretch/>
        </p:blipFill>
        <p:spPr>
          <a:xfrm>
            <a:off x="-4428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92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 современных условиях модернизации россий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образования основная ориентация учителя нача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лассов должна быть направлена на форм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здорового образа жизни, а имен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- физическое совершенств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- психическое здоровь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- социальная безопас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- основы экологических зн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Ребенок за компом"/>
          <p:cNvPicPr/>
          <p:nvPr/>
        </p:nvPicPr>
        <p:blipFill>
          <a:blip r:embed="rId2"/>
          <a:stretch/>
        </p:blipFill>
        <p:spPr>
          <a:xfrm>
            <a:off x="2571840" y="4714920"/>
            <a:ext cx="3786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586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857160" y="1604880"/>
            <a:ext cx="77770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еселые физминутки на уроках в началь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Организация урока в условиях здоровьесберегающей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Работа по предупреждению утомляемости глаз на у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Формирование навыков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Игровые оздоровительные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Известно, что дети быстро утомляются на урока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поскольку длительное время находятся в статичном полож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Физкультминутки помогают предупреждению и снят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умственного утом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Проводят физкультминутку на 12- 20 минуте от нача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урока. Иногда бывает целесообразным проведение физкультмину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дважды за урок (в</a:t>
            </a:r>
            <a:r>
              <a:rPr b="1" i="1" lang="en-US" sz="20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ачале учебного года и в последние дни четв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на последних уроках, особенно в конце недел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Продолжительность 2-3 мину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3945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j0232431"/>
          <p:cNvPicPr/>
          <p:nvPr/>
        </p:nvPicPr>
        <p:blipFill>
          <a:blip r:embed="rId2"/>
          <a:stretch/>
        </p:blipFill>
        <p:spPr>
          <a:xfrm>
            <a:off x="500040" y="57168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j0283653"/>
          <p:cNvPicPr/>
          <p:nvPr/>
        </p:nvPicPr>
        <p:blipFill>
          <a:blip r:embed="rId3"/>
          <a:stretch/>
        </p:blipFill>
        <p:spPr>
          <a:xfrm>
            <a:off x="7215120" y="5214960"/>
            <a:ext cx="1015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115920" y="195120"/>
            <a:ext cx="8985240" cy="811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42920" y="1093320"/>
            <a:ext cx="8821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Один из главных секретов хорошего физического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самочувствия младших школьников и высокой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    активности в учебном процессе состоит в    использовании  рационально подобранных  электро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игр оздоровительной направ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При правильной педагогической инструментовке такие игры способ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действительно поддерживать у младших школьников должный запас  «адаптационной энергии»(Г. Сель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стимулировать процессы роста и развитие основных физических качеств младшего школьника (сила, быстрота, ловкость, вынослив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5400">
              <a:lnSpc>
                <a:spcPct val="100000"/>
              </a:lnSpc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устранять недостатки в физическом развитии детей, что оказывает лечебно-оздоровительное вли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j0346645"/>
          <p:cNvPicPr/>
          <p:nvPr/>
        </p:nvPicPr>
        <p:blipFill>
          <a:blip r:embed="rId2"/>
          <a:stretch/>
        </p:blipFill>
        <p:spPr>
          <a:xfrm flipH="1" rot="40200">
            <a:off x="580320" y="1077480"/>
            <a:ext cx="116856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1280" cy="18115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1071720" y="2071800"/>
            <a:ext cx="7000560" cy="4236840"/>
            <a:chOff x="1071720" y="2071800"/>
            <a:chExt cx="7000560" cy="4236840"/>
          </a:xfrm>
        </p:grpSpPr>
        <p:sp>
          <p:nvSpPr>
            <p:cNvPr id="70" name="AutoShape 5"/>
            <p:cNvSpPr/>
            <p:nvPr/>
          </p:nvSpPr>
          <p:spPr>
            <a:xfrm>
              <a:off x="1071720" y="2071800"/>
              <a:ext cx="7000560" cy="42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1345680" y="2071800"/>
              <a:ext cx="823320" cy="40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7"/>
            <p:cNvSpPr/>
            <p:nvPr/>
          </p:nvSpPr>
          <p:spPr>
            <a:xfrm>
              <a:off x="2499840" y="2214720"/>
              <a:ext cx="685440" cy="818640"/>
            </a:xfrm>
            <a:prstGeom prst="parallelogram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8"/>
            <p:cNvSpPr/>
            <p:nvPr/>
          </p:nvSpPr>
          <p:spPr>
            <a:xfrm>
              <a:off x="3817440" y="2207880"/>
              <a:ext cx="961560" cy="957240"/>
            </a:xfrm>
            <a:custGeom>
              <a:avLst/>
              <a:gdLst>
                <a:gd name="textAreaLeft" fmla="*/ 200160 w 961560"/>
                <a:gd name="textAreaRight" fmla="*/ 761400 w 961560"/>
                <a:gd name="textAreaTop" fmla="*/ 199080 h 957240"/>
                <a:gd name="textAreaBottom" fmla="*/ 758160 h 9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9"/>
            <p:cNvSpPr/>
            <p:nvPr/>
          </p:nvSpPr>
          <p:spPr>
            <a:xfrm>
              <a:off x="6288120" y="2207880"/>
              <a:ext cx="411120" cy="136692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0"/>
            <p:cNvSpPr/>
            <p:nvPr/>
          </p:nvSpPr>
          <p:spPr>
            <a:xfrm>
              <a:off x="1208520" y="4668840"/>
              <a:ext cx="1371600" cy="6832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1"/>
            <p:cNvSpPr/>
            <p:nvPr/>
          </p:nvSpPr>
          <p:spPr>
            <a:xfrm>
              <a:off x="3267720" y="3575160"/>
              <a:ext cx="1234440" cy="955800"/>
            </a:xfrm>
            <a:prstGeom prst="octagon">
              <a:avLst>
                <a:gd name="adj" fmla="val 29287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2"/>
            <p:cNvSpPr/>
            <p:nvPr/>
          </p:nvSpPr>
          <p:spPr>
            <a:xfrm>
              <a:off x="5601240" y="3711600"/>
              <a:ext cx="961560" cy="13662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3"/>
            <p:cNvSpPr/>
            <p:nvPr/>
          </p:nvSpPr>
          <p:spPr>
            <a:xfrm>
              <a:off x="1357200" y="5643720"/>
              <a:ext cx="2470320" cy="547200"/>
            </a:xfrm>
            <a:prstGeom prst="rtTriangl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3071520" y="4857840"/>
              <a:ext cx="1569240" cy="493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5"/>
            <p:cNvSpPr/>
            <p:nvPr/>
          </p:nvSpPr>
          <p:spPr>
            <a:xfrm>
              <a:off x="1345680" y="3027600"/>
              <a:ext cx="549360" cy="9572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6"/>
            <p:cNvSpPr/>
            <p:nvPr/>
          </p:nvSpPr>
          <p:spPr>
            <a:xfrm>
              <a:off x="2285640" y="3285720"/>
              <a:ext cx="685440" cy="821520"/>
            </a:xfrm>
            <a:prstGeom prst="pentagon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7"/>
            <p:cNvSpPr/>
            <p:nvPr/>
          </p:nvSpPr>
          <p:spPr>
            <a:xfrm>
              <a:off x="5071680" y="2500200"/>
              <a:ext cx="412200" cy="820800"/>
            </a:xfrm>
            <a:prstGeom prst="can">
              <a:avLst>
                <a:gd name="adj" fmla="val 25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18"/>
            <p:cNvSpPr/>
            <p:nvPr/>
          </p:nvSpPr>
          <p:spPr>
            <a:xfrm>
              <a:off x="6857640" y="3929040"/>
              <a:ext cx="823320" cy="68256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9"/>
            <p:cNvSpPr/>
            <p:nvPr/>
          </p:nvSpPr>
          <p:spPr>
            <a:xfrm>
              <a:off x="7143480" y="2643480"/>
              <a:ext cx="821520" cy="547920"/>
            </a:xfrm>
            <a:custGeom>
              <a:avLst/>
              <a:gdLst>
                <a:gd name="textAreaLeft" fmla="*/ 120600 w 821520"/>
                <a:gd name="textAreaRight" fmla="*/ 700920 w 821520"/>
                <a:gd name="textAreaTop" fmla="*/ 80280 h 547920"/>
                <a:gd name="textAreaBottom" fmla="*/ 467640 h 5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20"/>
            <p:cNvSpPr/>
            <p:nvPr/>
          </p:nvSpPr>
          <p:spPr>
            <a:xfrm>
              <a:off x="4639680" y="3711600"/>
              <a:ext cx="823320" cy="682560"/>
            </a:xfrm>
            <a:custGeom>
              <a:avLst/>
              <a:gdLst>
                <a:gd name="textAreaLeft" fmla="*/ 254520 w 823320"/>
                <a:gd name="textAreaRight" fmla="*/ 568800 w 823320"/>
                <a:gd name="textAreaTop" fmla="*/ 261000 h 682560"/>
                <a:gd name="textAreaBottom" fmla="*/ 522000 h 682560"/>
              </a:gdLst>
              <a:ahLst/>
              <a:rect l="textAreaLeft" t="textAreaTop" r="textAreaRight" b="textAreaBottom"/>
              <a:pathLst>
                <a:path w="847" h="696">
                  <a:moveTo>
                    <a:pt x="0" y="266"/>
                  </a:moveTo>
                  <a:lnTo>
                    <a:pt x="324" y="266"/>
                  </a:lnTo>
                  <a:lnTo>
                    <a:pt x="424" y="0"/>
                  </a:lnTo>
                  <a:lnTo>
                    <a:pt x="523" y="266"/>
                  </a:lnTo>
                  <a:lnTo>
                    <a:pt x="847" y="266"/>
                  </a:lnTo>
                  <a:lnTo>
                    <a:pt x="585" y="430"/>
                  </a:lnTo>
                  <a:lnTo>
                    <a:pt x="685" y="696"/>
                  </a:lnTo>
                  <a:lnTo>
                    <a:pt x="424" y="532"/>
                  </a:lnTo>
                  <a:lnTo>
                    <a:pt x="162" y="696"/>
                  </a:lnTo>
                  <a:lnTo>
                    <a:pt x="262" y="43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21"/>
            <p:cNvSpPr/>
            <p:nvPr/>
          </p:nvSpPr>
          <p:spPr>
            <a:xfrm>
              <a:off x="4142880" y="5357160"/>
              <a:ext cx="823320" cy="85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2"/>
            <p:cNvSpPr/>
            <p:nvPr/>
          </p:nvSpPr>
          <p:spPr>
            <a:xfrm>
              <a:off x="5601240" y="5488560"/>
              <a:ext cx="960480" cy="409680"/>
            </a:xfrm>
            <a:custGeom>
              <a:avLst/>
              <a:gdLst>
                <a:gd name="textAreaLeft" fmla="*/ 240120 w 960480"/>
                <a:gd name="textAreaRight" fmla="*/ 720360 w 960480"/>
                <a:gd name="textAreaTop" fmla="*/ 11880 h 409680"/>
                <a:gd name="textAreaBottom" fmla="*/ 307440 h 4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23"/>
            <p:cNvSpPr/>
            <p:nvPr/>
          </p:nvSpPr>
          <p:spPr>
            <a:xfrm>
              <a:off x="6699240" y="5488560"/>
              <a:ext cx="548280" cy="546120"/>
            </a:xfrm>
            <a:prstGeom prst="horizontalScroll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93560" y="122400"/>
            <a:ext cx="8242560" cy="151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Упражнения должны охватывать большие группы мышц и снимать статическое напряжение, вызываемое продолжительным сидением за партой. Это могут быть подтягивания, наклоны, повороты, приседания, подскоки, бег на месте. Движения кистями: сжимание, разжимание, вращ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Упражнения должны быть просты, интересны, доступны детям, по   возможности связаны с содержанием занятий, носить игровой харак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j0232133"/>
          <p:cNvPicPr/>
          <p:nvPr/>
        </p:nvPicPr>
        <p:blipFill>
          <a:blip r:embed="rId2"/>
          <a:stretch/>
        </p:blipFill>
        <p:spPr>
          <a:xfrm>
            <a:off x="714240" y="571680"/>
            <a:ext cx="94464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000" y="333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омплекс должен состоять из одного двух упражнений, повторяющихся 4-6 раз. Замена комплекса проводится не реже 1 раза в две нед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Содержание упражнений дол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зависеть от характера и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проведения урока. Так, после  письм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заданий, включают движения ру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сжимание  и разжимание пальцев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о время контрольных и некотор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практических уроков (тру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физкультура, ритми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физкультминутку не проводя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j0343359"/>
          <p:cNvPicPr/>
          <p:nvPr/>
        </p:nvPicPr>
        <p:blipFill>
          <a:blip r:embed="rId1"/>
          <a:stretch/>
        </p:blipFill>
        <p:spPr>
          <a:xfrm>
            <a:off x="6858000" y="4429080"/>
            <a:ext cx="189072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3:25:14Z</dcterms:created>
  <dc:creator>Масько</dc:creator>
  <dc:description/>
  <dc:language>en-US</dc:language>
  <cp:lastModifiedBy>Шестакова</cp:lastModifiedBy>
  <dcterms:modified xsi:type="dcterms:W3CDTF">2012-09-25T05:30:59Z</dcterms:modified>
  <cp:revision>89</cp:revision>
  <dc:subject/>
  <dc:title>Мастерская учителя</dc:title>
</cp:coreProperties>
</file>