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wmf" ContentType="image/x-wmf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33.png" ContentType="image/png"/>
  <Override PartName="/ppt/media/image40.gif" ContentType="image/gif"/>
  <Override PartName="/ppt/media/image2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44.gif" ContentType="image/gif"/>
  <Override PartName="/ppt/media/image42.jpeg" ContentType="image/jpeg"/>
  <Override PartName="/ppt/media/image43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31.wmf" ContentType="image/x-wmf"/>
  <Override PartName="/ppt/media/image6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.gif" ContentType="image/gif"/>
  <Override PartName="/ppt/media/image32.wmf" ContentType="image/x-wmf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3A5B-E4A7-40BF-B2B4-8196BAD7C1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0919-6035-472E-89F8-A9C287B5BD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1BC1-60ED-476B-AAD0-F9E4018F48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7763-5D91-4AC0-84AB-5024293DEB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5772-C05A-41B7-86A8-39C0C0EC70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F40-A1EF-406A-9DC8-FB7EDB92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583-E875-4F41-8ECB-CEC0AD8F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041-58AD-45AB-AA2B-3D0B1276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EB4-CBF1-46D9-B979-7705CAE2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F8D-B524-4196-8A82-C1D06193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C8E-827C-4AEA-98E4-548682DF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47A-EB04-4A37-9BA8-B234B0C6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928-1520-45DE-B3EA-ACF479C5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AAC-C592-439C-97BD-AABDDF12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001-E652-4B29-85E3-33CFB5CD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F65-EFAC-4E93-983D-673B0C9F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3258-9D13-45EB-AD89-D7502C5A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1D8F-A56E-4E33-82BB-3C93B37C3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чайшая проблема человеческого рода, разрешить которую его вынуждает природа, – достижение всеобщего правового гражданского общества. (И. К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D:\Мои рисунки\Кант.jpg"/>
          <p:cNvPicPr/>
          <p:nvPr/>
        </p:nvPicPr>
        <p:blipFill>
          <a:blip r:embed="rId1"/>
          <a:stretch/>
        </p:blipFill>
        <p:spPr>
          <a:xfrm>
            <a:off x="385920" y="1782720"/>
            <a:ext cx="3957480" cy="4389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ГРАЖДАН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457200" y="457200"/>
            <a:ext cx="80010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Heavy"/>
                <a:ea typeface="Times New Roman"/>
              </a:rPr>
              <a:t>Этапы формирования гражданского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- складывание экономических и политических предпосылок существования гражданского общества, переворот в общественной иде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оне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гражданского общества в наиболее развитых странах Европы и США в виде капитализма свободной конкур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начительные изменения в социальной структуре обще­ства, идет процесс становления правового социального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:\Мои рисунки\Коллекция картинок (Microsoft)\j0213508.gif"/>
          <p:cNvPicPr/>
          <p:nvPr/>
        </p:nvPicPr>
        <p:blipFill>
          <a:blip r:embed="rId1"/>
          <a:stretch/>
        </p:blipFill>
        <p:spPr>
          <a:xfrm>
            <a:off x="7620120" y="5105520"/>
            <a:ext cx="120168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2"/>
          <p:cNvGrpSpPr/>
          <p:nvPr/>
        </p:nvGrpSpPr>
        <p:grpSpPr>
          <a:xfrm>
            <a:off x="1285920" y="219240"/>
            <a:ext cx="6346800" cy="1012680"/>
            <a:chOff x="1285920" y="219240"/>
            <a:chExt cx="6346800" cy="1012680"/>
          </a:xfrm>
        </p:grpSpPr>
        <p:pic>
          <p:nvPicPr>
            <p:cNvPr id="86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85920" y="219240"/>
              <a:ext cx="634680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295280" y="228600"/>
              <a:ext cx="6324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 Black"/>
                </a:rPr>
                <a:t>Предпосылки гражданского общ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Прямоугольник 3"/>
          <p:cNvGrpSpPr/>
          <p:nvPr/>
        </p:nvGrpSpPr>
        <p:grpSpPr>
          <a:xfrm>
            <a:off x="139680" y="1895400"/>
            <a:ext cx="1933560" cy="2158920"/>
            <a:chOff x="139680" y="1895400"/>
            <a:chExt cx="1933560" cy="2158920"/>
          </a:xfrm>
        </p:grpSpPr>
        <p:pic>
          <p:nvPicPr>
            <p:cNvPr id="8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39680" y="1895400"/>
              <a:ext cx="193356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52280" y="1905120"/>
              <a:ext cx="190512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астная собственность, многоукладная экономика, свободный рынок и конкурен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Прямоугольник 7"/>
          <p:cNvGrpSpPr/>
          <p:nvPr/>
        </p:nvGrpSpPr>
        <p:grpSpPr>
          <a:xfrm>
            <a:off x="2425680" y="1895400"/>
            <a:ext cx="1933560" cy="2158920"/>
            <a:chOff x="2425680" y="1895400"/>
            <a:chExt cx="1933560" cy="2158920"/>
          </a:xfrm>
        </p:grpSpPr>
        <p:pic>
          <p:nvPicPr>
            <p:cNvPr id="92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425680" y="1895400"/>
              <a:ext cx="193356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438280" y="1905120"/>
              <a:ext cx="190512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Большой удельный вес в обществе среднего кл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Прямоугольник 8"/>
          <p:cNvGrpSpPr/>
          <p:nvPr/>
        </p:nvGrpSpPr>
        <p:grpSpPr>
          <a:xfrm>
            <a:off x="4711680" y="1895400"/>
            <a:ext cx="1933560" cy="2158920"/>
            <a:chOff x="4711680" y="1895400"/>
            <a:chExt cx="1933560" cy="2158920"/>
          </a:xfrm>
        </p:grpSpPr>
        <p:pic>
          <p:nvPicPr>
            <p:cNvPr id="9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4711680" y="1895400"/>
              <a:ext cx="193356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724280" y="1905120"/>
              <a:ext cx="190512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Юридическое равенство граждан, обеспечение прав и их защита. Децентрализации власти, плюрализ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оугольник 9"/>
          <p:cNvGrpSpPr/>
          <p:nvPr/>
        </p:nvGrpSpPr>
        <p:grpSpPr>
          <a:xfrm>
            <a:off x="6845400" y="1895400"/>
            <a:ext cx="2085840" cy="2158920"/>
            <a:chOff x="6845400" y="1895400"/>
            <a:chExt cx="2085840" cy="2158920"/>
          </a:xfrm>
        </p:grpSpPr>
        <p:pic>
          <p:nvPicPr>
            <p:cNvPr id="98" name="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6845400" y="1895400"/>
              <a:ext cx="2085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58000" y="1905120"/>
              <a:ext cx="20574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беспечение прав человека на информацию, высокий образовательный уровень населения, свобода совест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оугольник 12"/>
          <p:cNvGrpSpPr/>
          <p:nvPr/>
        </p:nvGrpSpPr>
        <p:grpSpPr>
          <a:xfrm>
            <a:off x="219240" y="4711680"/>
            <a:ext cx="8632800" cy="1781280"/>
            <a:chOff x="219240" y="4711680"/>
            <a:chExt cx="8632800" cy="1781280"/>
          </a:xfrm>
        </p:grpSpPr>
        <p:pic>
          <p:nvPicPr>
            <p:cNvPr id="101" name="Прямоугольник 12" descr=""/>
            <p:cNvPicPr/>
            <p:nvPr/>
          </p:nvPicPr>
          <p:blipFill>
            <a:blip r:embed="rId6"/>
            <a:stretch/>
          </p:blipFill>
          <p:spPr>
            <a:xfrm>
              <a:off x="219240" y="4711680"/>
              <a:ext cx="863280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28600" y="4724280"/>
              <a:ext cx="861048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Гражданское общество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это сфера самопроявления свободных граждан  и добровольно сформировавшихся ассоциаций и организаций. Огражденных соответствующими законами от прямого вмешательства и произвольной регламентации со стороны государственной власти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Стрелка углом 13"/>
          <p:cNvSpPr/>
          <p:nvPr/>
        </p:nvSpPr>
        <p:spPr>
          <a:xfrm rot="5400000">
            <a:off x="7543440" y="762120"/>
            <a:ext cx="1219320" cy="10666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углом 16"/>
          <p:cNvSpPr/>
          <p:nvPr/>
        </p:nvSpPr>
        <p:spPr>
          <a:xfrm flipH="1" rot="16200000">
            <a:off x="195120" y="795240"/>
            <a:ext cx="1219320" cy="1000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7"/>
          <p:cNvSpPr/>
          <p:nvPr/>
        </p:nvSpPr>
        <p:spPr>
          <a:xfrm>
            <a:off x="3200400" y="1219320"/>
            <a:ext cx="426960" cy="68580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низ 18"/>
          <p:cNvSpPr/>
          <p:nvPr/>
        </p:nvSpPr>
        <p:spPr>
          <a:xfrm>
            <a:off x="5638680" y="4038480"/>
            <a:ext cx="427320" cy="6858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низ 19"/>
          <p:cNvSpPr/>
          <p:nvPr/>
        </p:nvSpPr>
        <p:spPr>
          <a:xfrm>
            <a:off x="457200" y="4038480"/>
            <a:ext cx="426960" cy="68580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20"/>
          <p:cNvSpPr/>
          <p:nvPr/>
        </p:nvSpPr>
        <p:spPr>
          <a:xfrm>
            <a:off x="3352680" y="4038480"/>
            <a:ext cx="427320" cy="6858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21"/>
          <p:cNvSpPr/>
          <p:nvPr/>
        </p:nvSpPr>
        <p:spPr>
          <a:xfrm>
            <a:off x="5638680" y="1219320"/>
            <a:ext cx="427320" cy="6858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22"/>
          <p:cNvSpPr/>
          <p:nvPr/>
        </p:nvSpPr>
        <p:spPr>
          <a:xfrm>
            <a:off x="8305920" y="4038480"/>
            <a:ext cx="426960" cy="68580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с одним скругленным углом 23"/>
          <p:cNvSpPr/>
          <p:nvPr/>
        </p:nvSpPr>
        <p:spPr>
          <a:xfrm>
            <a:off x="152280" y="1905120"/>
            <a:ext cx="1905120" cy="38088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Эконом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4"/>
          <p:cNvSpPr/>
          <p:nvPr/>
        </p:nvSpPr>
        <p:spPr>
          <a:xfrm>
            <a:off x="2438280" y="1905120"/>
            <a:ext cx="1905120" cy="380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Соци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4724280" y="1905120"/>
            <a:ext cx="1905120" cy="457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Политико-прав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Прямоугольник 26"/>
          <p:cNvGrpSpPr/>
          <p:nvPr/>
        </p:nvGrpSpPr>
        <p:grpSpPr>
          <a:xfrm>
            <a:off x="6845400" y="1895400"/>
            <a:ext cx="2085840" cy="403200"/>
            <a:chOff x="6845400" y="1895400"/>
            <a:chExt cx="2085840" cy="403200"/>
          </a:xfrm>
        </p:grpSpPr>
        <p:pic>
          <p:nvPicPr>
            <p:cNvPr id="115" name="Прямоугольник 26" descr=""/>
            <p:cNvPicPr/>
            <p:nvPr/>
          </p:nvPicPr>
          <p:blipFill>
            <a:blip r:embed="rId7"/>
            <a:stretch/>
          </p:blipFill>
          <p:spPr>
            <a:xfrm>
              <a:off x="6845400" y="1895400"/>
              <a:ext cx="20858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858000" y="190512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Культур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08000" y="26028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ФОРМЫ ВЫРАЖЕНИЯ ГРАЖДАНСКОГО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52280" y="1371600"/>
            <a:ext cx="2590920" cy="2895480"/>
          </a:xfrm>
          <a:prstGeom prst="flowChartMultidocumen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т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оббист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онод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тельств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2895480" y="1447920"/>
            <a:ext cx="1808280" cy="2438280"/>
          </a:xfrm>
          <a:prstGeom prst="flowChartMultidocumen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876920" y="1371600"/>
            <a:ext cx="2209680" cy="2359080"/>
          </a:xfrm>
          <a:prstGeom prst="flowChartMultidocumen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ю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ринимател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треб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7216920" y="1371600"/>
            <a:ext cx="1622160" cy="2209680"/>
          </a:xfrm>
          <a:prstGeom prst="flowChartMultidocumen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042920" y="4191120"/>
            <a:ext cx="2233800" cy="2209680"/>
          </a:xfrm>
          <a:prstGeom prst="flowChartMultidocumen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ницип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му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3581280" y="4191120"/>
            <a:ext cx="2057400" cy="2286000"/>
          </a:xfrm>
          <a:prstGeom prst="flowChartMultidocumen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зависим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095880" y="4191120"/>
            <a:ext cx="2057400" cy="2209680"/>
          </a:xfrm>
          <a:prstGeom prst="flowChartMultidocumen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533520" y="380880"/>
            <a:ext cx="8153280" cy="10670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ровни функционирования гражданского обще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8"/>
          <p:cNvSpPr/>
          <p:nvPr/>
        </p:nvSpPr>
        <p:spPr>
          <a:xfrm>
            <a:off x="533520" y="1676520"/>
            <a:ext cx="3962160" cy="2666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ждане создают ассоциации или организации для удовлетворения своих базовых потребностей в пище, одежде, жил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600200"/>
            <a:ext cx="4038480" cy="2743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удовлетворения потре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духовном совершенствовании, знаниях, информации, общении или вере создают такие общественные институты, как семья, церковь, средства массовой информац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и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кие сою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4495320"/>
            <a:ext cx="3962160" cy="20811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69000"/>
          </a:bodyPr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тором реализуются потребности граждан в полити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D:\Мои рисунки\intro.jpg"/>
          <p:cNvPicPr/>
          <p:nvPr/>
        </p:nvPicPr>
        <p:blipFill>
          <a:blip r:embed="rId1"/>
          <a:stretch/>
        </p:blipFill>
        <p:spPr>
          <a:xfrm>
            <a:off x="5181480" y="4433760"/>
            <a:ext cx="3124440" cy="21193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с одним скругленным углом 14"/>
          <p:cNvSpPr/>
          <p:nvPr/>
        </p:nvSpPr>
        <p:spPr>
          <a:xfrm>
            <a:off x="533520" y="1676520"/>
            <a:ext cx="3962160" cy="60948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извод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5"/>
          <p:cNvSpPr/>
          <p:nvPr/>
        </p:nvSpPr>
        <p:spPr>
          <a:xfrm>
            <a:off x="4648320" y="1600200"/>
            <a:ext cx="4038480" cy="685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оциокуль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6"/>
          <p:cNvSpPr/>
          <p:nvPr/>
        </p:nvSpPr>
        <p:spPr>
          <a:xfrm>
            <a:off x="533520" y="4495680"/>
            <a:ext cx="3962160" cy="685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олитико-культурный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изнаки гражданского об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полное обеспечение прав и свобод человека и гражда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управля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енция образующих его структур и различных групп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бодно формирующееся общественной мнение и плюр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общая информированность и прежде всего реальное осуществление права человека на информ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укладность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итимность и демократический характер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ое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ая социальная политика государства, обеспечивающая достойный уровень жизни люде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810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а члена общества как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енство его с другими как подданн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ость члена общества как граждан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609480" y="304920"/>
            <a:ext cx="8001000" cy="1143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нципы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D:\Мои рисунки\екку.jpg"/>
          <p:cNvPicPr/>
          <p:nvPr/>
        </p:nvPicPr>
        <p:blipFill>
          <a:blip r:embed="rId1"/>
          <a:stretch/>
        </p:blipFill>
        <p:spPr>
          <a:xfrm>
            <a:off x="4508640" y="2438280"/>
            <a:ext cx="40543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 от государства располагает средствами и санкциями, с помощью которых можно заставить человека соблюдать общепринятые нормы, обеспечивающие социализацию и воспитание граж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щает граждан и их объединения, интересы и потребности от незаконного вмешательства в их жизнь государства и его органов, защищает права и свободы личности, определяет границы поли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ет формированию органов государст­ва, демократическому и гуманистическому разви­тию всей политическ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Функции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енство в нем прав, свобод и обязан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е развитие всех трех составляющих - человека, общества, госуда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ость личности и коллективизм людей, организованных в обществ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дание личностью правом на самореализацию, на индивидуальную, личную свободу, экономический суверени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кономическая и политическая свобод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ы проявления свободы человека как члена общества, как самоценной личности. Признание самоценности личности, ее прав и свобод предполагает ответственность личности перед обще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380880" y="228600"/>
            <a:ext cx="8229600" cy="1219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Условия развития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60020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жданское общество представляет собой все отношения между людьми и общественные институты, которые формируются и развиваются без непосредственного вмешательства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ение гражданского общества и государства условно, они существуют в неразрывной связи друг с дру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релое гражданское общество является необходимым условием формирования реальной демократии и правового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язи гражданского общества и государства обусловлены существованием политико-культурных отношений между ними, потребностями личности в политическом участии, гражданской акт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6"/>
          <p:cNvSpPr/>
          <p:nvPr/>
        </p:nvSpPr>
        <p:spPr>
          <a:xfrm>
            <a:off x="533520" y="304920"/>
            <a:ext cx="8153280" cy="1143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заимоотношения гражданского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D:\Мои рисунки\енке.jpg"/>
          <p:cNvPicPr/>
          <p:nvPr/>
        </p:nvPicPr>
        <p:blipFill>
          <a:blip r:embed="rId1"/>
          <a:stretch/>
        </p:blipFill>
        <p:spPr>
          <a:xfrm>
            <a:off x="5181480" y="3809880"/>
            <a:ext cx="3476880" cy="248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D:\Мои рисунки\рааваав.jpg"/>
          <p:cNvPicPr/>
          <p:nvPr/>
        </p:nvPicPr>
        <p:blipFill>
          <a:blip r:embed="rId2"/>
          <a:stretch/>
        </p:blipFill>
        <p:spPr>
          <a:xfrm>
            <a:off x="5715000" y="1752480"/>
            <a:ext cx="236232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3"/>
          <p:cNvGraphicFramePr/>
          <p:nvPr/>
        </p:nvGraphicFramePr>
        <p:xfrm>
          <a:off x="457200" y="457200"/>
          <a:ext cx="8209080" cy="597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57200"/>
                    <a:ext cx="8209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 Black"/>
              </a:rPr>
              <a:t>Статья 1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928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йская федерация – Россия есть демократическое федеративное правовое государство с республиканской формой 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Documents and Settings\Таня\Мои документы\оооооо.jpg"/>
          <p:cNvPicPr/>
          <p:nvPr/>
        </p:nvPicPr>
        <p:blipFill>
          <a:blip r:embed="rId1"/>
          <a:stretch/>
        </p:blipFill>
        <p:spPr>
          <a:xfrm>
            <a:off x="1643040" y="3214800"/>
            <a:ext cx="610560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Organization Chart 2"/>
          <p:cNvGrpSpPr/>
          <p:nvPr/>
        </p:nvGrpSpPr>
        <p:grpSpPr>
          <a:xfrm>
            <a:off x="380880" y="304920"/>
            <a:ext cx="8208720" cy="5717880"/>
            <a:chOff x="380880" y="304920"/>
            <a:chExt cx="8208720" cy="5717880"/>
          </a:xfrm>
        </p:grpSpPr>
        <p:cxnSp>
          <p:nvCxnSpPr>
            <p:cNvPr id="157" name="_s2052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5509440" y="1567080"/>
              <a:ext cx="1144080" cy="3192840"/>
            </a:xfrm>
            <a:prstGeom prst="bentConnector3">
              <a:avLst>
                <a:gd name="adj1" fmla="val 12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2053"/>
            <p:cNvCxnSpPr>
              <a:stCxn id="161" idx="0"/>
              <a:endCxn id="159" idx="2"/>
            </p:cNvCxnSpPr>
            <p:nvPr/>
          </p:nvCxnSpPr>
          <p:spPr>
            <a:xfrm flipV="1" rot="16200000">
              <a:off x="4445280" y="2631240"/>
              <a:ext cx="1144080" cy="1064520"/>
            </a:xfrm>
            <a:prstGeom prst="bentConnector3">
              <a:avLst>
                <a:gd name="adj1" fmla="val 12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2054"/>
            <p:cNvCxnSpPr>
              <a:stCxn id="163" idx="0"/>
              <a:endCxn id="159" idx="2"/>
            </p:cNvCxnSpPr>
            <p:nvPr/>
          </p:nvCxnSpPr>
          <p:spPr>
            <a:xfrm flipH="1" flipV="1" rot="5400000">
              <a:off x="3382200" y="2632320"/>
              <a:ext cx="1144080" cy="1062360"/>
            </a:xfrm>
            <a:prstGeom prst="bentConnector3">
              <a:avLst>
                <a:gd name="adj1" fmla="val 12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2055"/>
            <p:cNvCxnSpPr>
              <a:stCxn id="165" idx="0"/>
              <a:endCxn id="159" idx="2"/>
            </p:cNvCxnSpPr>
            <p:nvPr/>
          </p:nvCxnSpPr>
          <p:spPr>
            <a:xfrm flipH="1" flipV="1" rot="5400000">
              <a:off x="2316960" y="1567080"/>
              <a:ext cx="1144080" cy="3193200"/>
            </a:xfrm>
            <a:prstGeom prst="bentConnector3">
              <a:avLst>
                <a:gd name="adj1" fmla="val 12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9" name="_s2056"/>
            <p:cNvSpPr/>
            <p:nvPr/>
          </p:nvSpPr>
          <p:spPr>
            <a:xfrm>
              <a:off x="3573360" y="304920"/>
              <a:ext cx="1824120" cy="2287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87080"/>
                <a:gd name="textAreaBottom" fmla="*/ 2198160 h 2287080"/>
              </a:gdLst>
              <a:ahLst/>
              <a:rect l="textAreaLeft" t="textAreaTop" r="textAreaRight" b="textAreaBottom"/>
              <a:pathLst>
                <a:path w="21600" h="27081">
                  <a:moveTo>
                    <a:pt x="3600" y="0"/>
                  </a:moveTo>
                  <a:arcTo wR="3600" hR="3600" stAng="16200000" swAng="-5400000"/>
                  <a:lnTo>
                    <a:pt x="0" y="23481"/>
                  </a:lnTo>
                  <a:arcTo wR="3600" hR="3600" stAng="10800000" swAng="-5400000"/>
                  <a:lnTo>
                    <a:pt x="18000" y="270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Monotype Corsiva"/>
                </a:rPr>
                <a:t>Проблем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Monotype Corsiva"/>
                </a:rPr>
                <a:t>становле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Monotype Corsiva"/>
                </a:rPr>
                <a:t>гражданск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Monotype Corsiva"/>
                </a:rPr>
                <a:t>общества В Росс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Monotype Corsiva"/>
                </a:rPr>
                <a:t>сегод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057"/>
            <p:cNvSpPr/>
            <p:nvPr/>
          </p:nvSpPr>
          <p:spPr>
            <a:xfrm>
              <a:off x="380880" y="3735720"/>
              <a:ext cx="1824120" cy="2287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87080"/>
                <a:gd name="textAreaBottom" fmla="*/ 2198160 h 2287080"/>
              </a:gdLst>
              <a:ahLst/>
              <a:rect l="textAreaLeft" t="textAreaTop" r="textAreaRight" b="textAreaBottom"/>
              <a:pathLst>
                <a:path w="21600" h="27081">
                  <a:moveTo>
                    <a:pt x="3600" y="0"/>
                  </a:moveTo>
                  <a:arcTo wR="3600" hR="3600" stAng="16200000" swAng="-5400000"/>
                  <a:lnTo>
                    <a:pt x="0" y="23481"/>
                  </a:lnTo>
                  <a:arcTo wR="3600" hR="3600" stAng="10800000" swAng="-5400000"/>
                  <a:lnTo>
                    <a:pt x="18000" y="270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Надежда н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государств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больше, чем н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гражданское обще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2058"/>
            <p:cNvSpPr/>
            <p:nvPr/>
          </p:nvSpPr>
          <p:spPr>
            <a:xfrm>
              <a:off x="2508840" y="3735720"/>
              <a:ext cx="1824120" cy="2287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87080"/>
                <a:gd name="textAreaBottom" fmla="*/ 2198160 h 2287080"/>
              </a:gdLst>
              <a:ahLst/>
              <a:rect l="textAreaLeft" t="textAreaTop" r="textAreaRight" b="textAreaBottom"/>
              <a:pathLst>
                <a:path w="21600" h="27081">
                  <a:moveTo>
                    <a:pt x="3600" y="0"/>
                  </a:moveTo>
                  <a:arcTo wR="3600" hR="3600" stAng="16200000" swAng="-5400000"/>
                  <a:lnTo>
                    <a:pt x="0" y="23481"/>
                  </a:lnTo>
                  <a:arcTo wR="3600" hR="3600" stAng="10800000" swAng="-5400000"/>
                  <a:lnTo>
                    <a:pt x="18000" y="270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Сохран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чиновничье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бюрократиче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 </a:t>
              </a: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аппара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2059"/>
            <p:cNvSpPr/>
            <p:nvPr/>
          </p:nvSpPr>
          <p:spPr>
            <a:xfrm>
              <a:off x="4637160" y="3735720"/>
              <a:ext cx="1824120" cy="2287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87080"/>
                <a:gd name="textAreaBottom" fmla="*/ 2198160 h 2287080"/>
              </a:gdLst>
              <a:ahLst/>
              <a:rect l="textAreaLeft" t="textAreaTop" r="textAreaRight" b="textAreaBottom"/>
              <a:pathLst>
                <a:path w="21600" h="27081">
                  <a:moveTo>
                    <a:pt x="3600" y="0"/>
                  </a:moveTo>
                  <a:arcTo wR="3600" hR="3600" stAng="16200000" swAng="-5400000"/>
                  <a:lnTo>
                    <a:pt x="0" y="23481"/>
                  </a:lnTo>
                  <a:arcTo wR="3600" hR="3600" stAng="10800000" swAng="-5400000"/>
                  <a:lnTo>
                    <a:pt x="18000" y="270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Резкое измен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социальн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структур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общ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2060"/>
            <p:cNvSpPr/>
            <p:nvPr/>
          </p:nvSpPr>
          <p:spPr>
            <a:xfrm>
              <a:off x="6765480" y="3735720"/>
              <a:ext cx="1824120" cy="228708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87080"/>
                <a:gd name="textAreaBottom" fmla="*/ 2198160 h 2287080"/>
              </a:gdLst>
              <a:ahLst/>
              <a:rect l="textAreaLeft" t="textAreaTop" r="textAreaRight" b="textAreaBottom"/>
              <a:pathLst>
                <a:path w="21600" h="27081">
                  <a:moveTo>
                    <a:pt x="3600" y="0"/>
                  </a:moveTo>
                  <a:arcTo wR="3600" hR="3600" stAng="16200000" swAng="-5400000"/>
                  <a:lnTo>
                    <a:pt x="0" y="23481"/>
                  </a:lnTo>
                  <a:arcTo wR="3600" hR="3600" stAng="10800000" swAng="-5400000"/>
                  <a:lnTo>
                    <a:pt x="18000" y="270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Психологическ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Monotype Corsiva"/>
                </a:rPr>
                <a:t>дискомфор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5" descr="герб России"/>
          <p:cNvPicPr/>
          <p:nvPr/>
        </p:nvPicPr>
        <p:blipFill>
          <a:blip r:embed="rId1"/>
          <a:stretch/>
        </p:blipFill>
        <p:spPr>
          <a:xfrm>
            <a:off x="6300720" y="981000"/>
            <a:ext cx="1447920" cy="16830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36"/>
          <p:cNvGrpSpPr/>
          <p:nvPr/>
        </p:nvGrpSpPr>
        <p:grpSpPr>
          <a:xfrm>
            <a:off x="826920" y="765000"/>
            <a:ext cx="1536840" cy="2460960"/>
            <a:chOff x="826920" y="765000"/>
            <a:chExt cx="1536840" cy="2460960"/>
          </a:xfrm>
        </p:grpSpPr>
        <p:grpSp>
          <p:nvGrpSpPr>
            <p:cNvPr id="168" name="Group 37"/>
            <p:cNvGrpSpPr/>
            <p:nvPr/>
          </p:nvGrpSpPr>
          <p:grpSpPr>
            <a:xfrm>
              <a:off x="826920" y="765000"/>
              <a:ext cx="87120" cy="2460960"/>
              <a:chOff x="826920" y="765000"/>
              <a:chExt cx="87120" cy="2460960"/>
            </a:xfrm>
          </p:grpSpPr>
          <p:sp>
            <p:nvSpPr>
              <p:cNvPr id="169" name="Line 38"/>
              <p:cNvSpPr/>
              <p:nvPr/>
            </p:nvSpPr>
            <p:spPr>
              <a:xfrm>
                <a:off x="865800" y="905040"/>
                <a:ext cx="6120" cy="228852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39"/>
              <p:cNvSpPr/>
              <p:nvPr/>
            </p:nvSpPr>
            <p:spPr>
              <a:xfrm>
                <a:off x="826920" y="799920"/>
                <a:ext cx="3600" cy="232812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40"/>
              <p:cNvSpPr/>
              <p:nvPr/>
            </p:nvSpPr>
            <p:spPr>
              <a:xfrm>
                <a:off x="905400" y="765000"/>
                <a:ext cx="8640" cy="246096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AutoShape 41"/>
            <p:cNvSpPr/>
            <p:nvPr/>
          </p:nvSpPr>
          <p:spPr>
            <a:xfrm flipH="1">
              <a:off x="923760" y="838080"/>
              <a:ext cx="1440000" cy="1462320"/>
            </a:xfrm>
            <a:prstGeom prst="flowChartPunchedTap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прочного экономического фундамента на основе многообразия форм  собственности и социально ориентированной рыночной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среднего класса, который состоял бы из квалифицированных и инициативных работников с достаточно высоким уровнем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дикальные преобразования политической системы, связанное с повышением роли политических партий, СМИ в жизни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роли граждан в в соцпол жизни и в деятельности общественных формир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ровня их граждан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еобходимо решение следующих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такое гражданское общест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ждане государства имеют общие интересы (защита природы) и личные (защита собственност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легче реализовать частные интере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ешения проблем люди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даются друг в друге. Эт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динение добровольн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желанию – равноправ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BD07241_"/>
          <p:cNvPicPr/>
          <p:nvPr/>
        </p:nvPicPr>
        <p:blipFill>
          <a:blip r:embed="rId1"/>
          <a:stretch/>
        </p:blipFill>
        <p:spPr>
          <a:xfrm>
            <a:off x="7020000" y="2492280"/>
            <a:ext cx="1493640" cy="151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PE01565_"/>
          <p:cNvPicPr/>
          <p:nvPr/>
        </p:nvPicPr>
        <p:blipFill>
          <a:blip r:embed="rId2"/>
          <a:stretch/>
        </p:blipFill>
        <p:spPr>
          <a:xfrm>
            <a:off x="324000" y="4005360"/>
            <a:ext cx="2160360" cy="24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400"/>
                            </p:stCondLst>
                            <p:childTnLst>
                              <p:par>
                                <p:cTn id="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400"/>
                            </p:stCondLst>
                            <p:childTnLst>
                              <p:par>
                                <p:cTn id="4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9600"/>
                            </p:stCondLst>
                            <p:childTnLst>
                              <p:par>
                                <p:cTn id="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2900"/>
                            </p:stCondLst>
                            <p:childTnLst>
                              <p:par>
                                <p:cTn id="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79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Что такое гражданское общест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D:\Мои рисунки\88979733cf267808de5d075979609647_full.jpg.gif"/>
          <p:cNvPicPr/>
          <p:nvPr/>
        </p:nvPicPr>
        <p:blipFill>
          <a:blip r:embed="rId1"/>
          <a:stretch/>
        </p:blipFill>
        <p:spPr>
          <a:xfrm>
            <a:off x="838080" y="1828800"/>
            <a:ext cx="7026480" cy="385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D:\Мои рисунки\071106163403S404420213.jpg"/>
          <p:cNvPicPr/>
          <p:nvPr/>
        </p:nvPicPr>
        <p:blipFill>
          <a:blip r:embed="rId2"/>
          <a:stretch/>
        </p:blipFill>
        <p:spPr>
          <a:xfrm>
            <a:off x="152280" y="3733920"/>
            <a:ext cx="2159280" cy="2971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D:\Мои рисунки\ьииьиит.jpg"/>
          <p:cNvPicPr/>
          <p:nvPr/>
        </p:nvPicPr>
        <p:blipFill>
          <a:blip r:embed="rId3"/>
          <a:stretch/>
        </p:blipFill>
        <p:spPr>
          <a:xfrm>
            <a:off x="6019920" y="4876920"/>
            <a:ext cx="2673360" cy="1752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D:\Мои рисунки\29902_20060920164426.jpg"/>
          <p:cNvPicPr/>
          <p:nvPr/>
        </p:nvPicPr>
        <p:blipFill>
          <a:blip r:embed="rId4"/>
          <a:stretch/>
        </p:blipFill>
        <p:spPr>
          <a:xfrm>
            <a:off x="3733920" y="1676520"/>
            <a:ext cx="167616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такое гражданское общест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кол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захотел служить в армии – был привлечен к ответ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Гос.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Гражданин обязан выполнить гражданский дол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Требования от государства к граждан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Отношения м/у гражданином и государ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ха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вовал в пикете по охране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Деятельность общественн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Участвовал по жел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Требования от граждан к государ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BD07773_"/>
          <p:cNvPicPr/>
          <p:nvPr/>
        </p:nvPicPr>
        <p:blipFill>
          <a:blip r:embed="rId1"/>
          <a:stretch/>
        </p:blipFill>
        <p:spPr>
          <a:xfrm>
            <a:off x="250920" y="0"/>
            <a:ext cx="1555560" cy="1825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PE01623_"/>
          <p:cNvPicPr/>
          <p:nvPr/>
        </p:nvPicPr>
        <p:blipFill>
          <a:blip r:embed="rId2"/>
          <a:stretch/>
        </p:blipFill>
        <p:spPr>
          <a:xfrm>
            <a:off x="6588000" y="4365720"/>
            <a:ext cx="20196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440" y="243792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окупность огражденных от прямого вмешательства государственных властей нравственных, религиозных, национальных, социально-экономических, семейных отношений и институтов, с помощью которых удовлетворяются интересы индивидов и их гру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828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ГРАЖДАН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457200" y="304920"/>
            <a:ext cx="8229600" cy="19810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Что объединяет граждан государства в гражданском обществ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D:\Мои рисунки\6н7еек.jpg"/>
          <p:cNvPicPr/>
          <p:nvPr/>
        </p:nvPicPr>
        <p:blipFill>
          <a:blip r:embed="rId1"/>
          <a:stretch/>
        </p:blipFill>
        <p:spPr>
          <a:xfrm>
            <a:off x="2971800" y="304812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D:\Мои рисунки\Оля\флаг России.gif"/>
          <p:cNvPicPr/>
          <p:nvPr/>
        </p:nvPicPr>
        <p:blipFill>
          <a:blip r:embed="rId2"/>
          <a:stretch/>
        </p:blipFill>
        <p:spPr>
          <a:xfrm>
            <a:off x="6292800" y="2438280"/>
            <a:ext cx="2851200" cy="2057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D:\Мои рисунки\ропропопопопо.jpg"/>
          <p:cNvPicPr/>
          <p:nvPr/>
        </p:nvPicPr>
        <p:blipFill>
          <a:blip r:embed="rId3"/>
          <a:stretch/>
        </p:blipFill>
        <p:spPr>
          <a:xfrm>
            <a:off x="533520" y="2590920"/>
            <a:ext cx="189360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533520" y="304920"/>
            <a:ext cx="8229600" cy="2286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Как легче реализовать частные интерес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PE01565_"/>
          <p:cNvPicPr/>
          <p:nvPr/>
        </p:nvPicPr>
        <p:blipFill>
          <a:blip r:embed="rId1"/>
          <a:stretch/>
        </p:blipFill>
        <p:spPr>
          <a:xfrm>
            <a:off x="990720" y="2895480"/>
            <a:ext cx="3276360" cy="372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BD07241_"/>
          <p:cNvPicPr/>
          <p:nvPr/>
        </p:nvPicPr>
        <p:blipFill>
          <a:blip r:embed="rId2"/>
          <a:stretch/>
        </p:blipFill>
        <p:spPr>
          <a:xfrm>
            <a:off x="5257800" y="3505320"/>
            <a:ext cx="2408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ава лежат в основе приведенных действ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еализация этих прав связана с развитием гражданского об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особенность общественных отношений в гражданском общест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533520" y="228600"/>
            <a:ext cx="8153280" cy="1143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Учебно-познавательная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D:\Мои рисунки\f_28.jpg"/>
          <p:cNvPicPr/>
          <p:nvPr/>
        </p:nvPicPr>
        <p:blipFill>
          <a:blip r:embed="rId1"/>
          <a:stretch/>
        </p:blipFill>
        <p:spPr>
          <a:xfrm>
            <a:off x="1066680" y="4572000"/>
            <a:ext cx="2870280" cy="2001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D:\Мои рисунки\14439.b.foto.jpg"/>
          <p:cNvPicPr/>
          <p:nvPr/>
        </p:nvPicPr>
        <p:blipFill>
          <a:blip r:embed="rId2"/>
          <a:stretch/>
        </p:blipFill>
        <p:spPr>
          <a:xfrm>
            <a:off x="1600200" y="1676520"/>
            <a:ext cx="1905120" cy="25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324000" y="1676520"/>
            <a:ext cx="82803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формирования гражданского общества нельзя ускорить искус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тор и гарант поступательности процесса формирования гражданского общества – государ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жданское общество в современной России находится только на начальной стадии свое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есть все необходимые условия для развития гражданско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609480" y="533520"/>
            <a:ext cx="784872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Black"/>
              </a:rPr>
              <a:t>        </a:t>
            </a:r>
            <a:r>
              <a:rPr b="1" lang="ru-RU" sz="4000" spc="-1" strike="noStrike">
                <a:solidFill>
                  <a:srgbClr val="c00000"/>
                </a:solidFill>
                <a:latin typeface="Arial Black"/>
              </a:rPr>
              <a:t>Итоги и 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представление учащихся о гражданском обществе, взаимоотношениях гражданского общества и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ести к пониманию того, что гражданское общество как сфера внегосударственных общественных отношений и институтов способствует наиболее полной самореализации личности, возрастанию ее социальной, в т.ч. политической и граждан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09480" y="228600"/>
            <a:ext cx="81536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Цель и задач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овление гражданского общества связано с утверждением правов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вое государство немыслимо без развитого гражданского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жданское общество возможно лишь в условиях демократического режима, правов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ГРАЖДАНСКОЕ ОБ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4"/>
          <p:cNvSpPr/>
          <p:nvPr/>
        </p:nvSpPr>
        <p:spPr>
          <a:xfrm>
            <a:off x="457200" y="228600"/>
            <a:ext cx="8305920" cy="63244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D:\Мои рисунки\Коллекция картинок (Microsoft)\j0315816.gif"/>
          <p:cNvPicPr/>
          <p:nvPr/>
        </p:nvPicPr>
        <p:blipFill>
          <a:blip r:embed="rId1"/>
          <a:stretch/>
        </p:blipFill>
        <p:spPr>
          <a:xfrm>
            <a:off x="7010280" y="533412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3"/>
          <p:cNvSpPr/>
          <p:nvPr/>
        </p:nvSpPr>
        <p:spPr>
          <a:xfrm>
            <a:off x="609480" y="304920"/>
            <a:ext cx="8153640" cy="15238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ГРАЖДАН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36640"/>
            <a:ext cx="7254720" cy="338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2120" algn="just">
              <a:buClr>
                <a:srgbClr val="000000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ятие «гражданское обществ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2120" algn="just">
              <a:buClr>
                <a:srgbClr val="000000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а гражданско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2120" algn="just">
              <a:buClr>
                <a:srgbClr val="000000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ые принципы гражданско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2120" algn="just">
              <a:buClr>
                <a:srgbClr val="000000"/>
              </a:buClr>
              <a:buFont typeface="Arial"/>
              <a:buChar char="•"/>
              <a:tabLst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авление формирования граждан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90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ества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D:\Мои рисунки\Коллекция картинок (Microsoft)\j0336857.gif"/>
          <p:cNvPicPr/>
          <p:nvPr/>
        </p:nvPicPr>
        <p:blipFill>
          <a:blip r:embed="rId1"/>
          <a:stretch/>
        </p:blipFill>
        <p:spPr>
          <a:xfrm>
            <a:off x="6583320" y="1778040"/>
            <a:ext cx="2255760" cy="1879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D:\Мои рисунки\рааваав.jpg"/>
          <p:cNvPicPr/>
          <p:nvPr/>
        </p:nvPicPr>
        <p:blipFill>
          <a:blip r:embed="rId2"/>
          <a:stretch/>
        </p:blipFill>
        <p:spPr>
          <a:xfrm>
            <a:off x="3505320" y="4875120"/>
            <a:ext cx="228600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D:\Мои рисунки\Аристотель.jpg"/>
          <p:cNvPicPr/>
          <p:nvPr/>
        </p:nvPicPr>
        <p:blipFill>
          <a:blip r:embed="rId1"/>
          <a:stretch/>
        </p:blipFill>
        <p:spPr>
          <a:xfrm>
            <a:off x="0" y="0"/>
            <a:ext cx="3375000" cy="441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:\Мои рисунки\image224.jpg"/>
          <p:cNvPicPr/>
          <p:nvPr/>
        </p:nvPicPr>
        <p:blipFill>
          <a:blip r:embed="rId2"/>
          <a:stretch/>
        </p:blipFill>
        <p:spPr>
          <a:xfrm>
            <a:off x="2879640" y="0"/>
            <a:ext cx="3292560" cy="3951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D:\Мои рисунки\Гоббс.jpg"/>
          <p:cNvPicPr/>
          <p:nvPr/>
        </p:nvPicPr>
        <p:blipFill>
          <a:blip r:embed="rId3"/>
          <a:stretch/>
        </p:blipFill>
        <p:spPr>
          <a:xfrm>
            <a:off x="0" y="4395960"/>
            <a:ext cx="2057400" cy="248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D:\Мои рисунки\Локк.jpg"/>
          <p:cNvPicPr/>
          <p:nvPr/>
        </p:nvPicPr>
        <p:blipFill>
          <a:blip r:embed="rId4"/>
          <a:stretch/>
        </p:blipFill>
        <p:spPr>
          <a:xfrm>
            <a:off x="2057400" y="3962520"/>
            <a:ext cx="2278080" cy="2895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D:\Мои рисунки\Гроций.jpg"/>
          <p:cNvPicPr/>
          <p:nvPr/>
        </p:nvPicPr>
        <p:blipFill>
          <a:blip r:embed="rId5"/>
          <a:stretch/>
        </p:blipFill>
        <p:spPr>
          <a:xfrm>
            <a:off x="5562720" y="0"/>
            <a:ext cx="3581280" cy="4979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D:\Мои рисунки\Маркс.jpg"/>
          <p:cNvPicPr/>
          <p:nvPr/>
        </p:nvPicPr>
        <p:blipFill>
          <a:blip r:embed="rId6"/>
          <a:stretch/>
        </p:blipFill>
        <p:spPr>
          <a:xfrm>
            <a:off x="6870600" y="3657600"/>
            <a:ext cx="227340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D:\Мои рисунки\55821_2687.jpg"/>
          <p:cNvPicPr/>
          <p:nvPr/>
        </p:nvPicPr>
        <p:blipFill>
          <a:blip r:embed="rId7"/>
          <a:stretch/>
        </p:blipFill>
        <p:spPr>
          <a:xfrm>
            <a:off x="4267080" y="3657600"/>
            <a:ext cx="27162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3"/>
          <p:cNvSpPr/>
          <p:nvPr/>
        </p:nvSpPr>
        <p:spPr>
          <a:xfrm>
            <a:off x="609480" y="304920"/>
            <a:ext cx="8153640" cy="15238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Monotype Corsiva"/>
              </a:rPr>
              <a:t>Концепция, разработанная немецким философом Г.Гегел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D:\Мои рисунки\нееен.jpg"/>
          <p:cNvPicPr/>
          <p:nvPr/>
        </p:nvPicPr>
        <p:blipFill>
          <a:blip r:embed="rId1"/>
          <a:stretch/>
        </p:blipFill>
        <p:spPr>
          <a:xfrm>
            <a:off x="2971800" y="2057400"/>
            <a:ext cx="3124080" cy="36669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228600" y="56386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Основа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гражданского общества полноправный граждан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7" descr="D:\Мои рисунки\Оля\444446.bmp"/>
          <p:cNvPicPr/>
          <p:nvPr/>
        </p:nvPicPr>
        <p:blipFill>
          <a:blip r:embed="rId1"/>
          <a:stretch/>
        </p:blipFill>
        <p:spPr>
          <a:xfrm>
            <a:off x="6122880" y="0"/>
            <a:ext cx="3021120" cy="422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tn1"/>
          <p:cNvPicPr/>
          <p:nvPr/>
        </p:nvPicPr>
        <p:blipFill>
          <a:blip r:embed="rId2"/>
          <a:stretch/>
        </p:blipFill>
        <p:spPr>
          <a:xfrm>
            <a:off x="-150840" y="2271600"/>
            <a:ext cx="6399360" cy="4586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4" name="Picture 16" descr="D:\Мои рисунки\Оля\detstvo_b.jpg"/>
          <p:cNvPicPr/>
          <p:nvPr/>
        </p:nvPicPr>
        <p:blipFill>
          <a:blip r:embed="rId3"/>
          <a:stretch/>
        </p:blipFill>
        <p:spPr>
          <a:xfrm>
            <a:off x="6234120" y="4038480"/>
            <a:ext cx="2909880" cy="2819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3"/>
          <p:cNvSpPr/>
          <p:nvPr/>
        </p:nvSpPr>
        <p:spPr>
          <a:xfrm>
            <a:off x="228600" y="304920"/>
            <a:ext cx="5562720" cy="1752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«Красной нитью» в гражданском обществе практически всеми учеными проводится 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но определить как совокупность огражденных от прямого вмешательства государственных властей нравственных, религиозных, национальных, социально-экономических, семейных отношений и институтов, с помощью которых удовлетворяются интересы индивидов и их гру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ГРАЖДАН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57200" y="205740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сть ли разница между понятиями «общество» и «гражданское общество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5" descr=""/>
          <p:cNvPicPr/>
          <p:nvPr/>
        </p:nvPicPr>
        <p:blipFill>
          <a:blip r:embed="rId1"/>
          <a:stretch/>
        </p:blipFill>
        <p:spPr>
          <a:xfrm>
            <a:off x="8153280" y="914400"/>
            <a:ext cx="3810240" cy="307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6" descr="PE01712_"/>
          <p:cNvPicPr/>
          <p:nvPr/>
        </p:nvPicPr>
        <p:blipFill>
          <a:blip r:embed="rId2"/>
          <a:stretch/>
        </p:blipFill>
        <p:spPr>
          <a:xfrm>
            <a:off x="6934320" y="3581280"/>
            <a:ext cx="3809880" cy="390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9259E-006 L -0.0158 -0.01042 E">
                                      <p:cBhvr>
                                        <p:cTn id="1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694 -0.05116 L -1.21771 -0.20857 E">
                                      <p:cBhvr>
                                        <p:cTn id="1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-7.77778E-006 L -0.37796 -0.09468 E">
                                      <p:cBhvr>
                                        <p:cTn id="2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795 -0.09468 L -0.97813 -0.07199 E">
                                      <p:cBhvr>
                                        <p:cTn id="2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09-04-22T04:18:06Z</dcterms:modified>
  <cp:revision>1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