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26.jpeg" ContentType="image/jpeg"/>
  <Override PartName="/ppt/media/image5.jpeg" ContentType="image/jpeg"/>
  <Override PartName="/ppt/media/image32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381E-CC3C-494B-90E4-95EB47E8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55F-168F-4B2E-AE6B-235DF917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F3E-A3BB-447D-BB87-5629F083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8791-AA87-44ED-8B1D-6520AD7F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02EFD-7DAC-4E7E-AB0F-87EF8968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6DB7F-DA1E-45A8-8F9D-FFDA2CBE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7DF93-A750-4E05-951F-2E92DE08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608A6-928C-44C9-9001-2052E9E7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A34C3-6D14-4146-AF1F-2ED42087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E738F-6F77-4E99-9AD9-A5D91790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BF07C-8A2A-4788-AF27-E174F506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FF9-B5B0-4CCB-BD2B-E7C6058B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30ED8-2DB4-4421-8BEF-35E59E77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BA00C-94D0-479A-9DA2-CA83C718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916F0-1DC1-43A9-9EA0-6181AC95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9858C-4742-4130-BA3B-570520D8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4F0CA-4059-4C4C-AA7C-391B1A22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B725D-BEEB-4F1A-867F-5E8EA81A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81716-8F51-455B-92AD-41055564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F146F-8CF2-4B81-A8B0-74181A6A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A6CBC-4C0B-48CB-AA20-B00165E1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D7074-257D-4A59-8897-473FD1AB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C35-E000-49B6-9C4A-049B4326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56021-DA23-4867-9F0C-E4235375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AE9A0-84E2-495B-ACBB-15C5F89C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7FC6C-1D3A-4A2F-A784-640EBD8A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100E9-031E-4EE1-805F-0CC8ADB2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0EECD-F456-4DEA-81B6-94D08D27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1CD23-2A90-4745-A6FB-8B70D339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98C87-AB5F-4DA3-B631-D260B63A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FB39-56B0-4BAB-9C1A-95A5A7B9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93E-D7DC-4CB5-AA1F-ACF6AAF5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AC0-6DB4-4D13-8773-469B7331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9FE-49E0-45CD-8612-7909939F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FE4-836E-4A9D-BFFF-7DDEF1AE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A9CE-F5E3-405B-8735-FE8B08F5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286B-BBE5-43CA-A0D7-BD17113247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7A3B-F42C-433F-AED1-1365B2F74C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6C51-8467-45A9-B047-EF9D75865C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0920" y="1483920"/>
            <a:ext cx="78469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атриотическое воспитание детей старшего дошкольного возраст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000680" y="5445000"/>
            <a:ext cx="474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ыполнила: Живаева Руслана Андреевна ГБОУ д/с 1313 г.Москва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гда дети начали понимать и самостоятельно разбираться в этом понятии, передо мной теперь стояла задача научить их любить все, что их окружает. Это и есть Родина. В возрасте 4-5 лет дети должны знать, что каждое дерево, куст рядом с домом, - это уже Родина и её надо любить и береч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5" descr="IMG_0172"/>
          <p:cNvPicPr/>
          <p:nvPr/>
        </p:nvPicPr>
        <p:blipFill>
          <a:blip r:embed="rId1"/>
          <a:stretch/>
        </p:blipFill>
        <p:spPr>
          <a:xfrm>
            <a:off x="539640" y="177336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IMG_0312"/>
          <p:cNvPicPr/>
          <p:nvPr/>
        </p:nvPicPr>
        <p:blipFill>
          <a:blip r:embed="rId2"/>
          <a:stretch/>
        </p:blipFill>
        <p:spPr>
          <a:xfrm>
            <a:off x="4859280" y="177336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IMG_0622"/>
          <p:cNvPicPr/>
          <p:nvPr/>
        </p:nvPicPr>
        <p:blipFill>
          <a:blip r:embed="rId3"/>
          <a:stretch/>
        </p:blipFill>
        <p:spPr>
          <a:xfrm>
            <a:off x="2843280" y="4365720"/>
            <a:ext cx="314640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5976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Какие сведения и понятия о родном городе способны усвоить дети?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96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апазон объектов, с которыми знакомят старших дошкольников. расширяется — это район и город в целом, его достопримечательности, исторические места и памятники. Детям объясняют, в честь кого они воздвигнуты. Старший дошкольник должен знать название своего города, своей улицы, прилегающих к ней улиц, а также в честь кого они названы. Ему объясняют, что у каждого человека есть родной дом и город, где он родился и живет. Для этого необходимы экскурсии по городу, на природу, наблюдения за трудом взрослых, где каждый ребенок начинает осознавать, что труд объединяет людей, требует от них слаженности, взаимопомощи, знания своего дела. И здесь большое значение приобретает знакомство детей с народными промыслами края, народными умельца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8" descr="CIMG0616"/>
          <p:cNvPicPr/>
          <p:nvPr/>
        </p:nvPicPr>
        <p:blipFill>
          <a:blip r:embed="rId1"/>
          <a:stretch/>
        </p:blipFill>
        <p:spPr>
          <a:xfrm>
            <a:off x="5867280" y="4292640"/>
            <a:ext cx="3071880" cy="2303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CIMG0618"/>
          <p:cNvPicPr/>
          <p:nvPr/>
        </p:nvPicPr>
        <p:blipFill>
          <a:blip r:embed="rId2"/>
          <a:stretch/>
        </p:blipFill>
        <p:spPr>
          <a:xfrm>
            <a:off x="6372360" y="692280"/>
            <a:ext cx="2536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Путешествие в историю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атриотическом воспитании огромное значение имеет пример взрослых, в особенности же близких людей. На конкретных фактах из жизни старших членов семьи (дедушек и бабушек, участников Великой Отечественной войны, их фронтовых и трудовых подвигов) необходимо привить детям такие важные понятия, как "долг перед Родиной", "любовь к Отечеству", «ненависть к врагу", "трудовой подвиг" и т.д. Важно подвести ребенка к пониманию, что мы победили потому, что любим свою Отчизну, Родина чтит своих героев, отдавших жизнь за счастье людей. Их имена увековечены в названиях городов, улиц, площадей, в их честь воздвигнуты памятни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CIMG0385"/>
          <p:cNvPicPr/>
          <p:nvPr/>
        </p:nvPicPr>
        <p:blipFill>
          <a:blip r:embed="rId1"/>
          <a:stretch/>
        </p:blipFill>
        <p:spPr>
          <a:xfrm>
            <a:off x="250920" y="18900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IMG_0725"/>
          <p:cNvPicPr/>
          <p:nvPr/>
        </p:nvPicPr>
        <p:blipFill>
          <a:blip r:embed="rId2"/>
          <a:stretch/>
        </p:blipFill>
        <p:spPr>
          <a:xfrm>
            <a:off x="179280" y="3933720"/>
            <a:ext cx="3652920" cy="2739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IMG_0728"/>
          <p:cNvPicPr/>
          <p:nvPr/>
        </p:nvPicPr>
        <p:blipFill>
          <a:blip r:embed="rId3"/>
          <a:stretch/>
        </p:blipFill>
        <p:spPr>
          <a:xfrm>
            <a:off x="5364000" y="39337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IMG_0727"/>
          <p:cNvPicPr/>
          <p:nvPr/>
        </p:nvPicPr>
        <p:blipFill>
          <a:blip r:embed="rId4"/>
          <a:stretch/>
        </p:blipFill>
        <p:spPr>
          <a:xfrm>
            <a:off x="2714760" y="2214720"/>
            <a:ext cx="3435120" cy="2576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CIMG0386"/>
          <p:cNvPicPr/>
          <p:nvPr/>
        </p:nvPicPr>
        <p:blipFill>
          <a:blip r:embed="rId5"/>
          <a:stretch/>
        </p:blipFill>
        <p:spPr>
          <a:xfrm>
            <a:off x="5651640" y="11592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27f4c"/>
                </a:solidFill>
                <a:latin typeface="Times New Roman"/>
              </a:rPr>
              <a:t>Патриотизм – это преданность и любовь к своему отечеству, к своему народу.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ечество наше сильное, непобедимое, великое. Ребята пока ещё маленькие – должны беречь каждый куст, каждое дерев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4" descr="IMG_0184"/>
          <p:cNvPicPr/>
          <p:nvPr/>
        </p:nvPicPr>
        <p:blipFill>
          <a:blip r:embed="rId1"/>
          <a:stretch/>
        </p:blipFill>
        <p:spPr>
          <a:xfrm>
            <a:off x="468360" y="2708280"/>
            <a:ext cx="3887640" cy="2916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CIMG0586"/>
          <p:cNvPicPr/>
          <p:nvPr/>
        </p:nvPicPr>
        <p:blipFill>
          <a:blip r:embed="rId2"/>
          <a:stretch/>
        </p:blipFill>
        <p:spPr>
          <a:xfrm>
            <a:off x="4643280" y="2708280"/>
            <a:ext cx="396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57160" y="333360"/>
            <a:ext cx="7290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На занятиях передо мной стояла задача научить детей жить и трудиться, так чтобы Родина гордилась ими.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Миллионы сыновей нашей Родины пали за то, чтобы мир не был, ввергнут в фашистское рабство. Наш народ пережил самую страшную войну, об этой войне ребята узнают больше, когда подрастут и пойдут в школу.</a:t>
            </a:r>
            <a:endParaRPr b="0" lang="en-US" sz="18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95" name="Picture 9" descr="IMG_0762"/>
          <p:cNvPicPr/>
          <p:nvPr/>
        </p:nvPicPr>
        <p:blipFill>
          <a:blip r:embed="rId1"/>
          <a:stretch/>
        </p:blipFill>
        <p:spPr>
          <a:xfrm>
            <a:off x="3357720" y="2286000"/>
            <a:ext cx="31176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Страна, где мы живём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064360" cy="7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олжением данной работы является знакомство детей с другими городами России, со столицей нашей Родины, с гимном, флагом и гербом государств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324000" y="4797360"/>
            <a:ext cx="842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сюду люди трудятся для всех (учителя учат детей; врачи лечат больных; рабочие делают машины и т.д.)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зде соблюдаются традиции: Родина помнит героев, защитивших ее от врагов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сюду живут люди разных национальностей, совместно трудятся и помогают друг другу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юди берегут и охраняют природу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ть общие профессиональные и общественные праздники и т.д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9" name="Picture 6" descr="77"/>
          <p:cNvPicPr/>
          <p:nvPr/>
        </p:nvPicPr>
        <p:blipFill>
          <a:blip r:embed="rId1"/>
          <a:stretch/>
        </p:blipFill>
        <p:spPr>
          <a:xfrm>
            <a:off x="971640" y="2421000"/>
            <a:ext cx="2687400" cy="2016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reative_Wallpaper_Flag_and_National_Emblem_of_Russia_018578_"/>
          <p:cNvPicPr/>
          <p:nvPr/>
        </p:nvPicPr>
        <p:blipFill>
          <a:blip r:embed="rId2"/>
          <a:stretch/>
        </p:blipFill>
        <p:spPr>
          <a:xfrm>
            <a:off x="5003640" y="2421000"/>
            <a:ext cx="2697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c0439"/>
                </a:solidFill>
                <a:latin typeface="Times New Roman"/>
              </a:rPr>
              <a:t>Я – РОССИЯНИН, Я ГОРЖУСЬ СВОЕЙ СТРАНОЙ</a:t>
            </a: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триотиз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преданность и любовь к своему отечеству, к своему народ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красные возможности в воспитании патриотизма предоставляет нам родная природа, именно она воспитывает у детей эмоциональную отзывчивость, чувство прекрасног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ние патриотизма невозможно также без формирования чувств: удовлетворения и привязанности к месту рождения и жительства, определенному кругу людей, которое расширяется и углубляется от встреч и общения с другими взрослыми: жителями дома, поселка, работниками образовательной школы и детской школы искусств, библиотеки, музея, при знакомстве с местными достопримечательностя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730166419_tonnel"/>
          <p:cNvPicPr/>
          <p:nvPr/>
        </p:nvPicPr>
        <p:blipFill>
          <a:blip r:embed="rId1"/>
          <a:stretch/>
        </p:blipFill>
        <p:spPr>
          <a:xfrm>
            <a:off x="900000" y="33336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4067280" y="476280"/>
            <a:ext cx="31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арь-колоко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Picture 7" descr="moskva_kreml_tsar-pushka"/>
          <p:cNvPicPr/>
          <p:nvPr/>
        </p:nvPicPr>
        <p:blipFill>
          <a:blip r:embed="rId2"/>
          <a:stretch/>
        </p:blipFill>
        <p:spPr>
          <a:xfrm>
            <a:off x="4932360" y="3141720"/>
            <a:ext cx="3911760" cy="3294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8"/>
          <p:cNvSpPr/>
          <p:nvPr/>
        </p:nvSpPr>
        <p:spPr>
          <a:xfrm>
            <a:off x="2176560" y="490212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арь-пушк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Принципы патриотического воспитания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0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позитивный центризм» (отбор знаний, наиболее актуальных для ребенка данного возраста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рерывность и преемственность педагогического процесса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фференцированный подход к каждому ребенку, максимальный учет его психологических особенностей, возможностей и интересов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циональное сочетание разных видов деятельности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екватный возрасту баланс интеллектуальных, эмоциональных и двигательных нагрузок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ятельностный подход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ющий характер обучения, основанный на детской актив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56360" y="404280"/>
            <a:ext cx="2449440" cy="29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«Россия…как из песни слово,</a:t>
            </a: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Берёзок юная листва,</a:t>
            </a: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Кругом леса, поля и реки</a:t>
            </a: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Раздолье, русская душа.</a:t>
            </a: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Люблю тебя моя Россия!</a:t>
            </a: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За ясный свет твоих очей!</a:t>
            </a: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За ум за подвиги святые,</a:t>
            </a: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За голос звонкий, как ручей,</a:t>
            </a: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Люблю, глубоко понимаю</a:t>
            </a: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Степей задумчивую грусть!</a:t>
            </a: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Люблю всё то, что называют</a:t>
            </a: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Одним широким словом Русь!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С.Васильев</a:t>
            </a:r>
            <a:endParaRPr b="0" lang="en-US" sz="1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3446280"/>
            <a:ext cx="8229600" cy="26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ая цель воспитателя – помочь показать детям их родной город, в котором они живут, чтобы вызвать у них чувства восхищения, гордости и любви. Воспитание этих чувств у дошкольников весьма кропотливая работа, которая должна проводиться систематически и планомерн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о помнить, что дошкольник воспринимает окружающую его действительность эмоционально, поэтому патриотические чувства к родному поселку (городу) у него проявляются в чувстве восхищения своим поселком (городом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Тематическое планирование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анирование данной работы наиболее целесообразно по следующим темам: «Моя семья», «Мой любимый детский сад», «Мой район и город, в котором я живу», Наша Родина – Россия», «Наши защитники» и т.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а по каждой теме должна включать занятия, игры, экскурсии, по некоторым темам – праздни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Picture 5" descr="File0308"/>
          <p:cNvPicPr/>
          <p:nvPr/>
        </p:nvPicPr>
        <p:blipFill>
          <a:blip r:embed="rId1"/>
          <a:stretch/>
        </p:blipFill>
        <p:spPr>
          <a:xfrm>
            <a:off x="539640" y="3141720"/>
            <a:ext cx="4535640" cy="3162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File0307"/>
          <p:cNvPicPr/>
          <p:nvPr/>
        </p:nvPicPr>
        <p:blipFill>
          <a:blip r:embed="rId2"/>
          <a:stretch/>
        </p:blipFill>
        <p:spPr>
          <a:xfrm>
            <a:off x="5292720" y="3500280"/>
            <a:ext cx="32878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b10be"/>
                </a:solidFill>
                <a:latin typeface="Times New Roman"/>
              </a:rPr>
              <a:t>Взаимосвязь с родителями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ирование патриотических чувств проходит эффективнее, если детский сад устанавливает тесную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вязь с семьёй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ость подключения семьи к процессу ознакомления дошкольников с социальным окружением объясняется особыми педагогическими возможностями, которыми обладает семья и которые не может заменить дошкольное учреждение: любовь и привязанность к детям, эмоционально-нравственная насыщенность отношений, их общественная, а не эгоистическая направленность и др. Всё это создаёт благоприятные условия для воспитания высших нравственных чувств. Детский сад в своей работе с семьёй должен опираться на родителей не только как на помощников детского учреждения, а как на равноправных участников формирования детской лич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7" descr="CIMG0628"/>
          <p:cNvPicPr/>
          <p:nvPr/>
        </p:nvPicPr>
        <p:blipFill>
          <a:blip r:embed="rId1"/>
          <a:stretch/>
        </p:blipFill>
        <p:spPr>
          <a:xfrm>
            <a:off x="2627280" y="364500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c0439"/>
                </a:solidFill>
                <a:latin typeface="Tahoma"/>
              </a:rPr>
              <a:t>Выступление на педсовете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5600" y="1628280"/>
            <a:ext cx="50720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ические работники имеют необходимую профессиональную квалифик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педагогами было проведено анкетирование по работе с родителями и экспресс - опрос по проблеме патриотического воспитания детей в детском саду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целью повышения результативности  педагогической работы проводились педсоветы, консультации, мероприятия с родителями. Продолжалась работа по самообразованию педагогов. Педагоги получили новые сведения о программах, нетрадиционных методах и приемах. На достаточно высоком уровне прошли  открытые занят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Улицы города Москвы»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Наш район Медведково»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Московский Кремль»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Московская природа»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День Победы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IMG_0247"/>
          <p:cNvPicPr/>
          <p:nvPr/>
        </p:nvPicPr>
        <p:blipFill>
          <a:blip r:embed="rId1"/>
          <a:stretch/>
        </p:blipFill>
        <p:spPr>
          <a:xfrm>
            <a:off x="1763640" y="2060640"/>
            <a:ext cx="5465880" cy="4100400"/>
          </a:xfrm>
          <a:prstGeom prst="rect">
            <a:avLst/>
          </a:prstGeom>
          <a:ln w="0">
            <a:noFill/>
          </a:ln>
        </p:spPr>
      </p:pic>
      <p:sp>
        <p:nvSpPr>
          <p:cNvPr id="219" name="WordArt 6"/>
          <p:cNvSpPr txBox="1"/>
          <p:nvPr/>
        </p:nvSpPr>
        <p:spPr>
          <a:xfrm>
            <a:off x="1332000" y="765000"/>
            <a:ext cx="61214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34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800000"/>
                </a:solidFill>
                <a:latin typeface="Georgia"/>
              </a:rPr>
              <a:t>Задачи патриотического воспитания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ние у ребенка любви и привязанности к своей семье, дому, детскому саду, улице, город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бережного отношения к природе и всему живом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ние уважения к труд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интереса к русским традициям и промысла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элементарных знаний о правах челове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ширение представлений о городах Росс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комство детей с символами государства (герб, флаг, гимн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чувства ответственности и гордости за достижения стран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толерантности, чувства уважения к другим народам, их традиция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2" descr="C:\Documents and Settings\Владелец\Мои документы\КАРТИНКИ\Анимация 2\Animations\flag10.gif"/>
          <p:cNvPicPr/>
          <p:nvPr/>
        </p:nvPicPr>
        <p:blipFill>
          <a:blip r:embed="rId1"/>
          <a:stretch/>
        </p:blipFill>
        <p:spPr>
          <a:xfrm>
            <a:off x="6948360" y="333360"/>
            <a:ext cx="1533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c0439"/>
                </a:solidFill>
                <a:latin typeface="Times New Roman"/>
              </a:rPr>
              <a:t>С чего начинается Родина?</a:t>
            </a:r>
            <a:br>
              <a:rPr sz="36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увство Родины... Оно начинается у ребенка с отношения к семье, к самым близким людям — к матери, отцу, бабушке, дедушке. Это корни, связывающие его с родным домом и ближайшим окружение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детей дошкольного возраста, Родина является абстрактным понятием, которое невозможно потрогать, увидеть. 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55" name="Picture 8" descr="IMG_0006"/>
          <p:cNvPicPr/>
          <p:nvPr/>
        </p:nvPicPr>
        <p:blipFill>
          <a:blip r:embed="rId1"/>
          <a:stretch/>
        </p:blipFill>
        <p:spPr>
          <a:xfrm>
            <a:off x="-3230640" y="-2422440"/>
            <a:ext cx="2882880" cy="2162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рис"/>
          <p:cNvPicPr/>
          <p:nvPr/>
        </p:nvPicPr>
        <p:blipFill>
          <a:blip r:embed="rId2"/>
          <a:stretch/>
        </p:blipFill>
        <p:spPr>
          <a:xfrm>
            <a:off x="2195640" y="2997360"/>
            <a:ext cx="44672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18440" cy="19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ое с чего начинается познание мира ребенком, - это ласковая материнская улыбка, тихая колыбельная песня, добрые глаза и теплые материнские ру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 считаю, что невозможно воспитать в ребенке патриотические чувства к Родине без таких понятий как: «любовь к матери», к дому, к детскому саду, к своему району…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58" name="Picture 4" descr="IMG_0004"/>
          <p:cNvPicPr/>
          <p:nvPr/>
        </p:nvPicPr>
        <p:blipFill>
          <a:blip r:embed="rId1"/>
          <a:stretch/>
        </p:blipFill>
        <p:spPr>
          <a:xfrm>
            <a:off x="539640" y="306864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IMG_0598"/>
          <p:cNvPicPr/>
          <p:nvPr/>
        </p:nvPicPr>
        <p:blipFill>
          <a:blip r:embed="rId2"/>
          <a:stretch/>
        </p:blipFill>
        <p:spPr>
          <a:xfrm>
            <a:off x="4716360" y="3068640"/>
            <a:ext cx="386712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Наше наследие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каждого народа свои сказки, и все они передают от поколения 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олению основные нравственные ценности: добро, дружба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аимопомощь, трудолюбие. «Это — первые и блестящие попыт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сской народной педагогики, — писал К.Д. Ушинский, — и я не думаю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бы кто-нибудь был в состоянии состязаться в этом случае 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дагогическим гением народа". Не случайно К.Д. Ушин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черкивал, что "... воспитание, если оно не хочет быть бессильным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жно быть народным". Произведения устного народного творчества н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лько формируют любовь к традициям своего народа, но 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ствуют развитию личности в духе патриотизм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8" descr="CIMG0607"/>
          <p:cNvPicPr/>
          <p:nvPr/>
        </p:nvPicPr>
        <p:blipFill>
          <a:blip r:embed="rId1"/>
          <a:stretch/>
        </p:blipFill>
        <p:spPr>
          <a:xfrm>
            <a:off x="826920" y="3860640"/>
            <a:ext cx="3456000" cy="259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CIMG0615"/>
          <p:cNvPicPr/>
          <p:nvPr/>
        </p:nvPicPr>
        <p:blipFill>
          <a:blip r:embed="rId2"/>
          <a:stretch/>
        </p:blipFill>
        <p:spPr>
          <a:xfrm>
            <a:off x="4859280" y="3860640"/>
            <a:ext cx="351000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339408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7f4c"/>
                </a:solidFill>
                <a:latin typeface="Times New Roman"/>
              </a:rPr>
              <a:t>В «Россиянку» мы пришли,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imes New Roman"/>
              </a:rPr>
              <a:t>Вещи старые нашли: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imes New Roman"/>
              </a:rPr>
              <a:t>Люльку, ступу увидали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imes New Roman"/>
              </a:rPr>
              <a:t>И немножко поиграли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imes New Roman"/>
              </a:rPr>
              <a:t>В старой сказке побывали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imes New Roman"/>
              </a:rPr>
              <a:t>Ребятишки из детсада.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imes New Roman"/>
              </a:rPr>
              <a:t>И обратно не спешили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imes New Roman"/>
              </a:rPr>
              <a:t>Поглядите на их взгляды.</a:t>
            </a:r>
            <a:endParaRPr b="0" lang="en-US" sz="18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65" name="Picture 5" descr="CIMG0603"/>
          <p:cNvPicPr/>
          <p:nvPr/>
        </p:nvPicPr>
        <p:blipFill>
          <a:blip r:embed="rId1"/>
          <a:stretch/>
        </p:blipFill>
        <p:spPr>
          <a:xfrm>
            <a:off x="5148360" y="441360"/>
            <a:ext cx="3592440" cy="2695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IMG0610"/>
          <p:cNvPicPr/>
          <p:nvPr/>
        </p:nvPicPr>
        <p:blipFill>
          <a:blip r:embed="rId2"/>
          <a:stretch/>
        </p:blipFill>
        <p:spPr>
          <a:xfrm>
            <a:off x="5148360" y="3357720"/>
            <a:ext cx="3647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Моя малая Родина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«Я живу в Северо-Восточном округе»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малое значение для воспитания у детей интереса и любви к родному краю имеет ближайшее окружен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5" descr="35272108_0607_moskow"/>
          <p:cNvPicPr/>
          <p:nvPr/>
        </p:nvPicPr>
        <p:blipFill>
          <a:blip r:embed="rId1"/>
          <a:stretch/>
        </p:blipFill>
        <p:spPr>
          <a:xfrm>
            <a:off x="2771640" y="400536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letchik_polyarnik_M_Babushkin"/>
          <p:cNvPicPr/>
          <p:nvPr/>
        </p:nvPicPr>
        <p:blipFill>
          <a:blip r:embed="rId2"/>
          <a:stretch/>
        </p:blipFill>
        <p:spPr>
          <a:xfrm>
            <a:off x="179280" y="2349360"/>
            <a:ext cx="2322720" cy="3665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92445"/>
          <p:cNvPicPr/>
          <p:nvPr/>
        </p:nvPicPr>
        <p:blipFill>
          <a:blip r:embed="rId3"/>
          <a:stretch/>
        </p:blipFill>
        <p:spPr>
          <a:xfrm>
            <a:off x="6227640" y="2276640"/>
            <a:ext cx="27482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18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imes New Roman"/>
              </a:rPr>
              <a:t>Знакомство детей  с представителями животного и растительного мира</a:t>
            </a: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73" name="Picture 4" descr="рис"/>
          <p:cNvPicPr/>
          <p:nvPr/>
        </p:nvPicPr>
        <p:blipFill>
          <a:blip r:embed="rId1"/>
          <a:stretch/>
        </p:blipFill>
        <p:spPr>
          <a:xfrm>
            <a:off x="1619280" y="3716280"/>
            <a:ext cx="5838840" cy="2752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684360" y="2565360"/>
            <a:ext cx="78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красные возможности в воспитании патриотизма предоставляет нам родная природа, именно она воспитывает у детей эмоциональную отзывчивость, чувство прекрасного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13:06:11Z</dcterms:created>
  <dc:creator>ANNA</dc:creator>
  <dc:description/>
  <dc:language>en-US</dc:language>
  <cp:lastModifiedBy>яготин</cp:lastModifiedBy>
  <dcterms:modified xsi:type="dcterms:W3CDTF">2013-03-02T10:35:49Z</dcterms:modified>
  <cp:revision>19</cp:revision>
  <dc:subject/>
  <dc:title>Патриотическое воспитание детей старшего дошкольного возраста</dc:title>
</cp:coreProperties>
</file>