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gif" ContentType="image/gif"/>
  <Override PartName="/ppt/media/image23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9AC-7146-4882-A96B-80D76DBB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2E6-719C-4548-9329-893B955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ADB-3390-41D1-90B9-358056FF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572-A433-462E-BC82-6B8DACCB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666-D787-4148-8A1E-8A1D964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A2E-D608-4109-B22B-04E5774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2F8-9DC1-4966-95FE-F72345C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379-4927-4698-8F73-D7675D9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9F4-F40E-4D47-AFEE-3892961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97B-8D85-4FC6-8617-CE5DC85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678-DD51-4F3D-AFC3-4156DA5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7E6-9667-43F2-910D-207664E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B48B-1EB9-43BD-B988-FAEB079C8A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33520" y="1066680"/>
            <a:ext cx="7619760" cy="22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развития речи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ение-описание по картине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Пластова "Летом"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0_16bf5_e9fe5bed_S"/>
          <p:cNvPicPr/>
          <p:nvPr/>
        </p:nvPicPr>
        <p:blipFill>
          <a:blip r:embed="rId1"/>
          <a:stretch/>
        </p:blipFill>
        <p:spPr>
          <a:xfrm>
            <a:off x="457200" y="4419720"/>
            <a:ext cx="1646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прежде всего привлекает вним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растет на поля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ишите девочку, её позу. Во что она одета? Что в наряде особенно бросается в гла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можно сказать о лице дево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ишите бабушку. Почему художник так отчетливо изобразил руки женщины? Какие о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го мы ещё видим на карти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Где расположились грибники? Почему они выбрали это мес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к музыкальный фрагмент (И.Гайдн «Адажио») помогает понять настроение картины? Попробуйте выразить его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362320" y="304920"/>
            <a:ext cx="4267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еда по картине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 помощью цвета художник создаёт образ, передаёт своё отношение. Вызывает определенное настроение. Желтый, розовый, красный, оранжевый цвета называют тёплыми. Они помогают художнику передать радостное и светлое настроение. Синий, темно-голубой. Фиолетовый, серый – это холодные цвета. Они обычно вызывают чувства грусти и печ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Картина обладает притягательной силой. С помощью красок художник сумел передать в картине разморенных жарой людей, и собаку, и знойный полдень. Вся картина как бы наполнена дыханьем летнего дня, запахами т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00200" y="609480"/>
            <a:ext cx="512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овая гамма картины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oiseau13"/>
          <p:cNvPicPr/>
          <p:nvPr/>
        </p:nvPicPr>
        <p:blipFill>
          <a:blip r:embed="rId1"/>
          <a:stretch/>
        </p:blipFill>
        <p:spPr>
          <a:xfrm>
            <a:off x="7238880" y="457200"/>
            <a:ext cx="16671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1680" y="1676520"/>
          <a:ext cx="8540640" cy="4651200"/>
        </p:xfrm>
        <a:graphic>
          <a:graphicData uri="http://schemas.openxmlformats.org/drawingml/2006/table">
            <a:tbl>
              <a:tblPr/>
              <a:tblGrid>
                <a:gridCol w="2670120"/>
                <a:gridCol w="587052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лан опис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бочие материал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d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Женщ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тала и уснула на свежем возду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труженные работой ру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окойный 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ев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Ярко-красный пла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ирает малину с сорванного ку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ряталась от солнца в тени берё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рный др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тала бегать по лесу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устая светло-коричневая шер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род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зумрудно-зелёная трава, стебель белой ромашки, яркий летний ден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лепительный луч солнца, солнечный зайч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77" name="WordArt 39"/>
          <p:cNvSpPr txBox="1"/>
          <p:nvPr/>
        </p:nvSpPr>
        <p:spPr>
          <a:xfrm>
            <a:off x="1523880" y="53352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бор словесного материала.</a:t>
            </a:r>
            <a:endParaRPr b="0" lang="en-US" sz="2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38120" y="159984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Богатство цветущей природы художник передает праздничным сочетанием красок. Он использует контрастные. Яркие насыщенные цвета, которые придают картине особую красоту и жизнерадостность, создают светлое настро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838080" y="609480"/>
            <a:ext cx="651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а над финалом сочинения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8" descr="0_16bad_5ac4897b_S"/>
          <p:cNvPicPr/>
          <p:nvPr/>
        </p:nvPicPr>
        <p:blipFill>
          <a:blip r:embed="rId1"/>
          <a:stretch/>
        </p:blipFill>
        <p:spPr>
          <a:xfrm>
            <a:off x="609480" y="2057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олнечн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Лесная поля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оба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ем привлекательна кар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286000" y="7621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сочинения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6c9efc95c4b9a68ab1d38d82ecbd9089"/>
          <p:cNvPicPr/>
          <p:nvPr/>
        </p:nvPicPr>
        <p:blipFill>
          <a:blip r:embed="rId1"/>
          <a:stretch/>
        </p:blipFill>
        <p:spPr>
          <a:xfrm>
            <a:off x="5715000" y="1600200"/>
            <a:ext cx="2090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1120" y="1371600"/>
            <a:ext cx="46512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ркадий Пластов не уставал любоваться красотой родной земли, её удивительной способностью приносить урожай. Этот восторг художника перед вечной красотой и силой земли ощущается во всех её проявлениях. Кто сравнится с Пластовым в умении передавать свет солнца. Его живительную влагу и теп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ловно волшебник, поймав лучи солнца на кончик кисти, он заполнил ими свои полотна, вдохнув в них жизнь и красо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76520" y="380880"/>
            <a:ext cx="52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ние итогов урока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9" descr="leto"/>
          <p:cNvPicPr/>
          <p:nvPr/>
        </p:nvPicPr>
        <p:blipFill>
          <a:blip r:embed="rId1"/>
          <a:stretch/>
        </p:blipFill>
        <p:spPr>
          <a:xfrm>
            <a:off x="137160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4e7a4414a20fcc01928c08b88432f1ba"/>
          <p:cNvPicPr/>
          <p:nvPr/>
        </p:nvPicPr>
        <p:blipFill>
          <a:blip r:embed="rId2"/>
          <a:stretch/>
        </p:blipFill>
        <p:spPr>
          <a:xfrm>
            <a:off x="228600" y="1752480"/>
            <a:ext cx="419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ияет солнце, воды блещу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 всем улыбка, жизнь во вс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еревья радостно трепещу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упаясь в небе голуб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ют деревья, блещут в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юбовью воздух раствор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мир, цветущий мир при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збытком жизни упо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Ф.И.Тютч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9" descr="2st_b1"/>
          <p:cNvPicPr/>
          <p:nvPr/>
        </p:nvPicPr>
        <p:blipFill>
          <a:blip r:embed="rId1"/>
          <a:stretch/>
        </p:blipFill>
        <p:spPr>
          <a:xfrm>
            <a:off x="304920" y="762120"/>
            <a:ext cx="344160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G00142_"/>
          <p:cNvPicPr/>
          <p:nvPr/>
        </p:nvPicPr>
        <p:blipFill>
          <a:blip r:embed="rId2"/>
          <a:stretch/>
        </p:blipFill>
        <p:spPr>
          <a:xfrm>
            <a:off x="7924680" y="52578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762120" y="1219320"/>
            <a:ext cx="6507000" cy="26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ля удобства работы в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спользуйте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формационным бюллетен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2" name="Picture 7" descr="PR34OCAXGQ3NSCAKHCTSOCADC3PTCCAUKAE6CCAFD2URLCA8HMD25CATVDT29CATRBQ2DCA2CR3EXCAZ6QINECAGD5NSXCA9GUUZZCAWC72W2CAKQN0XJCALI85DFCATY5UQ3CA8KKD1UCAWHGOI7CAGFY2H1"/>
          <p:cNvPicPr/>
          <p:nvPr/>
        </p:nvPicPr>
        <p:blipFill>
          <a:blip r:embed="rId1"/>
          <a:stretch/>
        </p:blipFill>
        <p:spPr>
          <a:xfrm>
            <a:off x="6400800" y="4191120"/>
            <a:ext cx="1676520" cy="153648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3352680" y="4572000"/>
            <a:ext cx="2457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ый 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ллетень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знакомить с творчеством русского художника А.А.Пласт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иобщать учащихся к искусству: литературе, живописи, музы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азвивать монологическую связную речь учащихся, учить составлять описание внешности человека,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аботать над расширением словарного запаса учащихся, развивать орфографическую и пунктуационную грамот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048120" y="609480"/>
            <a:ext cx="2743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урока:</a:t>
            </a:r>
            <a:endParaRPr b="0" lang="en-US" sz="32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6" descr="d4718b37e337f302415af0d7a2c35518"/>
          <p:cNvPicPr/>
          <p:nvPr/>
        </p:nvPicPr>
        <p:blipFill>
          <a:blip r:embed="rId1"/>
          <a:stretch/>
        </p:blipFill>
        <p:spPr>
          <a:xfrm>
            <a:off x="7848720" y="5257800"/>
            <a:ext cx="10238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91120" y="1371600"/>
            <a:ext cx="4651200" cy="4727520"/>
          </a:xfrm>
          <a:prstGeom prst="rect">
            <a:avLst/>
          </a:prstGeom>
          <a:solidFill>
            <a:srgbClr val="00a2dc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ркадий Александрович Пластов (1893-1972) – выдающийся живописец, широко известный в нашей стране и за рубежом как певец русской деревни и русской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ластов родился в деревне Прислониха (Ульяновская область). Здесь прошло его детство, вот почему он так хорошо знает жизнь русской дерев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его полотнах с большой любовью и мастерством раскрывается красота родной земли, выражено глубокое восхищение человеком-труже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2590920" y="533520"/>
            <a:ext cx="3916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о о мастере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10" descr="2186"/>
          <p:cNvPicPr/>
          <p:nvPr/>
        </p:nvPicPr>
        <p:blipFill>
          <a:blip r:embed="rId1"/>
          <a:stretch/>
        </p:blipFill>
        <p:spPr>
          <a:xfrm>
            <a:off x="533520" y="1447920"/>
            <a:ext cx="3111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Я люблю эту жизнь. И когда из года в год видишь её….. думаешь, что надо об этом поведать людям… Жизнь наша полна и богата, в ней так много потрясающе интересного, что даже обыкновенные будничные дела наших людей приковывают внимание, потрясают душу. Это надо уметь видеть, замечат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8" descr="Рисунок1"/>
          <p:cNvPicPr/>
          <p:nvPr/>
        </p:nvPicPr>
        <p:blipFill>
          <a:blip r:embed="rId1"/>
          <a:stretch/>
        </p:blipFill>
        <p:spPr>
          <a:xfrm>
            <a:off x="914400" y="304920"/>
            <a:ext cx="250344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ulyanovsk_city_02"/>
          <p:cNvPicPr/>
          <p:nvPr/>
        </p:nvPicPr>
        <p:blipFill>
          <a:blip r:embed="rId2"/>
          <a:stretch/>
        </p:blipFill>
        <p:spPr>
          <a:xfrm>
            <a:off x="4343400" y="495360"/>
            <a:ext cx="41911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1676160"/>
            <a:ext cx="419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37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Колхозное стад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Колхозный праздни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2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Немец прилетел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5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-  «Жа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Сенокос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6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Первый сне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48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Хлеб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1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Ужин трактористов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2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– «Род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54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Лет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Весн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964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– «Солнышк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Ма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2209680" y="380880"/>
            <a:ext cx="464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тины А.Пластова.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6" descr="Рисунок5"/>
          <p:cNvPicPr/>
          <p:nvPr/>
        </p:nvPicPr>
        <p:blipFill>
          <a:blip r:embed="rId1"/>
          <a:stretch/>
        </p:blipFill>
        <p:spPr>
          <a:xfrm>
            <a:off x="533520" y="1338120"/>
            <a:ext cx="373356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Рисунок6"/>
          <p:cNvPicPr/>
          <p:nvPr/>
        </p:nvPicPr>
        <p:blipFill>
          <a:blip r:embed="rId2"/>
          <a:stretch/>
        </p:blipFill>
        <p:spPr>
          <a:xfrm>
            <a:off x="914400" y="4343400"/>
            <a:ext cx="30290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юбимые герои Аркадия Пластова – деревенские ребятишки – присутствуют почти в каждом его полотне. («Витя-подпасок», «Первый снег» и другие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«Ребятишек я люблю, - говорил он. – Как описать их прелесть? В детском лице на открытом воздухе – ясность, свежесть цвета, приближающаяся по красоте  к звукам. Писать ребятишек – одно наслаждение»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1905120" y="380880"/>
            <a:ext cx="5227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и - герои картин Пластова.</a:t>
            </a:r>
            <a:endParaRPr b="0" lang="en-US" sz="32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13" descr="Jiva(1)"/>
          <p:cNvPicPr/>
          <p:nvPr/>
        </p:nvPicPr>
        <p:blipFill>
          <a:blip r:embed="rId1"/>
          <a:stretch/>
        </p:blipFill>
        <p:spPr>
          <a:xfrm>
            <a:off x="609480" y="1295280"/>
            <a:ext cx="2360880" cy="24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img1"/>
          <p:cNvPicPr/>
          <p:nvPr/>
        </p:nvPicPr>
        <p:blipFill>
          <a:blip r:embed="rId2"/>
          <a:stretch/>
        </p:blipFill>
        <p:spPr>
          <a:xfrm>
            <a:off x="3886200" y="1295280"/>
            <a:ext cx="1693800" cy="236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svid1708_2"/>
          <p:cNvPicPr/>
          <p:nvPr/>
        </p:nvPicPr>
        <p:blipFill>
          <a:blip r:embed="rId3"/>
          <a:stretch/>
        </p:blipFill>
        <p:spPr>
          <a:xfrm>
            <a:off x="6248520" y="1295280"/>
            <a:ext cx="2176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Нет, не пейзаж влечёт ме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 краски жадный взор подмен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А то, что в этих красках свет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Любовь и радость быт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1752480" y="457200"/>
            <a:ext cx="53341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ественное кредо мастера.</a:t>
            </a:r>
            <a:endParaRPr b="0" lang="en-US" sz="2800" spc="1" strike="noStrike">
              <a:ln w="0">
                <a:noFill/>
              </a:ln>
              <a:solidFill>
                <a:srgbClr val="cc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0" descr="19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19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к здесь свежо под липою густою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дневный зной сюда не проника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 тысячи висящих надо мно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чаются душистых опах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А там, вдали, сверкает воздух жгу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олебляся, как будто дремлет 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ак резко – слух снотворный и трескуч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узнечиков неугомонный зв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 мглой небес синеют неба св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Как дымкою подёрнуты слег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, как мечты почиющей при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Волнистые проходят облака.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А.А.Ф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Рисунок4"/>
          <p:cNvPicPr/>
          <p:nvPr/>
        </p:nvPicPr>
        <p:blipFill>
          <a:blip r:embed="rId1"/>
          <a:stretch/>
        </p:blipFill>
        <p:spPr>
          <a:xfrm>
            <a:off x="304920" y="609480"/>
            <a:ext cx="3809880" cy="5489640"/>
          </a:xfrm>
          <a:prstGeom prst="rect">
            <a:avLst/>
          </a:prstGeom>
          <a:ln w="0">
            <a:noFill/>
          </a:ln>
        </p:spPr>
      </p:pic>
      <p:pic>
        <p:nvPicPr>
          <p:cNvPr id="67" name="Гайдн адажио.mp3" descr=""/>
          <p:cNvPicPr/>
          <p:nvPr/>
        </p:nvPicPr>
        <p:blipFill>
          <a:blip r:embed="rId2"/>
          <a:stretch/>
        </p:blipFill>
        <p:spPr>
          <a:xfrm>
            <a:off x="609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023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Лето особенно привлекает художника – это время года, когда вся природа находится в расцвете. В картине «Летом» Пластов показал богатство и щедрость родной земли, заслуженный отдых простых тружеников, утомленных сбором грибов и яг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0_159e6_5487947d_S"/>
          <p:cNvPicPr/>
          <p:nvPr/>
        </p:nvPicPr>
        <p:blipFill>
          <a:blip r:embed="rId1"/>
          <a:stretch/>
        </p:blipFill>
        <p:spPr>
          <a:xfrm>
            <a:off x="6858000" y="533412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опия Рисунок9"/>
          <p:cNvPicPr/>
          <p:nvPr/>
        </p:nvPicPr>
        <p:blipFill>
          <a:blip r:embed="rId2"/>
          <a:stretch/>
        </p:blipFill>
        <p:spPr>
          <a:xfrm>
            <a:off x="685800" y="304920"/>
            <a:ext cx="12193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 В. Журавлева</dc:creator>
  <dc:description/>
  <dc:language>en-US</dc:language>
  <cp:lastModifiedBy>glv</cp:lastModifiedBy>
  <dcterms:modified xsi:type="dcterms:W3CDTF">2012-10-15T07:01:4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