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0.jpeg" ContentType="image/jpeg"/>
  <Override PartName="/ppt/media/image31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039-D312-444E-BC7A-74B223CB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E32-AC2C-4384-A735-8B570187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48E8-B589-499E-AF48-7C3D6DD1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484-385F-47AA-8F5F-585E5215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ACD-20BB-495E-95A9-55C91277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F16-E053-48B0-84F8-B46AFB6F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D8DB-FFDC-4834-A133-A515B66E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508-B848-407E-8BFB-48AEB50F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14D-8BBB-453F-9331-D7B4CA64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271-0EEA-4CB3-9442-6A40D947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B43-C0FA-4ADD-A80C-07C00168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185-6B07-4AD7-9B5F-AD25A4CC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BD18-8C5D-412E-BE61-61402E24CB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гоголь11.jpg"/>
          <p:cNvPicPr/>
          <p:nvPr/>
        </p:nvPicPr>
        <p:blipFill>
          <a:blip r:embed="rId1"/>
          <a:stretch/>
        </p:blipFill>
        <p:spPr>
          <a:xfrm>
            <a:off x="428760" y="285840"/>
            <a:ext cx="4714920" cy="56894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ad9acf9ba5f797611444f8063f8127a1.gif"/>
          <p:cNvPicPr/>
          <p:nvPr/>
        </p:nvPicPr>
        <p:blipFill>
          <a:blip r:embed="rId2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5286240" y="2643120"/>
            <a:ext cx="357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Николай Васильевич Гогол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(1809- 185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4" descr="рудаков.jpg"/>
          <p:cNvPicPr/>
          <p:nvPr/>
        </p:nvPicPr>
        <p:blipFill>
          <a:blip r:embed="rId1"/>
          <a:stretch/>
        </p:blipFill>
        <p:spPr>
          <a:xfrm>
            <a:off x="5500800" y="1785960"/>
            <a:ext cx="3429000" cy="46083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5072040" y="0"/>
            <a:ext cx="3643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на Андр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ена городни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рья Ант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чь городни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5" descr="lit08-13.jpg"/>
          <p:cNvPicPr/>
          <p:nvPr/>
        </p:nvPicPr>
        <p:blipFill>
          <a:blip r:embed="rId3"/>
          <a:stretch/>
        </p:blipFill>
        <p:spPr>
          <a:xfrm>
            <a:off x="2714760" y="1785960"/>
            <a:ext cx="2552400" cy="35956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lit08-10.jpg"/>
          <p:cNvPicPr/>
          <p:nvPr/>
        </p:nvPicPr>
        <p:blipFill>
          <a:blip r:embed="rId4"/>
          <a:stretch/>
        </p:blipFill>
        <p:spPr>
          <a:xfrm>
            <a:off x="214200" y="357120"/>
            <a:ext cx="2243160" cy="343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ляпкин-тяпкин.jpg"/>
          <p:cNvPicPr/>
          <p:nvPr/>
        </p:nvPicPr>
        <p:blipFill>
          <a:blip r:embed="rId1"/>
          <a:stretch/>
        </p:blipFill>
        <p:spPr>
          <a:xfrm>
            <a:off x="214200" y="285840"/>
            <a:ext cx="2714760" cy="60451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2714760" y="28584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ммос Фёдорович Ляпкин-Тяп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д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3143160" y="1071720"/>
            <a:ext cx="528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ородничий - судь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У вас в передней, куда являются просители, сторожа завели гусей с гусёнками…кроме того, заседатель ваш…от него такой запах, как будто бы он сейчас вышел из винокуренного завода, …в бога не веруете, в церковь не ходит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Ляпкин-Тяпкин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Я говорю всем открыто, что беру взятки. Но чем взятки? Борзыми щенками. Это совсем иное де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Ляпкин-Тяпкин - Земляник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Чего вам бояться?  Колпаки  чистые надел на больных, да концы в воду…  я вот уже пятнадцать лет сижу на судейском стуле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3357720" y="28584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ртемий Филиппович Земля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печитель богоугодных за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руководитель больни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земляникуа.jpg"/>
          <p:cNvPicPr/>
          <p:nvPr/>
        </p:nvPicPr>
        <p:blipFill>
          <a:blip r:embed="rId2"/>
          <a:stretch/>
        </p:blipFill>
        <p:spPr>
          <a:xfrm>
            <a:off x="428760" y="285840"/>
            <a:ext cx="2571480" cy="5572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3357720" y="1500120"/>
            <a:ext cx="52149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лость, доносительство и коварство – лишь неполный перечень качеств этого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ородничий - Земляни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Сделайте, чтобы больные не походили бы на кузнецов, как обыкновенно они ходят по-домашне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емляника - Хлестаков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 Больные все, как мухи, выздоравливаю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емляника учит чиновников, как дать ревизору взятк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Представиться нужно поодиночке, да между четырёх глаз и того…как там следует, чтобы и уши не слыхали. Вот как в обществе благоустроенном делает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3357720" y="285840"/>
            <a:ext cx="5500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Христиан Иванович Гиб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ездный лек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главный вра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гибнер-носик.jpg"/>
          <p:cNvPicPr/>
          <p:nvPr/>
        </p:nvPicPr>
        <p:blipFill>
          <a:blip r:embed="rId2"/>
          <a:stretch/>
        </p:blipFill>
        <p:spPr>
          <a:xfrm>
            <a:off x="285840" y="1785960"/>
            <a:ext cx="3643200" cy="24289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4071960" y="192888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емляника о Гибнер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Насчёт врачевания мы с Христианом Ивановичем взяли меры: человек простой: если умрёт, то и так умрёт; если выздоровеет, то и так выздоровеет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 и Христиан Иванович по-рус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и слова не знает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3357720" y="285840"/>
            <a:ext cx="5500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ука Лукич Хло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отритель учили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" descr="к савицкий 1901-1902 хлопов.jpg"/>
          <p:cNvPicPr/>
          <p:nvPr/>
        </p:nvPicPr>
        <p:blipFill>
          <a:blip r:embed="rId2"/>
          <a:stretch/>
        </p:blipFill>
        <p:spPr>
          <a:xfrm>
            <a:off x="357120" y="428760"/>
            <a:ext cx="2071800" cy="54655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2928960" y="1428840"/>
            <a:ext cx="55008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ирение и запуганность –вот главные его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 себ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Не приведи бог служить по  учёной части, всего боишься. Всякий мешается, всякому хочется показать, что он тоже умный челов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Заговори со мною одним чином выше, у меня просто и души нет, и язык, как в грязь, завяз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3" descr="lit08-08.jpg"/>
          <p:cNvPicPr/>
          <p:nvPr/>
        </p:nvPicPr>
        <p:blipFill>
          <a:blip r:embed="rId1"/>
          <a:stretch/>
        </p:blipFill>
        <p:spPr>
          <a:xfrm>
            <a:off x="5643720" y="1714680"/>
            <a:ext cx="2782800" cy="44701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857240" y="214200"/>
            <a:ext cx="5500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ван Кузьмич Шпе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тмейс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начальник почтовой конторы, ведал пересылкой почты и перевозкой пассажи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357120" y="1785960"/>
            <a:ext cx="40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обродушной наивностью и без зазрения совести вскрывает и читает чужие пись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Это я делаю из любопытства: смерть люблю узнать, что есть нового на свете! Иное письмо с наслаждением прочтёшь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5" descr="бокл бобч добч 1980-е.jpg"/>
          <p:cNvPicPr/>
          <p:nvPr/>
        </p:nvPicPr>
        <p:blipFill>
          <a:blip r:embed="rId1"/>
          <a:stretch/>
        </p:blipFill>
        <p:spPr>
          <a:xfrm>
            <a:off x="4786200" y="1500120"/>
            <a:ext cx="3643560" cy="48974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-6480" y="5992920"/>
            <a:ext cx="9156960" cy="8715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4071960" y="28584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ётр Иванович Бобч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ётр Иванович Добч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родские помещ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285840" y="857160"/>
            <a:ext cx="45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похожи, но не тождествен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бчинский  проворнее, но Добчинский серьёзнее и солиднее. Именно его берёт Городничий с собой к Хлестакову, а  Добчинский бежит «петушком за дрожкам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их есть постоянное соперничество: каждый спешит  что-то узнать, открыть, поэтому, наверное, не возникло бы действие пьесы, не будь этих двух сплетников с тончайшими различиями их характе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214200" y="44290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Бобчинский о Хлестако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Он! И денег не платит, и не едет. Кому ж быть, как не ему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Добчинский о своих ощущения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Когда вельможа говорит, чувствуешь стр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4" descr="боклевский 1856 ревизор.jpg"/>
          <p:cNvPicPr/>
          <p:nvPr/>
        </p:nvPicPr>
        <p:blipFill>
          <a:blip r:embed="rId1"/>
          <a:stretch/>
        </p:blipFill>
        <p:spPr>
          <a:xfrm>
            <a:off x="6357960" y="1844640"/>
            <a:ext cx="2504880" cy="42274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-6480" y="6066000"/>
            <a:ext cx="9156960" cy="798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42920" y="285840"/>
            <a:ext cx="87868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епан Ильич Уховёртов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стный пристав (полицейский чиновн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вистунов, Пуговицын, Держиморд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ицей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428760" y="1857240"/>
            <a:ext cx="57862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ородничий - Пуговицыну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Смотри! Не по чину берёшь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Уховёртов – Городниче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Квартального Пуговицына я послал подчищать тротуар, Держиморда поехал на пожарной трубе, а Прохоров пьян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6" descr="к савицкий 1901-1902 городнич и полиция.jpg"/>
          <p:cNvPicPr/>
          <p:nvPr/>
        </p:nvPicPr>
        <p:blipFill>
          <a:blip r:embed="rId3"/>
          <a:stretch/>
        </p:blipFill>
        <p:spPr>
          <a:xfrm>
            <a:off x="1071720" y="2428920"/>
            <a:ext cx="2714400" cy="295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992920"/>
            <a:ext cx="9156960" cy="8715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2714760" y="28584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ван Александрович Хлест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новник низшего 14-ого класса из 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gogol-heroes_4.jpg"/>
          <p:cNvPicPr/>
          <p:nvPr/>
        </p:nvPicPr>
        <p:blipFill>
          <a:blip r:embed="rId2"/>
          <a:stretch/>
        </p:blipFill>
        <p:spPr>
          <a:xfrm>
            <a:off x="214200" y="285840"/>
            <a:ext cx="2357640" cy="40003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2643120" y="1143000"/>
            <a:ext cx="62866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вшись виновником всеобщего обмана, он никого не обманывал, у него совсем нет реплик «в сторону», так 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его что на уме, то и на язы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него не существует недоразумений, так как он совсем не умеет анализировать обстанов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—как вода, принимающая  форму любого сосуда. У него необыкновенная приспособля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с успехом сыграл роль  ревизора, даже не поняв, что он её играет, начав догадываться лишь к середине четвёртого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142920" y="4500720"/>
            <a:ext cx="29289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Гого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Хлестаков, сам по себе, ничтожный человек…сила всеобщего страха создала из него замечательное комическое лицо..  в нём всё сюрприз и неожиданнос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214800" y="4429080"/>
            <a:ext cx="528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Бобч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Молодой человек, лет двадцати трёх или четырёх с небольши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обч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Шантрет / шатен/, и  глаза такие быстрые, как зверь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286080" y="371484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Хлестаков о с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« Ведь на то живёшь, чтоб срывать цветы удовольств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4286160" y="28584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и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уга Хлеста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конст 1950 осип.jpg"/>
          <p:cNvPicPr/>
          <p:nvPr/>
        </p:nvPicPr>
        <p:blipFill>
          <a:blip r:embed="rId2"/>
          <a:stretch/>
        </p:blipFill>
        <p:spPr>
          <a:xfrm>
            <a:off x="357120" y="785880"/>
            <a:ext cx="3429000" cy="47624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3929040" y="1000080"/>
            <a:ext cx="492912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…на деревне лучше: лежи весь век на полатях да ешь пироги»           ( о  жиз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…не хочешь платить—изволь: у каждого дома есть сквозные ворота, и ты так шмыгнёшь, что тебя никакой дьявол не сыщет»                             ( о Петербург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обро бы было в самом деле что-нибудь путное, а то ведь  елистратишка * простой ( *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лежский регистратор-чиновни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го низшего 14 клас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 генерал, да только с другой стороны»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 о Хлестаков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 что, там другой выход ест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 о доме Городниче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928800" y="1285920"/>
            <a:ext cx="75722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3300"/>
                </a:solidFill>
                <a:latin typeface="Comic Sans MS"/>
              </a:rPr>
              <a:t>      </a:t>
            </a:r>
            <a:r>
              <a:rPr b="0" lang="ru-RU" sz="6000" spc="-1" strike="noStrike">
                <a:solidFill>
                  <a:srgbClr val="663300"/>
                </a:solidFill>
                <a:latin typeface="Comic Sans MS"/>
              </a:rPr>
              <a:t>«Ревизор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Comic Sans MS"/>
              </a:rPr>
              <a:t>Комедия в пяти действ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omic Sans MS"/>
              </a:rPr>
              <a:t>                      </a:t>
            </a:r>
            <a:r>
              <a:rPr b="0" lang="ru-RU" sz="2000" spc="-1" strike="noStrike">
                <a:solidFill>
                  <a:srgbClr val="663300"/>
                </a:solidFill>
                <a:latin typeface="Comic Sans MS"/>
              </a:rPr>
              <a:t>На зеркало неча пенять, коли рожа крива.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omic Sans MS"/>
              </a:rPr>
              <a:t>                                                                                        </a:t>
            </a:r>
            <a:r>
              <a:rPr b="0" lang="ru-RU" sz="1600" spc="-1" strike="noStrike">
                <a:solidFill>
                  <a:srgbClr val="663300"/>
                </a:solidFill>
                <a:latin typeface="Comic Sans MS"/>
              </a:rPr>
              <a:t>Народная послов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ddcb8d2d7df8823d1aa1f10f13a002d3.gif"/>
          <p:cNvPicPr/>
          <p:nvPr/>
        </p:nvPicPr>
        <p:blipFill>
          <a:blip r:embed="rId2"/>
          <a:stretch/>
        </p:blipFill>
        <p:spPr>
          <a:xfrm>
            <a:off x="6138720" y="5205240"/>
            <a:ext cx="652680" cy="8240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6715080" y="5500800"/>
            <a:ext cx="214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Cambria"/>
              </a:rPr>
              <a:t>Проверочная работа по комедии «Ревизо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071720" y="242892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ambria"/>
              </a:rPr>
              <a:t>Проверочная работа по комедии «Ревиз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ddcb8d2d7df8823d1aa1f10f13a002d3.gif"/>
          <p:cNvPicPr/>
          <p:nvPr/>
        </p:nvPicPr>
        <p:blipFill>
          <a:blip r:embed="rId2"/>
          <a:stretch/>
        </p:blipFill>
        <p:spPr>
          <a:xfrm>
            <a:off x="8137440" y="5205240"/>
            <a:ext cx="757440" cy="94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642960" y="92880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ambria"/>
              </a:rPr>
              <a:t>1. Расскажите о жизни и творчестве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ambria"/>
              </a:rPr>
              <a:t>     </a:t>
            </a:r>
            <a:r>
              <a:rPr b="1" i="1" lang="ru-RU" sz="3200" spc="-1" strike="noStrike">
                <a:solidFill>
                  <a:srgbClr val="663300"/>
                </a:solidFill>
                <a:latin typeface="Cambria"/>
              </a:rPr>
              <a:t>Николая Васильевича Гог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19460b.jpg"/>
          <p:cNvPicPr/>
          <p:nvPr/>
        </p:nvPicPr>
        <p:blipFill>
          <a:blip r:embed="rId2"/>
          <a:stretch/>
        </p:blipFill>
        <p:spPr>
          <a:xfrm>
            <a:off x="2214720" y="2286000"/>
            <a:ext cx="4209840" cy="3071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ddcb8d2d7df8823d1aa1f10f13a002d3.gif"/>
          <p:cNvPicPr/>
          <p:nvPr/>
        </p:nvPicPr>
        <p:blipFill>
          <a:blip r:embed="rId3"/>
          <a:stretch/>
        </p:blipFill>
        <p:spPr>
          <a:xfrm>
            <a:off x="8210520" y="5353200"/>
            <a:ext cx="652320" cy="815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" descr="gorodn.jpg"/>
          <p:cNvPicPr/>
          <p:nvPr/>
        </p:nvPicPr>
        <p:blipFill>
          <a:blip r:embed="rId1"/>
          <a:stretch/>
        </p:blipFill>
        <p:spPr>
          <a:xfrm>
            <a:off x="2428920" y="214200"/>
            <a:ext cx="4429080" cy="62596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lit08-10.jpg"/>
          <p:cNvPicPr/>
          <p:nvPr/>
        </p:nvPicPr>
        <p:blipFill>
          <a:blip r:embed="rId2"/>
          <a:stretch/>
        </p:blipFill>
        <p:spPr>
          <a:xfrm>
            <a:off x="2500200" y="214200"/>
            <a:ext cx="4286520" cy="62150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osip.jpg"/>
          <p:cNvPicPr/>
          <p:nvPr/>
        </p:nvPicPr>
        <p:blipFill>
          <a:blip r:embed="rId3"/>
          <a:stretch/>
        </p:blipFill>
        <p:spPr>
          <a:xfrm>
            <a:off x="2571840" y="214200"/>
            <a:ext cx="3643200" cy="63388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gogol-heroes_4.jpg"/>
          <p:cNvPicPr/>
          <p:nvPr/>
        </p:nvPicPr>
        <p:blipFill>
          <a:blip r:embed="rId4"/>
          <a:stretch/>
        </p:blipFill>
        <p:spPr>
          <a:xfrm>
            <a:off x="2643120" y="214200"/>
            <a:ext cx="4500720" cy="6316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lit08-08.jpg"/>
          <p:cNvPicPr/>
          <p:nvPr/>
        </p:nvPicPr>
        <p:blipFill>
          <a:blip r:embed="rId5"/>
          <a:stretch/>
        </p:blipFill>
        <p:spPr>
          <a:xfrm>
            <a:off x="2571840" y="214200"/>
            <a:ext cx="4071960" cy="6540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lit08-09.jpg"/>
          <p:cNvPicPr/>
          <p:nvPr/>
        </p:nvPicPr>
        <p:blipFill>
          <a:blip r:embed="rId6"/>
          <a:stretch/>
        </p:blipFill>
        <p:spPr>
          <a:xfrm>
            <a:off x="2643120" y="214200"/>
            <a:ext cx="4000680" cy="642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ad9acf9ba5f797611444f8063f8127a1.gif"/>
          <p:cNvPicPr/>
          <p:nvPr/>
        </p:nvPicPr>
        <p:blipFill>
          <a:blip r:embed="rId7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6858000" y="71424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mbria"/>
              </a:rPr>
              <a:t>2. Назов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Cambria"/>
              </a:rPr>
              <a:t>геро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9" descr="ddcb8d2d7df8823d1aa1f10f13a002d3.gif"/>
          <p:cNvPicPr/>
          <p:nvPr/>
        </p:nvPicPr>
        <p:blipFill>
          <a:blip r:embed="rId8"/>
          <a:stretch/>
        </p:blipFill>
        <p:spPr>
          <a:xfrm>
            <a:off x="8278920" y="5205240"/>
            <a:ext cx="657000" cy="824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2 0.00579 C -0.13716 -0.06134 -0.26962 -0.12824 -0.35452 -0.13194 C -0.43941 -0.13565 -0.44809 -0.0294 -0.51441 -0.01643 C -0.58073 -0.00347 -0.7125 -0.04861 -0.75278 -0.05417 E">
                                      <p:cBhvr>
                                        <p:cTn id="2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278 -0.05417 L -0.75278 0.27917 E">
                                      <p:cBhvr>
                                        <p:cTn id="4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277 0.27916 L -0.58333 0.50023 C -0.54826 0.54953 -0.4908 0.58634 -0.42587 0.60393 C -0.35416 0.62338 -0.29305 0.61828 -0.24635 0.5912 L -0.02691 0.47662 E">
                                      <p:cBhvr>
                                        <p:cTn id="7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7" descr="завязка.jpg"/>
          <p:cNvPicPr/>
          <p:nvPr/>
        </p:nvPicPr>
        <p:blipFill>
          <a:blip r:embed="rId1"/>
          <a:stretch/>
        </p:blipFill>
        <p:spPr>
          <a:xfrm>
            <a:off x="2143080" y="785880"/>
            <a:ext cx="4143600" cy="55245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ю коровин 1951.jpg"/>
          <p:cNvPicPr/>
          <p:nvPr/>
        </p:nvPicPr>
        <p:blipFill>
          <a:blip r:embed="rId2"/>
          <a:stretch/>
        </p:blipFill>
        <p:spPr>
          <a:xfrm>
            <a:off x="1643040" y="785880"/>
            <a:ext cx="5214960" cy="57560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lit08-14.jpg"/>
          <p:cNvPicPr/>
          <p:nvPr/>
        </p:nvPicPr>
        <p:blipFill>
          <a:blip r:embed="rId3"/>
          <a:stretch/>
        </p:blipFill>
        <p:spPr>
          <a:xfrm>
            <a:off x="2286000" y="714240"/>
            <a:ext cx="4071960" cy="57549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8" descr="lit08-15.jpg"/>
          <p:cNvPicPr/>
          <p:nvPr/>
        </p:nvPicPr>
        <p:blipFill>
          <a:blip r:embed="rId4"/>
          <a:stretch/>
        </p:blipFill>
        <p:spPr>
          <a:xfrm>
            <a:off x="2286000" y="714240"/>
            <a:ext cx="4286160" cy="5792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lit08-16.jpg"/>
          <p:cNvPicPr/>
          <p:nvPr/>
        </p:nvPicPr>
        <p:blipFill>
          <a:blip r:embed="rId5"/>
          <a:stretch/>
        </p:blipFill>
        <p:spPr>
          <a:xfrm>
            <a:off x="1214280" y="857160"/>
            <a:ext cx="6500880" cy="5104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ю коровин 1951 хлест.jpg"/>
          <p:cNvPicPr/>
          <p:nvPr/>
        </p:nvPicPr>
        <p:blipFill>
          <a:blip r:embed="rId6"/>
          <a:stretch/>
        </p:blipFill>
        <p:spPr>
          <a:xfrm>
            <a:off x="1785960" y="714240"/>
            <a:ext cx="5286240" cy="5770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lit08-17.jpg"/>
          <p:cNvPicPr/>
          <p:nvPr/>
        </p:nvPicPr>
        <p:blipFill>
          <a:blip r:embed="rId7"/>
          <a:stretch/>
        </p:blipFill>
        <p:spPr>
          <a:xfrm>
            <a:off x="285840" y="642960"/>
            <a:ext cx="8501040" cy="5143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ad9acf9ba5f797611444f8063f8127a1.gif"/>
          <p:cNvPicPr/>
          <p:nvPr/>
        </p:nvPicPr>
        <p:blipFill>
          <a:blip r:embed="rId8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2143080" y="28584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Cambria"/>
              </a:rPr>
              <a:t>3. Объясните ситу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0" descr="ddcb8d2d7df8823d1aa1f10f13a002d3.gif"/>
          <p:cNvPicPr/>
          <p:nvPr/>
        </p:nvPicPr>
        <p:blipFill>
          <a:blip r:embed="rId9"/>
          <a:stretch/>
        </p:blipFill>
        <p:spPr>
          <a:xfrm>
            <a:off x="8210520" y="5425920"/>
            <a:ext cx="652320" cy="81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устюжна.jpg"/>
          <p:cNvPicPr/>
          <p:nvPr/>
        </p:nvPicPr>
        <p:blipFill>
          <a:blip r:embed="rId1"/>
          <a:stretch/>
        </p:blipFill>
        <p:spPr>
          <a:xfrm>
            <a:off x="4714920" y="3786120"/>
            <a:ext cx="3143160" cy="23925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дом в устюжне.jpg"/>
          <p:cNvPicPr/>
          <p:nvPr/>
        </p:nvPicPr>
        <p:blipFill>
          <a:blip r:embed="rId2"/>
          <a:stretch/>
        </p:blipFill>
        <p:spPr>
          <a:xfrm>
            <a:off x="214200" y="4286160"/>
            <a:ext cx="3071880" cy="21700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ad9acf9ba5f797611444f8063f8127a1.gif"/>
          <p:cNvPicPr/>
          <p:nvPr/>
        </p:nvPicPr>
        <p:blipFill>
          <a:blip r:embed="rId3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устюжна современная администрация города.jpg"/>
          <p:cNvPicPr/>
          <p:nvPr/>
        </p:nvPicPr>
        <p:blipFill>
          <a:blip r:embed="rId4"/>
          <a:stretch/>
        </p:blipFill>
        <p:spPr>
          <a:xfrm>
            <a:off x="0" y="1344600"/>
            <a:ext cx="2571840" cy="2725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571680" y="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ездный город Устюжна Новгородской губерн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произошёл случай, подобный сюжету «Ревизо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285840" y="78588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Городнич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Да отсюда, хоть три года скачи, ни до какого государства не доедеш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4857840" y="642960"/>
            <a:ext cx="428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Ю.Манн, литературов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«Сила «Ревизора» в том, что это особый город. Все нормы общежития, обращения людей друг к другу выглядят как повсеместные..Перед нами весь мир русской жизни, «вся Рус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2571840" y="1357200"/>
            <a:ext cx="214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м администрации города, в котором  мог управлять делами Городни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286080" y="4643280"/>
            <a:ext cx="1643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ринный особня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де мог жить  Сквозник-Дмуханов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7858080" y="4071960"/>
            <a:ext cx="1285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лица со старыми дома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которой могли гулять  герои «Ревизо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5929200" y="250020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чти центр город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устюжна новгородской губернии.jpg"/>
          <p:cNvPicPr/>
          <p:nvPr/>
        </p:nvPicPr>
        <p:blipFill>
          <a:blip r:embed="rId5"/>
          <a:stretch/>
        </p:blipFill>
        <p:spPr>
          <a:xfrm>
            <a:off x="3043080" y="2428920"/>
            <a:ext cx="2886120" cy="192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5772240"/>
            <a:ext cx="9156960" cy="10922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785880" y="785880"/>
            <a:ext cx="72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Comic Sans MS"/>
              </a:rPr>
              <a:t>Действующие  лиц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00040" y="1500120"/>
            <a:ext cx="80010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бор персонажей в «Ревизоре» обнаруживает стремление охватить максимально все стороны общественной жизни и 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ут и судопроизводство  ( Ляпкин-Тяпкин), и просвещение (Хлопов), и здравоохранение (Гибнер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 почта  (Шпекин), и своего рода социальное обеспечение( Земляника), и, конечно, поли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кого  широкого  взгляда  на  официальную государственную  жизнь  русская  комедия  ещё  не знал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.Манн «Комедия Гоголя «Ревизо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-6480" y="6138720"/>
            <a:ext cx="9156960" cy="725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3357720" y="28584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тон Антон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возник-Дмухановский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родни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3286080" y="1571760"/>
            <a:ext cx="528660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письма Чмыхо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ты человек умный и не любишь пропускать того, что плывёт в руки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емляника  при разговоре с Хлестаковы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Эка, бездельник, как расписывает! Дал же бог такой дар!» «Этакой свинье лезет всегда в рот счастье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ин из купц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такие обиды чинит, что описать нельзя…совсем заморил, хоть в петлю полезай…ему всего мало…что ни попадёт, всё берёт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япкин-Тяпк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Вот уж кому пристало генеральство, как корове седло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письма Хлестако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городничий глуп, как сивый мери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2" descr="lit08-18.jpg"/>
          <p:cNvPicPr/>
          <p:nvPr/>
        </p:nvPicPr>
        <p:blipFill>
          <a:blip r:embed="rId2"/>
          <a:stretch/>
        </p:blipFill>
        <p:spPr>
          <a:xfrm>
            <a:off x="644400" y="357120"/>
            <a:ext cx="2305080" cy="407196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357120" y="4357800"/>
            <a:ext cx="86439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 себ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Нет другого помышления, кроме того, чтобы благочинием и бдительностью заслужить внимание начальст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а кто тебе помог сплутовать?..я тебе помог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ризнаюсь…очень хочу быть генерало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как я?..тридцать лет живу на службе…мошенников над мошенниками обманывал..трёх губернаторов обманул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3:24:40Z</dcterms:created>
  <dc:creator>Test</dc:creator>
  <dc:description/>
  <dc:language>en-US</dc:language>
  <cp:lastModifiedBy>glv</cp:lastModifiedBy>
  <dcterms:modified xsi:type="dcterms:W3CDTF">2012-12-14T10:39:42Z</dcterms:modified>
  <cp:revision>51</cp:revision>
  <dc:subject/>
  <dc:title>Слайд 1</dc:title>
</cp:coreProperties>
</file>