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B9B-490E-40B7-B556-32B1007E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F46-C04A-449F-8781-6349552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D48-9ACC-425E-B947-62E39C8D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A22-D767-4BFA-AE2A-AF9AD5A2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349-957A-4FD7-A387-725EEAD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710-C8B3-439B-A878-1D529F56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169-1CD0-4488-86AB-E265D182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DB7-E7B7-46F0-82F3-36EF655A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6E7-CB86-4A63-882C-5BEF536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4C2-EA1E-48B0-B208-11E9D40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8D7-A385-45B8-A761-A6A53B7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9E0-FE1B-4F87-9455-644E8F8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3CA-174A-47CF-A7D2-39C2572EC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гоголь11.jpg"/>
          <p:cNvPicPr/>
          <p:nvPr/>
        </p:nvPicPr>
        <p:blipFill>
          <a:blip r:embed="rId1"/>
          <a:stretch/>
        </p:blipFill>
        <p:spPr>
          <a:xfrm>
            <a:off x="428760" y="285840"/>
            <a:ext cx="4714920" cy="56894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5286240" y="2643120"/>
            <a:ext cx="357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Николай Васильевич Гого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(1809- 185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рудаков.jpg"/>
          <p:cNvPicPr/>
          <p:nvPr/>
        </p:nvPicPr>
        <p:blipFill>
          <a:blip r:embed="rId1"/>
          <a:stretch/>
        </p:blipFill>
        <p:spPr>
          <a:xfrm>
            <a:off x="5500800" y="1785960"/>
            <a:ext cx="3429000" cy="4608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72040" y="0"/>
            <a:ext cx="36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на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рья Ант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чь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lit08-13.jpg"/>
          <p:cNvPicPr/>
          <p:nvPr/>
        </p:nvPicPr>
        <p:blipFill>
          <a:blip r:embed="rId3"/>
          <a:stretch/>
        </p:blipFill>
        <p:spPr>
          <a:xfrm>
            <a:off x="2714760" y="1785960"/>
            <a:ext cx="2552400" cy="3595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lit08-10.jpg"/>
          <p:cNvPicPr/>
          <p:nvPr/>
        </p:nvPicPr>
        <p:blipFill>
          <a:blip r:embed="rId4"/>
          <a:stretch/>
        </p:blipFill>
        <p:spPr>
          <a:xfrm>
            <a:off x="214200" y="357120"/>
            <a:ext cx="2243160" cy="34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ляпкин-тяпкин.jpg"/>
          <p:cNvPicPr/>
          <p:nvPr/>
        </p:nvPicPr>
        <p:blipFill>
          <a:blip r:embed="rId1"/>
          <a:stretch/>
        </p:blipFill>
        <p:spPr>
          <a:xfrm>
            <a:off x="214200" y="285840"/>
            <a:ext cx="2714760" cy="6045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714760" y="2858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мос Фёдорович Ляпкин-Тяп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143160" y="1071720"/>
            <a:ext cx="52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судь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вас в передней, куда являются просители, сторожа завели гусей с гусёнками…кроме того, заседатель ваш…от него такой запах, как будто бы он сейчас вышел из винокуренного завода, …в бога не веруете, в церковь не ходи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Я говорю всем открыто, что беру взятки. Но чем взятки? Борзыми щенками. Это совсем иное де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 - Земляник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Чего вам бояться?  Колпаки  чистые надел на больных, да концы в воду…  я вот уже пятнадцать лет сижу на судейском стуле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темий Филиппович Земля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печитель богоугод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руководитель боль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земляникуа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557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357720" y="1500120"/>
            <a:ext cx="52149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лость, доносительство и коварство – лишь неполный перечень качеств этого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Землян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делайте, чтобы больные не походили бы на кузнецов, как обыкновенно они ходят по-домашн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- Хлестако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Больные все, как мухи, выздоравли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учит чиновников, как дать ревизору взятк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Представиться нужно поодиночке, да между четырёх глаз и того…как там следует, чтобы и уши не слыхали. Вот как в обществе благоустроенном дела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3357720" y="285840"/>
            <a:ext cx="5500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истиан Иванович Гиб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ездный л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главный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гибнер-носик.jpg"/>
          <p:cNvPicPr/>
          <p:nvPr/>
        </p:nvPicPr>
        <p:blipFill>
          <a:blip r:embed="rId2"/>
          <a:stretch/>
        </p:blipFill>
        <p:spPr>
          <a:xfrm>
            <a:off x="285840" y="178596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4071960" y="192888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о Гибнер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асчёт врачевания мы с Христианом Ивановичем взяли меры: человек простой: если умрёт, то и так умрёт; если выздоровеет, то и так выздорове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 и Христиан Иванович по-рус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 слова не знает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357720" y="285840"/>
            <a:ext cx="5500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ка Лукич Хло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отритель учили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к савицкий 1901-1902 хлопов.jpg"/>
          <p:cNvPicPr/>
          <p:nvPr/>
        </p:nvPicPr>
        <p:blipFill>
          <a:blip r:embed="rId2"/>
          <a:stretch/>
        </p:blipFill>
        <p:spPr>
          <a:xfrm>
            <a:off x="357120" y="428760"/>
            <a:ext cx="2071800" cy="5465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2928960" y="1428840"/>
            <a:ext cx="5500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ение и запуганность –вот главные его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 себ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е приведи бог служить по  учёной части, всего боишься. Всякий мешается, всякому хочется показать, что он тоже умный челов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говори со мною одним чином выше, у меня просто и души нет, и язык, как в грязь, завяз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lit08-08.jpg"/>
          <p:cNvPicPr/>
          <p:nvPr/>
        </p:nvPicPr>
        <p:blipFill>
          <a:blip r:embed="rId1"/>
          <a:stretch/>
        </p:blipFill>
        <p:spPr>
          <a:xfrm>
            <a:off x="5643720" y="1714680"/>
            <a:ext cx="2782800" cy="4470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857240" y="214200"/>
            <a:ext cx="550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Кузьмич Шпе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тмей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начальник почтовой конторы, ведал пересылкой почты и перевозкой пассажи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57120" y="17859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обродушной наивностью и без зазрения совести вскрывает и читает чужие пись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Это я делаю из любопытства: смерть люблю узнать, что есть нового на свете! Иное письмо с наслаждением прочтёшь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5" descr="бокл бобч добч 1980-е.jpg"/>
          <p:cNvPicPr/>
          <p:nvPr/>
        </p:nvPicPr>
        <p:blipFill>
          <a:blip r:embed="rId1"/>
          <a:stretch/>
        </p:blipFill>
        <p:spPr>
          <a:xfrm>
            <a:off x="4786200" y="1500120"/>
            <a:ext cx="3643560" cy="4897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992920"/>
            <a:ext cx="9156960" cy="871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071960" y="2858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Б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Д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ские поме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85840" y="85716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хожи, но не тождествен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бчинский  проворнее, но Добчинский серьёзнее и солиднее. Именно его берёт Городничий с собой к Хлестакову, а  Добчинский бежит «петушком за дрожка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х есть постоянное соперничество: каждый спешит  что-то узнать, открыть, поэтому, наверное, не возникло бы действие пьесы, не будь этих двух сплетников с тончайшими различиями их характ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14200" y="44290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обчинский о Хлестак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н! И денег не платит, и не едет. Кому ж быть, как не ем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обчинский о своих ощущени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Когда вельможа говорит, чувствуешь стр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боклевский 1856 ревизор.jpg"/>
          <p:cNvPicPr/>
          <p:nvPr/>
        </p:nvPicPr>
        <p:blipFill>
          <a:blip r:embed="rId1"/>
          <a:stretch/>
        </p:blipFill>
        <p:spPr>
          <a:xfrm>
            <a:off x="6357960" y="1844640"/>
            <a:ext cx="2504880" cy="42274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6066000"/>
            <a:ext cx="9156960" cy="798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42920" y="285840"/>
            <a:ext cx="878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пан Ильич Уховёртов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ный пристав (полицейский чинов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истунов, Пуговицын, Держиморд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ице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428760" y="1857240"/>
            <a:ext cx="5786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Пуговицыну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мотри! Не по чину берёшь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Уховёртов – Городнич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вартального Пуговицына я послал подчищать тротуар, Держиморда поехал на пожарной трубе, а Прохоров пьян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6" descr="к савицкий 1901-1902 городнич и полиция.jpg"/>
          <p:cNvPicPr/>
          <p:nvPr/>
        </p:nvPicPr>
        <p:blipFill>
          <a:blip r:embed="rId3"/>
          <a:stretch/>
        </p:blipFill>
        <p:spPr>
          <a:xfrm>
            <a:off x="1071720" y="2428920"/>
            <a:ext cx="271440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992920"/>
            <a:ext cx="9156960" cy="8715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714760" y="28584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ван Александрович Хлест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новник низшего 14-ого класса из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gogol-heroes_4.jpg"/>
          <p:cNvPicPr/>
          <p:nvPr/>
        </p:nvPicPr>
        <p:blipFill>
          <a:blip r:embed="rId2"/>
          <a:stretch/>
        </p:blipFill>
        <p:spPr>
          <a:xfrm>
            <a:off x="214200" y="285840"/>
            <a:ext cx="2357640" cy="4000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2643120" y="1143000"/>
            <a:ext cx="62866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вшись виновником всеобщего обмана, он никого не обманывал, у него совсем нет реплик «в сторону», так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что на уме, то и на язы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го не существует недоразумений, так как он совсем не умеет анализировать обстанов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—как вода, принимающая  форму любого сосуда. У него необыкновенная приспособля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 успехом сыграл роль  ревизора, даже не поняв, что он её играет, начав догадываться лишь к середине четвёрт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42920" y="4500720"/>
            <a:ext cx="2928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го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Хлестаков, сам по себе, ничтожный человек…сила всеобщего страха создала из него замечательное комическое лицо..  в нём всё сюрприз и неожиданн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214800" y="442908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Молодой человек, лет двадцати трёх или четырёх с небольши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Шантрет / шатен/, и  глаза такие быстрые, как звер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286080" y="37148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лестаков о с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« Ведь на то живёшь, чтоб срывать цветы удоволь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4286160" y="2858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га Хлест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конст 1950 осип.jpg"/>
          <p:cNvPicPr/>
          <p:nvPr/>
        </p:nvPicPr>
        <p:blipFill>
          <a:blip r:embed="rId2"/>
          <a:stretch/>
        </p:blipFill>
        <p:spPr>
          <a:xfrm>
            <a:off x="357120" y="785880"/>
            <a:ext cx="3429000" cy="4762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3929040" y="1000080"/>
            <a:ext cx="492912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а деревне лучше: лежи весь век на полатях да ешь пироги»           ( о  жиз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е хочешь платить—изволь: у каждого дома есть сквозные ворота, и ты так шмыгнёшь, что тебя никакой дьявол не сыщет»                             ( о Петербур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обро бы было в самом деле что-нибудь путное, а то ведь  елистратишка * простой ( 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жский регистратор-чинов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го низшего 14 клас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генерал, да только с другой стороны»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Хлестако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что, там другой выход ест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доме Городнич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28800" y="1285920"/>
            <a:ext cx="75722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«Ревизо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Комедия в пяти действ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На зеркало неча пенять, коли рожа крива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Народная посло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ddcb8d2d7df8823d1aa1f10f13a002d3.gif"/>
          <p:cNvPicPr/>
          <p:nvPr/>
        </p:nvPicPr>
        <p:blipFill>
          <a:blip r:embed="rId2"/>
          <a:stretch/>
        </p:blipFill>
        <p:spPr>
          <a:xfrm>
            <a:off x="6138720" y="5205240"/>
            <a:ext cx="652680" cy="824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715080" y="5500800"/>
            <a:ext cx="21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Cambria"/>
              </a:rPr>
              <a:t>Проверочная работа по комедии «Реви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071720" y="242892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ambria"/>
              </a:rPr>
              <a:t>Проверочная работа по комедии «Ревиз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ddcb8d2d7df8823d1aa1f10f13a002d3.gif"/>
          <p:cNvPicPr/>
          <p:nvPr/>
        </p:nvPicPr>
        <p:blipFill>
          <a:blip r:embed="rId2"/>
          <a:stretch/>
        </p:blipFill>
        <p:spPr>
          <a:xfrm>
            <a:off x="8137440" y="5205240"/>
            <a:ext cx="757440" cy="9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42960" y="9288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mbria"/>
              </a:rPr>
              <a:t>1. Расскажите о жизни и творчестве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mbria"/>
              </a:rPr>
              <a:t>     </a:t>
            </a:r>
            <a:r>
              <a:rPr b="1" i="1" lang="ru-RU" sz="3200" spc="-1" strike="noStrike">
                <a:solidFill>
                  <a:srgbClr val="663300"/>
                </a:solidFill>
                <a:latin typeface="Cambria"/>
              </a:rPr>
              <a:t>Николая Васильевича Гог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19460b.jpg"/>
          <p:cNvPicPr/>
          <p:nvPr/>
        </p:nvPicPr>
        <p:blipFill>
          <a:blip r:embed="rId2"/>
          <a:stretch/>
        </p:blipFill>
        <p:spPr>
          <a:xfrm>
            <a:off x="2214720" y="2286000"/>
            <a:ext cx="420984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ddcb8d2d7df8823d1aa1f10f13a002d3.gif"/>
          <p:cNvPicPr/>
          <p:nvPr/>
        </p:nvPicPr>
        <p:blipFill>
          <a:blip r:embed="rId3"/>
          <a:stretch/>
        </p:blipFill>
        <p:spPr>
          <a:xfrm>
            <a:off x="8210520" y="5353200"/>
            <a:ext cx="652320" cy="81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gorodn.jpg"/>
          <p:cNvPicPr/>
          <p:nvPr/>
        </p:nvPicPr>
        <p:blipFill>
          <a:blip r:embed="rId1"/>
          <a:stretch/>
        </p:blipFill>
        <p:spPr>
          <a:xfrm>
            <a:off x="2428920" y="214200"/>
            <a:ext cx="4429080" cy="625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lit08-10.jpg"/>
          <p:cNvPicPr/>
          <p:nvPr/>
        </p:nvPicPr>
        <p:blipFill>
          <a:blip r:embed="rId2"/>
          <a:stretch/>
        </p:blipFill>
        <p:spPr>
          <a:xfrm>
            <a:off x="2500200" y="214200"/>
            <a:ext cx="4286520" cy="6215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osip.jpg"/>
          <p:cNvPicPr/>
          <p:nvPr/>
        </p:nvPicPr>
        <p:blipFill>
          <a:blip r:embed="rId3"/>
          <a:stretch/>
        </p:blipFill>
        <p:spPr>
          <a:xfrm>
            <a:off x="2571840" y="214200"/>
            <a:ext cx="3643200" cy="6338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gogol-heroes_4.jpg"/>
          <p:cNvPicPr/>
          <p:nvPr/>
        </p:nvPicPr>
        <p:blipFill>
          <a:blip r:embed="rId4"/>
          <a:stretch/>
        </p:blipFill>
        <p:spPr>
          <a:xfrm>
            <a:off x="2643120" y="214200"/>
            <a:ext cx="4500720" cy="6316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lit08-08.jpg"/>
          <p:cNvPicPr/>
          <p:nvPr/>
        </p:nvPicPr>
        <p:blipFill>
          <a:blip r:embed="rId5"/>
          <a:stretch/>
        </p:blipFill>
        <p:spPr>
          <a:xfrm>
            <a:off x="2571840" y="214200"/>
            <a:ext cx="4071960" cy="6540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lit08-09.jpg"/>
          <p:cNvPicPr/>
          <p:nvPr/>
        </p:nvPicPr>
        <p:blipFill>
          <a:blip r:embed="rId6"/>
          <a:stretch/>
        </p:blipFill>
        <p:spPr>
          <a:xfrm>
            <a:off x="2643120" y="214200"/>
            <a:ext cx="4000680" cy="642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ad9acf9ba5f797611444f8063f8127a1.gif"/>
          <p:cNvPicPr/>
          <p:nvPr/>
        </p:nvPicPr>
        <p:blipFill>
          <a:blip r:embed="rId7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6858000" y="71424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mbria"/>
              </a:rPr>
              <a:t>2. Наз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Cambria"/>
              </a:rPr>
              <a:t>гер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ddcb8d2d7df8823d1aa1f10f13a002d3.gif"/>
          <p:cNvPicPr/>
          <p:nvPr/>
        </p:nvPicPr>
        <p:blipFill>
          <a:blip r:embed="rId8"/>
          <a:stretch/>
        </p:blipFill>
        <p:spPr>
          <a:xfrm>
            <a:off x="8278920" y="5205240"/>
            <a:ext cx="657000" cy="82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0579 C -0.13716 -0.06134 -0.26962 -0.12824 -0.35452 -0.13194 C -0.43941 -0.13565 -0.44809 -0.0294 -0.51441 -0.01643 C -0.58073 -0.00347 -0.7125 -0.04861 -0.75278 -0.05417 E">
                                      <p:cBhvr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278 -0.05417 L -0.75278 0.27917 E">
                                      <p:cBhvr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277 0.27916 L -0.58333 0.50023 C -0.54826 0.54953 -0.4908 0.58634 -0.42587 0.60393 C -0.35416 0.62338 -0.29305 0.61828 -0.24635 0.5912 L -0.02691 0.47662 E">
                                      <p:cBhvr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завязка.jpg"/>
          <p:cNvPicPr/>
          <p:nvPr/>
        </p:nvPicPr>
        <p:blipFill>
          <a:blip r:embed="rId1"/>
          <a:stretch/>
        </p:blipFill>
        <p:spPr>
          <a:xfrm>
            <a:off x="2143080" y="785880"/>
            <a:ext cx="4143600" cy="5524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ю коровин 1951.jpg"/>
          <p:cNvPicPr/>
          <p:nvPr/>
        </p:nvPicPr>
        <p:blipFill>
          <a:blip r:embed="rId2"/>
          <a:stretch/>
        </p:blipFill>
        <p:spPr>
          <a:xfrm>
            <a:off x="1643040" y="785880"/>
            <a:ext cx="5214960" cy="5756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lit08-14.jpg"/>
          <p:cNvPicPr/>
          <p:nvPr/>
        </p:nvPicPr>
        <p:blipFill>
          <a:blip r:embed="rId3"/>
          <a:stretch/>
        </p:blipFill>
        <p:spPr>
          <a:xfrm>
            <a:off x="2286000" y="714240"/>
            <a:ext cx="4071960" cy="5754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lit08-15.jpg"/>
          <p:cNvPicPr/>
          <p:nvPr/>
        </p:nvPicPr>
        <p:blipFill>
          <a:blip r:embed="rId4"/>
          <a:stretch/>
        </p:blipFill>
        <p:spPr>
          <a:xfrm>
            <a:off x="2286000" y="714240"/>
            <a:ext cx="4286160" cy="5792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lit08-16.jpg"/>
          <p:cNvPicPr/>
          <p:nvPr/>
        </p:nvPicPr>
        <p:blipFill>
          <a:blip r:embed="rId5"/>
          <a:stretch/>
        </p:blipFill>
        <p:spPr>
          <a:xfrm>
            <a:off x="1214280" y="857160"/>
            <a:ext cx="6500880" cy="5104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ю коровин 1951 хлест.jpg"/>
          <p:cNvPicPr/>
          <p:nvPr/>
        </p:nvPicPr>
        <p:blipFill>
          <a:blip r:embed="rId6"/>
          <a:stretch/>
        </p:blipFill>
        <p:spPr>
          <a:xfrm>
            <a:off x="1785960" y="714240"/>
            <a:ext cx="5286240" cy="5770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lit08-17.jpg"/>
          <p:cNvPicPr/>
          <p:nvPr/>
        </p:nvPicPr>
        <p:blipFill>
          <a:blip r:embed="rId7"/>
          <a:stretch/>
        </p:blipFill>
        <p:spPr>
          <a:xfrm>
            <a:off x="285840" y="642960"/>
            <a:ext cx="8501040" cy="5143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ad9acf9ba5f797611444f8063f8127a1.gif"/>
          <p:cNvPicPr/>
          <p:nvPr/>
        </p:nvPicPr>
        <p:blipFill>
          <a:blip r:embed="rId8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43080" y="2858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ambria"/>
              </a:rPr>
              <a:t>3. Объясните ситу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0" descr="ddcb8d2d7df8823d1aa1f10f13a002d3.gif"/>
          <p:cNvPicPr/>
          <p:nvPr/>
        </p:nvPicPr>
        <p:blipFill>
          <a:blip r:embed="rId9"/>
          <a:stretch/>
        </p:blipFill>
        <p:spPr>
          <a:xfrm>
            <a:off x="8210520" y="5425920"/>
            <a:ext cx="652320" cy="81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устюжна.jpg"/>
          <p:cNvPicPr/>
          <p:nvPr/>
        </p:nvPicPr>
        <p:blipFill>
          <a:blip r:embed="rId1"/>
          <a:stretch/>
        </p:blipFill>
        <p:spPr>
          <a:xfrm>
            <a:off x="4714920" y="3786120"/>
            <a:ext cx="3143160" cy="2392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дом в устюжне.jpg"/>
          <p:cNvPicPr/>
          <p:nvPr/>
        </p:nvPicPr>
        <p:blipFill>
          <a:blip r:embed="rId2"/>
          <a:stretch/>
        </p:blipFill>
        <p:spPr>
          <a:xfrm>
            <a:off x="214200" y="4286160"/>
            <a:ext cx="3071880" cy="2170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ad9acf9ba5f797611444f8063f8127a1.gif"/>
          <p:cNvPicPr/>
          <p:nvPr/>
        </p:nvPicPr>
        <p:blipFill>
          <a:blip r:embed="rId3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устюжна современная администрация города.jpg"/>
          <p:cNvPicPr/>
          <p:nvPr/>
        </p:nvPicPr>
        <p:blipFill>
          <a:blip r:embed="rId4"/>
          <a:stretch/>
        </p:blipFill>
        <p:spPr>
          <a:xfrm>
            <a:off x="0" y="1344600"/>
            <a:ext cx="2571840" cy="2725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571680" y="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ездный город Устюжна Новгородской губер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оизошёл случай, подобный сюжету «Ревиз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840" y="78588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роднич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а отсюда, хоть три года скачи, ни до какого государства не доедеш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857840" y="642960"/>
            <a:ext cx="428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Ю.Манн, литературов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«Сила «Ревизора» в том, что это особый город. Все нормы общежития, обращения людей друг к другу выглядят как повсеместные..Перед нами весь мир русской жизни, «вся Рус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71840" y="135720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 администрации города, в котором  мог управлять делами Городни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86080" y="4643280"/>
            <a:ext cx="164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инный особня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мог жить  Сквозник-Дмухан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7858080" y="4071960"/>
            <a:ext cx="128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со старыми дом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которой могли гулять  герои «Ревизо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929200" y="2500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чти центр город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устюжна новгородской губернии.jpg"/>
          <p:cNvPicPr/>
          <p:nvPr/>
        </p:nvPicPr>
        <p:blipFill>
          <a:blip r:embed="rId5"/>
          <a:stretch/>
        </p:blipFill>
        <p:spPr>
          <a:xfrm>
            <a:off x="3043080" y="2428920"/>
            <a:ext cx="288612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785880" y="78588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Comic Sans MS"/>
              </a:rPr>
              <a:t>Действующие  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00040" y="1500120"/>
            <a:ext cx="8001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бор персонажей в «Ревизоре» обнаруживает стремление охватить максимально все стороны общественной жизни и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т и судопроизводство  ( Ляпкин-Тяпкин), и просвещение (Хлопов), и здравоохранение (Гибне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почта  (Шпекин), и своего рода социальное обеспечение( Земляника), и, конечно, пол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ого  широкого  взгляда  на  официальную государственную  жизнь  русская  комедия  ещё  не знал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.Манн «Комедия Гоголя «Реви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6138720"/>
            <a:ext cx="9156960" cy="725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он Анто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возник-Дмухановски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н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86080" y="1571760"/>
            <a:ext cx="52866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Чмых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ы человек умный и не любишь пропускать того, что плывёт в руки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ника  при разговоре с Хлестаков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Эка, бездельник, как расписывает! Дал же бог такой дар!» «Этакой свинье лезет всегда в рот счастье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купц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акие обиды чинит, что описать нельзя…совсем заморил, хоть в петлю полезай…ему всего мало…что ни попадёт, всё берё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пкин-Тяпк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Вот уж кому пристало генеральство, как корове седл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Хлестак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городничий глуп, как сивый мер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lit08-18.jpg"/>
          <p:cNvPicPr/>
          <p:nvPr/>
        </p:nvPicPr>
        <p:blipFill>
          <a:blip r:embed="rId2"/>
          <a:stretch/>
        </p:blipFill>
        <p:spPr>
          <a:xfrm>
            <a:off x="644400" y="357120"/>
            <a:ext cx="2305080" cy="4071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357120" y="4357800"/>
            <a:ext cx="86439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себ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ет другого помышления, кроме того, чтобы благочинием и бдительностью заслужить внимание нача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 кто тебе помог сплутовать?..я тебе помо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ризнаюсь…очень хочу быть генерал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ак я?..тридцать лет живу на службе…мошенников над мошенниками обманывал..трёх губернаторов обманул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24:40Z</dcterms:created>
  <dc:creator>Test</dc:creator>
  <dc:description/>
  <dc:language>en-US</dc:language>
  <cp:lastModifiedBy>glv</cp:lastModifiedBy>
  <dcterms:modified xsi:type="dcterms:W3CDTF">2012-12-14T10:39:42Z</dcterms:modified>
  <cp:revision>51</cp:revision>
  <dc:subject/>
  <dc:title>Слайд 1</dc:title>
</cp:coreProperties>
</file>