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8D9-B1AE-4424-A521-42765E66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3D5-8DDD-4428-A494-31B9771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8FD-82F9-4F92-8074-867949D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31F-CA21-43D6-9059-3D1213C0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217-43A1-48A9-A722-889FFE97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6E9-7D8E-49B9-867A-C6A4652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9E2-2A44-4C48-A7CD-2ACAAD0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8BC-4A62-4CDA-BB9C-FB3129D1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4D8-D393-460A-AF82-39B4D600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CBE-8BE5-4B86-B62E-1B82BD9C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CC0-5EB1-4012-93C3-0375C2E8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CE8-671B-4D30-A203-B0574F5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B80-25F0-4B21-A795-5F27AE88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989000"/>
            <a:ext cx="4103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2600" y="3562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58972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618840" cy="1419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161928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4149720"/>
            <a:ext cx="1067040" cy="134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692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ематика. 2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2852640"/>
            <a:ext cx="2664000" cy="21607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35280" y="2852640"/>
            <a:ext cx="2736720" cy="18716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24720" y="5013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7280" y="465300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08720" y="1844640"/>
            <a:ext cx="30002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ши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 rot="19918200">
            <a:off x="4716360" y="2276280"/>
            <a:ext cx="792360" cy="431640"/>
          </a:xfrm>
          <a:prstGeom prst="leftArrow">
            <a:avLst>
              <a:gd name="adj1" fmla="val 50000"/>
              <a:gd name="adj2" fmla="val 45892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19437600">
            <a:off x="971640" y="2852280"/>
            <a:ext cx="30002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ро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2434200">
            <a:off x="5651640" y="3357720"/>
            <a:ext cx="28558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ро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4255920"/>
            <a:ext cx="4608720" cy="528840"/>
          </a:xfrm>
          <a:custGeom>
            <a:avLst/>
            <a:gdLst/>
            <a:ahLst/>
            <a:rect l="l" t="t" r="r" b="b"/>
            <a:pathLst>
              <a:path w="2903" h="333">
                <a:moveTo>
                  <a:pt x="0" y="159"/>
                </a:moveTo>
                <a:cubicBezTo>
                  <a:pt x="408" y="79"/>
                  <a:pt x="816" y="0"/>
                  <a:pt x="1088" y="23"/>
                </a:cubicBezTo>
                <a:cubicBezTo>
                  <a:pt x="1360" y="46"/>
                  <a:pt x="1444" y="257"/>
                  <a:pt x="1633" y="295"/>
                </a:cubicBezTo>
                <a:cubicBezTo>
                  <a:pt x="1822" y="333"/>
                  <a:pt x="2071" y="273"/>
                  <a:pt x="2222" y="250"/>
                </a:cubicBezTo>
                <a:cubicBezTo>
                  <a:pt x="2373" y="227"/>
                  <a:pt x="2427" y="159"/>
                  <a:pt x="2540" y="159"/>
                </a:cubicBezTo>
                <a:cubicBezTo>
                  <a:pt x="2653" y="159"/>
                  <a:pt x="2835" y="235"/>
                  <a:pt x="2903" y="25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048200">
            <a:off x="6084360" y="3499920"/>
            <a:ext cx="432000" cy="432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3648200">
            <a:off x="2700000" y="3283920"/>
            <a:ext cx="43164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2104 L -3.88889E-006 -2.18316E-006 E">
                                      <p:cBhvr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79 -0.02084 L -3.61111E-006 3.33333E-006 E">
                                      <p:cBhvr>
                                        <p:cTn id="3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4572000" y="1699920"/>
            <a:ext cx="2305080" cy="11523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276720" y="1628640"/>
            <a:ext cx="1295280" cy="12240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20000" y="162864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56000" y="314172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55280" y="3789360"/>
            <a:ext cx="1655640" cy="122400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789360"/>
            <a:ext cx="1368720" cy="136836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3645000"/>
            <a:ext cx="2890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414972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68360" y="2781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95640" y="479736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E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700360" y="134136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08360" y="3500280"/>
            <a:ext cx="1871640" cy="649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500280"/>
            <a:ext cx="936720" cy="1873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3357720"/>
            <a:ext cx="28872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32360" y="407664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S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96360" y="2781360"/>
            <a:ext cx="57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M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532720" y="508464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P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5589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        C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3640" y="5805360"/>
            <a:ext cx="289080" cy="216000"/>
            <a:chOff x="323640" y="5805360"/>
            <a:chExt cx="289080" cy="216000"/>
          </a:xfrm>
        </p:grpSpPr>
        <p:sp>
          <p:nvSpPr>
            <p:cNvPr id="133" name=""/>
            <p:cNvSpPr/>
            <p:nvPr/>
          </p:nvSpPr>
          <p:spPr>
            <a:xfrm flipH="1">
              <a:off x="323640" y="580536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000" y="602136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18920" y="5805360"/>
            <a:ext cx="289080" cy="216000"/>
            <a:chOff x="1618920" y="5805360"/>
            <a:chExt cx="289080" cy="216000"/>
          </a:xfrm>
        </p:grpSpPr>
        <p:sp>
          <p:nvSpPr>
            <p:cNvPr id="136" name=""/>
            <p:cNvSpPr/>
            <p:nvPr/>
          </p:nvSpPr>
          <p:spPr>
            <a:xfrm flipH="1">
              <a:off x="1618920" y="580536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9280" y="602136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067280" y="112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        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9640" y="1341360"/>
            <a:ext cx="289080" cy="216000"/>
            <a:chOff x="3779640" y="1341360"/>
            <a:chExt cx="289080" cy="216000"/>
          </a:xfrm>
        </p:grpSpPr>
        <p:sp>
          <p:nvSpPr>
            <p:cNvPr id="140" name=""/>
            <p:cNvSpPr/>
            <p:nvPr/>
          </p:nvSpPr>
          <p:spPr>
            <a:xfrm flipH="1">
              <a:off x="3779640" y="134136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000" y="155736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76720" y="1341360"/>
            <a:ext cx="289080" cy="216000"/>
            <a:chOff x="5076720" y="1341360"/>
            <a:chExt cx="289080" cy="216000"/>
          </a:xfrm>
        </p:grpSpPr>
        <p:sp>
          <p:nvSpPr>
            <p:cNvPr id="143" name=""/>
            <p:cNvSpPr/>
            <p:nvPr/>
          </p:nvSpPr>
          <p:spPr>
            <a:xfrm flipH="1">
              <a:off x="5076720" y="134136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6720" y="155736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4836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        S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59280" y="5734080"/>
            <a:ext cx="289080" cy="216000"/>
            <a:chOff x="4859280" y="5734080"/>
            <a:chExt cx="289080" cy="216000"/>
          </a:xfrm>
        </p:grpSpPr>
        <p:sp>
          <p:nvSpPr>
            <p:cNvPr id="147" name=""/>
            <p:cNvSpPr/>
            <p:nvPr/>
          </p:nvSpPr>
          <p:spPr>
            <a:xfrm flipH="1">
              <a:off x="4859280" y="573408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59280" y="595008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27640" y="5734080"/>
            <a:ext cx="289080" cy="216000"/>
            <a:chOff x="6227640" y="5734080"/>
            <a:chExt cx="289080" cy="216000"/>
          </a:xfrm>
        </p:grpSpPr>
        <p:sp>
          <p:nvSpPr>
            <p:cNvPr id="150" name=""/>
            <p:cNvSpPr/>
            <p:nvPr/>
          </p:nvSpPr>
          <p:spPr>
            <a:xfrm flipH="1">
              <a:off x="6227640" y="573408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595008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042920" y="4724280"/>
            <a:ext cx="2521080" cy="230400"/>
          </a:xfrm>
          <a:custGeom>
            <a:avLst/>
            <a:gdLst/>
            <a:ahLst/>
            <a:rect l="l" t="t" r="r" b="b"/>
            <a:pathLst>
              <a:path w="1588" h="145">
                <a:moveTo>
                  <a:pt x="0" y="46"/>
                </a:moveTo>
                <a:cubicBezTo>
                  <a:pt x="128" y="95"/>
                  <a:pt x="257" y="145"/>
                  <a:pt x="363" y="137"/>
                </a:cubicBezTo>
                <a:cubicBezTo>
                  <a:pt x="469" y="129"/>
                  <a:pt x="529" y="0"/>
                  <a:pt x="635" y="0"/>
                </a:cubicBezTo>
                <a:cubicBezTo>
                  <a:pt x="741" y="0"/>
                  <a:pt x="885" y="129"/>
                  <a:pt x="998" y="137"/>
                </a:cubicBezTo>
                <a:cubicBezTo>
                  <a:pt x="1111" y="145"/>
                  <a:pt x="1218" y="46"/>
                  <a:pt x="1316" y="46"/>
                </a:cubicBezTo>
                <a:cubicBezTo>
                  <a:pt x="1414" y="46"/>
                  <a:pt x="1543" y="122"/>
                  <a:pt x="1588" y="137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1833480"/>
            <a:ext cx="2592360" cy="238320"/>
          </a:xfrm>
          <a:custGeom>
            <a:avLst/>
            <a:gdLst/>
            <a:ahLst/>
            <a:rect l="l" t="t" r="r" b="b"/>
            <a:pathLst>
              <a:path w="1633" h="150">
                <a:moveTo>
                  <a:pt x="0" y="98"/>
                </a:moveTo>
                <a:cubicBezTo>
                  <a:pt x="125" y="71"/>
                  <a:pt x="250" y="45"/>
                  <a:pt x="363" y="52"/>
                </a:cubicBezTo>
                <a:cubicBezTo>
                  <a:pt x="476" y="59"/>
                  <a:pt x="574" y="150"/>
                  <a:pt x="680" y="143"/>
                </a:cubicBezTo>
                <a:cubicBezTo>
                  <a:pt x="786" y="136"/>
                  <a:pt x="839" y="14"/>
                  <a:pt x="998" y="7"/>
                </a:cubicBezTo>
                <a:cubicBezTo>
                  <a:pt x="1157" y="0"/>
                  <a:pt x="1527" y="83"/>
                  <a:pt x="1633" y="9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005360"/>
            <a:ext cx="2233800" cy="1008000"/>
          </a:xfrm>
          <a:custGeom>
            <a:avLst/>
            <a:gdLst/>
            <a:ahLst/>
            <a:rect l="l" t="t" r="r" b="b"/>
            <a:pathLst>
              <a:path w="1407" h="635">
                <a:moveTo>
                  <a:pt x="0" y="0"/>
                </a:moveTo>
                <a:cubicBezTo>
                  <a:pt x="30" y="75"/>
                  <a:pt x="61" y="151"/>
                  <a:pt x="137" y="181"/>
                </a:cubicBezTo>
                <a:cubicBezTo>
                  <a:pt x="213" y="211"/>
                  <a:pt x="363" y="143"/>
                  <a:pt x="454" y="181"/>
                </a:cubicBezTo>
                <a:cubicBezTo>
                  <a:pt x="545" y="219"/>
                  <a:pt x="590" y="378"/>
                  <a:pt x="681" y="408"/>
                </a:cubicBezTo>
                <a:cubicBezTo>
                  <a:pt x="772" y="438"/>
                  <a:pt x="877" y="325"/>
                  <a:pt x="998" y="363"/>
                </a:cubicBezTo>
                <a:cubicBezTo>
                  <a:pt x="1119" y="401"/>
                  <a:pt x="1339" y="590"/>
                  <a:pt x="1407" y="63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6165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18920" y="6381720"/>
            <a:ext cx="289080" cy="216000"/>
            <a:chOff x="1618920" y="6381720"/>
            <a:chExt cx="289080" cy="216000"/>
          </a:xfrm>
        </p:grpSpPr>
        <p:sp>
          <p:nvSpPr>
            <p:cNvPr id="157" name=""/>
            <p:cNvSpPr/>
            <p:nvPr/>
          </p:nvSpPr>
          <p:spPr>
            <a:xfrm flipH="1">
              <a:off x="1618920" y="6381720"/>
              <a:ext cx="21564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19280" y="6597720"/>
              <a:ext cx="288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588000" y="6093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27640" y="6308640"/>
            <a:ext cx="289080" cy="216000"/>
            <a:chOff x="6227640" y="6308640"/>
            <a:chExt cx="289080" cy="216000"/>
          </a:xfrm>
        </p:grpSpPr>
        <p:sp>
          <p:nvSpPr>
            <p:cNvPr id="161" name=""/>
            <p:cNvSpPr/>
            <p:nvPr/>
          </p:nvSpPr>
          <p:spPr>
            <a:xfrm flipH="1">
              <a:off x="6227640" y="630864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7640" y="652464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804000" y="1268280"/>
            <a:ext cx="289080" cy="216000"/>
            <a:chOff x="6804000" y="1268280"/>
            <a:chExt cx="289080" cy="216000"/>
          </a:xfrm>
        </p:grpSpPr>
        <p:sp>
          <p:nvSpPr>
            <p:cNvPr id="164" name=""/>
            <p:cNvSpPr/>
            <p:nvPr/>
          </p:nvSpPr>
          <p:spPr>
            <a:xfrm flipH="1">
              <a:off x="6804000" y="1268280"/>
              <a:ext cx="216000" cy="2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1484280"/>
              <a:ext cx="2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164360" y="1052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52640"/>
            <a:ext cx="2664000" cy="21607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0400" y="2859120"/>
            <a:ext cx="294120" cy="330228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24720" y="5013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08360" y="580536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4702320"/>
            <a:ext cx="2592360" cy="887400"/>
          </a:xfrm>
          <a:custGeom>
            <a:avLst/>
            <a:gdLst/>
            <a:ahLst/>
            <a:rect l="l" t="t" r="r" b="b"/>
            <a:pathLst>
              <a:path w="1633" h="559">
                <a:moveTo>
                  <a:pt x="0" y="559"/>
                </a:moveTo>
                <a:cubicBezTo>
                  <a:pt x="265" y="509"/>
                  <a:pt x="530" y="460"/>
                  <a:pt x="726" y="377"/>
                </a:cubicBezTo>
                <a:cubicBezTo>
                  <a:pt x="922" y="294"/>
                  <a:pt x="1028" y="120"/>
                  <a:pt x="1179" y="60"/>
                </a:cubicBezTo>
                <a:cubicBezTo>
                  <a:pt x="1330" y="0"/>
                  <a:pt x="1557" y="22"/>
                  <a:pt x="1633" y="14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0" y="2852640"/>
            <a:ext cx="2664000" cy="21607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285560" y="2265840"/>
            <a:ext cx="3261600" cy="59688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524720" y="5013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640" y="19162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55640" y="2349360"/>
            <a:ext cx="5364360" cy="2556000"/>
          </a:xfrm>
          <a:custGeom>
            <a:avLst/>
            <a:gdLst/>
            <a:ahLst/>
            <a:rect l="l" t="t" r="r" b="b"/>
            <a:pathLst>
              <a:path w="3379" h="1610">
                <a:moveTo>
                  <a:pt x="68" y="0"/>
                </a:moveTo>
                <a:cubicBezTo>
                  <a:pt x="34" y="132"/>
                  <a:pt x="0" y="264"/>
                  <a:pt x="68" y="362"/>
                </a:cubicBezTo>
                <a:cubicBezTo>
                  <a:pt x="136" y="460"/>
                  <a:pt x="385" y="460"/>
                  <a:pt x="476" y="589"/>
                </a:cubicBezTo>
                <a:cubicBezTo>
                  <a:pt x="567" y="718"/>
                  <a:pt x="453" y="1006"/>
                  <a:pt x="612" y="1134"/>
                </a:cubicBezTo>
                <a:cubicBezTo>
                  <a:pt x="771" y="1262"/>
                  <a:pt x="1217" y="1284"/>
                  <a:pt x="1429" y="1360"/>
                </a:cubicBezTo>
                <a:cubicBezTo>
                  <a:pt x="1641" y="1436"/>
                  <a:pt x="1731" y="1564"/>
                  <a:pt x="1882" y="1587"/>
                </a:cubicBezTo>
                <a:cubicBezTo>
                  <a:pt x="2033" y="1610"/>
                  <a:pt x="2170" y="1496"/>
                  <a:pt x="2336" y="1496"/>
                </a:cubicBezTo>
                <a:cubicBezTo>
                  <a:pt x="2502" y="1496"/>
                  <a:pt x="2706" y="1572"/>
                  <a:pt x="2880" y="1587"/>
                </a:cubicBezTo>
                <a:cubicBezTo>
                  <a:pt x="3054" y="1602"/>
                  <a:pt x="3296" y="1587"/>
                  <a:pt x="3379" y="1587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2172960" y="5499720"/>
            <a:ext cx="3429720" cy="349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Прямой 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111400" y="2131560"/>
            <a:ext cx="23760" cy="3315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332000" y="530064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24360" y="573408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03280" y="184464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5373720"/>
            <a:ext cx="28872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708280"/>
            <a:ext cx="3311640" cy="2808360"/>
          </a:xfrm>
          <a:custGeom>
            <a:avLst/>
            <a:gdLst/>
            <a:ahLst/>
            <a:rect l="l" t="t" r="r" b="b"/>
            <a:pathLst>
              <a:path w="2086" h="1769">
                <a:moveTo>
                  <a:pt x="0" y="0"/>
                </a:moveTo>
                <a:cubicBezTo>
                  <a:pt x="136" y="83"/>
                  <a:pt x="272" y="167"/>
                  <a:pt x="363" y="273"/>
                </a:cubicBezTo>
                <a:cubicBezTo>
                  <a:pt x="454" y="379"/>
                  <a:pt x="453" y="560"/>
                  <a:pt x="544" y="635"/>
                </a:cubicBezTo>
                <a:cubicBezTo>
                  <a:pt x="635" y="710"/>
                  <a:pt x="816" y="666"/>
                  <a:pt x="907" y="726"/>
                </a:cubicBezTo>
                <a:cubicBezTo>
                  <a:pt x="998" y="786"/>
                  <a:pt x="1020" y="900"/>
                  <a:pt x="1088" y="998"/>
                </a:cubicBezTo>
                <a:cubicBezTo>
                  <a:pt x="1156" y="1096"/>
                  <a:pt x="1186" y="1256"/>
                  <a:pt x="1315" y="1316"/>
                </a:cubicBezTo>
                <a:cubicBezTo>
                  <a:pt x="1444" y="1376"/>
                  <a:pt x="1732" y="1286"/>
                  <a:pt x="1860" y="1361"/>
                </a:cubicBezTo>
                <a:cubicBezTo>
                  <a:pt x="1988" y="1436"/>
                  <a:pt x="2048" y="1709"/>
                  <a:pt x="2086" y="1769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68360" y="18900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Прямой угол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168720" cy="2404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1590480" cy="2209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835280" y="4005360"/>
            <a:ext cx="3024000" cy="2530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372360" y="1341360"/>
            <a:ext cx="2496960" cy="249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58000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1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вместить вершину прямого угла чертежного угольника и вершину уг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1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вместить одну из сторон чертежного угольника и уг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1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Если вторая сторона угла совпала со второй стороной угольника, то это прямой уго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280" y="189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Как найти прямой угол: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V="1">
            <a:off x="250920" y="119664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292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1628640"/>
            <a:ext cx="1584360" cy="1297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4932360" y="4365720"/>
            <a:ext cx="2160720" cy="1224000"/>
          </a:xfrm>
          <a:prstGeom prst="rect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3500280"/>
            <a:ext cx="1008000" cy="2953080"/>
          </a:xfrm>
          <a:custGeom>
            <a:avLst/>
            <a:gdLst/>
            <a:ahLst/>
            <a:rect l="l" t="t" r="r" b="b"/>
            <a:pathLst>
              <a:path w="635" h="1860">
                <a:moveTo>
                  <a:pt x="0" y="0"/>
                </a:moveTo>
                <a:lnTo>
                  <a:pt x="635" y="545"/>
                </a:lnTo>
                <a:lnTo>
                  <a:pt x="0" y="817"/>
                </a:lnTo>
                <a:lnTo>
                  <a:pt x="499" y="1407"/>
                </a:lnTo>
                <a:lnTo>
                  <a:pt x="0" y="1860"/>
                </a:ln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9640" y="3573360"/>
            <a:ext cx="1656000" cy="1871640"/>
            <a:chOff x="539640" y="3573360"/>
            <a:chExt cx="1656000" cy="1871640"/>
          </a:xfrm>
        </p:grpSpPr>
        <p:sp>
          <p:nvSpPr>
            <p:cNvPr id="208" name=""/>
            <p:cNvSpPr/>
            <p:nvPr/>
          </p:nvSpPr>
          <p:spPr>
            <a:xfrm>
              <a:off x="539640" y="3573360"/>
              <a:ext cx="0" cy="187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9640" y="3573360"/>
              <a:ext cx="1656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492360" y="2707920"/>
            <a:ext cx="1871640" cy="1152720"/>
            <a:chOff x="3492360" y="2707920"/>
            <a:chExt cx="1871640" cy="1152720"/>
          </a:xfrm>
        </p:grpSpPr>
        <p:sp>
          <p:nvSpPr>
            <p:cNvPr id="211" name=""/>
            <p:cNvSpPr/>
            <p:nvPr/>
          </p:nvSpPr>
          <p:spPr>
            <a:xfrm flipV="1">
              <a:off x="3492360" y="2707920"/>
              <a:ext cx="1224000" cy="1152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2360" y="3860640"/>
              <a:ext cx="18716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932360" y="1197000"/>
            <a:ext cx="1512720" cy="1440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762600" y="3562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558972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618840" cy="1419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161928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39640" y="4149720"/>
            <a:ext cx="1067040" cy="1343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 rot="21169200">
            <a:off x="900000" y="1341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260280"/>
            <a:ext cx="8640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атематику нельзя изуч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блюдая, как это делает сосед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Нив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637000"/>
            <a:ext cx="1584360" cy="12967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4292640"/>
            <a:ext cx="2160720" cy="1224000"/>
          </a:xfrm>
          <a:prstGeom prst="rect">
            <a:avLst/>
          </a:prstGeom>
          <a:solidFill>
            <a:srgbClr val="66ffff"/>
          </a:solidFill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3500280"/>
            <a:ext cx="1008000" cy="2953080"/>
          </a:xfrm>
          <a:custGeom>
            <a:avLst/>
            <a:gdLst/>
            <a:ahLst/>
            <a:rect l="l" t="t" r="r" b="b"/>
            <a:pathLst>
              <a:path w="635" h="1860">
                <a:moveTo>
                  <a:pt x="0" y="0"/>
                </a:moveTo>
                <a:lnTo>
                  <a:pt x="635" y="545"/>
                </a:lnTo>
                <a:lnTo>
                  <a:pt x="0" y="817"/>
                </a:lnTo>
                <a:lnTo>
                  <a:pt x="499" y="1407"/>
                </a:lnTo>
                <a:lnTo>
                  <a:pt x="0" y="1860"/>
                </a:ln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1557360"/>
            <a:ext cx="1512720" cy="1440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3500280"/>
            <a:ext cx="1008000" cy="2953080"/>
          </a:xfrm>
          <a:custGeom>
            <a:avLst/>
            <a:gdLst/>
            <a:ahLst/>
            <a:rect l="l" t="t" r="r" b="b"/>
            <a:pathLst>
              <a:path w="635" h="1860">
                <a:moveTo>
                  <a:pt x="0" y="0"/>
                </a:moveTo>
                <a:lnTo>
                  <a:pt x="635" y="545"/>
                </a:lnTo>
                <a:lnTo>
                  <a:pt x="0" y="817"/>
                </a:lnTo>
                <a:lnTo>
                  <a:pt x="499" y="1407"/>
                </a:lnTo>
                <a:lnTo>
                  <a:pt x="0" y="1860"/>
                </a:ln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6093000"/>
            <a:ext cx="3527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1116000" y="1483920"/>
            <a:ext cx="1655640" cy="136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76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56000" y="1916280"/>
            <a:ext cx="1800360" cy="122544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335772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101080" y="1268280"/>
            <a:ext cx="40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27280" y="465300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580000" y="2781360"/>
            <a:ext cx="4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0" y="2852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771280" y="2852640"/>
            <a:ext cx="1800360" cy="12258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43640" y="393372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400536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692520"/>
            <a:ext cx="2735280" cy="493560"/>
          </a:xfrm>
          <a:custGeom>
            <a:avLst/>
            <a:gdLst/>
            <a:ahLst/>
            <a:rect l="l" t="t" r="r" b="b"/>
            <a:pathLst>
              <a:path w="1723" h="311">
                <a:moveTo>
                  <a:pt x="0" y="106"/>
                </a:moveTo>
                <a:cubicBezTo>
                  <a:pt x="177" y="159"/>
                  <a:pt x="355" y="212"/>
                  <a:pt x="499" y="197"/>
                </a:cubicBezTo>
                <a:cubicBezTo>
                  <a:pt x="643" y="182"/>
                  <a:pt x="734" y="0"/>
                  <a:pt x="862" y="15"/>
                </a:cubicBezTo>
                <a:cubicBezTo>
                  <a:pt x="990" y="30"/>
                  <a:pt x="1127" y="265"/>
                  <a:pt x="1270" y="288"/>
                </a:cubicBezTo>
                <a:cubicBezTo>
                  <a:pt x="1413" y="311"/>
                  <a:pt x="1648" y="175"/>
                  <a:pt x="1723" y="152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0" y="2852640"/>
            <a:ext cx="1657440" cy="1368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00000" y="189000"/>
            <a:ext cx="70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89808" dir="483908" blurRad="0" rotWithShape="0">
                    <a:srgbClr val="000099"/>
                  </a:outerShdw>
                </a:effectLst>
                <a:latin typeface="Impact"/>
              </a:rPr>
              <a:t>Страна Геометрия</a:t>
            </a:r>
            <a:endParaRPr b="0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89808" dir="483908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71280" y="2852640"/>
            <a:ext cx="1800360" cy="12258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40360" y="191628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43640" y="3933720"/>
            <a:ext cx="40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95640" y="4005360"/>
            <a:ext cx="40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0066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708280"/>
            <a:ext cx="288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24360" y="1989000"/>
            <a:ext cx="300060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шина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 rot="19918200">
            <a:off x="5148360" y="2349000"/>
            <a:ext cx="576000" cy="4320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3716280"/>
            <a:ext cx="2664000" cy="241200"/>
          </a:xfrm>
          <a:custGeom>
            <a:avLst/>
            <a:gdLst/>
            <a:ahLst/>
            <a:rect l="l" t="t" r="r" b="b"/>
            <a:pathLst>
              <a:path w="1678" h="152">
                <a:moveTo>
                  <a:pt x="0" y="91"/>
                </a:moveTo>
                <a:cubicBezTo>
                  <a:pt x="170" y="121"/>
                  <a:pt x="340" y="152"/>
                  <a:pt x="499" y="137"/>
                </a:cubicBezTo>
                <a:cubicBezTo>
                  <a:pt x="658" y="122"/>
                  <a:pt x="824" y="0"/>
                  <a:pt x="952" y="0"/>
                </a:cubicBezTo>
                <a:cubicBezTo>
                  <a:pt x="1080" y="0"/>
                  <a:pt x="1149" y="122"/>
                  <a:pt x="1270" y="137"/>
                </a:cubicBezTo>
                <a:cubicBezTo>
                  <a:pt x="1391" y="152"/>
                  <a:pt x="1610" y="99"/>
                  <a:pt x="1678" y="91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1.9704E-006 L -0.04322 1.9704E-006 E">
                                      <p:cBhvr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4:28:14Z</dcterms:created>
  <dc:creator>Teacher</dc:creator>
  <dc:description/>
  <dc:language>en-US</dc:language>
  <cp:lastModifiedBy>Adel</cp:lastModifiedBy>
  <dcterms:modified xsi:type="dcterms:W3CDTF">2011-04-12T20:55:18Z</dcterms:modified>
  <cp:revision>18</cp:revision>
  <dc:subject/>
  <dc:title>Слайд 1</dc:title>
</cp:coreProperties>
</file>