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13.gif" ContentType="image/gif"/>
  <Override PartName="/ppt/media/image4.jpeg" ContentType="image/jpeg"/>
  <Override PartName="/ppt/media/image21.gif" ContentType="image/gif"/>
  <Override PartName="/ppt/media/image19.gif" ContentType="image/gif"/>
  <Override PartName="/ppt/media/image3.gif" ContentType="image/gif"/>
  <Override PartName="/ppt/media/image1.jpeg" ContentType="image/jpeg"/>
  <Override PartName="/ppt/media/image7.png" ContentType="image/png"/>
  <Override PartName="/ppt/media/image12.png" ContentType="image/png"/>
  <Override PartName="/ppt/media/image20.gif" ContentType="image/gif"/>
  <Override PartName="/ppt/media/image18.gif" ContentType="image/gif"/>
  <Override PartName="/ppt/media/image17.gif" ContentType="image/gif"/>
  <Override PartName="/ppt/media/image2.jpeg" ContentType="image/jpeg"/>
  <Override PartName="/ppt/media/image16.gif" ContentType="image/gif"/>
  <Override PartName="/ppt/media/image15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351B-767F-4372-8B8E-FF0720B0E3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FC06-E462-4A7F-B58B-6EDF4FA831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3418-8423-461E-BF33-91C4740D9A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1536-27BE-4036-94F4-C9F64EAE1C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5AB6-4DCA-4C27-BAE9-724E268D3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9BFE-8502-4C36-AD5A-B44D2900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EAFF-33BB-4D9D-B1C1-34AF39401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D1AE-21FE-46E3-8FC1-7E93C8630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23FF-1CBA-4EFC-ADB8-0D3168CFC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7AE6-7201-4AA8-97D1-3498D14C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46B0-7720-421F-A091-81E14D9A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D405-7DF5-4AC0-B1EF-50C41BC1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0DED-3DE4-459E-8BAA-C3843E75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8D03-AB0E-47DE-8F52-351D30E2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DA4F-0575-4A5A-8CE7-535AED45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288F-840B-426C-B3F7-C10A8D59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AC4F-C49A-44CF-9C1D-C533D05F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31B3-DDFA-4B73-A88C-879EC326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1479-061F-47FF-9B93-F76A870F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6212-F34B-48BA-B421-F0045942B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B426-D09E-42B5-9DC6-FAB158D1E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FEDB4-0094-443C-9AD1-4259A3000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1425A-AA19-4970-868C-D7FAD0F8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811EF-AD17-440A-9514-DF8CD141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8E694-EFBD-4104-8154-E968B780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F0EEF-C50B-4183-9F30-2C8D0EAD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5A34-4642-4C95-84AB-BB2A284C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B2410-C8DF-4C75-94A0-42A1F1EB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A5A29-4278-4C02-98ED-ED1F3432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34495-4BF3-4B06-99F0-BB4DB776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4F708-3D79-4AF4-98AD-B6112433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DB65F-B655-48DB-BD86-3AFBFF78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A4C4D-C4AE-4EB9-B5B0-FF331366C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D41DD-A4F4-45A0-AFC9-966212DBD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2A42-74D3-426E-9821-EB923B42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F79E-A484-4081-A91A-E659618C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DA75-130A-4CD7-94B9-3A4F0B45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B978-F357-4B3C-8EF7-9F040ACF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E738-E148-44DC-834A-15CC1531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1325-C3FF-48EE-A3B9-060805CB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6AC4-BDEB-468C-ABFB-5748C42989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6188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900160" y="6232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329160" y="6232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4FA5-971E-4C3A-941D-1E59B47FE5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E8BF-4FFA-4B64-B865-6BE18EE3A8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image" Target="../media/image18.gif"/><Relationship Id="rId7" Type="http://schemas.openxmlformats.org/officeDocument/2006/relationships/image" Target="../media/image19.gif"/><Relationship Id="rId8" Type="http://schemas.openxmlformats.org/officeDocument/2006/relationships/image" Target="../media/image20.gi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14.xml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4.xml"/><Relationship Id="rId3" Type="http://schemas.openxmlformats.org/officeDocument/2006/relationships/image" Target="../media/image3.gi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казывается видеофрагмен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Вопросы к видеофрагмент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Овал 1"/>
          <p:cNvSpPr/>
          <p:nvPr/>
        </p:nvSpPr>
        <p:spPr>
          <a:xfrm>
            <a:off x="2700360" y="549360"/>
            <a:ext cx="3527280" cy="1655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Сена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Овал 2"/>
          <p:cNvSpPr/>
          <p:nvPr/>
        </p:nvSpPr>
        <p:spPr>
          <a:xfrm>
            <a:off x="1763640" y="3090960"/>
            <a:ext cx="2844720" cy="14047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ойн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Овал 3"/>
          <p:cNvSpPr/>
          <p:nvPr/>
        </p:nvSpPr>
        <p:spPr>
          <a:xfrm>
            <a:off x="6372360" y="1515960"/>
            <a:ext cx="2663640" cy="16210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у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Овал 4"/>
          <p:cNvSpPr/>
          <p:nvPr/>
        </p:nvSpPr>
        <p:spPr>
          <a:xfrm>
            <a:off x="4863960" y="3105000"/>
            <a:ext cx="2981520" cy="1376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еговоры 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Овал 5"/>
          <p:cNvSpPr/>
          <p:nvPr/>
        </p:nvSpPr>
        <p:spPr>
          <a:xfrm>
            <a:off x="193680" y="1557360"/>
            <a:ext cx="2519280" cy="16207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Казн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Правая фигурная скобка 6"/>
          <p:cNvSpPr/>
          <p:nvPr/>
        </p:nvSpPr>
        <p:spPr>
          <a:xfrm rot="5400000">
            <a:off x="4280400" y="1838880"/>
            <a:ext cx="593640" cy="5742000"/>
          </a:xfrm>
          <a:custGeom>
            <a:avLst/>
            <a:gdLst>
              <a:gd name="textAreaLeft" fmla="*/ 0 w 593640"/>
              <a:gd name="textAreaRight" fmla="*/ 214200 w 593640"/>
              <a:gd name="textAreaTop" fmla="*/ 15120 h 5742000"/>
              <a:gd name="textAreaBottom" fmla="*/ 5726880 h 574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3"/>
                  <a:pt x="10800" y="186"/>
                </a:cubicBezTo>
                <a:lnTo>
                  <a:pt x="10800" y="10614"/>
                </a:lnTo>
                <a:cubicBezTo>
                  <a:pt x="10800" y="10707"/>
                  <a:pt x="16200" y="10800"/>
                  <a:pt x="21600" y="10800"/>
                </a:cubicBezTo>
                <a:cubicBezTo>
                  <a:pt x="16200" y="10800"/>
                  <a:pt x="10800" y="10893"/>
                  <a:pt x="10800" y="10986"/>
                </a:cubicBezTo>
                <a:lnTo>
                  <a:pt x="10800" y="21414"/>
                </a:lnTo>
                <a:cubicBezTo>
                  <a:pt x="10800" y="21507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Овал 7"/>
          <p:cNvSpPr/>
          <p:nvPr/>
        </p:nvSpPr>
        <p:spPr>
          <a:xfrm>
            <a:off x="611280" y="5157720"/>
            <a:ext cx="7848360" cy="1511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перед кем не отчитывался в сво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х и не нёс ответственности 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ибочные реш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Прямая со стрелкой 9"/>
          <p:cNvCxnSpPr/>
          <p:nvPr/>
        </p:nvCxnSpPr>
        <p:spPr>
          <a:xfrm flipH="1">
            <a:off x="1706040" y="1052640"/>
            <a:ext cx="1137600" cy="50544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82" name="Прямая со стрелкой 11"/>
          <p:cNvCxnSpPr/>
          <p:nvPr/>
        </p:nvCxnSpPr>
        <p:spPr>
          <a:xfrm>
            <a:off x="6084720" y="1125000"/>
            <a:ext cx="1364400" cy="39132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83" name="Прямая со стрелкой 12"/>
          <p:cNvCxnSpPr/>
          <p:nvPr/>
        </p:nvCxnSpPr>
        <p:spPr>
          <a:xfrm>
            <a:off x="4975200" y="2205000"/>
            <a:ext cx="1110240" cy="90072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84" name="Прямая со стрелкой 13"/>
          <p:cNvCxnSpPr/>
          <p:nvPr/>
        </p:nvCxnSpPr>
        <p:spPr>
          <a:xfrm flipH="1">
            <a:off x="2994840" y="2114640"/>
            <a:ext cx="842040" cy="97704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pic>
        <p:nvPicPr>
          <p:cNvPr id="185" name="Picture 2" descr="http://im0-tub-ru.yandex.net/i?id=218425701-21-72"/>
          <p:cNvPicPr/>
          <p:nvPr/>
        </p:nvPicPr>
        <p:blipFill>
          <a:blip r:embed="rId1"/>
          <a:stretch/>
        </p:blipFill>
        <p:spPr>
          <a:xfrm>
            <a:off x="6515280" y="3722760"/>
            <a:ext cx="50148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Картинка 1 из 3115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37480"/>
          </a:xfrm>
          <a:prstGeom prst="rect">
            <a:avLst/>
          </a:prstGeom>
          <a:ln w="0">
            <a:noFill/>
          </a:ln>
        </p:spPr>
      </p:pic>
      <p:pic>
        <p:nvPicPr>
          <p:cNvPr id="187" name="Прямоугольник 1" descr=""/>
          <p:cNvPicPr/>
          <p:nvPr/>
        </p:nvPicPr>
        <p:blipFill>
          <a:blip r:embed="rId2"/>
          <a:stretch/>
        </p:blipFill>
        <p:spPr>
          <a:xfrm>
            <a:off x="4591080" y="133200"/>
            <a:ext cx="477828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1523880" y="1397160"/>
          <a:ext cx="6096240" cy="4624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TextBox 2"/>
          <p:cNvSpPr/>
          <p:nvPr/>
        </p:nvSpPr>
        <p:spPr>
          <a:xfrm>
            <a:off x="996120" y="333360"/>
            <a:ext cx="48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Х – верно, О – неверн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1523880" y="1397160"/>
          <a:ext cx="6096240" cy="4624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TextBox 2"/>
          <p:cNvSpPr/>
          <p:nvPr/>
        </p:nvSpPr>
        <p:spPr>
          <a:xfrm>
            <a:off x="996120" y="333360"/>
            <a:ext cx="48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Х – верно, О – неверн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Картинка 73 из 22165"/>
          <p:cNvPicPr/>
          <p:nvPr/>
        </p:nvPicPr>
        <p:blipFill>
          <a:blip r:embed="rId1"/>
          <a:stretch/>
        </p:blipFill>
        <p:spPr>
          <a:xfrm>
            <a:off x="3203640" y="996840"/>
            <a:ext cx="3097080" cy="24498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Картинка 88 из 22165"/>
          <p:cNvPicPr/>
          <p:nvPr/>
        </p:nvPicPr>
        <p:blipFill>
          <a:blip r:embed="rId2"/>
          <a:stretch/>
        </p:blipFill>
        <p:spPr>
          <a:xfrm>
            <a:off x="7020000" y="836640"/>
            <a:ext cx="1133280" cy="7142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Картинка 140 из 23174"/>
          <p:cNvPicPr/>
          <p:nvPr/>
        </p:nvPicPr>
        <p:blipFill>
          <a:blip r:embed="rId3"/>
          <a:stretch/>
        </p:blipFill>
        <p:spPr>
          <a:xfrm>
            <a:off x="171360" y="4157640"/>
            <a:ext cx="2629080" cy="1935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Картинка 179 из 23278"/>
          <p:cNvPicPr/>
          <p:nvPr/>
        </p:nvPicPr>
        <p:blipFill>
          <a:blip r:embed="rId4"/>
          <a:stretch/>
        </p:blipFill>
        <p:spPr>
          <a:xfrm>
            <a:off x="7586640" y="4797360"/>
            <a:ext cx="952560" cy="8571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Картинка 286 из 23278"/>
          <p:cNvPicPr/>
          <p:nvPr/>
        </p:nvPicPr>
        <p:blipFill>
          <a:blip r:embed="rId5"/>
          <a:stretch/>
        </p:blipFill>
        <p:spPr>
          <a:xfrm>
            <a:off x="7467480" y="2349360"/>
            <a:ext cx="924120" cy="885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4" descr="Картинка 390 из 23278"/>
          <p:cNvPicPr/>
          <p:nvPr/>
        </p:nvPicPr>
        <p:blipFill>
          <a:blip r:embed="rId6"/>
          <a:stretch/>
        </p:blipFill>
        <p:spPr>
          <a:xfrm>
            <a:off x="4859280" y="4797360"/>
            <a:ext cx="914400" cy="1228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6" descr="Картинка 433 из 23278"/>
          <p:cNvPicPr/>
          <p:nvPr/>
        </p:nvPicPr>
        <p:blipFill>
          <a:blip r:embed="rId7"/>
          <a:stretch/>
        </p:blipFill>
        <p:spPr>
          <a:xfrm>
            <a:off x="561960" y="355680"/>
            <a:ext cx="2238480" cy="1866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8" descr="http://img354.imageshack.us/img354/2461/040106ya16sn6.gif"/>
          <p:cNvPicPr/>
          <p:nvPr/>
        </p:nvPicPr>
        <p:blipFill>
          <a:blip r:embed="rId8"/>
          <a:stretch/>
        </p:blipFill>
        <p:spPr>
          <a:xfrm>
            <a:off x="2228760" y="3041640"/>
            <a:ext cx="114300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6920" y="418680"/>
            <a:ext cx="7772400" cy="20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br>
              <a:rPr sz="40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Используя параграф 40, 46 заполните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таблицу: Различия в государственном строе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Афин и Рим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8" descr="42"/>
          <p:cNvPicPr/>
          <p:nvPr/>
        </p:nvPicPr>
        <p:blipFill>
          <a:blip r:embed="rId1"/>
          <a:stretch/>
        </p:blipFill>
        <p:spPr>
          <a:xfrm>
            <a:off x="395280" y="620640"/>
            <a:ext cx="1409760" cy="5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2" name=""/>
          <p:cNvGraphicFramePr/>
          <p:nvPr/>
        </p:nvGraphicFramePr>
        <p:xfrm>
          <a:off x="1065240" y="2852640"/>
          <a:ext cx="7345440" cy="3353040"/>
        </p:xfrm>
        <a:graphic>
          <a:graphicData uri="http://schemas.openxmlformats.org/drawingml/2006/table">
            <a:tbl>
              <a:tblPr/>
              <a:tblGrid>
                <a:gridCol w="2448000"/>
                <a:gridCol w="2449440"/>
                <a:gridCol w="2448000"/>
              </a:tblGrid>
              <a:tr h="9471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нии сравн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финская демокра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мск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нятие закон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лата должност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ль сен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9" descr="Изменение размера 011"/>
          <p:cNvPicPr/>
          <p:nvPr/>
        </p:nvPicPr>
        <p:blipFill>
          <a:blip r:embed="rId1"/>
          <a:stretch/>
        </p:blipFill>
        <p:spPr>
          <a:xfrm>
            <a:off x="3257640" y="-27000"/>
            <a:ext cx="5910120" cy="68407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0"/>
          <p:cNvSpPr/>
          <p:nvPr/>
        </p:nvSpPr>
        <p:spPr>
          <a:xfrm>
            <a:off x="0" y="0"/>
            <a:ext cx="3348000" cy="685800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6" descr="Средиземноморье"/>
          <p:cNvPicPr/>
          <p:nvPr/>
        </p:nvPicPr>
        <p:blipFill>
          <a:blip r:embed="rId2">
            <a:alphaModFix amt="49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338472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6200"/>
                </a:solidFill>
                <a:latin typeface="Arial"/>
              </a:rPr>
              <a:t>АПЕНИНСКИЙ  П-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3" descr="J035437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839080" y="6572160"/>
            <a:ext cx="304920" cy="285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250920" y="981000"/>
            <a:ext cx="302400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6200"/>
                </a:solidFill>
                <a:latin typeface="Arial"/>
              </a:rPr>
              <a:t>Центральная выступающая часть  южной Европ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reeform 8"/>
          <p:cNvSpPr/>
          <p:nvPr/>
        </p:nvSpPr>
        <p:spPr>
          <a:xfrm>
            <a:off x="3413160" y="3000240"/>
            <a:ext cx="1843200" cy="1465560"/>
          </a:xfrm>
          <a:custGeom>
            <a:avLst/>
            <a:gdLst>
              <a:gd name="textAreaLeft" fmla="*/ 0 w 1843200"/>
              <a:gd name="textAreaRight" fmla="*/ 1843560 w 1843200"/>
              <a:gd name="textAreaTop" fmla="*/ 0 h 1465560"/>
              <a:gd name="textAreaBottom" fmla="*/ 1465560 h 1465560"/>
            </a:gdLst>
            <a:ahLst/>
            <a:rect l="textAreaLeft" t="textAreaTop" r="textAreaRight" b="textAreaBottom"/>
            <a:pathLst>
              <a:path w="1161" h="923">
                <a:moveTo>
                  <a:pt x="858" y="918"/>
                </a:moveTo>
                <a:cubicBezTo>
                  <a:pt x="851" y="911"/>
                  <a:pt x="845" y="904"/>
                  <a:pt x="840" y="896"/>
                </a:cubicBezTo>
                <a:cubicBezTo>
                  <a:pt x="842" y="886"/>
                  <a:pt x="852" y="862"/>
                  <a:pt x="860" y="856"/>
                </a:cubicBezTo>
                <a:cubicBezTo>
                  <a:pt x="871" y="839"/>
                  <a:pt x="857" y="815"/>
                  <a:pt x="874" y="804"/>
                </a:cubicBezTo>
                <a:cubicBezTo>
                  <a:pt x="883" y="805"/>
                  <a:pt x="900" y="810"/>
                  <a:pt x="900" y="810"/>
                </a:cubicBezTo>
                <a:cubicBezTo>
                  <a:pt x="897" y="784"/>
                  <a:pt x="904" y="774"/>
                  <a:pt x="884" y="764"/>
                </a:cubicBezTo>
                <a:cubicBezTo>
                  <a:pt x="871" y="745"/>
                  <a:pt x="888" y="707"/>
                  <a:pt x="860" y="698"/>
                </a:cubicBezTo>
                <a:cubicBezTo>
                  <a:pt x="848" y="680"/>
                  <a:pt x="860" y="656"/>
                  <a:pt x="836" y="648"/>
                </a:cubicBezTo>
                <a:cubicBezTo>
                  <a:pt x="827" y="635"/>
                  <a:pt x="812" y="646"/>
                  <a:pt x="798" y="640"/>
                </a:cubicBezTo>
                <a:cubicBezTo>
                  <a:pt x="795" y="633"/>
                  <a:pt x="786" y="620"/>
                  <a:pt x="786" y="620"/>
                </a:cubicBezTo>
                <a:cubicBezTo>
                  <a:pt x="752" y="631"/>
                  <a:pt x="747" y="579"/>
                  <a:pt x="732" y="564"/>
                </a:cubicBezTo>
                <a:cubicBezTo>
                  <a:pt x="711" y="567"/>
                  <a:pt x="690" y="569"/>
                  <a:pt x="672" y="556"/>
                </a:cubicBezTo>
                <a:cubicBezTo>
                  <a:pt x="665" y="541"/>
                  <a:pt x="660" y="544"/>
                  <a:pt x="642" y="540"/>
                </a:cubicBezTo>
                <a:cubicBezTo>
                  <a:pt x="639" y="532"/>
                  <a:pt x="638" y="529"/>
                  <a:pt x="630" y="526"/>
                </a:cubicBezTo>
                <a:cubicBezTo>
                  <a:pt x="620" y="512"/>
                  <a:pt x="626" y="516"/>
                  <a:pt x="614" y="510"/>
                </a:cubicBezTo>
                <a:cubicBezTo>
                  <a:pt x="609" y="494"/>
                  <a:pt x="607" y="493"/>
                  <a:pt x="594" y="484"/>
                </a:cubicBezTo>
                <a:cubicBezTo>
                  <a:pt x="588" y="485"/>
                  <a:pt x="582" y="490"/>
                  <a:pt x="576" y="488"/>
                </a:cubicBezTo>
                <a:cubicBezTo>
                  <a:pt x="571" y="487"/>
                  <a:pt x="564" y="480"/>
                  <a:pt x="564" y="480"/>
                </a:cubicBezTo>
                <a:cubicBezTo>
                  <a:pt x="559" y="481"/>
                  <a:pt x="553" y="481"/>
                  <a:pt x="548" y="482"/>
                </a:cubicBezTo>
                <a:cubicBezTo>
                  <a:pt x="544" y="483"/>
                  <a:pt x="536" y="486"/>
                  <a:pt x="536" y="486"/>
                </a:cubicBezTo>
                <a:cubicBezTo>
                  <a:pt x="528" y="481"/>
                  <a:pt x="526" y="476"/>
                  <a:pt x="522" y="468"/>
                </a:cubicBezTo>
                <a:cubicBezTo>
                  <a:pt x="499" y="473"/>
                  <a:pt x="500" y="473"/>
                  <a:pt x="462" y="466"/>
                </a:cubicBezTo>
                <a:cubicBezTo>
                  <a:pt x="461" y="466"/>
                  <a:pt x="451" y="444"/>
                  <a:pt x="446" y="440"/>
                </a:cubicBezTo>
                <a:cubicBezTo>
                  <a:pt x="441" y="433"/>
                  <a:pt x="442" y="420"/>
                  <a:pt x="436" y="414"/>
                </a:cubicBezTo>
                <a:cubicBezTo>
                  <a:pt x="433" y="411"/>
                  <a:pt x="428" y="410"/>
                  <a:pt x="424" y="408"/>
                </a:cubicBezTo>
                <a:cubicBezTo>
                  <a:pt x="421" y="404"/>
                  <a:pt x="420" y="398"/>
                  <a:pt x="416" y="394"/>
                </a:cubicBezTo>
                <a:cubicBezTo>
                  <a:pt x="410" y="388"/>
                  <a:pt x="396" y="384"/>
                  <a:pt x="388" y="380"/>
                </a:cubicBezTo>
                <a:cubicBezTo>
                  <a:pt x="376" y="374"/>
                  <a:pt x="389" y="378"/>
                  <a:pt x="376" y="368"/>
                </a:cubicBezTo>
                <a:cubicBezTo>
                  <a:pt x="372" y="365"/>
                  <a:pt x="367" y="364"/>
                  <a:pt x="362" y="362"/>
                </a:cubicBezTo>
                <a:cubicBezTo>
                  <a:pt x="356" y="353"/>
                  <a:pt x="356" y="349"/>
                  <a:pt x="346" y="344"/>
                </a:cubicBezTo>
                <a:cubicBezTo>
                  <a:pt x="338" y="347"/>
                  <a:pt x="337" y="352"/>
                  <a:pt x="330" y="356"/>
                </a:cubicBezTo>
                <a:cubicBezTo>
                  <a:pt x="305" y="349"/>
                  <a:pt x="321" y="350"/>
                  <a:pt x="308" y="332"/>
                </a:cubicBezTo>
                <a:cubicBezTo>
                  <a:pt x="305" y="328"/>
                  <a:pt x="296" y="324"/>
                  <a:pt x="296" y="324"/>
                </a:cubicBezTo>
                <a:cubicBezTo>
                  <a:pt x="289" y="310"/>
                  <a:pt x="277" y="311"/>
                  <a:pt x="262" y="308"/>
                </a:cubicBezTo>
                <a:cubicBezTo>
                  <a:pt x="256" y="304"/>
                  <a:pt x="250" y="298"/>
                  <a:pt x="244" y="294"/>
                </a:cubicBezTo>
                <a:cubicBezTo>
                  <a:pt x="248" y="279"/>
                  <a:pt x="251" y="276"/>
                  <a:pt x="242" y="262"/>
                </a:cubicBezTo>
                <a:cubicBezTo>
                  <a:pt x="237" y="240"/>
                  <a:pt x="235" y="242"/>
                  <a:pt x="224" y="226"/>
                </a:cubicBezTo>
                <a:cubicBezTo>
                  <a:pt x="226" y="209"/>
                  <a:pt x="232" y="194"/>
                  <a:pt x="218" y="180"/>
                </a:cubicBezTo>
                <a:cubicBezTo>
                  <a:pt x="214" y="163"/>
                  <a:pt x="220" y="180"/>
                  <a:pt x="208" y="168"/>
                </a:cubicBezTo>
                <a:cubicBezTo>
                  <a:pt x="187" y="147"/>
                  <a:pt x="221" y="159"/>
                  <a:pt x="170" y="152"/>
                </a:cubicBezTo>
                <a:cubicBezTo>
                  <a:pt x="163" y="147"/>
                  <a:pt x="161" y="141"/>
                  <a:pt x="154" y="136"/>
                </a:cubicBezTo>
                <a:cubicBezTo>
                  <a:pt x="151" y="127"/>
                  <a:pt x="145" y="127"/>
                  <a:pt x="138" y="122"/>
                </a:cubicBezTo>
                <a:cubicBezTo>
                  <a:pt x="129" y="125"/>
                  <a:pt x="127" y="130"/>
                  <a:pt x="120" y="134"/>
                </a:cubicBezTo>
                <a:cubicBezTo>
                  <a:pt x="101" y="147"/>
                  <a:pt x="75" y="139"/>
                  <a:pt x="52" y="140"/>
                </a:cubicBezTo>
                <a:cubicBezTo>
                  <a:pt x="47" y="155"/>
                  <a:pt x="34" y="170"/>
                  <a:pt x="18" y="174"/>
                </a:cubicBezTo>
                <a:cubicBezTo>
                  <a:pt x="6" y="169"/>
                  <a:pt x="7" y="166"/>
                  <a:pt x="0" y="156"/>
                </a:cubicBezTo>
                <a:cubicBezTo>
                  <a:pt x="5" y="142"/>
                  <a:pt x="0" y="146"/>
                  <a:pt x="10" y="140"/>
                </a:cubicBezTo>
                <a:cubicBezTo>
                  <a:pt x="15" y="124"/>
                  <a:pt x="4" y="104"/>
                  <a:pt x="20" y="94"/>
                </a:cubicBezTo>
                <a:cubicBezTo>
                  <a:pt x="38" y="67"/>
                  <a:pt x="28" y="87"/>
                  <a:pt x="30" y="28"/>
                </a:cubicBezTo>
                <a:cubicBezTo>
                  <a:pt x="50" y="33"/>
                  <a:pt x="42" y="28"/>
                  <a:pt x="54" y="40"/>
                </a:cubicBezTo>
                <a:cubicBezTo>
                  <a:pt x="58" y="51"/>
                  <a:pt x="61" y="50"/>
                  <a:pt x="72" y="46"/>
                </a:cubicBezTo>
                <a:cubicBezTo>
                  <a:pt x="82" y="31"/>
                  <a:pt x="102" y="40"/>
                  <a:pt x="118" y="44"/>
                </a:cubicBezTo>
                <a:cubicBezTo>
                  <a:pt x="123" y="42"/>
                  <a:pt x="129" y="41"/>
                  <a:pt x="134" y="38"/>
                </a:cubicBezTo>
                <a:cubicBezTo>
                  <a:pt x="144" y="32"/>
                  <a:pt x="137" y="26"/>
                  <a:pt x="148" y="22"/>
                </a:cubicBezTo>
                <a:cubicBezTo>
                  <a:pt x="160" y="26"/>
                  <a:pt x="167" y="34"/>
                  <a:pt x="178" y="38"/>
                </a:cubicBezTo>
                <a:cubicBezTo>
                  <a:pt x="197" y="36"/>
                  <a:pt x="209" y="37"/>
                  <a:pt x="224" y="28"/>
                </a:cubicBezTo>
                <a:cubicBezTo>
                  <a:pt x="233" y="23"/>
                  <a:pt x="250" y="12"/>
                  <a:pt x="250" y="12"/>
                </a:cubicBezTo>
                <a:cubicBezTo>
                  <a:pt x="271" y="14"/>
                  <a:pt x="276" y="13"/>
                  <a:pt x="294" y="4"/>
                </a:cubicBezTo>
                <a:cubicBezTo>
                  <a:pt x="318" y="5"/>
                  <a:pt x="343" y="0"/>
                  <a:pt x="366" y="8"/>
                </a:cubicBezTo>
                <a:cubicBezTo>
                  <a:pt x="378" y="12"/>
                  <a:pt x="370" y="24"/>
                  <a:pt x="382" y="28"/>
                </a:cubicBezTo>
                <a:cubicBezTo>
                  <a:pt x="400" y="23"/>
                  <a:pt x="419" y="22"/>
                  <a:pt x="436" y="14"/>
                </a:cubicBezTo>
                <a:cubicBezTo>
                  <a:pt x="441" y="29"/>
                  <a:pt x="443" y="43"/>
                  <a:pt x="448" y="58"/>
                </a:cubicBezTo>
                <a:cubicBezTo>
                  <a:pt x="444" y="64"/>
                  <a:pt x="440" y="70"/>
                  <a:pt x="436" y="76"/>
                </a:cubicBezTo>
                <a:cubicBezTo>
                  <a:pt x="433" y="80"/>
                  <a:pt x="428" y="88"/>
                  <a:pt x="428" y="88"/>
                </a:cubicBezTo>
                <a:cubicBezTo>
                  <a:pt x="430" y="95"/>
                  <a:pt x="439" y="128"/>
                  <a:pt x="440" y="130"/>
                </a:cubicBezTo>
                <a:cubicBezTo>
                  <a:pt x="447" y="138"/>
                  <a:pt x="463" y="147"/>
                  <a:pt x="472" y="150"/>
                </a:cubicBezTo>
                <a:cubicBezTo>
                  <a:pt x="479" y="171"/>
                  <a:pt x="484" y="175"/>
                  <a:pt x="506" y="178"/>
                </a:cubicBezTo>
                <a:cubicBezTo>
                  <a:pt x="512" y="180"/>
                  <a:pt x="518" y="182"/>
                  <a:pt x="524" y="184"/>
                </a:cubicBezTo>
                <a:cubicBezTo>
                  <a:pt x="528" y="185"/>
                  <a:pt x="536" y="188"/>
                  <a:pt x="536" y="188"/>
                </a:cubicBezTo>
                <a:cubicBezTo>
                  <a:pt x="552" y="204"/>
                  <a:pt x="552" y="204"/>
                  <a:pt x="580" y="206"/>
                </a:cubicBezTo>
                <a:cubicBezTo>
                  <a:pt x="590" y="209"/>
                  <a:pt x="590" y="220"/>
                  <a:pt x="592" y="230"/>
                </a:cubicBezTo>
                <a:cubicBezTo>
                  <a:pt x="585" y="252"/>
                  <a:pt x="588" y="255"/>
                  <a:pt x="604" y="266"/>
                </a:cubicBezTo>
                <a:cubicBezTo>
                  <a:pt x="609" y="274"/>
                  <a:pt x="611" y="285"/>
                  <a:pt x="620" y="288"/>
                </a:cubicBezTo>
                <a:cubicBezTo>
                  <a:pt x="628" y="300"/>
                  <a:pt x="621" y="288"/>
                  <a:pt x="626" y="308"/>
                </a:cubicBezTo>
                <a:cubicBezTo>
                  <a:pt x="632" y="335"/>
                  <a:pt x="646" y="355"/>
                  <a:pt x="674" y="360"/>
                </a:cubicBezTo>
                <a:cubicBezTo>
                  <a:pt x="682" y="365"/>
                  <a:pt x="691" y="368"/>
                  <a:pt x="700" y="372"/>
                </a:cubicBezTo>
                <a:cubicBezTo>
                  <a:pt x="703" y="385"/>
                  <a:pt x="718" y="392"/>
                  <a:pt x="730" y="396"/>
                </a:cubicBezTo>
                <a:cubicBezTo>
                  <a:pt x="750" y="416"/>
                  <a:pt x="772" y="402"/>
                  <a:pt x="806" y="400"/>
                </a:cubicBezTo>
                <a:cubicBezTo>
                  <a:pt x="828" y="393"/>
                  <a:pt x="858" y="386"/>
                  <a:pt x="872" y="406"/>
                </a:cubicBezTo>
                <a:cubicBezTo>
                  <a:pt x="866" y="430"/>
                  <a:pt x="866" y="426"/>
                  <a:pt x="840" y="428"/>
                </a:cubicBezTo>
                <a:cubicBezTo>
                  <a:pt x="837" y="429"/>
                  <a:pt x="833" y="427"/>
                  <a:pt x="832" y="430"/>
                </a:cubicBezTo>
                <a:cubicBezTo>
                  <a:pt x="830" y="437"/>
                  <a:pt x="850" y="440"/>
                  <a:pt x="850" y="440"/>
                </a:cubicBezTo>
                <a:cubicBezTo>
                  <a:pt x="856" y="464"/>
                  <a:pt x="892" y="469"/>
                  <a:pt x="914" y="472"/>
                </a:cubicBezTo>
                <a:cubicBezTo>
                  <a:pt x="931" y="478"/>
                  <a:pt x="939" y="482"/>
                  <a:pt x="958" y="484"/>
                </a:cubicBezTo>
                <a:cubicBezTo>
                  <a:pt x="964" y="487"/>
                  <a:pt x="970" y="489"/>
                  <a:pt x="976" y="492"/>
                </a:cubicBezTo>
                <a:cubicBezTo>
                  <a:pt x="980" y="494"/>
                  <a:pt x="988" y="500"/>
                  <a:pt x="988" y="500"/>
                </a:cubicBezTo>
                <a:cubicBezTo>
                  <a:pt x="992" y="508"/>
                  <a:pt x="993" y="513"/>
                  <a:pt x="1002" y="516"/>
                </a:cubicBezTo>
                <a:cubicBezTo>
                  <a:pt x="1010" y="505"/>
                  <a:pt x="1011" y="503"/>
                  <a:pt x="1024" y="506"/>
                </a:cubicBezTo>
                <a:cubicBezTo>
                  <a:pt x="1035" y="511"/>
                  <a:pt x="1043" y="517"/>
                  <a:pt x="1054" y="520"/>
                </a:cubicBezTo>
                <a:cubicBezTo>
                  <a:pt x="1059" y="521"/>
                  <a:pt x="1070" y="524"/>
                  <a:pt x="1070" y="524"/>
                </a:cubicBezTo>
                <a:cubicBezTo>
                  <a:pt x="1075" y="532"/>
                  <a:pt x="1081" y="532"/>
                  <a:pt x="1090" y="536"/>
                </a:cubicBezTo>
                <a:cubicBezTo>
                  <a:pt x="1096" y="542"/>
                  <a:pt x="1102" y="544"/>
                  <a:pt x="1108" y="550"/>
                </a:cubicBezTo>
                <a:cubicBezTo>
                  <a:pt x="1112" y="561"/>
                  <a:pt x="1125" y="569"/>
                  <a:pt x="1136" y="572"/>
                </a:cubicBezTo>
                <a:cubicBezTo>
                  <a:pt x="1143" y="577"/>
                  <a:pt x="1147" y="580"/>
                  <a:pt x="1150" y="588"/>
                </a:cubicBezTo>
                <a:cubicBezTo>
                  <a:pt x="1151" y="612"/>
                  <a:pt x="1161" y="634"/>
                  <a:pt x="1134" y="638"/>
                </a:cubicBezTo>
                <a:cubicBezTo>
                  <a:pt x="1132" y="637"/>
                  <a:pt x="1114" y="636"/>
                  <a:pt x="1110" y="630"/>
                </a:cubicBezTo>
                <a:cubicBezTo>
                  <a:pt x="1101" y="617"/>
                  <a:pt x="1101" y="605"/>
                  <a:pt x="1088" y="596"/>
                </a:cubicBezTo>
                <a:cubicBezTo>
                  <a:pt x="1083" y="586"/>
                  <a:pt x="1081" y="588"/>
                  <a:pt x="1072" y="582"/>
                </a:cubicBezTo>
                <a:cubicBezTo>
                  <a:pt x="1054" y="588"/>
                  <a:pt x="1064" y="586"/>
                  <a:pt x="1042" y="588"/>
                </a:cubicBezTo>
                <a:cubicBezTo>
                  <a:pt x="1024" y="594"/>
                  <a:pt x="1021" y="572"/>
                  <a:pt x="1008" y="564"/>
                </a:cubicBezTo>
                <a:cubicBezTo>
                  <a:pt x="993" y="568"/>
                  <a:pt x="978" y="565"/>
                  <a:pt x="964" y="572"/>
                </a:cubicBezTo>
                <a:cubicBezTo>
                  <a:pt x="953" y="589"/>
                  <a:pt x="969" y="563"/>
                  <a:pt x="956" y="606"/>
                </a:cubicBezTo>
                <a:cubicBezTo>
                  <a:pt x="954" y="613"/>
                  <a:pt x="944" y="624"/>
                  <a:pt x="944" y="624"/>
                </a:cubicBezTo>
                <a:cubicBezTo>
                  <a:pt x="939" y="664"/>
                  <a:pt x="920" y="678"/>
                  <a:pt x="966" y="682"/>
                </a:cubicBezTo>
                <a:cubicBezTo>
                  <a:pt x="985" y="701"/>
                  <a:pt x="955" y="672"/>
                  <a:pt x="984" y="692"/>
                </a:cubicBezTo>
                <a:cubicBezTo>
                  <a:pt x="988" y="695"/>
                  <a:pt x="996" y="700"/>
                  <a:pt x="996" y="700"/>
                </a:cubicBezTo>
                <a:cubicBezTo>
                  <a:pt x="1000" y="712"/>
                  <a:pt x="1001" y="727"/>
                  <a:pt x="1012" y="734"/>
                </a:cubicBezTo>
                <a:cubicBezTo>
                  <a:pt x="1014" y="740"/>
                  <a:pt x="1016" y="746"/>
                  <a:pt x="1018" y="752"/>
                </a:cubicBezTo>
                <a:cubicBezTo>
                  <a:pt x="1019" y="754"/>
                  <a:pt x="1020" y="758"/>
                  <a:pt x="1020" y="758"/>
                </a:cubicBezTo>
                <a:cubicBezTo>
                  <a:pt x="1014" y="767"/>
                  <a:pt x="975" y="780"/>
                  <a:pt x="962" y="784"/>
                </a:cubicBezTo>
                <a:cubicBezTo>
                  <a:pt x="944" y="811"/>
                  <a:pt x="966" y="776"/>
                  <a:pt x="954" y="862"/>
                </a:cubicBezTo>
                <a:cubicBezTo>
                  <a:pt x="954" y="864"/>
                  <a:pt x="928" y="873"/>
                  <a:pt x="924" y="874"/>
                </a:cubicBezTo>
                <a:cubicBezTo>
                  <a:pt x="921" y="882"/>
                  <a:pt x="917" y="888"/>
                  <a:pt x="914" y="896"/>
                </a:cubicBezTo>
                <a:cubicBezTo>
                  <a:pt x="912" y="901"/>
                  <a:pt x="914" y="908"/>
                  <a:pt x="910" y="912"/>
                </a:cubicBezTo>
                <a:cubicBezTo>
                  <a:pt x="906" y="916"/>
                  <a:pt x="894" y="916"/>
                  <a:pt x="894" y="916"/>
                </a:cubicBezTo>
                <a:cubicBezTo>
                  <a:pt x="883" y="923"/>
                  <a:pt x="880" y="922"/>
                  <a:pt x="866" y="918"/>
                </a:cubicBezTo>
                <a:cubicBezTo>
                  <a:pt x="860" y="914"/>
                  <a:pt x="852" y="913"/>
                  <a:pt x="852" y="906"/>
                </a:cubicBezTo>
              </a:path>
            </a:pathLst>
          </a:custGeom>
          <a:solidFill>
            <a:srgbClr val="ff0000">
              <a:alpha val="49000"/>
            </a:srgbClr>
          </a:solidFill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6" descr="Рим св пз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J035437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839080" y="6572160"/>
            <a:ext cx="304920" cy="2858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2700360" y="549360"/>
            <a:ext cx="6048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6200"/>
                </a:solidFill>
                <a:latin typeface="Arial"/>
              </a:rPr>
              <a:t>Город в западной Итал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7" descr="Италия"/>
          <p:cNvPicPr/>
          <p:nvPr/>
        </p:nvPicPr>
        <p:blipFill>
          <a:blip r:embed="rId4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1944720" cy="725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РИМ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val 8"/>
          <p:cNvSpPr/>
          <p:nvPr/>
        </p:nvSpPr>
        <p:spPr>
          <a:xfrm>
            <a:off x="3995640" y="2781360"/>
            <a:ext cx="216000" cy="2221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5"/>
          <p:cNvSpPr/>
          <p:nvPr/>
        </p:nvSpPr>
        <p:spPr>
          <a:xfrm>
            <a:off x="2339640" y="981000"/>
            <a:ext cx="437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1196280" y="2060640"/>
            <a:ext cx="741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о Римско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и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684360" y="260280"/>
          <a:ext cx="8229600" cy="6158160"/>
        </p:xfrm>
        <a:graphic>
          <a:graphicData uri="http://schemas.openxmlformats.org/drawingml/2006/table">
            <a:tbl>
              <a:tblPr/>
              <a:tblGrid>
                <a:gridCol w="2149200"/>
                <a:gridCol w="642960"/>
                <a:gridCol w="5437440"/>
              </a:tblGrid>
              <a:tr h="54900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9Г ДО Н.Э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8"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ТЕЛИ РИМСКОЙ РЕСПУБЛИ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ЕБЕИ  -Э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ВЕТ СТАРЕЙШИН — ОДИН ИЗ ВЫСШИХ ГОСУДАРСТВЕННЫХ ОРГАНОВ ВЛАСТИ В ДРЕВНЕМ РИ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АТРИЦИИ - Э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ОВЛЕНИЕ РЕСПУБЛИКИ В РИ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СУЛЫ - Э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ЩИТНИК ПРАВ ПЛЕБЕ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СПУБЛИКА - Э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ЕННЫЕ ЖИТЕЛИ РИМА, ВЫСШЕЕ СОСЛОВ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РОДНЫЙ ТРИБУН - Э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БРАНИЕ ВСЕХ МУЖЧИН ГРАЖДАН РИ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НАТ - Э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ОБЩЕСТВЕННОЕ ДЕЛО" – ФОРМА ГОСУДАРСТВЕННОГО ПРАВЛЕНИЯ, ПРИ КОТОРОЙ ВЕРХОВНАЯ ВЛАСТЬ ПРИНАДЛЕЖИТ ИЗБРАННЫМ НАСЕЛЕНИЕМ ПРЕДСТАВИТЕЛЯ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РОДНОЕ СОБРАНИЕ - Э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СЕЛЕНЦЫ ИЗ ЗАВОЁВАННЫХ ОБЛАСТЕЙ ИТАЛ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4360" y="260280"/>
          <a:ext cx="8229600" cy="6158160"/>
        </p:xfrm>
        <a:graphic>
          <a:graphicData uri="http://schemas.openxmlformats.org/drawingml/2006/table">
            <a:tbl>
              <a:tblPr/>
              <a:tblGrid>
                <a:gridCol w="2149200"/>
                <a:gridCol w="642960"/>
                <a:gridCol w="5437440"/>
              </a:tblGrid>
              <a:tr h="54900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9Г ДО Н.Э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rowSpan="8"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ТЕЛИ РИМСКОЙ РЕСПУБЛИ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ЕБЕИ  -Э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ВЕТ СТАРЕЙШИН — ОДИН ИЗ ВЫСШИХ ГОСУДАРСТВЕННЫХ ОРГАНОВ ВЛАСТИ В ДРЕВНЕМ РИ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АТРИЦИИ - Э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ОВЛЕНИЕ РЕСПУБЛИКИ В РИ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СУЛЫ - Э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ЩИТНИК ПРАВ ПЛЕБЕ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СПУБЛИКА - Э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ЕННЫЕ ЖИТЕЛИ РИМА, ВЫСШЕЕ СОСЛОВ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РОДНЫЙ ТРИБУН - Э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БРАНИЕ ВСЕХ МУЖЧИН ГРАЖДАН РИ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НАТ - Э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ОБЩЕСТВЕННОЕ ДЕЛО" – ФОРМА ГОСУДАРСТВЕННОГО ПРАВЛЕНИЯ, ПРИ КОТОРОЙ ВЕРХОВНАЯ ВЛАСТЬ ПРИНАДЛЕЖИТ ИЗБРАННЫМ НАСЕЛЕНИЕМ ПРЕДСТАВИТЕЛЯ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РОДНОЕ СОБРАНИЕ - Э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СЕЛЕНЦЫ ИЗ ЗАВОЁВАННЫХ ОБЛАСТЕЙ ИТАЛ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49" name="Прямая со стрелкой 9"/>
          <p:cNvCxnSpPr/>
          <p:nvPr/>
        </p:nvCxnSpPr>
        <p:spPr>
          <a:xfrm>
            <a:off x="2700360" y="1196640"/>
            <a:ext cx="792720" cy="5041080"/>
          </a:xfrm>
          <a:prstGeom prst="straightConnector1">
            <a:avLst/>
          </a:prstGeom>
          <a:ln w="3816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150" name="Прямая со стрелкой 12"/>
          <p:cNvCxnSpPr/>
          <p:nvPr/>
        </p:nvCxnSpPr>
        <p:spPr>
          <a:xfrm>
            <a:off x="2627280" y="1915920"/>
            <a:ext cx="937440" cy="1369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51" name="Прямая со стрелкой 16"/>
          <p:cNvCxnSpPr/>
          <p:nvPr/>
        </p:nvCxnSpPr>
        <p:spPr>
          <a:xfrm flipV="1">
            <a:off x="2700000" y="475920"/>
            <a:ext cx="864360" cy="2124720"/>
          </a:xfrm>
          <a:prstGeom prst="straightConnector1">
            <a:avLst/>
          </a:prstGeom>
          <a:ln w="38160">
            <a:solidFill>
              <a:srgbClr val="92d050"/>
            </a:solidFill>
            <a:miter/>
            <a:tailEnd len="med" type="arrow" w="med"/>
          </a:ln>
        </p:spPr>
      </p:cxnSp>
      <p:cxnSp>
        <p:nvCxnSpPr>
          <p:cNvPr id="152" name="Прямая со стрелкой 18"/>
          <p:cNvCxnSpPr/>
          <p:nvPr/>
        </p:nvCxnSpPr>
        <p:spPr>
          <a:xfrm>
            <a:off x="2484000" y="3103560"/>
            <a:ext cx="1151640" cy="155016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153" name="Прямая со стрелкой 20"/>
          <p:cNvCxnSpPr/>
          <p:nvPr/>
        </p:nvCxnSpPr>
        <p:spPr>
          <a:xfrm flipV="1">
            <a:off x="2484000" y="2420640"/>
            <a:ext cx="1151640" cy="1674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4" name="Прямая со стрелкой 23"/>
          <p:cNvCxnSpPr/>
          <p:nvPr/>
        </p:nvCxnSpPr>
        <p:spPr>
          <a:xfrm flipV="1">
            <a:off x="2622240" y="1051920"/>
            <a:ext cx="942120" cy="4104360"/>
          </a:xfrm>
          <a:prstGeom prst="straightConnector1">
            <a:avLst/>
          </a:prstGeom>
          <a:ln w="38160">
            <a:solidFill>
              <a:srgbClr val="984807"/>
            </a:solidFill>
            <a:miter/>
            <a:tailEnd len="med" type="arrow" w="med"/>
          </a:ln>
        </p:spPr>
      </p:cxnSp>
      <p:cxnSp>
        <p:nvCxnSpPr>
          <p:cNvPr id="155" name="Прямая со стрелкой 25"/>
          <p:cNvCxnSpPr/>
          <p:nvPr/>
        </p:nvCxnSpPr>
        <p:spPr>
          <a:xfrm flipV="1">
            <a:off x="2627280" y="4093560"/>
            <a:ext cx="1008720" cy="192780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156" name="Прямая со стрелкой 33"/>
          <p:cNvCxnSpPr/>
          <p:nvPr/>
        </p:nvCxnSpPr>
        <p:spPr>
          <a:xfrm>
            <a:off x="2484360" y="549360"/>
            <a:ext cx="1224720" cy="15120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3"/>
          <p:cNvSpPr/>
          <p:nvPr/>
        </p:nvSpPr>
        <p:spPr>
          <a:xfrm>
            <a:off x="3338640" y="4581360"/>
            <a:ext cx="2087280" cy="122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родны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ибу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4"/>
          <p:cNvSpPr/>
          <p:nvPr/>
        </p:nvSpPr>
        <p:spPr>
          <a:xfrm>
            <a:off x="3348000" y="2708280"/>
            <a:ext cx="2087640" cy="122544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 консу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5"/>
          <p:cNvSpPr/>
          <p:nvPr/>
        </p:nvSpPr>
        <p:spPr>
          <a:xfrm>
            <a:off x="468360" y="2637000"/>
            <a:ext cx="2087640" cy="122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род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бр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6"/>
          <p:cNvSpPr/>
          <p:nvPr/>
        </p:nvSpPr>
        <p:spPr>
          <a:xfrm>
            <a:off x="3348000" y="907920"/>
            <a:ext cx="2087640" cy="12258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 консу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7"/>
          <p:cNvSpPr/>
          <p:nvPr/>
        </p:nvSpPr>
        <p:spPr>
          <a:xfrm>
            <a:off x="6227640" y="2481120"/>
            <a:ext cx="2089440" cy="122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ен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Прямая со стрелкой 9"/>
          <p:cNvCxnSpPr/>
          <p:nvPr/>
        </p:nvCxnSpPr>
        <p:spPr>
          <a:xfrm flipV="1">
            <a:off x="2556000" y="1772640"/>
            <a:ext cx="783360" cy="8643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63" name="Прямая со стрелкой 10"/>
          <p:cNvCxnSpPr/>
          <p:nvPr/>
        </p:nvCxnSpPr>
        <p:spPr>
          <a:xfrm>
            <a:off x="2565000" y="3377880"/>
            <a:ext cx="855000" cy="10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64" name="Прямая со стрелкой 11"/>
          <p:cNvCxnSpPr>
            <a:stCxn id="160" idx="3"/>
          </p:cNvCxnSpPr>
          <p:nvPr/>
        </p:nvCxnSpPr>
        <p:spPr>
          <a:xfrm>
            <a:off x="5435640" y="1520640"/>
            <a:ext cx="792720" cy="960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65" name="Прямая со стрелкой 12"/>
          <p:cNvCxnSpPr>
            <a:endCxn id="161" idx="1"/>
          </p:cNvCxnSpPr>
          <p:nvPr/>
        </p:nvCxnSpPr>
        <p:spPr>
          <a:xfrm>
            <a:off x="5435640" y="3092040"/>
            <a:ext cx="792720" cy="10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66" name="Прямая со стрелкой 13"/>
          <p:cNvCxnSpPr/>
          <p:nvPr/>
        </p:nvCxnSpPr>
        <p:spPr>
          <a:xfrm flipV="1">
            <a:off x="5425560" y="3704400"/>
            <a:ext cx="802440" cy="8787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67" name="Прямая со стрелкой 26"/>
          <p:cNvCxnSpPr/>
          <p:nvPr/>
        </p:nvCxnSpPr>
        <p:spPr>
          <a:xfrm>
            <a:off x="2556000" y="3897000"/>
            <a:ext cx="783360" cy="9723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539640" y="404640"/>
          <a:ext cx="6096240" cy="57312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м выбирал консулов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3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ссия 4 марта выбирала президента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3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ндидат даёт предвыборное обещание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род выбирает достойного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Картинка 114 из 490"/>
          <p:cNvPicPr/>
          <p:nvPr/>
        </p:nvPicPr>
        <p:blipFill>
          <a:blip r:embed="rId1"/>
          <a:stretch/>
        </p:blipFill>
        <p:spPr>
          <a:xfrm>
            <a:off x="34920" y="981000"/>
            <a:ext cx="9109080" cy="5827680"/>
          </a:xfrm>
          <a:prstGeom prst="rect">
            <a:avLst/>
          </a:prstGeom>
          <a:ln w="0">
            <a:noFill/>
          </a:ln>
        </p:spPr>
      </p:pic>
      <p:sp>
        <p:nvSpPr>
          <p:cNvPr id="170" name="TextBox 1"/>
          <p:cNvSpPr/>
          <p:nvPr/>
        </p:nvSpPr>
        <p:spPr>
          <a:xfrm>
            <a:off x="4427640" y="44280"/>
            <a:ext cx="55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4" descr="Картинка 7 из 552"/>
          <p:cNvPicPr/>
          <p:nvPr/>
        </p:nvPicPr>
        <p:blipFill>
          <a:blip r:embed="rId2"/>
          <a:stretch/>
        </p:blipFill>
        <p:spPr>
          <a:xfrm>
            <a:off x="277920" y="2305080"/>
            <a:ext cx="2778120" cy="4417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Картинка 82 из 69536"/>
          <p:cNvPicPr/>
          <p:nvPr/>
        </p:nvPicPr>
        <p:blipFill>
          <a:blip r:embed="rId3"/>
          <a:stretch/>
        </p:blipFill>
        <p:spPr>
          <a:xfrm>
            <a:off x="0" y="0"/>
            <a:ext cx="1523880" cy="1712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Картинка 93 из 679"/>
          <p:cNvPicPr/>
          <p:nvPr/>
        </p:nvPicPr>
        <p:blipFill>
          <a:blip r:embed="rId4"/>
          <a:stretch/>
        </p:blipFill>
        <p:spPr>
          <a:xfrm>
            <a:off x="7845480" y="2359080"/>
            <a:ext cx="129852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0:31:36Z</dcterms:created>
  <dc:creator>Хитрых</dc:creator>
  <dc:description/>
  <dc:language>en-US</dc:language>
  <cp:lastModifiedBy>Андрей</cp:lastModifiedBy>
  <dcterms:modified xsi:type="dcterms:W3CDTF">2013-03-02T14:11:51Z</dcterms:modified>
  <cp:revision>28</cp:revision>
  <dc:subject/>
  <dc:title>1.ВОЗНИКНОВЕНИЕ РЕСПУБЛИКИ.</dc:title>
</cp:coreProperties>
</file>