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3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629-16AB-4E62-BA92-6D7B4D30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09A-778D-43F3-869D-17E20D10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8FA-A14F-421E-A452-6455B8BF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FE8-72EE-447F-9747-4618253A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93B-77DB-45A9-A755-2EA5B50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FC6-7DE5-41A7-B14C-42694CD0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E8FE-241C-4339-BADA-5CFA4D76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146-57B1-42FC-9E1B-9D8439E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A9C-E394-4FA4-8C17-518D69B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ABD-9C7D-4857-B387-7D99038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395C-CD75-46C6-9A54-279138A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4E4-3F75-4E1D-B2D5-CE639ED4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1D7-D2BD-46A7-9DED-D07ABB5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12D-D508-4233-B5BC-D873071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73B-4B3E-42F1-8929-94442C0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0E4C-5B42-478C-A4F9-F74B4CD9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73E-F304-46B7-ABC3-2B5E2F5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593-C47A-4C2D-8AB8-C8B7A04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697-4F70-49BA-804F-4C95B24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1F4-89C2-42F6-B764-29DCE8C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AB1-A1CF-4C98-A64C-4A515A2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A81-8A7A-473E-BAE2-4CD3054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B3F-D23A-49B5-9300-4128945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283-AB73-4546-BA48-2C41EC7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ина В.В. МОУ"СОШ№25"г.Бала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BE3-1577-42E8-B30A-12F8F6FB33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ина В.В. МОУ"СОШ№25"г.Бала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002-0102-4667-A35F-B8B74BD771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694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ть детей беречь здоровье. Режим дня.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6640" y="4952880"/>
            <a:ext cx="408312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кова Наталья Васи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Лыткари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6" descr="BACKPACK3.jpg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t_shrek_9_116.jpg"/>
          <p:cNvPicPr/>
          <p:nvPr/>
        </p:nvPicPr>
        <p:blipFill>
          <a:blip r:embed="rId2"/>
          <a:stretch/>
        </p:blipFill>
        <p:spPr>
          <a:xfrm>
            <a:off x="6172200" y="1523880"/>
            <a:ext cx="2468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0060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- это расслабление организм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отдыха требует наш мозг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помогает восстановить его активность. Недосыпание отрицательно отражается на работоспособности, сосредоточенности вним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Рисунок 3" descr="96916.jpg"/>
          <p:cNvPicPr/>
          <p:nvPr/>
        </p:nvPicPr>
        <p:blipFill>
          <a:blip r:embed="rId1"/>
          <a:stretch/>
        </p:blipFill>
        <p:spPr>
          <a:xfrm>
            <a:off x="685800" y="914400"/>
            <a:ext cx="33368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724280" y="1066680"/>
            <a:ext cx="3959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продолжительности сна младшего школьника особенно опасно, ведь начало школьной жизни требует от организма дополнительных си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Рисунок 3" descr="17080958.jpg"/>
          <p:cNvPicPr/>
          <p:nvPr/>
        </p:nvPicPr>
        <p:blipFill>
          <a:blip r:embed="rId1"/>
          <a:stretch/>
        </p:blipFill>
        <p:spPr>
          <a:xfrm>
            <a:off x="0" y="3124080"/>
            <a:ext cx="4559400" cy="341964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37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ВЕТЫ РОДИТЕЛЯМ МЛАДШИХ ШКОЛЬНИК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676160"/>
            <a:ext cx="8683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ладший школьник должен спать в сутки не менее 11-12 часов, включая как ночной, так и дневной с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8720" indent="-1987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учите ребенка после прихода из школы и обеда немного поспать. Для хорошего отдыха достаточно часа-полутора. Если ребенок не привык днем спать, убедите его просто отдохн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3200400"/>
            <a:ext cx="845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228600" y="4800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комфортная температура для спокойного и глубокого сна - 16-17°С. В любом случае помещение должно быть хорошо проветр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7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тание - это пища, которую мы употребляем. Она идет на строительство и восстановление тканей организма, на снабжение  его энергией, на обеспечение возможности двигаться, работать, выздоравливать после болезни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0" y="2440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у нужны белки (обеспечивают строительство организма; составляют почти 20% веса нашего те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3506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(запасной источник энерг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4840" y="426816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леводы (обеспечивают нас энерги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5064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(обеспечивают нормальную жизнедеятельность, активность и хорошее самочувствие организ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9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921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избегать  чрезмерного употребления таких продуктов как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1905120"/>
            <a:ext cx="86835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обные хлебные и кондитерские изде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роже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околад, шоколадные конф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ареные проду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3" descr="3f3f79105a974e3fa7ceb483a8d2f802_big.jpg"/>
          <p:cNvPicPr/>
          <p:nvPr/>
        </p:nvPicPr>
        <p:blipFill>
          <a:blip r:embed="rId1"/>
          <a:stretch/>
        </p:blipFill>
        <p:spPr>
          <a:xfrm>
            <a:off x="4883040" y="3429000"/>
            <a:ext cx="4260960" cy="315288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616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ИМЕРНЫЙ РЕЖИМ ДН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0 - подъем (пробуждени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0 -  8.15 - утренняя зарядка, самообслуживание, умывание, одевание, уборка постели, завтр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5 - 8.30 - дорога в школ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0 - 12.40 - занятия в школ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0 - 15.00 - обед, отдых (дневной с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.00 - 16.00 - прогул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 - 17.30 - приготовление уро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30 - 19.00 - свободные заня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0 - уж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30 - 20.30 - свободное вр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30 - 21.00 - душ, подготовка ко с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99f9be1ef712.jpg"/>
          <p:cNvPicPr/>
          <p:nvPr/>
        </p:nvPicPr>
        <p:blipFill>
          <a:blip r:embed="rId1"/>
          <a:stretch/>
        </p:blipFill>
        <p:spPr>
          <a:xfrm>
            <a:off x="4803840" y="3200400"/>
            <a:ext cx="4340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228240"/>
            <a:ext cx="86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жим дня школьника должен быть построен с учетом его возраста и функциональных возмож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жим дня необходимо соблюдать точно и неукоснительно. Это обеспечит выработку определенного ритма в деятельности всех систем организма ребен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683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полнение уроков и прием пищи всегда в одни и те же часы обеспечивает хороший аппетит и нормальное пищевар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2743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бывание на продленном дне в школе не рекомендуется детям, имеющим слабую нервную систему и часто болеющи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533160"/>
            <a:ext cx="8683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ребенка с ослабленным здоровьем должен быть щадящим, с обязательным дневным сном (1 -1,5 часа) и дополнительным отдыхом на свежем воздухе (не менее 3-3,5 час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Рисунок 3" descr="Изображение 001.jpg"/>
          <p:cNvPicPr/>
          <p:nvPr/>
        </p:nvPicPr>
        <p:blipFill>
          <a:blip r:embed="rId1"/>
          <a:stretch/>
        </p:blipFill>
        <p:spPr>
          <a:xfrm>
            <a:off x="3886200" y="2362320"/>
            <a:ext cx="4991040" cy="3403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042 На зарядку.mp3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2514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доровый человек есть самое драгоценное произведение прир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Т. Карлей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3" descr="photo1560.gif"/>
          <p:cNvPicPr/>
          <p:nvPr/>
        </p:nvPicPr>
        <p:blipFill>
          <a:blip r:embed="rId1"/>
          <a:stretch/>
        </p:blipFill>
        <p:spPr>
          <a:xfrm>
            <a:off x="5562720" y="4419720"/>
            <a:ext cx="3019320" cy="20905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600" y="1066320"/>
            <a:ext cx="7997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нять уровень здоровья за 100%, т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здоровья зависит от наследственных факто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от факторов внешней сре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от деятельности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е 50% - от самого человека, от того образа жизни, который он вед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Рисунок 4" descr="malch.jpg"/>
          <p:cNvPicPr/>
          <p:nvPr/>
        </p:nvPicPr>
        <p:blipFill>
          <a:blip r:embed="rId1"/>
          <a:stretch/>
        </p:blipFill>
        <p:spPr>
          <a:xfrm>
            <a:off x="152280" y="3733920"/>
            <a:ext cx="2540160" cy="279396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1766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 - 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читаете ли вы важным для себя формировать у ребенка ответственное отношение к своему здоров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облюдает ли ваш ребенок режим д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ва, на ваш взгляд, роль родительского примера в формировании у ребенка привычки заботиться о своем здоров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160" y="761760"/>
            <a:ext cx="830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 к здоровому образу жизни зависит прежде всего от родителей. Именно родители в сотрудничестве со школой должны способствовать воспитанию у детей привычки, а затем потребности в здоровом образе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воспитываются не столько словами, сколько делами. «Учи показом, а не рассказом», - говорили в древ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3" descr="mama-0015.jpg"/>
          <p:cNvPicPr/>
          <p:nvPr/>
        </p:nvPicPr>
        <p:blipFill>
          <a:blip r:embed="rId1"/>
          <a:stretch/>
        </p:blipFill>
        <p:spPr>
          <a:xfrm>
            <a:off x="6172200" y="3811680"/>
            <a:ext cx="2160720" cy="2463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240" y="685800"/>
            <a:ext cx="830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и важнейшие потребности детей в возрасте 6-10 л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153440" y="2438280"/>
            <a:ext cx="20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148760" y="3124080"/>
            <a:ext cx="9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1153440" y="3809880"/>
            <a:ext cx="17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bok1.jpg"/>
          <p:cNvPicPr/>
          <p:nvPr/>
        </p:nvPicPr>
        <p:blipFill>
          <a:blip r:embed="rId1"/>
          <a:stretch/>
        </p:blipFill>
        <p:spPr>
          <a:xfrm>
            <a:off x="5715000" y="2971800"/>
            <a:ext cx="2971800" cy="2259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35249041_SUNN.gif"/>
          <p:cNvPicPr/>
          <p:nvPr/>
        </p:nvPicPr>
        <p:blipFill>
          <a:blip r:embed="rId2"/>
          <a:stretch/>
        </p:blipFill>
        <p:spPr>
          <a:xfrm>
            <a:off x="7620120" y="1295280"/>
            <a:ext cx="137304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regime_image001.png"/>
          <p:cNvPicPr/>
          <p:nvPr/>
        </p:nvPicPr>
        <p:blipFill>
          <a:blip r:embed="rId3"/>
          <a:stretch/>
        </p:blipFill>
        <p:spPr>
          <a:xfrm>
            <a:off x="1166760" y="4495680"/>
            <a:ext cx="343368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11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378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ОЧЕМУ РЕЖИМ ДНЯ ТАК ВАЖЕН ДЛЯ ЗДОРОВЬЯ РЕБЕНК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90476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жим дня для детей - это порядок чередования различных видов деятельности и отдыха детей в течение сут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57200" y="3200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4920" y="34387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ая организация режима дня способствует нормальному росту и развитию организма детей, укрепляет их здоровье и в то же время прививает им полезные привычки, навыки, содействует укреплению их воли, выработке определенного ритма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68356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строится с учетом анатомо-физиологических особенностей и состояния здоровья и предусматривает определенную продолжительность различных видов деятельности, сна и отдыха, в том числе отдыха на открытом воздухе, регулярные приемы пищи, выполнение правил личной гигие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Содержимое 3" descr="96big.jpg"/>
          <p:cNvPicPr/>
          <p:nvPr/>
        </p:nvPicPr>
        <p:blipFill>
          <a:blip r:embed="rId1"/>
          <a:stretch/>
        </p:blipFill>
        <p:spPr>
          <a:xfrm>
            <a:off x="1295280" y="3078000"/>
            <a:ext cx="7015320" cy="378000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743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быстрой истощаемости центральной нервной системы де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80880" y="45720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чередование различных видов деятельности, сокращение продолжительности ночного сна, сокращение времени отдыха на свежем воздухе, нерациональное питание прив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762120" y="3962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0" y="3657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ают работоспособность, что часто оказывается причиной плохой успеваем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cnewsmainpic5_31202.jpg"/>
          <p:cNvPicPr/>
          <p:nvPr/>
        </p:nvPicPr>
        <p:blipFill>
          <a:blip r:embed="rId1"/>
          <a:stretch/>
        </p:blipFill>
        <p:spPr>
          <a:xfrm>
            <a:off x="5105520" y="4583160"/>
            <a:ext cx="3581280" cy="22748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uchilka.gif"/>
          <p:cNvPicPr/>
          <p:nvPr/>
        </p:nvPicPr>
        <p:blipFill>
          <a:blip r:embed="rId2"/>
          <a:stretch/>
        </p:blipFill>
        <p:spPr>
          <a:xfrm>
            <a:off x="2057400" y="5046840"/>
            <a:ext cx="1922400" cy="181116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9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29:35Z</dcterms:created>
  <dc:creator>123</dc:creator>
  <dc:description/>
  <cp:keywords/>
  <dc:language>en-US</dc:language>
  <cp:lastModifiedBy>123</cp:lastModifiedBy>
  <dcterms:modified xsi:type="dcterms:W3CDTF">2010-02-17T13:32:07Z</dcterms:modified>
  <cp:revision>1</cp:revision>
  <dc:subject/>
  <dc:title>Родительское собрание.  Как учить детей беречь здоровье. Режим дн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