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gif" ContentType="image/gif"/>
  <Override PartName="/ppt/media/image3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79C-55B6-42E2-A6B3-63FB0606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882E-DFC1-4463-9284-6FDC1F15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7D4-5B80-42CB-A662-663FE959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C150-D493-478D-9230-0C0712B9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3348-D0A2-467F-A966-0D4821E3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960E-BE7E-4BD8-AAEC-963E9C1F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6277-607B-45D4-B3AA-1DC769F8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F6C5-8F7B-464A-880F-962EBD73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C3F2-70A7-43D9-88D4-521A4C13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E63A-8F15-4437-B7B9-F09C196F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F504-D736-4E98-8EB7-27C304BE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750-99A8-4321-BF78-1B000FEC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CF1A-DECE-4D38-8B6B-98E49247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C8C9-CA0D-4FC0-8CF8-D3BEFF5A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D579-1400-410D-AF2B-E216BDFA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00A5-EB93-4D16-8C1C-E3256D97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4A1A-711E-4CA7-9947-4AF49933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D4B-8F7A-4D34-A319-5FB437C5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AE2-8F30-445A-A819-7FE8EA76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B81-8045-4EDB-B420-D9AA0BEF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115-3EAB-479E-A58E-F2D73ABB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6410-D639-4343-A6A3-5281981B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CEC-9E34-4E60-AAA7-F74CB649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BF3-25A5-4526-92D3-DF1D2F18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ина В.В. МОУ"СОШ№25"г.Балако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A40F-0AFC-4DC4-82F0-6A3045B1EAD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ина В.В. МОУ"СОШ№25"г.Балако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4931-A36C-4E1E-93A2-C124A50765D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694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е собрани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br>
              <a:rPr sz="18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чить детей беречь здоровье. Режим дня.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346640" y="4952880"/>
            <a:ext cx="4083120" cy="15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акова Наталья Василье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гимназии №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Лыткари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Рисунок 6" descr="BACKPACK3.jpg"/>
          <p:cNvPicPr/>
          <p:nvPr/>
        </p:nvPicPr>
        <p:blipFill>
          <a:blip r:embed="rId1"/>
          <a:stretch/>
        </p:blipFill>
        <p:spPr>
          <a:xfrm>
            <a:off x="380880" y="2133720"/>
            <a:ext cx="3810240" cy="45352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7" descr="t_shrek_9_116.jpg"/>
          <p:cNvPicPr/>
          <p:nvPr/>
        </p:nvPicPr>
        <p:blipFill>
          <a:blip r:embed="rId2"/>
          <a:stretch/>
        </p:blipFill>
        <p:spPr>
          <a:xfrm>
            <a:off x="6172200" y="1523880"/>
            <a:ext cx="24685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00600" y="45720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 - это расслабление организм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 всего отдыха требует наш мозг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 помогает восстановить его активность. Недосыпание отрицательно отражается на работоспособности, сосредоточенности внима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Рисунок 3" descr="96916.jpg"/>
          <p:cNvPicPr/>
          <p:nvPr/>
        </p:nvPicPr>
        <p:blipFill>
          <a:blip r:embed="rId1"/>
          <a:stretch/>
        </p:blipFill>
        <p:spPr>
          <a:xfrm>
            <a:off x="685800" y="914400"/>
            <a:ext cx="3336840" cy="480060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724280" y="1066680"/>
            <a:ext cx="39592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продолжительности сна младшего школьника особенно опасно, ведь начало школьной жизни требует от организма дополнительных си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Рисунок 3" descr="17080958.jpg"/>
          <p:cNvPicPr/>
          <p:nvPr/>
        </p:nvPicPr>
        <p:blipFill>
          <a:blip r:embed="rId1"/>
          <a:stretch/>
        </p:blipFill>
        <p:spPr>
          <a:xfrm>
            <a:off x="0" y="3124080"/>
            <a:ext cx="4559400" cy="3419640"/>
          </a:xfrm>
          <a:prstGeom prst="rect">
            <a:avLst/>
          </a:prstGeom>
          <a:ln w="0">
            <a:noFill/>
          </a:ln>
        </p:spPr>
      </p:pic>
      <p:sp>
        <p:nvSpPr>
          <p:cNvPr id="125" name="Нижний колонтитул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378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ВЕТЫ РОДИТЕЛЯМ МЛАДШИХ ШКОЛЬНИКОВ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676160"/>
            <a:ext cx="86835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ладший школьник должен спать в сутки не менее 11-12 часов, включая как ночной, так и дневной со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8720" indent="-1987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учите ребенка после прихода из школы и обеда немного поспать. Для хорошего отдыха достаточно часа-полутора. Если ребенок не привык днем спать, убедите его просто отдохну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0" y="3200400"/>
            <a:ext cx="8458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228600" y="4800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комфортная температура для спокойного и глубокого сна - 16-17°С. В любом случае помещение должно быть хорошо проветр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ижний колонтитул 7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итание - это пища, которую мы употребляем. Она идет на строительство и восстановление тканей организма, на снабжение  его энергией, на обеспечение возможности двигаться, работать, выздоравливать после болезни и т. 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0" y="24408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му нужны белки (обеспечивают строительство организма; составляют почти 20% веса нашего тел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35064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3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ры (запасной источник энерг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24840" y="4268160"/>
            <a:ext cx="57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глеводы (обеспечивают нас энерги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5064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ы (обеспечивают нормальную жизнедеятельность, активность и хорошее самочувствие организм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ижний колонтитул 9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921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ться избегать  чрезмерного употребления таких продуктов как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1905120"/>
            <a:ext cx="868356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обные хлебные и кондитерские издел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рожен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шоколад, шоколадные конфе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жареные продук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Рисунок 3" descr="3f3f79105a974e3fa7ceb483a8d2f802_big.jpg"/>
          <p:cNvPicPr/>
          <p:nvPr/>
        </p:nvPicPr>
        <p:blipFill>
          <a:blip r:embed="rId1"/>
          <a:stretch/>
        </p:blipFill>
        <p:spPr>
          <a:xfrm>
            <a:off x="4883040" y="3429000"/>
            <a:ext cx="4260960" cy="3152880"/>
          </a:xfrm>
          <a:prstGeom prst="rect">
            <a:avLst/>
          </a:prstGeom>
          <a:ln w="0">
            <a:noFill/>
          </a:ln>
        </p:spPr>
      </p:pic>
      <p:sp>
        <p:nvSpPr>
          <p:cNvPr id="140" name="Нижний колонтитул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616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ИМЕРНЫЙ РЕЖИМ ДНЯ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0 - подъем (пробуждение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0 -  8.15 - утренняя зарядка, самообслуживание, умывание, одевание, уборка постели, завтра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15 - 8.30 - дорога в школ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40 - 12.40 - занятия в школ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00 - 15.00 - обед, отдых (дневной сон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5.00 - 16.00 - прогул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00 - 17.30 - приготовление уро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30 - 19.00 - свободные занят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00 - уж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30 - 20.30 - свободное вр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30 - 21.00 - душ, подготовка ко сн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Нижний колонтитул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5" descr="99f9be1ef712.jpg"/>
          <p:cNvPicPr/>
          <p:nvPr/>
        </p:nvPicPr>
        <p:blipFill>
          <a:blip r:embed="rId1"/>
          <a:stretch/>
        </p:blipFill>
        <p:spPr>
          <a:xfrm>
            <a:off x="4803840" y="3200400"/>
            <a:ext cx="4340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360" y="228240"/>
            <a:ext cx="86835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жим дня школьника должен быть построен с учетом его возраста и функциональных возможност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жим дня необходимо соблюдать точно и неукоснительно. Это обеспечит выработку определенного ритма в деятельности всех систем организма ребенк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683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полнение уроков и прием пищи всегда в одни и те же часы обеспечивает хороший аппетит и нормальное пищеварени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2743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ебывание на продленном дне в школе не рекомендуется детям, имеющим слабую нервную систему и часто болеющи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Нижний колонтитул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533160"/>
            <a:ext cx="8683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дня ребенка с ослабленным здоровьем должен быть щадящим, с обязательным дневным сном (1 -1,5 часа) и дополнительным отдыхом на свежем воздухе (не менее 3-3,5 часов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Рисунок 3" descr="Изображение 001.jpg"/>
          <p:cNvPicPr/>
          <p:nvPr/>
        </p:nvPicPr>
        <p:blipFill>
          <a:blip r:embed="rId1"/>
          <a:stretch/>
        </p:blipFill>
        <p:spPr>
          <a:xfrm>
            <a:off x="3886200" y="2362320"/>
            <a:ext cx="4991040" cy="340344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5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042 На зарядку.mp3" descr=""/>
          <p:cNvPicPr/>
          <p:nvPr/>
        </p:nvPicPr>
        <p:blipFill>
          <a:blip r:embed="rId2"/>
          <a:stretch/>
        </p:blipFill>
        <p:spPr>
          <a:xfrm>
            <a:off x="380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25149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82263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доровый человек есть самое драгоценное произведение природ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Т. Карлей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Рисунок 3" descr="photo1560.gif"/>
          <p:cNvPicPr/>
          <p:nvPr/>
        </p:nvPicPr>
        <p:blipFill>
          <a:blip r:embed="rId1"/>
          <a:stretch/>
        </p:blipFill>
        <p:spPr>
          <a:xfrm>
            <a:off x="5562720" y="4419720"/>
            <a:ext cx="3019320" cy="2090520"/>
          </a:xfrm>
          <a:prstGeom prst="rect">
            <a:avLst/>
          </a:prstGeom>
          <a:ln w="0">
            <a:noFill/>
          </a:ln>
        </p:spPr>
      </p:pic>
      <p:sp>
        <p:nvSpPr>
          <p:cNvPr id="88" name="Нижний колонтитул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8600" y="1066320"/>
            <a:ext cx="799776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инять уровень здоровья за 100%, то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 здоровья зависит от наследственных фактор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 от факторов внешней сре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от деятельности системы здравоо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ьные 50% - от самого человека, от того образа жизни, который он вед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Рисунок 4" descr="malch.jpg"/>
          <p:cNvPicPr/>
          <p:nvPr/>
        </p:nvPicPr>
        <p:blipFill>
          <a:blip r:embed="rId1"/>
          <a:stretch/>
        </p:blipFill>
        <p:spPr>
          <a:xfrm>
            <a:off x="152280" y="3733920"/>
            <a:ext cx="2540160" cy="2793960"/>
          </a:xfrm>
          <a:prstGeom prst="rect">
            <a:avLst/>
          </a:prstGeom>
          <a:ln w="0">
            <a:noFill/>
          </a:ln>
        </p:spPr>
      </p:pic>
      <p:sp>
        <p:nvSpPr>
          <p:cNvPr id="91" name="Нижний колонтитул 5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0" y="17665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 - 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читаете ли вы важным для себя формировать у ребенка ответственное отношение к своему здоров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Соблюдает ли ваш ребенок режим д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ова, на ваш взгляд, роль родительского примера в формировании у ребенка привычки заботиться о своем здоровь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ижний колонтитул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33160" y="761760"/>
            <a:ext cx="83026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мотивации к здоровому образу жизни зависит прежде всего от родителей. Именно родители в сотрудничестве со школой должны способствовать воспитанию у детей привычки, а затем потребности в здоровом образе жиз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ки воспитываются не столько словами, сколько делами. «Учи показом, а не рассказом», - говорили в древ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Рисунок 3" descr="mama-0015.jpg"/>
          <p:cNvPicPr/>
          <p:nvPr/>
        </p:nvPicPr>
        <p:blipFill>
          <a:blip r:embed="rId1"/>
          <a:stretch/>
        </p:blipFill>
        <p:spPr>
          <a:xfrm>
            <a:off x="6172200" y="3811680"/>
            <a:ext cx="2160720" cy="246384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28240" y="685800"/>
            <a:ext cx="8302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и важнейшие потребности детей в возрасте 6-10 ле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1153440" y="2438280"/>
            <a:ext cx="204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1148760" y="3124080"/>
            <a:ext cx="93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1153440" y="3809880"/>
            <a:ext cx="17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8" descr="bok1.jpg"/>
          <p:cNvPicPr/>
          <p:nvPr/>
        </p:nvPicPr>
        <p:blipFill>
          <a:blip r:embed="rId1"/>
          <a:stretch/>
        </p:blipFill>
        <p:spPr>
          <a:xfrm>
            <a:off x="5715000" y="2971800"/>
            <a:ext cx="2971800" cy="2259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9" descr="35249041_SUNN.gif"/>
          <p:cNvPicPr/>
          <p:nvPr/>
        </p:nvPicPr>
        <p:blipFill>
          <a:blip r:embed="rId2"/>
          <a:stretch/>
        </p:blipFill>
        <p:spPr>
          <a:xfrm>
            <a:off x="7620120" y="1295280"/>
            <a:ext cx="1373040" cy="1305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regime_image001.png"/>
          <p:cNvPicPr/>
          <p:nvPr/>
        </p:nvPicPr>
        <p:blipFill>
          <a:blip r:embed="rId3"/>
          <a:stretch/>
        </p:blipFill>
        <p:spPr>
          <a:xfrm>
            <a:off x="1166760" y="4495680"/>
            <a:ext cx="3433680" cy="182880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11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378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ОЧЕМУ РЕЖИМ ДНЯ ТАК ВАЖЕН ДЛЯ ЗДОРОВЬЯ РЕБЕНКА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190476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жим дня для детей - это порядок чередования различных видов деятельности и отдыха детей в течение сут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457200" y="32004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04920" y="34387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ьная организация режима дня способствует нормальному росту и развитию организма детей, укрепляет их здоровье и в то же время прививает им полезные привычки, навыки, содействует укреплению их воли, выработке определенного ритма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68356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дня строится с учетом анатомо-физиологических особенностей и состояния здоровья и предусматривает определенную продолжительность различных видов деятельности, сна и отдыха, в том числе отдыха на открытом воздухе, регулярные приемы пищи, выполнение правил личной гигиен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Содержимое 3" descr="96big.jpg"/>
          <p:cNvPicPr/>
          <p:nvPr/>
        </p:nvPicPr>
        <p:blipFill>
          <a:blip r:embed="rId1"/>
          <a:stretch/>
        </p:blipFill>
        <p:spPr>
          <a:xfrm>
            <a:off x="1295280" y="3078000"/>
            <a:ext cx="7015320" cy="378000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0" y="2743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быстрой истощаемости центральной нервной системы де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380880" y="457200"/>
            <a:ext cx="853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ое чередование различных видов деятельности, сокращение продолжительности ночного сна, сокращение времени отдыха на свежем воздухе, нерациональное питание приводя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762120" y="3962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0" y="36576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ают работоспособность, что часто оказывается причиной плохой успеваемости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6" descr="cnewsmainpic5_31202.jpg"/>
          <p:cNvPicPr/>
          <p:nvPr/>
        </p:nvPicPr>
        <p:blipFill>
          <a:blip r:embed="rId1"/>
          <a:stretch/>
        </p:blipFill>
        <p:spPr>
          <a:xfrm>
            <a:off x="5105520" y="4583160"/>
            <a:ext cx="3581280" cy="22748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8" descr="uchilka.gif"/>
          <p:cNvPicPr/>
          <p:nvPr/>
        </p:nvPicPr>
        <p:blipFill>
          <a:blip r:embed="rId2"/>
          <a:stretch/>
        </p:blipFill>
        <p:spPr>
          <a:xfrm>
            <a:off x="2057400" y="5046840"/>
            <a:ext cx="1922400" cy="1811160"/>
          </a:xfrm>
          <a:prstGeom prst="rect">
            <a:avLst/>
          </a:prstGeom>
          <a:ln w="0">
            <a:noFill/>
          </a:ln>
        </p:spPr>
      </p:pic>
      <p:sp>
        <p:nvSpPr>
          <p:cNvPr id="119" name="Нижний колонтитул 9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3:29:35Z</dcterms:created>
  <dc:creator>123</dc:creator>
  <dc:description/>
  <cp:keywords/>
  <dc:language>en-US</dc:language>
  <cp:lastModifiedBy>123</cp:lastModifiedBy>
  <dcterms:modified xsi:type="dcterms:W3CDTF">2010-02-17T13:32:07Z</dcterms:modified>
  <cp:revision>1</cp:revision>
  <dc:subject/>
  <dc:title>Родительское собрание.  Как учить детей беречь здоровье. Режим дня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21049</vt:lpwstr>
  </property>
</Properties>
</file>