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306-24BE-4BF3-8833-8151F7F5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5C6-6B5B-4A40-BB95-FF3B3001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EE6-1206-4464-90BE-71CFAF47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227-99F2-4BDC-9AE8-DE84843E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D31-274C-4A1F-AB4E-4CDE4F7B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861-8CFE-4B7F-BB04-A857CDF3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18E-ED1F-4EF4-848C-023D4FD8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743-600C-4AB5-9CA5-CC51B3BA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0C8-4919-4AE4-9D5C-57A30CC3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A0F-1AF8-412E-8094-8CAD2E7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73C-C2BE-4900-AA08-A1E7D5E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966-A0AE-4739-8A1C-72DE83F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E8DC-0C5D-4070-9A5A-82F47FDD0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Автор: Дельфин Екатерина Владимировна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Должность: учитель – логопед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квалификационной категории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Место работы: ГБОУ СОШ № 2005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дошкольное от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орческая мастерска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63000" cy="6118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98000"/>
            <a:ext cx="784872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Творческая мастер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езультативность коррекционной работы зависит от личностного включения ребенка в педагогический процесс и осознанности выполняемых им действий. Решая эту задачу, мною была создана особая логопедическая среда. Логопедический кабинет стал для меня творческой мастерской. Основное назначение его – это создание рациональных условий для коррекционного обучения детей дошкольного возраста с речевыми наруше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 целенаправленному оснащению и применению логопедический кабинет можно разделить на несколько гибких зон пересекающихся сфер а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по коррекции произ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слов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разовательная з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мелкой мото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методического, дидактического и игрового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технических средств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бочая з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3520" y="304920"/>
            <a:ext cx="8096040" cy="611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274680"/>
            <a:ext cx="7172280" cy="30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по коррекции произно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, в которой пространственно-организующим элементом выступает настенное зеркало. Это многофункциональное пространство с основными маршрут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зона дых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зона фонального восприя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зона тембрального восприя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артикуляционная з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зона мелкой мото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оптическая з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й зоне предполагается широкое использование всех видов контроля, что помогает ребенку сознательно воспроизвести необходимое движение или положение речевых органов и звучание фонемы. Ребенок должен рассмотреть расположение органов артикуляции с помощью зеркала (зрительный контроль), ощутить характер воздушной струи и вибрацию гортани (тактиль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) и в процессе игры воспроизвести нужную фо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667560" cy="611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33920" y="807840"/>
            <a:ext cx="4236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слова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 зона способствует развитию речи через рабочий планшет, содержащий: картинки, предметы, муляжи, схемы, символы, игры, карточки по необходимым лексическим и грамматическим тем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380880"/>
            <a:ext cx="8172360" cy="611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3170160"/>
            <a:ext cx="529740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бразовательная з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разовательная зона по подготовке к освоению грамоты. Это пространство оборудовано многофункциональными логопедическими столами, магнитной доской, учебными планшетами; графическими схемами для подготовки руки к письму; карточки с зада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143000" y="228600"/>
            <a:ext cx="7048440" cy="6114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4313880"/>
            <a:ext cx="51814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мелкой мото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 зона рабочая и доступная детям: волчки, цепочки, бусы, шнурочки, застежки, обводки, штриховки, раскраски, материал для вырезания, мозаики, материал для лепки, бумага, веревка, палочки, карандаши, фломастеры, ручки, пальчиковая гимнастика в картинках, пальчиковый теа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685800"/>
            <a:ext cx="8001000" cy="5181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890000"/>
            <a:ext cx="79185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методического, дидактического и игров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на представлена довольно вместительными книжными шкафами и содержит следующие разде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правочная литература по логопедии, дефектологии, детской псих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материалы по обследованию речи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методическая литература по коррекции звукопроиз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методическая литература по преодолению общего недоразвития ре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чебно-методическая литература по обучению грамо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чебно-методические планы по разделам коррекции и развитии ре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особия по дидактическому обеспечению коррекционного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занимательное игровое обеспечение логопедических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33520" y="30492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1113120"/>
            <a:ext cx="752148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технических средств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зоне технических средств коррекционной работе способствует специальное оборудование: компьютер; усиливающая аппаратура; магнитоф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процессе отбора компьютерных логопедических программ, учебных и развивающих игр для занятий с детьми были включены следующи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полисенсорного подхода при коррекции речевых нару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системного подхода к коррекции речевых нару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развивающего и дифференцированного подхода к обучению детей с речевыми нарушен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системности и последовательности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доступности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индивидуализации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сознательности и активности в усвоении знаний и их ре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объективной оценки результатов деятельности ребе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игровой стратегии обучения и введения ребенка в проблемную ситу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воспитывающего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интерактивности компьютерных средств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есообразность использования в работе с детьми каждой отдельно взятой коррекционной компьютерной технологии определяю возможностью решения задач, поставленных «Программой дошкольных учреждений компенсирующего вида для детей с нарушениями речи» («Коррекция нарушений речи») Филичевой Т.Б., Чиркиной Г.В. и рабочими образовательными программами дошкольного учреждения, в более короткие сроки и с достижением желаемого коррекционно-образовательного эффекта за счет выбора уровня сложности заданий, соответствующего состоянию речевых возможностей ребенка и зоны его ближайш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762120"/>
            <a:ext cx="8001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080" y="3170160"/>
            <a:ext cx="60199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абочая зона учителя – логоп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 на рабочем столе чинно возвышается логопедическая документ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Нормативно-правовые док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График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Перспективное планирование на учебный год по основным разделам логопедическ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Журнал обследования речи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Журнал учета движения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.Журнал посещения зан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.Речевые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8.Журнал взаимодействия специалис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9.Портфолио научно-методических достижений специа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20:18:48Z</dcterms:created>
  <dc:creator>1</dc:creator>
  <dc:description/>
  <dc:language>en-US</dc:language>
  <cp:lastModifiedBy>1</cp:lastModifiedBy>
  <dcterms:modified xsi:type="dcterms:W3CDTF">2013-03-01T20:39:4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