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3EC-FD77-4E5B-91F6-D27FD7EB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334-CC20-42E7-90B7-A848316D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035-138A-4091-AC47-DE5308E8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35F-2EA0-4B21-B986-E73D297C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941-8AC2-4594-9AE3-4098BDB2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270-A213-4FF3-8221-F5920E5C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1A8-E6D1-40B9-BAEE-07C27504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7A0-9B28-4BA0-BE6C-0F6FBAFC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FAA-F242-4C47-90C7-289C2F31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C31-24BC-49D7-BCB8-D176B6D3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5F6-6418-4C19-BA69-71A6EEC6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856-1546-4531-BA4F-DB0D045F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6EFE-2B1A-4C6B-B435-AC7FEF460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Автор: Дельфин Екатерина Владимировна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Должность: учитель – логопед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квалификационной категории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Место работы: ГБОУ СОШ № 2005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дошкольное отд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орческая мастерская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63000" cy="6118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98000"/>
            <a:ext cx="784872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Творческая мастер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езультативность коррекционной работы зависит от личностного включения ребенка в педагогический процесс и осознанности выполняемых им действий. Решая эту задачу, мною была создана особая логопедическая среда. Логопедический кабинет стал для меня творческой мастерской. Основное назначение его – это создание рациональных условий для коррекционного обучения детей дошкольного возраста с речевыми наруше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 целенаправленному оснащению и применению логопедический кабинет можно разделить на несколько гибких зон пересекающихся сфер актив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она по коррекции произ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она слова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разовательная з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она мелкой мотор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она методического, дидактического и игрового сопров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она технических средств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бочая з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3520" y="304920"/>
            <a:ext cx="8096040" cy="611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9320" y="274680"/>
            <a:ext cx="7172280" cy="30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она по коррекции произно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она, в которой пространственно-организующим элементом выступает настенное зеркало. Это многофункциональное пространство с основными маршрут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зона дых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зона фонального восприя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зона тембрального восприя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артикуляционная з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зона мелкой мото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оптическая з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й зоне предполагается широкое использование всех видов контроля, что помогает ребенку сознательно воспроизвести необходимое движение или положение речевых органов и звучание фонемы. Ребенок должен рассмотреть расположение органов артикуляции с помощью зеркала (зрительный контроль), ощутить характер воздушной струи и вибрацию гортани (тактиль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троль) и в процессе игры воспроизвести нужную фон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667560" cy="611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33920" y="807840"/>
            <a:ext cx="4236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она слова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 зона способствует развитию речи через рабочий планшет, содержащий: картинки, предметы, муляжи, схемы, символы, игры, карточки по необходимым лексическим и грамматическим тем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380880"/>
            <a:ext cx="8172360" cy="6115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3170160"/>
            <a:ext cx="529740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бразовательная з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разовательная зона по подготовке к освоению грамоты. Это пространство оборудовано многофункциональными логопедическими столами, магнитной доской, учебными планшетами; графическими схемами для подготовки руки к письму; карточки с зада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143000" y="228600"/>
            <a:ext cx="7048440" cy="6114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4313880"/>
            <a:ext cx="51814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она мелкой мотор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 зона рабочая и доступная детям: волчки, цепочки, бусы, шнурочки, застежки, обводки, штриховки, раскраски, материал для вырезания, мозаики, материал для лепки, бумага, веревка, палочки, карандаши, фломастеры, ручки, пальчиковая гимнастика в картинках, пальчиковый теа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685800"/>
            <a:ext cx="8001000" cy="5181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1890000"/>
            <a:ext cx="79185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она методического, дидактического и игров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на представлена довольно вместительными книжными шкафами и содержит следующие разде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правочная литература по логопедии, дефектологии, детской психолог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материалы по обследованию речи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методическая литература по коррекции звукопроиз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методическая литература по преодолению общего недоразвития ре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чебно-методическая литература по обучению грамо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чебно-методические планы по разделам коррекции и развитии ре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особия по дидактическому обеспечению коррекционного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занимательное игровое обеспечение логопедических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33520" y="30492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1113120"/>
            <a:ext cx="752148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она технических средств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зоне технических средств коррекционной работе способствует специальное оборудование: компьютер; усиливающая аппаратура; магнитоф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процессе отбора компьютерных логопедических программ, учебных и развивающих игр для занятий с детьми были включены следующие принци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полисенсорного подхода при коррекции речевых нару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системного подхода к коррекции речевых нару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развивающего и дифференцированного подхода к обучению детей с речевыми нарушен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системности и последовательности об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доступности об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индивидуализации об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сознательности и активности в усвоении знаний и их реал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объективной оценки результатов деятельности ребен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игровой стратегии обучения и введения ребенка в проблемную ситу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воспитывающего об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ринцип интерактивности компьютерных средств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елесообразность использования в работе с детьми каждой отдельно взятой коррекционной компьютерной технологии определяю возможностью решения задач, поставленных «Программой дошкольных учреждений компенсирующего вида для детей с нарушениями речи» («Коррекция нарушений речи») Филичевой Т.Б., Чиркиной Г.В. и рабочими образовательными программами дошкольного учреждения, в более короткие сроки и с достижением желаемого коррекционно-образовательного эффекта за счет выбора уровня сложности заданий, соответствующего состоянию речевых возможностей ребенка и зоны его ближайше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5800" y="762120"/>
            <a:ext cx="8001000" cy="504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8080" y="3170160"/>
            <a:ext cx="601992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абочая зона учителя – логоп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 на рабочем столе чинно возвышается логопедическая документ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Нормативно-правовые док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График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Перспективное планирование на учебный год по основным разделам логопедическ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Журнал обследования речи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Журнал учета движения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.Журнал посещения зан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.Речевые кар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8.Журнал взаимодействия специалис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9.Портфолио научно-методических достижений специа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20:18:48Z</dcterms:created>
  <dc:creator>1</dc:creator>
  <dc:description/>
  <dc:language>en-US</dc:language>
  <cp:lastModifiedBy>1</cp:lastModifiedBy>
  <dcterms:modified xsi:type="dcterms:W3CDTF">2013-03-01T20:39:4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