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016-E13E-41AD-A473-ACB41B52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ABC-C01D-497A-86D1-E49AB44D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CF3-AC36-4A07-B8DE-DA4CF971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64C-E007-43F6-A831-7EAD1E8C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F255-4DC0-4871-8D91-38AE49E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9283-58D2-4707-A903-EA79F07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EA6C-ABBA-4412-8848-C6F9E9B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0A8-D5EA-4196-93D4-B1BEAA5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A253-1546-43F7-B40D-E9B1F728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F1C-6611-4CEE-B972-389F80E5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6E9C-C8F8-4BB6-B860-3CDA86EC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3EA-01A5-41A9-A1E9-107C6FF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98DF-7502-43EE-9A5D-56A8245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5BC3-EE82-498F-AF9C-A191C4F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B6C3-6DE6-4A8F-AC0A-BF03383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507B-3EA1-4C0F-A3A6-71C51241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8650-C838-4C24-BD64-EC9E4452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B06-2161-4144-898D-B8CEC060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E8F-DAB9-435A-8B05-5B978778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A7A-B848-4466-AF35-23E75B03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D7C-86EB-4E42-A271-7A753F8A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B93-0D10-4A5C-A96C-562ABC9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96A-E7D5-4FCB-B34C-7D814F2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EF0-BBD2-4912-A371-0329E91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A34-2CB5-48DD-B776-A17B7BBD2D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A5CC-5E01-4C87-A198-A0508F47A7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044000"/>
            <a:ext cx="7127640" cy="2562840"/>
          </a:xfrm>
          <a:prstGeom prst="rect">
            <a:avLst/>
          </a:prstGeom>
          <a:solidFill>
            <a:srgbClr val="e5ff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Растения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открыватели вес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5480" y="4365720"/>
            <a:ext cx="7276320" cy="1465560"/>
          </a:xfrm>
          <a:prstGeom prst="rect">
            <a:avLst/>
          </a:prstGeom>
          <a:solidFill>
            <a:srgbClr val="e5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втор презентаци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еница 2 класса Узденова Дар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КОУ «Бережк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ровского района Калужск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-куратор: Байкова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1547640" y="1851120"/>
            <a:ext cx="6107400" cy="500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260280"/>
            <a:ext cx="837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Ива тоже цветет рано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на наклоняется над гладью озёр, прудов и склоняет свои зеленые ветви до самой воды, и с неё капают капельки воды, как бы она плачет. В ивовых кустах живут и поют песни соловьи. Ивы очень быстро размножаются: отломается веточка, упадет на землю, и начинает расти. В народе говорят: «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Иву хоть и срубишь, да она вновь разрастется»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тонких длинных прутиков вербы и ивы плетут красивые корзи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32600" y="4292640"/>
            <a:ext cx="30114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2581200" cy="224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Верба"/>
          <p:cNvPicPr/>
          <p:nvPr/>
        </p:nvPicPr>
        <p:blipFill>
          <a:blip r:embed="rId2"/>
          <a:stretch/>
        </p:blipFill>
        <p:spPr>
          <a:xfrm>
            <a:off x="3132000" y="0"/>
            <a:ext cx="3249720" cy="35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Орешник. Мужской цветок. Орешник цветёт уже в апреле"/>
          <p:cNvPicPr/>
          <p:nvPr/>
        </p:nvPicPr>
        <p:blipFill>
          <a:blip r:embed="rId3"/>
          <a:srcRect l="0" t="19135" r="0" b="14174"/>
          <a:stretch/>
        </p:blipFill>
        <p:spPr>
          <a:xfrm>
            <a:off x="2843280" y="3213000"/>
            <a:ext cx="28432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Осина"/>
          <p:cNvPicPr/>
          <p:nvPr/>
        </p:nvPicPr>
        <p:blipFill>
          <a:blip r:embed="rId4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Ива-ивушка"/>
          <p:cNvPicPr/>
          <p:nvPr/>
        </p:nvPicPr>
        <p:blipFill>
          <a:blip r:embed="rId5"/>
          <a:stretch/>
        </p:blipFill>
        <p:spPr>
          <a:xfrm>
            <a:off x="5651640" y="0"/>
            <a:ext cx="3492360" cy="321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Ветка осины"/>
          <p:cNvPicPr/>
          <p:nvPr/>
        </p:nvPicPr>
        <p:blipFill>
          <a:blip r:embed="rId6"/>
          <a:stretch/>
        </p:blipFill>
        <p:spPr>
          <a:xfrm>
            <a:off x="5651640" y="3213000"/>
            <a:ext cx="3492360" cy="364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5086440"/>
            <a:ext cx="7309080" cy="1739880"/>
          </a:xfrm>
          <a:prstGeom prst="rect">
            <a:avLst/>
          </a:prstGeom>
          <a:solidFill>
            <a:srgbClr val="e5ff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эти растения открывают весн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т момент в природе называют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«пыление деревьев»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ому что рано весной  из сережек высыпается пыль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5003640" cy="486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1989000"/>
            <a:ext cx="4140360" cy="486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43640" y="0"/>
            <a:ext cx="2700360" cy="335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3213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ПРИРОДА 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              </a:t>
            </a: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НАШ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                   </a:t>
            </a: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ОБЩИ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                              </a:t>
            </a: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Д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1440000" cy="14288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908000" y="0"/>
            <a:ext cx="504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асота природы поднимает настро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дует нас, помогает забыться в тру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инуты. Мы все должны береж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носиться ко всему, что нас окруж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к как природа – наш общий 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1997 0.0838 C -0.10538 0.27153 -0.23055 0.45926 -0.11007 0.5257 C 0.01042 0.59213 0.6658 0.51505 0.74289 0.48195 C 0.81997 0.44885 0.36962 0.35903 0.35278 0.32755 C 0.33594 0.29607 0.69844 0.34676 0.6415 0.29329 C 0.58455 0.23959 0.11841 0.0544 0.01146 0.00556 C -0.09548 -0.04328 -0.04774 -0.02176 -3.05556E-006 -2.96296E-006 E">
                                      <p:cBhvr>
                                        <p:cTn id="122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356280" y="981000"/>
            <a:ext cx="525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ahoma"/>
              </a:rPr>
              <a:t>БЕРЕГИТЕ ЛЕС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343400" cy="30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478320" y="573408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 беречь поросли, не видать и дере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12640" y="6237360"/>
            <a:ext cx="39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ыл бы лес, соловьи прилетя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5880" y="5228640"/>
            <a:ext cx="51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то деревцо посадит, тот человеку дру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" y="0"/>
            <a:ext cx="738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ahoma"/>
              </a:rPr>
              <a:t>БЕРЕГИТЕ ПРИРОДУ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4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7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35360" y="260280"/>
            <a:ext cx="49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Отгадайте загад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4200" y="1341360"/>
            <a:ext cx="33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ревца в лесу сто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же в тихий день дрож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доль извилистой троп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Шелестят листвой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0520" y="1341360"/>
            <a:ext cx="30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тви в воду опуст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о чем-то загрусти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мотрите, как краси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д рекой склонилась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4960" y="4869000"/>
            <a:ext cx="312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красненьком кусточк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тоненьком пруточ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шистые цыпля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елись без ма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4797360"/>
            <a:ext cx="35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ь сережки, да не девчон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ь шишки, да не сос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живет в низинк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ло лози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30040" y="2781360"/>
            <a:ext cx="342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чень густо он раст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заметно он цве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 когда приходит лет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ы едим его конфе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 в бумажке, а в скорлупк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регите, дети, зуб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69720" y="21337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осин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52560" y="21337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2280" y="41641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Орешни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3960" y="56610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Ольх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61160" y="56610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Верб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20598000">
            <a:off x="4642920" y="1916280"/>
            <a:ext cx="2292480" cy="171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50920" y="286200"/>
            <a:ext cx="4537080" cy="485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ьдины звонкие разби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оплыли по ре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ережки распусти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осинке и ольх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ятся нежно ив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светлели их ств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орешнике сер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ли видны изд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бухают соком п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оро весь растает с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еленые лист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ctr" pos="337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лодой украсят л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297480" y="0"/>
            <a:ext cx="2846520" cy="213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" descr="Весенний лес"/>
          <p:cNvPicPr/>
          <p:nvPr/>
        </p:nvPicPr>
        <p:blipFill>
          <a:blip r:embed="rId4"/>
          <a:stretch/>
        </p:blipFill>
        <p:spPr>
          <a:xfrm>
            <a:off x="6283440" y="3284640"/>
            <a:ext cx="2860560" cy="214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50920" y="5373720"/>
            <a:ext cx="6507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 каком времени года говорится в стихотворе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 каким приметам вы определили время го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 каких растениях упоминается в стихотворении? Что вы знаете о ни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476280"/>
            <a:ext cx="83311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ения в неживой природе влияют на растения. В нашей области произрастают растения, которые открывают весну, то есть первыми зацветают. Везде еще лежит снег, а они цветут. Но не всем удается увидеть, как цветут эти деревья. Что же это за растения? А растения эти очень хорошо известны каждому из нас. Это ольха, орешник, верба, осина, 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4066920" cy="29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508560" cy="28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260280"/>
            <a:ext cx="439236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но весной на ольхе появляются сережки. Это мужские соцветия. В одной серёжке до трехсот цветков. Женские цветочки незаметны. Они имеют вид рисового зернышка темно-малиновой окраски. На них попадает из сережки пыльца, и к осени развиваются шишечки, в которых созревают сем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743280" cy="577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4869000"/>
            <a:ext cx="2346120" cy="175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35120" y="568440"/>
            <a:ext cx="7581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Орешник – кустарник или маленькое деревце. Рано весной на голых ветвях распускаются сережки. В давние времена орешник считался священным. Его запрещали вырубать. Верили, что орехи обладают волшебной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2857680" cy="285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1886040" cy="1428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780000" y="3068640"/>
            <a:ext cx="1904760" cy="2676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86720" y="6150240"/>
            <a:ext cx="7770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Объясни поговорку: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еховое дерево с корней гниет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3417840" cy="249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024360" cy="4465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258920" y="333360"/>
            <a:ext cx="669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Через пять дней после орешника зацветает вер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ж верба вся пушис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аскинулась кру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пять весна душист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веяла кру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3168720" cy="291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95040" y="6241320"/>
            <a:ext cx="84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Объясни!</a:t>
            </a:r>
            <a:r>
              <a:rPr b="0" lang="en-US" sz="1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рба, что луговая трава: ее выкосишь, а она снова выраст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549360"/>
            <a:ext cx="4572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1899" dir="13500000" blurRad="0" rotWithShape="0">
              <a:srgbClr val="2b548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ерба – верный признак прихода весны. Это первый весенний медонос. Это кустарник. У нее очень красивые сережки, как мех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аже загадки есть про вербу: </a:t>
            </a: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«Белые овечки бегают по свечк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юбят люди вербу. Сажают ее и в городах и в селах. Это очень красивое стойкое растение: не боится ни жары, ни холода.  Вербу часто используют для борьбы с овра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У славян верба была символом семейного очага. Она охраняет людей от злых духов и пож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Когда зацветает верба, у нас появляется светлое, радостное настроение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33862" b="17989"/>
          <a:stretch/>
        </p:blipFill>
        <p:spPr>
          <a:xfrm>
            <a:off x="5724360" y="549360"/>
            <a:ext cx="3019680" cy="28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4229" t="42832" r="0" b="0"/>
          <a:stretch/>
        </p:blipFill>
        <p:spPr>
          <a:xfrm>
            <a:off x="7236000" y="4724280"/>
            <a:ext cx="1723680" cy="1924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64267" t="0" r="0" b="54598"/>
          <a:stretch/>
        </p:blipFill>
        <p:spPr>
          <a:xfrm>
            <a:off x="5148360" y="3645000"/>
            <a:ext cx="1882800" cy="1795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189000"/>
            <a:ext cx="77245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роде есть такая поговорка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«Дрожит как осиновый лист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говорят потому, что листочки у осины подвижные. Летом при ветре каждый листочек стремится улететь. Осина одно из самых распространенных и быстрорастущих деревьев в наших местах. Осина  - раннецветущее дерево. Соцветия осины тоже собраны в серёжки. На одних деревьях сережки толстые, окрашенные. Это – мужские. А на других невзрачные, неокрашенные, зеленые. Это – женские. Веточки осины горькие на вкус. Из древесины этого дерева изготавливают спички. Его любят бобры и заготавливают на зи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12000" y="4797360"/>
            <a:ext cx="2286000" cy="1714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87640" y="4797360"/>
            <a:ext cx="2317680" cy="17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1666800" cy="17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5:43Z</dcterms:created>
  <dc:creator>WIN7XP</dc:creator>
  <dc:description/>
  <dc:language>en-US</dc:language>
  <cp:lastModifiedBy>WIN7XP</cp:lastModifiedBy>
  <dcterms:modified xsi:type="dcterms:W3CDTF">2013-03-02T13:10:00Z</dcterms:modified>
  <cp:revision>14</cp:revision>
  <dc:subject/>
  <dc:title>Слайд 1</dc:title>
</cp:coreProperties>
</file>