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52D-3BCB-4682-8C03-113CAC9F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BB2-6628-4DE9-8BF7-88B8ECAA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F30-3282-42AE-AEF0-61ECD629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FCC-3659-4101-BCFB-D31AB658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FE97-C2C3-4133-95F4-9ACF4A6F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A6BD-ABB7-47AF-A90D-7329FFF4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56BB-A041-47A1-8A66-C2C709A9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41BA-6AEE-405A-BDBF-2F6EF2E6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384E-94B3-4D37-BF01-28754FF4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C40F-7972-4EA9-BFA5-0142495C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0079-AB44-4938-A061-D7ED8347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9CD-2984-4A76-9227-1FEE8DDC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76C5-2C41-43EF-92B1-290C4415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CA0A-6F33-4AA8-ACA7-B8128B85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9691-E019-4B0C-927B-99EC658C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903A-6966-4525-8D4B-781D844D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7F61-498A-4996-A668-72D56FFA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29B-639D-4E89-8561-438062DB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5B7-06DF-426B-BE46-391CA872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784-8A85-4E6F-9884-D11D5AD8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63D-2A55-47F9-973D-C1A01AC2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725-13B3-4DF9-99D4-D2AE04E2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614-482B-4772-948B-CDA29C5A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1D1-1A09-4E8A-8D2A-5E6979A9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22F7-DF32-490A-9F0D-40FD5605B2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1C53-B294-4646-A093-25E0D29740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1044000"/>
            <a:ext cx="7127640" cy="2562840"/>
          </a:xfrm>
          <a:prstGeom prst="rect">
            <a:avLst/>
          </a:prstGeom>
          <a:solidFill>
            <a:srgbClr val="e5ffff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Растения 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открыватели весн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5480" y="4365720"/>
            <a:ext cx="7276320" cy="1465560"/>
          </a:xfrm>
          <a:prstGeom prst="rect">
            <a:avLst/>
          </a:prstGeom>
          <a:solidFill>
            <a:srgbClr val="e5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втор презентации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еница 2 класса Узденова Дар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КОУ «Бережковская основна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ировского района Калужской об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-куратор: Байкова В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1547640" y="1851120"/>
            <a:ext cx="6107400" cy="5006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260280"/>
            <a:ext cx="8374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Ива тоже цветет рано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Она наклоняется над гладью озёр, прудов и склоняет свои зеленые ветви до самой воды, и с неё капают капельки воды, как бы она плачет. В ивовых кустах живут и поют песни соловьи. Ивы очень быстро размножаются: отломается веточка, упадет на землю, и начинает расти. В народе говорят: «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Иву хоть и срубишь, да она вновь разрастется».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тонких длинных прутиков вербы и ивы плетут красивые корзи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132600" y="4292640"/>
            <a:ext cx="3011400" cy="1981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24000" y="4365720"/>
            <a:ext cx="2581200" cy="2247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Верба"/>
          <p:cNvPicPr/>
          <p:nvPr/>
        </p:nvPicPr>
        <p:blipFill>
          <a:blip r:embed="rId2"/>
          <a:stretch/>
        </p:blipFill>
        <p:spPr>
          <a:xfrm>
            <a:off x="3132000" y="0"/>
            <a:ext cx="3249720" cy="3552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Орешник. Мужской цветок. Орешник цветёт уже в апреле"/>
          <p:cNvPicPr/>
          <p:nvPr/>
        </p:nvPicPr>
        <p:blipFill>
          <a:blip r:embed="rId3"/>
          <a:srcRect l="0" t="19135" r="0" b="14174"/>
          <a:stretch/>
        </p:blipFill>
        <p:spPr>
          <a:xfrm>
            <a:off x="2843280" y="3213000"/>
            <a:ext cx="2843280" cy="250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Осина"/>
          <p:cNvPicPr/>
          <p:nvPr/>
        </p:nvPicPr>
        <p:blipFill>
          <a:blip r:embed="rId4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Ива-ивушка"/>
          <p:cNvPicPr/>
          <p:nvPr/>
        </p:nvPicPr>
        <p:blipFill>
          <a:blip r:embed="rId5"/>
          <a:stretch/>
        </p:blipFill>
        <p:spPr>
          <a:xfrm>
            <a:off x="5651640" y="0"/>
            <a:ext cx="3492360" cy="3213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Ветка осины"/>
          <p:cNvPicPr/>
          <p:nvPr/>
        </p:nvPicPr>
        <p:blipFill>
          <a:blip r:embed="rId6"/>
          <a:stretch/>
        </p:blipFill>
        <p:spPr>
          <a:xfrm>
            <a:off x="5651640" y="3213000"/>
            <a:ext cx="3492360" cy="3645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00000" y="5086440"/>
            <a:ext cx="7309080" cy="1739880"/>
          </a:xfrm>
          <a:prstGeom prst="rect">
            <a:avLst/>
          </a:prstGeom>
          <a:solidFill>
            <a:srgbClr val="e5ffff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 эти растения открывают весну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т момент в природе называют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«пыление деревьев»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ому что рано весной  из сережек высыпается пыль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140360" y="1989000"/>
            <a:ext cx="5003640" cy="4869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1989000"/>
            <a:ext cx="4140360" cy="486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443640" y="0"/>
            <a:ext cx="2700360" cy="335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321300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ПРИРОДА 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              </a:t>
            </a: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НАШ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                   </a:t>
            </a: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ОБЩИ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                              </a:t>
            </a: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ДО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95280" y="333360"/>
            <a:ext cx="1440000" cy="142884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1908000" y="0"/>
            <a:ext cx="5040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расота природы поднимает настрое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дует нас, помогает забыться в тру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инуты. Мы все должны береж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носиться ко всему, что нас окружа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ак как природа – наш общий 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1997 0.0838 C -0.10538 0.27153 -0.23055 0.45926 -0.11007 0.5257 C 0.01042 0.59213 0.6658 0.51505 0.74289 0.48195 C 0.81997 0.44885 0.36962 0.35903 0.35278 0.32755 C 0.33594 0.29607 0.69844 0.34676 0.6415 0.29329 C 0.58455 0.23959 0.11841 0.0544 0.01146 0.00556 C -0.09548 -0.04328 -0.04774 -0.02176 -3.05556E-006 -2.96296E-006 E">
                                      <p:cBhvr>
                                        <p:cTn id="122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356280" y="981000"/>
            <a:ext cx="525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Tahoma"/>
              </a:rPr>
              <a:t>БЕРЕГИТЕ ЛЕС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4343400" cy="308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3478320" y="5734080"/>
            <a:ext cx="50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е беречь поросли, не видать и дере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12640" y="623736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Был бы лес, соловьи прилетя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5880" y="5228640"/>
            <a:ext cx="514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то деревцо посадит, тот человеку дру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7360" y="0"/>
            <a:ext cx="738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Tahoma"/>
              </a:rPr>
              <a:t>БЕРЕГИТЕ ПРИРОДУ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40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72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35360" y="260280"/>
            <a:ext cx="495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Отгадайте загадк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4200" y="1341360"/>
            <a:ext cx="33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еревца в лесу сто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аже в тихий день дрож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доль извилистой тропи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Шелестят листвой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40520" y="1341360"/>
            <a:ext cx="30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етви в воду опуст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 о чем-то загрусти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мотрите, как краси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д рекой склонилась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44960" y="4869000"/>
            <a:ext cx="312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красненьком кусточк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тоненьком пруточ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ушистые цыпля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селись без мат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3840" y="4797360"/>
            <a:ext cx="357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ть сережки, да не девчон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ть шишки, да не сосё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живет в низинк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оло лозин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30040" y="2781360"/>
            <a:ext cx="342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чень густо он раст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езаметно он цвет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 когда приходит лет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ы едим его конфе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е в бумажке, а в скорлупке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ерегите, дети, зуб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69720" y="213372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осинк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52560" y="21337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ив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2280" y="416412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Орешни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3960" y="566100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Ольх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61160" y="56610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Верб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20598000">
            <a:off x="4642920" y="1916280"/>
            <a:ext cx="2292480" cy="171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50920" y="286200"/>
            <a:ext cx="4537080" cy="4850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61899" dir="135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ьдины звонкие разбили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поплыли по ре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сережки распустили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осинке и ольх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ятся нежно ив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светлели их ств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орешнике сереж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ыли видны изд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бухают соком поч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коро весь растает сне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зеленые листоч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лодой украсят ле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297480" y="0"/>
            <a:ext cx="2846520" cy="213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9" name="" descr="Весенний лес"/>
          <p:cNvPicPr/>
          <p:nvPr/>
        </p:nvPicPr>
        <p:blipFill>
          <a:blip r:embed="rId4"/>
          <a:stretch/>
        </p:blipFill>
        <p:spPr>
          <a:xfrm>
            <a:off x="6283440" y="3284640"/>
            <a:ext cx="2860560" cy="2146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250920" y="5373720"/>
            <a:ext cx="6507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 каком времени года говорится в стихотворен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 каким приметам вы определили время го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 каких растениях упоминается в стихотворении? Что вы знаете о ни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476280"/>
            <a:ext cx="83311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61899" dir="135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менения в неживой природе влияют на растения. В нашей области произрастают растения, которые открывают весну, то есть первыми зацветают. Везде еще лежит снег, а они цветут. Но не всем удается увидеть, как цветут эти деревья. Что же это за растения? А растения эти очень хорошо известны каждому из нас. Это ольха, орешник, верба, осина, и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88000" y="3645000"/>
            <a:ext cx="4066920" cy="295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508560" cy="288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260280"/>
            <a:ext cx="439236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61899" dir="135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но весной на ольхе появляются сережки. Это мужские соцветия. В одной серёжке до трехсот цветков. Женские цветочки незаметны. Они имеют вид рисового зернышка темно-малиновой окраски. На них попадает из сережки пыльца, и к осени развиваются шишечки, в которых созревают семе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743280" cy="577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40360" y="4869000"/>
            <a:ext cx="2346120" cy="1758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35120" y="568440"/>
            <a:ext cx="7581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Орешник – кустарник или маленькое деревце. Рано весной на голых ветвях распускаются сережки. В давние времена орешник считался священным. Его запрещали вырубать. Верили, что орехи обладают волшебной сил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2857680" cy="2857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156360" y="3645000"/>
            <a:ext cx="1886040" cy="1428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780000" y="3068640"/>
            <a:ext cx="1904760" cy="2676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486720" y="6150240"/>
            <a:ext cx="7770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Объясни поговорку: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реховое дерево с корней гниет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3417840" cy="249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3024360" cy="4465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258920" y="333360"/>
            <a:ext cx="669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Через пять дней после орешника зацветает верб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Уж верба вся пушист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Раскинулась круг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пять весна душист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овеяла круг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580000" y="2421000"/>
            <a:ext cx="3168720" cy="2917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95040" y="6241320"/>
            <a:ext cx="8433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Объясни!</a:t>
            </a:r>
            <a:r>
              <a:rPr b="0" lang="en-US" sz="1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ерба, что луговая трава: ее выкосишь, а она снова выраст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549360"/>
            <a:ext cx="4572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61899" dir="13500000" blurRad="0" rotWithShape="0">
              <a:srgbClr val="2b548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Верба – верный признак прихода весны. Это первый весенний медонос. Это кустарник. У нее очень красивые сережки, как мехов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аже загадки есть про вербу: </a:t>
            </a: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«Белые овечки бегают по свечк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юбят люди вербу. Сажают ее и в городах и в селах. Это очень красивое стойкое растение: не боится ни жары, ни холода.  Вербу часто используют для борьбы с овраг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У славян верба была символом семейного очага. Она охраняет людей от злых духов и пожа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Когда зацветает верба, у нас появляется светлое, радостное настроение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0" r="33862" b="17989"/>
          <a:stretch/>
        </p:blipFill>
        <p:spPr>
          <a:xfrm>
            <a:off x="5724360" y="549360"/>
            <a:ext cx="3019680" cy="280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64229" t="42832" r="0" b="0"/>
          <a:stretch/>
        </p:blipFill>
        <p:spPr>
          <a:xfrm>
            <a:off x="7236000" y="4724280"/>
            <a:ext cx="1723680" cy="1924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64267" t="0" r="0" b="54598"/>
          <a:stretch/>
        </p:blipFill>
        <p:spPr>
          <a:xfrm>
            <a:off x="5148360" y="3645000"/>
            <a:ext cx="1882800" cy="1795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189000"/>
            <a:ext cx="772452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ароде есть такая поговорка: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«Дрожит как осиновый лист»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к говорят потому, что листочки у осины подвижные. Летом при ветре каждый листочек стремится улететь. Осина одно из самых распространенных и быстрорастущих деревьев в наших местах. Осина  - раннецветущее дерево. Соцветия осины тоже собраны в серёжки. На одних деревьях сережки толстые, окрашенные. Это – мужские. А на других невзрачные, неокрашенные, зеленые. Это – женские. Веточки осины горькие на вкус. Из древесины этого дерева изготавливают спички. Его любят бобры и заготавливают на зи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012000" y="4797360"/>
            <a:ext cx="2286000" cy="1714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987640" y="4797360"/>
            <a:ext cx="2317680" cy="171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84360" y="4797360"/>
            <a:ext cx="1666800" cy="171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7:25:43Z</dcterms:created>
  <dc:creator>WIN7XP</dc:creator>
  <dc:description/>
  <dc:language>en-US</dc:language>
  <cp:lastModifiedBy>WIN7XP</cp:lastModifiedBy>
  <dcterms:modified xsi:type="dcterms:W3CDTF">2013-03-02T13:10:00Z</dcterms:modified>
  <cp:revision>14</cp:revision>
  <dc:subject/>
  <dc:title>Слайд 1</dc:title>
</cp:coreProperties>
</file>