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382-4EF0-44AA-9207-DA4679B2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A2C-E176-42CA-95BC-D5841BB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797-4AE1-42C0-B3D5-3642A208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972-4071-4767-AFCF-3778CEB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B0E-5D88-4BDD-8136-6E9836D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8B9-BF3E-4D2F-8BD0-7412D20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BE4-CD82-4E8E-9BD5-F12A0D0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95E-3065-422B-9C4C-248311C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86C-9975-480D-8712-782792D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BE1-6CDA-4116-B83C-0593876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B16-E835-48CA-A60D-9DE84E2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5F3-1F50-45B0-A9C1-11BD836E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ED83-B9D5-4E39-AECF-E5B1C1D0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383000" y="1122480"/>
            <a:ext cx="4230720" cy="3419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lib.rus.ec/files/belov.jpg"/>
          <p:cNvPicPr/>
          <p:nvPr/>
        </p:nvPicPr>
        <p:blipFill>
          <a:blip r:embed="rId2"/>
          <a:stretch/>
        </p:blipFill>
        <p:spPr>
          <a:xfrm>
            <a:off x="838080" y="457200"/>
            <a:ext cx="33433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742280" y="4572000"/>
            <a:ext cx="33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932 -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booksite.ru/belov/family/3.jpg"/>
          <p:cNvPicPr/>
          <p:nvPr/>
        </p:nvPicPr>
        <p:blipFill>
          <a:blip r:embed="rId1"/>
          <a:stretch/>
        </p:blipFill>
        <p:spPr>
          <a:xfrm>
            <a:off x="1600200" y="685800"/>
            <a:ext cx="5772240" cy="41115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1066680" y="50292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ходец из крестьянской среды русского Севера. учился в деревенской школе, окончив которую, сменил ряд профессий: сельскохозяйственный рабочий, строитель, плотник, столя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booksite.ru/belov/photo2/3.jpg"/>
          <p:cNvPicPr/>
          <p:nvPr/>
        </p:nvPicPr>
        <p:blipFill>
          <a:blip r:embed="rId1"/>
          <a:stretch/>
        </p:blipFill>
        <p:spPr>
          <a:xfrm>
            <a:off x="304920" y="304920"/>
            <a:ext cx="261432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20760" y="4724280"/>
            <a:ext cx="32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фис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www.booksite.ru/belov/family/4.jpg"/>
          <p:cNvPicPr/>
          <p:nvPr/>
        </p:nvPicPr>
        <p:blipFill>
          <a:blip r:embed="rId2"/>
          <a:stretch/>
        </p:blipFill>
        <p:spPr>
          <a:xfrm>
            <a:off x="3200400" y="304920"/>
            <a:ext cx="57373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8862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ья и сестры: Юрий, Василий, Александра, Иван, Ли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booksite.ru/belov/photo2/94.jpg"/>
          <p:cNvPicPr/>
          <p:nvPr/>
        </p:nvPicPr>
        <p:blipFill>
          <a:blip r:embed="rId1"/>
          <a:stretch/>
        </p:blipFill>
        <p:spPr>
          <a:xfrm>
            <a:off x="304920" y="304920"/>
            <a:ext cx="48816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booksite.ru/belov/photo2/93.jpg"/>
          <p:cNvPicPr/>
          <p:nvPr/>
        </p:nvPicPr>
        <p:blipFill>
          <a:blip r:embed="rId2"/>
          <a:stretch/>
        </p:blipFill>
        <p:spPr>
          <a:xfrm>
            <a:off x="5410080" y="228600"/>
            <a:ext cx="305748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685800" y="4419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52-1955 служил в армии. После демобилизации начал пробовать себя на литературном поприще, выступал с рассказами, очерками, стихами в провинциальных газе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7200" y="48006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64 окончил Литературный институт им. Горького в Москве. Первой публикацией стала повесть Деревня Бердяйка. Публикация повести "Привычное дело" (1966) поставила имя Белова в первый ряд авторов "деревенской прозы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www.booksite.ru/belov/photo2/48.jpg"/>
          <p:cNvPicPr/>
          <p:nvPr/>
        </p:nvPicPr>
        <p:blipFill>
          <a:blip r:embed="rId1"/>
          <a:stretch/>
        </p:blipFill>
        <p:spPr>
          <a:xfrm>
            <a:off x="1371600" y="318960"/>
            <a:ext cx="7086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685800" y="4648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декабря 2012 г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81-м году жиз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атель Василий Бе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одолжительной болезни  ушел из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&amp;Fcy;&amp;acy;&amp;jcy;&amp;lcy;:&amp;Bcy;&amp;iecy;&amp;lcy;&amp;ocy;&amp;vcy; &amp;Vcy;.&amp;Icy;.jpg"/>
          <p:cNvPicPr/>
          <p:nvPr/>
        </p:nvPicPr>
        <p:blipFill>
          <a:blip r:embed="rId1"/>
          <a:stretch/>
        </p:blipFill>
        <p:spPr>
          <a:xfrm>
            <a:off x="2895480" y="304920"/>
            <a:ext cx="314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7:50:15Z</dcterms:created>
  <dc:creator>User</dc:creator>
  <dc:description/>
  <dc:language>en-US</dc:language>
  <cp:lastModifiedBy>User</cp:lastModifiedBy>
  <dcterms:modified xsi:type="dcterms:W3CDTF">2013-02-13T18:14:15Z</dcterms:modified>
  <cp:revision>3</cp:revision>
  <dc:subject/>
  <dc:title>Слайд 1</dc:title>
</cp:coreProperties>
</file>