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BAF-A7BE-49EC-AAF8-73A7B8B3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CAE-B278-4A3A-8434-FF8EAF43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951-9E25-4DEC-BFFF-D769A87F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6B5-AC4C-4747-ADBE-FB9C7246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172-30E5-45D4-BCEC-3AD1A763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ECF-795A-4C0F-BE8C-47F1371F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8E1-EDC0-4C6F-AD16-78CB49BF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DCC-97B5-49D5-BC39-6EA29311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276-095A-440D-B450-1366307F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F69-BC0C-43DE-9FB0-4CAF5C17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E14-0E6E-45E2-B2E0-EFD00BE1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8DE-7F61-43B6-BDB0-33A59135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22DF-BFFA-4F7A-A351-89F85A102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4383000" y="1122480"/>
            <a:ext cx="4230720" cy="3419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lib.rus.ec/files/belov.jpg"/>
          <p:cNvPicPr/>
          <p:nvPr/>
        </p:nvPicPr>
        <p:blipFill>
          <a:blip r:embed="rId2"/>
          <a:stretch/>
        </p:blipFill>
        <p:spPr>
          <a:xfrm>
            <a:off x="838080" y="457200"/>
            <a:ext cx="334332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4742280" y="4572000"/>
            <a:ext cx="332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932 -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booksite.ru/belov/family/3.jpg"/>
          <p:cNvPicPr/>
          <p:nvPr/>
        </p:nvPicPr>
        <p:blipFill>
          <a:blip r:embed="rId1"/>
          <a:stretch/>
        </p:blipFill>
        <p:spPr>
          <a:xfrm>
            <a:off x="1600200" y="685800"/>
            <a:ext cx="5772240" cy="41115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1066680" y="5029200"/>
            <a:ext cx="647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ходец из крестьянской среды русского Севера. учился в деревенской школе, окончив которую, сменил ряд профессий: сельскохозяйственный рабочий, строитель, плотник, столя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booksite.ru/belov/photo2/3.jpg"/>
          <p:cNvPicPr/>
          <p:nvPr/>
        </p:nvPicPr>
        <p:blipFill>
          <a:blip r:embed="rId1"/>
          <a:stretch/>
        </p:blipFill>
        <p:spPr>
          <a:xfrm>
            <a:off x="304920" y="304920"/>
            <a:ext cx="2614320" cy="3733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320760" y="4724280"/>
            <a:ext cx="32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фиса Ива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ttp://www.booksite.ru/belov/family/4.jpg"/>
          <p:cNvPicPr/>
          <p:nvPr/>
        </p:nvPicPr>
        <p:blipFill>
          <a:blip r:embed="rId2"/>
          <a:stretch/>
        </p:blipFill>
        <p:spPr>
          <a:xfrm>
            <a:off x="3200400" y="304920"/>
            <a:ext cx="5737320" cy="37335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38862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атья и сестры: Юрий, Василий, Александра, Иван, Лид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booksite.ru/belov/photo2/94.jpg"/>
          <p:cNvPicPr/>
          <p:nvPr/>
        </p:nvPicPr>
        <p:blipFill>
          <a:blip r:embed="rId1"/>
          <a:stretch/>
        </p:blipFill>
        <p:spPr>
          <a:xfrm>
            <a:off x="304920" y="304920"/>
            <a:ext cx="48816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booksite.ru/belov/photo2/93.jpg"/>
          <p:cNvPicPr/>
          <p:nvPr/>
        </p:nvPicPr>
        <p:blipFill>
          <a:blip r:embed="rId2"/>
          <a:stretch/>
        </p:blipFill>
        <p:spPr>
          <a:xfrm>
            <a:off x="5410080" y="228600"/>
            <a:ext cx="305748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685800" y="44197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952-1955 служил в армии. После демобилизации начал пробовать себя на литературном поприще, выступал с рассказами, очерками, стихами в провинциальных газе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7200" y="48006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964 окончил Литературный институт им. Горького в Москве. Первой публикацией стала повесть Деревня Бердяйка. Публикация повести "Привычное дело" (1966) поставила имя Белова в первый ряд авторов "деревенской прозы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www.booksite.ru/belov/photo2/48.jpg"/>
          <p:cNvPicPr/>
          <p:nvPr/>
        </p:nvPicPr>
        <p:blipFill>
          <a:blip r:embed="rId1"/>
          <a:stretch/>
        </p:blipFill>
        <p:spPr>
          <a:xfrm>
            <a:off x="1371600" y="318960"/>
            <a:ext cx="70866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685800" y="4648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декабря 2012 го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81-м году жиз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атель Василий Бел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продолжительной болезни  ушел из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&amp;Fcy;&amp;acy;&amp;jcy;&amp;lcy;:&amp;Bcy;&amp;iecy;&amp;lcy;&amp;ocy;&amp;vcy; &amp;Vcy;.&amp;Icy;.jpg"/>
          <p:cNvPicPr/>
          <p:nvPr/>
        </p:nvPicPr>
        <p:blipFill>
          <a:blip r:embed="rId1"/>
          <a:stretch/>
        </p:blipFill>
        <p:spPr>
          <a:xfrm>
            <a:off x="2895480" y="304920"/>
            <a:ext cx="3149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7:50:15Z</dcterms:created>
  <dc:creator>User</dc:creator>
  <dc:description/>
  <dc:language>en-US</dc:language>
  <cp:lastModifiedBy>User</cp:lastModifiedBy>
  <dcterms:modified xsi:type="dcterms:W3CDTF">2013-02-13T18:14:15Z</dcterms:modified>
  <cp:revision>3</cp:revision>
  <dc:subject/>
  <dc:title>Слайд 1</dc:title>
</cp:coreProperties>
</file>