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4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AEF-EEC7-4B12-8F6C-A4778577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382-5A70-4A81-BD8F-242D11C7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84F-F091-4547-9B14-FFE0475C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FC7-7EE9-455E-AB25-E048D3E8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FCD0-0B77-4F7E-8F58-B0763B85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0B38-2D76-478A-B3B1-8C682040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C23E-3B36-48E8-8D79-0304C583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C4E0-8DD0-4A9C-A4F0-0A137A58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F88E-EF32-444F-A901-3157B058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0B98-A899-4C6F-8B9B-E4CAC2D7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1D17-4701-4E64-B7DE-C59506DE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9CF-ADBF-4C06-8522-80290CFB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49A1-3D89-4CAB-93FF-F098DB1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D350-A468-4514-B371-B108DAD0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8F60-06DC-4BFF-B9EF-80C2F549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37D-BAF0-4170-B118-91E14765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26C1-7CE2-4A66-8BC3-A50D29BA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9A0-B453-4192-BB3D-BF4F04F9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0A8-62F5-4BEC-A1FE-C8C89F88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FC1-BA3E-4773-936E-39E9A0DA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2BE-3C3C-48FD-B314-2D649329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B50-C848-4501-BE7E-9A8A7348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3C8-6D53-4D4F-A996-B59E368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040-0FDD-41F9-AF65-F2FFE61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8509-CB3F-4BFE-A2E9-2CB1B02DB343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8AFA-26DD-497C-87A7-A2A7A1605591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2568600" y="915840"/>
            <a:ext cx="46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Verdana"/>
              </a:rPr>
              <a:t>Весна.</a:t>
            </a:r>
            <a:r>
              <a:rPr b="0" lang="ru-RU" sz="9600" spc="-1" strike="noStrike">
                <a:solidFill>
                  <a:srgbClr val="92d050"/>
                </a:solidFill>
                <a:latin typeface="Verdana"/>
              </a:rPr>
              <a:t>..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2124000" y="30686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бота выполнена учител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ачальных класс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еленовой  Еленой Вячеславовн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МОУСОШ  № 9 г.Ногин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Московской обла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370440" y="333360"/>
            <a:ext cx="62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 деревьях распускаютс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вые листочк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Рисунок 2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915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655344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429120" y="1052640"/>
            <a:ext cx="8213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ак называется первый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сяц весны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зови второй месяц весны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зови третий месяц весны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зови признаки весны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569320" y="2060640"/>
            <a:ext cx="39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826920" y="189000"/>
            <a:ext cx="749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есенние месяц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арт, апрель, ма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http://img-fotki.yandex.ru/get/6101/64520380.1f/0_7307a_7371df09_XL"/>
          <p:cNvPicPr/>
          <p:nvPr/>
        </p:nvPicPr>
        <p:blipFill>
          <a:blip r:embed="rId1"/>
          <a:stretch/>
        </p:blipFill>
        <p:spPr>
          <a:xfrm>
            <a:off x="1619280" y="1511280"/>
            <a:ext cx="633420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022040" y="154080"/>
            <a:ext cx="70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Verdana"/>
              </a:rPr>
              <a:t>Март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первый месяц вес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78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855000" y="260280"/>
            <a:ext cx="74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Verdana"/>
              </a:rPr>
              <a:t>Апрель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второй месяц вес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Рисунок 2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316520" y="115920"/>
            <a:ext cx="660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ай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третий месяц вес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http://stat11.privet.ru/lr/08105c27bfe40b39696c05fedbf84398"/>
          <p:cNvPicPr/>
          <p:nvPr/>
        </p:nvPicPr>
        <p:blipFill>
          <a:blip r:embed="rId1"/>
          <a:stretch/>
        </p:blipFill>
        <p:spPr>
          <a:xfrm>
            <a:off x="973080" y="1052640"/>
            <a:ext cx="7292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383760" y="1052640"/>
            <a:ext cx="84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Ярко светит солнце. На улице тепл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Прямоугольник 5" descr=""/>
          <p:cNvPicPr/>
          <p:nvPr/>
        </p:nvPicPr>
        <p:blipFill>
          <a:blip r:embed="rId1"/>
          <a:stretch/>
        </p:blipFill>
        <p:spPr>
          <a:xfrm>
            <a:off x="811080" y="-195120"/>
            <a:ext cx="8047080" cy="161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ttp://img-fotki.yandex.ru/get/4411/122862440.15/0_7bcce_1979373c_XL"/>
          <p:cNvPicPr/>
          <p:nvPr/>
        </p:nvPicPr>
        <p:blipFill>
          <a:blip r:embed="rId2"/>
          <a:stretch/>
        </p:blipFill>
        <p:spPr>
          <a:xfrm>
            <a:off x="774720" y="1992240"/>
            <a:ext cx="763416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2905920" y="177840"/>
            <a:ext cx="26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ает снег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Рисунок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517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1065600" y="115920"/>
            <a:ext cx="70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являются первые цве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Рисунок 2" descr=""/>
          <p:cNvPicPr/>
          <p:nvPr/>
        </p:nvPicPr>
        <p:blipFill>
          <a:blip r:embed="rId1"/>
          <a:stretch/>
        </p:blipFill>
        <p:spPr>
          <a:xfrm>
            <a:off x="949320" y="934920"/>
            <a:ext cx="6943680" cy="5208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808520" y="612288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ать-и-мачех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1318320" y="115920"/>
            <a:ext cx="62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летают с юга птиц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Рисунок 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25080" cy="48927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6927480" y="601812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чи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Рисунок 4" descr=""/>
          <p:cNvPicPr/>
          <p:nvPr/>
        </p:nvPicPr>
        <p:blipFill>
          <a:blip r:embed="rId2"/>
          <a:stretch/>
        </p:blipFill>
        <p:spPr>
          <a:xfrm>
            <a:off x="262080" y="1155600"/>
            <a:ext cx="8858160" cy="5570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6365160" y="566568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кворе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5:00:48Z</dcterms:created>
  <dc:creator>natasha</dc:creator>
  <dc:description/>
  <dc:language>en-US</dc:language>
  <cp:lastModifiedBy>natasha</cp:lastModifiedBy>
  <dcterms:modified xsi:type="dcterms:W3CDTF">2013-03-01T14:24:54Z</dcterms:modified>
  <cp:revision>13</cp:revision>
  <dc:subject/>
  <dc:title>Презентация PowerPoint</dc:title>
</cp:coreProperties>
</file>