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4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39C-F238-4713-9E88-8DBC93DA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05E-9152-456D-9CAB-7CB7A243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4DD-EB2E-497A-8893-ABD61731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7BB-FD79-4743-9228-0D749789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7723-65EB-4285-B216-E2AADF40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E8A6-D238-4000-806B-78041B12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A5CB-A891-4A55-A965-F7AD92D0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DB7E-B2AA-46C7-86E9-50142AB4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24FD-7C46-4C34-A916-48C477D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3ECD-2598-4BF1-A3C0-EA00BAD0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A6E5-43A6-459E-9486-6C9DCA64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9E3-9D87-44EF-BE56-54D78170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16BD-CB60-48AF-BC0B-2C3C0374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6EEB-F897-4D15-9B72-8E1A422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7BC2-4293-4D3A-802D-5FBCBBD0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FAA5-5BB4-4AA3-8742-5783C50B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04D5-069E-42DB-AC28-15E868E3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85D-4E12-4811-BDA0-55707812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07C-AD1E-4075-8F44-19C13A0D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EB7-C2DE-421A-8014-CB20E398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68D-5D94-400F-9EB0-995BD4EA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EE4-597F-47D1-B2D1-2383B84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FF8-7EF8-4784-B78E-B49EB4E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BD9-B850-46F3-9E91-F714B393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DD06-6086-4AB3-B628-A268C1BD6BBA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2DC2-D0A6-4512-B40B-A5D5E8F0EDBD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2568600" y="915840"/>
            <a:ext cx="46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Verdana"/>
              </a:rPr>
              <a:t>Весна.</a:t>
            </a:r>
            <a:r>
              <a:rPr b="0" lang="ru-RU" sz="9600" spc="-1" strike="noStrike">
                <a:solidFill>
                  <a:srgbClr val="92d050"/>
                </a:solidFill>
                <a:latin typeface="Verdana"/>
              </a:rPr>
              <a:t>..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2124000" y="30686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бота выполнена учител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ачальных класс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еленовой  Еленой Вячеславовн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МОУСОШ  № 9 г.Ногин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Московской обла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370440" y="333360"/>
            <a:ext cx="62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 деревьях распускаютс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вые листочк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Рисунок 2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915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655344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429120" y="1052640"/>
            <a:ext cx="8213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ак называется первый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сяц весны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зови второй месяц весны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зови третий месяц весны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зови признаки весны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569320" y="2060640"/>
            <a:ext cx="39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826920" y="189000"/>
            <a:ext cx="749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есенние месяц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арт, апрель, ма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http://img-fotki.yandex.ru/get/6101/64520380.1f/0_7307a_7371df09_XL"/>
          <p:cNvPicPr/>
          <p:nvPr/>
        </p:nvPicPr>
        <p:blipFill>
          <a:blip r:embed="rId1"/>
          <a:stretch/>
        </p:blipFill>
        <p:spPr>
          <a:xfrm>
            <a:off x="1619280" y="1511280"/>
            <a:ext cx="633420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022040" y="154080"/>
            <a:ext cx="70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Verdana"/>
              </a:rPr>
              <a:t>Март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первый месяц вес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78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855000" y="260280"/>
            <a:ext cx="74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Verdana"/>
              </a:rPr>
              <a:t>Апрель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второй месяц вес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Рисунок 2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316520" y="115920"/>
            <a:ext cx="660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ай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третий месяц вес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http://stat11.privet.ru/lr/08105c27bfe40b39696c05fedbf84398"/>
          <p:cNvPicPr/>
          <p:nvPr/>
        </p:nvPicPr>
        <p:blipFill>
          <a:blip r:embed="rId1"/>
          <a:stretch/>
        </p:blipFill>
        <p:spPr>
          <a:xfrm>
            <a:off x="973080" y="1052640"/>
            <a:ext cx="7292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383760" y="1052640"/>
            <a:ext cx="84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Ярко светит солнце. На улице тепл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Прямоугольник 5" descr=""/>
          <p:cNvPicPr/>
          <p:nvPr/>
        </p:nvPicPr>
        <p:blipFill>
          <a:blip r:embed="rId1"/>
          <a:stretch/>
        </p:blipFill>
        <p:spPr>
          <a:xfrm>
            <a:off x="811080" y="-195120"/>
            <a:ext cx="8047080" cy="161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ttp://img-fotki.yandex.ru/get/4411/122862440.15/0_7bcce_1979373c_XL"/>
          <p:cNvPicPr/>
          <p:nvPr/>
        </p:nvPicPr>
        <p:blipFill>
          <a:blip r:embed="rId2"/>
          <a:stretch/>
        </p:blipFill>
        <p:spPr>
          <a:xfrm>
            <a:off x="774720" y="1992240"/>
            <a:ext cx="763416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2905920" y="177840"/>
            <a:ext cx="26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ает снег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Рисунок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517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1065600" y="115920"/>
            <a:ext cx="70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являются первые цве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Рисунок 2" descr=""/>
          <p:cNvPicPr/>
          <p:nvPr/>
        </p:nvPicPr>
        <p:blipFill>
          <a:blip r:embed="rId1"/>
          <a:stretch/>
        </p:blipFill>
        <p:spPr>
          <a:xfrm>
            <a:off x="949320" y="934920"/>
            <a:ext cx="6943680" cy="5208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808520" y="612288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ать-и-мачех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1318320" y="115920"/>
            <a:ext cx="62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летают с юга птиц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Рисунок 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25080" cy="48927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6927480" y="601812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чи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Рисунок 4" descr=""/>
          <p:cNvPicPr/>
          <p:nvPr/>
        </p:nvPicPr>
        <p:blipFill>
          <a:blip r:embed="rId2"/>
          <a:stretch/>
        </p:blipFill>
        <p:spPr>
          <a:xfrm>
            <a:off x="262080" y="1155600"/>
            <a:ext cx="8858160" cy="5570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6365160" y="566568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кворе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5:00:48Z</dcterms:created>
  <dc:creator>natasha</dc:creator>
  <dc:description/>
  <dc:language>en-US</dc:language>
  <cp:lastModifiedBy>natasha</cp:lastModifiedBy>
  <dcterms:modified xsi:type="dcterms:W3CDTF">2013-03-01T14:24:54Z</dcterms:modified>
  <cp:revision>13</cp:revision>
  <dc:subject/>
  <dc:title>Презентация PowerPoint</dc:title>
</cp:coreProperties>
</file>