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19.gif" ContentType="image/gif"/>
  <Override PartName="/ppt/media/image2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D82-BA19-4EDF-9D73-F869D6E7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AE4-09E5-457E-BFF2-D785935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48E-B984-4EE8-BA30-C623813E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636-0E4F-4DCA-BE35-BCBABEA7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4E37-E840-4B41-8D28-646EA708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35B4-04F7-408E-8FBF-423216C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0C91-CEB7-40FF-8805-25843509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FF99-2E4F-4BA1-AEA0-AEF03F6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98E5-53A7-42F3-8E6A-F2AFE580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9276-FD3D-447E-A94B-FDEF370F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47D7-5AF9-485D-85B6-7ADD395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EC5-400A-4BF6-825F-D6B25D32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D12B-4722-46C0-9933-AED03C10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F7ED-FABC-41EF-B9FB-57426AC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5FF8-F882-4D3A-A426-4647D0AF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8F0-0D05-4C05-8F94-5E913C14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7FBF-C5D7-4BFF-AC85-7A9924F4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C62-115C-4BE5-9C66-619E1400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55B-F20C-474C-91F8-9235EEA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8AD-A4CD-4CDF-A815-92A33B03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354-96C0-4088-8FD2-3BA75AF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437-1A44-443E-A1FD-7387C1C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EED-56B3-4DF8-842B-4CAB6B7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D15-9044-4664-9668-2CAFE6C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997-5656-40E6-848B-8193AF75BB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00E4-43DB-4420-9776-B15A826C5B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b7"/>
                </a:solidFill>
                <a:latin typeface="Arial Black"/>
              </a:rPr>
              <a:t>Виды </a:t>
            </a:r>
            <a:br>
              <a:rPr sz="6000"/>
            </a:br>
            <a:r>
              <a:rPr b="0" lang="ru-RU" sz="6000" spc="-1" strike="noStrike">
                <a:solidFill>
                  <a:srgbClr val="ffffb7"/>
                </a:solidFill>
                <a:latin typeface="Arial Black"/>
              </a:rPr>
              <a:t>рабочей одежды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азработала учитель технологии МОУ СОШ №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. Медведовской Коновалова И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743200" cy="617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2666880" cy="6096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352680" y="380880"/>
            <a:ext cx="2590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12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724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ма, Хома, хомяч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сатенький боч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ма раненько вста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убки чисти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инку тр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метает свою хат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выходит на заряд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, 2, 3, 4, 5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ма сильным хочет ст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44440"/>
          <a:ext cx="8388360" cy="6454800"/>
        </p:xfrm>
        <a:graphic>
          <a:graphicData uri="http://schemas.openxmlformats.org/drawingml/2006/table">
            <a:tbl>
              <a:tblPr/>
              <a:tblGrid>
                <a:gridCol w="2795760"/>
                <a:gridCol w="2796840"/>
                <a:gridCol w="279576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значение мер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р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начение мер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обхват т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длины поя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обхват бед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ширины фарту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длины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н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нижней части фарту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длины нижней части фарту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а снятия мер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07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рки снимают по правой стороне фиг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лию предварительно опоясывают шнур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нятии мерок измеряемый должен стоять прямо, без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измерении сантиметровую ленту не следует натягивать или ослабл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рки длины записывают полностью. Мерки ширины и обхватов записывают в половинном размере, так как чертеж строят на одну половину фиг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вторение пройденного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асшифровывается мерка С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асшифровывается мерка Сб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мерка определяет длину фарту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луобхват талии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6" descr="D:\Мои документы\НОВАЯ анимация\Дети, школа\606.gif"/>
          <p:cNvPicPr/>
          <p:nvPr/>
        </p:nvPicPr>
        <p:blipFill>
          <a:blip r:embed="rId1"/>
          <a:stretch/>
        </p:blipFill>
        <p:spPr>
          <a:xfrm>
            <a:off x="3276720" y="2435400"/>
            <a:ext cx="3051000" cy="305100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алее 11">
            <a:hlinkClick r:id="" action="ppaction://hlinkshowjump?jump=previous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уобхват тал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2" descr="D:\Мои документы\НОВАЯ анимация\Дети, школа\bc5eb2b0fecb8c09262821298c306883.gif"/>
          <p:cNvPicPr/>
          <p:nvPr/>
        </p:nvPicPr>
        <p:blipFill>
          <a:blip r:embed="rId1"/>
          <a:stretch/>
        </p:blipFill>
        <p:spPr>
          <a:xfrm>
            <a:off x="2743200" y="1901880"/>
            <a:ext cx="4118040" cy="411804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previousslide"/>
          </p:cNvPr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2" descr="D:\Мои документы\НОВАЯ анимация\Дети, школа\58а.gif"/>
          <p:cNvPicPr/>
          <p:nvPr/>
        </p:nvPicPr>
        <p:blipFill>
          <a:blip r:embed="rId1"/>
          <a:stretch/>
        </p:blipFill>
        <p:spPr>
          <a:xfrm>
            <a:off x="2895480" y="2057400"/>
            <a:ext cx="355788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Управляющая кнопка: далее 4"/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b7"/>
                </a:solidFill>
                <a:latin typeface="Arial Black"/>
              </a:rPr>
              <a:t>Цель урока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знакомиться с видами одеж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читься снимать мерки для построения фарт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3" descr=""/>
          <p:cNvPicPr/>
          <p:nvPr/>
        </p:nvPicPr>
        <p:blipFill>
          <a:blip r:embed="rId1"/>
          <a:stretch/>
        </p:blipFill>
        <p:spPr>
          <a:xfrm>
            <a:off x="2889360" y="1017720"/>
            <a:ext cx="4432320" cy="112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Мои документы\НОВАЯ анимация\солнце, луна, звезды, радуга\тгооороо.gif"/>
          <p:cNvPicPr/>
          <p:nvPr/>
        </p:nvPicPr>
        <p:blipFill>
          <a:blip r:embed="rId2"/>
          <a:stretch/>
        </p:blipFill>
        <p:spPr>
          <a:xfrm>
            <a:off x="1981080" y="228600"/>
            <a:ext cx="52578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Бытовую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седневную      Домашнюю         Наряд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3152880" y="1752480"/>
            <a:ext cx="2840040" cy="504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198108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1904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ортивну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3502080" cy="438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334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енну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26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изводственную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8120" cy="640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3809880" y="228600"/>
            <a:ext cx="5334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724280" cy="617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0" y="228600"/>
            <a:ext cx="4343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429000" cy="617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200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ня</cp:lastModifiedBy>
  <dcterms:modified xsi:type="dcterms:W3CDTF">2009-11-15T10:06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