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1.jpeg" ContentType="image/jpeg"/>
  <Override PartName="/ppt/media/image19.gif" ContentType="image/gif"/>
  <Override PartName="/ppt/media/image21.gif" ContentType="image/gif"/>
  <Override PartName="/ppt/media/image18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CFD-E2B7-4132-99E5-526A2AD5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2BD-104F-4CCB-BD77-2B3B983C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233-AE85-493F-91FB-9B20D35F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8323-648B-47DE-9838-90F6FDA1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13FF-510A-4ED1-A0CB-A8226238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F839-E2CA-4090-B423-F8B68BFA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719F-3D76-4ACD-BDD4-A7950FB0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2988-F46E-4071-AA37-AACC9E6F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9C6A-12B1-4A0F-B1EC-B7ADC9E7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517E-5730-4FA0-94BA-8F29D582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44EA-613C-45E2-9107-5E82E54B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C21-1DE6-4412-BE4F-37E00A4E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B0C3-8AB3-4624-B3CC-516CABEA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CA07-EE70-4E5C-93FD-A79F1593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D6AD-F3E3-4AB5-ADB0-86D409A3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5D12-B03F-4116-9E70-AFFFC27B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610E-76B2-4B0A-8FCE-BDE4FA36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D4D-7117-4944-9A60-B8C8B314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1DA3-AC20-4428-A7D8-51EF5C7F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BAE-6DD2-422E-9F79-09BCDCDA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75C-A0E3-417A-95BB-88AE1AAE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888-F291-4A54-8E79-2FB9F41D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B8E-AD2F-468E-BB6B-588582A8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3CA-4EE5-4F64-B68C-57FE06C2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5262-4668-4D12-AC71-69BF9C2B1B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E88A-5640-4B7A-8167-E115210E3D1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b7"/>
                </a:solidFill>
                <a:latin typeface="Arial Black"/>
              </a:rPr>
              <a:t>Виды </a:t>
            </a:r>
            <a:br>
              <a:rPr sz="6000"/>
            </a:br>
            <a:r>
              <a:rPr b="0" lang="ru-RU" sz="6000" spc="-1" strike="noStrike">
                <a:solidFill>
                  <a:srgbClr val="ffffb7"/>
                </a:solidFill>
                <a:latin typeface="Arial Black"/>
              </a:rPr>
              <a:t>рабочей одежды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разработала учитель технологии МОУ СОШ №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. Медведовской Коновалова И. 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743200" cy="6172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6248520" y="380880"/>
            <a:ext cx="2666880" cy="6096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3"/>
          <a:stretch/>
        </p:blipFill>
        <p:spPr>
          <a:xfrm>
            <a:off x="3352680" y="380880"/>
            <a:ext cx="2590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312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724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7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ма, Хома, хомяч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лосатенький бочо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ма раненько встае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убки чистит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инку тр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метает свою хат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выходит на заряд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, 2, 3, 4, 5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ма сильным хочет ста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244440"/>
          <a:ext cx="8388360" cy="6454800"/>
        </p:xfrm>
        <a:graphic>
          <a:graphicData uri="http://schemas.openxmlformats.org/drawingml/2006/table">
            <a:tbl>
              <a:tblPr/>
              <a:tblGrid>
                <a:gridCol w="2795760"/>
                <a:gridCol w="2796840"/>
                <a:gridCol w="279576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значение мер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мер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начение мер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обхват тал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длины поя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обхват бед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ширины фарту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на нагрудн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длины нагрудн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н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на нижней части фарту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длины нижней части фарту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а снятия мер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007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рки снимают по правой стороне фиг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лию предварительно опоясывают шнур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нятии мерок измеряемый должен стоять прямо, без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измерении сантиметровую ленту не следует натягивать или ослабля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рки длины записывают полностью. Мерки ширины и обхватов записывают в половинном размере, так как чертеж строят на одну половину фиг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вторение пройденного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расшифровывается мерка С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расшифровывается мерка Сб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ая мерка определяет длину фарту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Полуобхват талии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6" descr="D:\Мои документы\НОВАЯ анимация\Дети, школа\606.gif"/>
          <p:cNvPicPr/>
          <p:nvPr/>
        </p:nvPicPr>
        <p:blipFill>
          <a:blip r:embed="rId1"/>
          <a:stretch/>
        </p:blipFill>
        <p:spPr>
          <a:xfrm>
            <a:off x="3276720" y="2435400"/>
            <a:ext cx="3051000" cy="3051000"/>
          </a:xfrm>
          <a:prstGeom prst="rect">
            <a:avLst/>
          </a:prstGeom>
          <a:ln w="0">
            <a:noFill/>
          </a:ln>
        </p:spPr>
      </p:pic>
      <p:sp>
        <p:nvSpPr>
          <p:cNvPr id="135" name="Управляющая кнопка: далее 11">
            <a:hlinkClick r:id="" action="ppaction://hlinkshowjump?jump=previousslide"/>
          </p:cNvPr>
          <p:cNvSpPr/>
          <p:nvPr/>
        </p:nvSpPr>
        <p:spPr>
          <a:xfrm>
            <a:off x="7848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луобхват тал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2" descr="D:\Мои документы\НОВАЯ анимация\Дети, школа\bc5eb2b0fecb8c09262821298c306883.gif"/>
          <p:cNvPicPr/>
          <p:nvPr/>
        </p:nvPicPr>
        <p:blipFill>
          <a:blip r:embed="rId1"/>
          <a:stretch/>
        </p:blipFill>
        <p:spPr>
          <a:xfrm>
            <a:off x="2743200" y="1901880"/>
            <a:ext cx="4118040" cy="4118040"/>
          </a:xfrm>
          <a:prstGeom prst="rect">
            <a:avLst/>
          </a:prstGeom>
          <a:ln w="0">
            <a:noFill/>
          </a:ln>
        </p:spPr>
      </p:pic>
      <p:sp>
        <p:nvSpPr>
          <p:cNvPr id="138" name="Управляющая кнопка: далее 4">
            <a:hlinkClick r:id="" action="ppaction://hlinkshowjump?jump=previousslide"/>
          </p:cNvPr>
          <p:cNvSpPr/>
          <p:nvPr/>
        </p:nvSpPr>
        <p:spPr>
          <a:xfrm>
            <a:off x="784872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0" name="Picture 2" descr="D:\Мои документы\НОВАЯ анимация\Дети, школа\58а.gif"/>
          <p:cNvPicPr/>
          <p:nvPr/>
        </p:nvPicPr>
        <p:blipFill>
          <a:blip r:embed="rId1"/>
          <a:stretch/>
        </p:blipFill>
        <p:spPr>
          <a:xfrm>
            <a:off x="2895480" y="2057400"/>
            <a:ext cx="3557880" cy="4572000"/>
          </a:xfrm>
          <a:prstGeom prst="rect">
            <a:avLst/>
          </a:prstGeom>
          <a:ln w="0">
            <a:noFill/>
          </a:ln>
        </p:spPr>
      </p:pic>
      <p:sp>
        <p:nvSpPr>
          <p:cNvPr id="141" name="Управляющая кнопка: далее 4"/>
          <p:cNvSpPr/>
          <p:nvPr/>
        </p:nvSpPr>
        <p:spPr>
          <a:xfrm>
            <a:off x="784872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b7"/>
                </a:solidFill>
                <a:latin typeface="Arial Black"/>
              </a:rPr>
              <a:t>Цель урока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знакомиться с видами одеж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читься снимать мерки для построения фарту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3" descr=""/>
          <p:cNvPicPr/>
          <p:nvPr/>
        </p:nvPicPr>
        <p:blipFill>
          <a:blip r:embed="rId1"/>
          <a:stretch/>
        </p:blipFill>
        <p:spPr>
          <a:xfrm>
            <a:off x="2889360" y="1017720"/>
            <a:ext cx="4432320" cy="1122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D:\Мои документы\НОВАЯ анимация\солнце, луна, звезды, радуга\тгооороо.gif"/>
          <p:cNvPicPr/>
          <p:nvPr/>
        </p:nvPicPr>
        <p:blipFill>
          <a:blip r:embed="rId2"/>
          <a:stretch/>
        </p:blipFill>
        <p:spPr>
          <a:xfrm>
            <a:off x="1981080" y="228600"/>
            <a:ext cx="52578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b7"/>
                </a:solidFill>
                <a:latin typeface="Arial Black"/>
              </a:rPr>
              <a:t>Бытовую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845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седневную      Домашнюю         Нарядну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1" descr=""/>
          <p:cNvPicPr/>
          <p:nvPr/>
        </p:nvPicPr>
        <p:blipFill>
          <a:blip r:embed="rId1"/>
          <a:stretch/>
        </p:blipFill>
        <p:spPr>
          <a:xfrm>
            <a:off x="3152880" y="1752480"/>
            <a:ext cx="2840040" cy="5043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1981080" cy="5029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3"/>
          <a:stretch/>
        </p:blipFill>
        <p:spPr>
          <a:xfrm>
            <a:off x="6705720" y="1752480"/>
            <a:ext cx="1904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портивну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1905120"/>
            <a:ext cx="3502080" cy="438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3809880" y="1905120"/>
            <a:ext cx="533412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енну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267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изводственную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048120" cy="6400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3809880" y="228600"/>
            <a:ext cx="5334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724280" cy="6172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0" y="228600"/>
            <a:ext cx="4343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429000" cy="617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2004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оня</cp:lastModifiedBy>
  <dcterms:modified xsi:type="dcterms:W3CDTF">2009-11-15T10:06:0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