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894AF-80C7-44E6-B83E-442C7CC3B6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0B516-18AC-41A8-B586-AC7BC747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483F-5186-42EA-96F7-7128842A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0BBE-E51D-4ED0-86CF-57D2EAC7F2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9444A-662D-401E-B587-6660403308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0830A-E037-4F09-A470-8BE25BC0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01790-F183-4C68-A23C-C5B0C732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ABB71-F730-4DA1-8FEC-9C71B5CA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F37A4-C55A-4E5F-B2DD-C4FB5944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43E81-540C-483F-BEFC-791702AE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90809-2FB7-4BA2-8E77-D742268A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54EB-BF39-4501-8098-677AFF34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3794A-9BE6-49D1-BC9D-A840CB1C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3C900-F711-4EFC-BCE9-275760C5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7B190-1C4A-4F37-BAC5-7490EE6F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34324-9570-4B2E-8E3E-3261954C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C7591-9C88-4F0B-8158-03D3802A4A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7951-4E6C-47BB-9331-1DF192B8BA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837E-5F03-46CD-9913-A62AEB15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5B4B-F11B-4C94-B83B-C40DF2CB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972A-5B42-4327-9B45-4A739589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A6D4-4C88-40EA-ABEE-AE89FEA9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8727-4522-45B5-ADF1-2C33C906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D8C6-6B3E-4E9B-9888-6B0C9205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1375-8F9C-4DB2-800C-2DBE6462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7CE0-79AF-40FF-9AE2-6A3A1969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9E14-8746-4A9D-8663-D4B0C9B7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0F9A-03D2-4210-9CF1-A888F8BF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0355-36A3-4342-A385-3CCBA30F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2474-6027-40E2-B389-8CDC147CBD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398DD3-3575-4E6A-837C-BD3D06840A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79A438-7E75-4008-A331-53D86263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FBBD0-FA4C-4FE5-9520-BCD0039A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B077-DE02-43E9-AE78-361B573B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012F4-9079-4EF4-ABE5-FA695538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AEB41D-BFFF-456F-AB1A-BA35A628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F9A65-A767-4131-8932-49EF6E7D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DB98C5-26C7-4D2B-9F71-3D921C06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286B1-1E16-4727-8D2E-803F83D1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CA1942-674A-42D9-855E-D9E97295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CFDC4-E4F8-4B24-AEA6-7EE37EF0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5F6DBC-D705-45DB-94D2-708AC420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546383-11F2-4588-8571-98FF2B32E7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9BEF-C8B7-40D8-8C78-447675786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E68AB-26C9-4165-B37E-0964E6ED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D769-54DF-4078-BE0B-82B4CAA682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6DA20-E7AD-4D7D-8DA8-D833025FED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6BE83-F801-4B2F-BFC5-30C01D3EA49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F60D9-00A8-4166-A0FB-71B0DF99FC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5853-3E38-43EF-B3CA-E7B867D800E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2AAC6-4919-40A8-92A0-D991D5111A5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9D3E-B753-4021-ADC0-78543E9AC7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224ED-0DE3-4DAB-9CA9-99C9631155C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3377-A7AA-4B2D-B38A-E6AFEA0E46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DCDA5-F237-4013-A15E-4957E252A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A98F-57C8-404A-8030-EF9C08CD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18A0-EC52-4C39-B178-37B87FEA3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D60F-B8C8-445E-93F2-931A4333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99F1-1C0F-4E9B-AD9D-36C2143B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BE5C-E072-41ED-B040-6B818173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0D41D-4182-4407-9AB0-7E658787D0E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8953AF-121F-45AB-9E75-13883EE58BF9}" type="slidenum">
              <a: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7028C3-7FCC-4E0E-B96D-A0EA3F86E99B}" type="slidenum">
              <a: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7A6EDF-FD5B-4691-9007-DB27576167CD}" type="slidenum">
              <a: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9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3D80D0-B211-4F6C-A179-CA02CA0FB9DF}" type="slidenum">
              <a:rPr b="0" lang="ru-RU" sz="1600" spc="-1" strike="noStrike">
                <a:solidFill>
                  <a:srgbClr val="fefac9"/>
                </a:solidFill>
                <a:latin typeface="Constantia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2060640"/>
            <a:ext cx="82296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9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nstantia"/>
                <a:ea typeface="SimSun"/>
              </a:rPr>
              <a:t>Выполнила: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SimSun"/>
              </a:rPr>
              <a:t>Эртине Буян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SimSun"/>
              </a:rPr>
              <a:t>,ученица 11 класса МБОУ СОШ с.Ак-Тал Чеди-Хольского района Р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nstantia"/>
                <a:ea typeface="SimSun"/>
              </a:rPr>
              <a:t>Учитель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SimSun"/>
              </a:rPr>
              <a:t>: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SimSun"/>
              </a:rPr>
              <a:t>Эртине С.К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SimSun"/>
              </a:rPr>
              <a:t>, учитель истории и обществознания МБОУ СОШ с.Ак-Тал Чеди-Хольского района Р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-55440" y="146160"/>
            <a:ext cx="9040680" cy="1774800"/>
            <a:chOff x="-55440" y="146160"/>
            <a:chExt cx="9040680" cy="1774800"/>
          </a:xfrm>
        </p:grpSpPr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-55440" y="146160"/>
              <a:ext cx="904068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-55440" y="146160"/>
              <a:ext cx="9040680" cy="17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585720" y="311040"/>
            <a:ext cx="8240760" cy="1133640"/>
            <a:chOff x="585720" y="311040"/>
            <a:chExt cx="8240760" cy="11336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85720" y="311040"/>
              <a:ext cx="8240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85720" y="311040"/>
              <a:ext cx="824076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57200" y="1933560"/>
            <a:ext cx="82296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440000"/>
            <a:ext cx="809964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лава и краса вашего пола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лава страны, вас произрастившей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лава мужей, удостоившихся такой безграничной любви и такой преданности, таких чудных, идеальных жён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ы стали поистине образцом мужества, твёрдости, при всей юности, нежности и слабости по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а будут незабвенны имена ваш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Декабрист А.П.Беляе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20720" y="360360"/>
            <a:ext cx="80992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Многие жёны  следовали за своими мужьями на каторг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рубецкая Е. И., Волконская М.И., Муравьёва А.Г., Нарышкина Е.П., Анненкова П.Е., Давыдова А.И., Фонвизина Н.Д., Юшневская М.К., Розен А.В., Ивашёва К.П., Ентальцева А.В и другие. Там у них рождались де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 указу царя, «невинная жена, следуя за мужем- преступником в Сибирь, должна остаться там до его смерти». Женщины должны были оставить своих детей, а «дети, которые приживутся в Сибири, - как гласил указ, - поступят в казённые крестьяне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9640" y="539640"/>
            <a:ext cx="80996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катерина Ивановна Трубец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первым добилась выехать за мужья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делилась всеми невзгодами со своим муж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вынуждена была «сидеть на чёрном хлебе с квасом»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руднике ходила  в рванных башмаках и отморозила себе ноги, (сшила из тёплой обуви шапку товарищу мужа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она была благодетельницей всех ссыльны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в её доме воспитывались дети декабристов В. И М. Кюхельбекеров, заводских служителей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28 лет прожила  Сибири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родила четырёх детей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погребена в Знаменском монастыре в Иркутск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60360" y="539640"/>
            <a:ext cx="845964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лконская Мария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1805-1863)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очь героя Отечественной войны 1812 года генерала Н.Н.Раевского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приехала второй к мужу вслед за Трубецкой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Волконский, с цепями, подбежал к жене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вместе с мужем  отбывала все годы каторги в Благодатском руднике, Чите, Петровском заводе, поселение в Урике и Иркутске. Там родила троих дет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</a:rPr>
              <a:t>«Вид его кандалов так взволновал и растрогал меня, что я бросилась перед ним на колени и поцеловала сначала его цепи, а потом и его»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- 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</a:rPr>
              <a:t>писала Мария Николаевн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0720" y="360360"/>
            <a:ext cx="774072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уравьёва Александра Григор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1804-18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927 году к месту каторги приехала Александра Григорьевна- сестра декабриста З.Чернышёва, жена Н.М.Муравьё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оставила  дома у родителей 3 дет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отреклась от гражданских пра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подписала  «страшные услови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величайше добрая женщина с щедрой душ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с ней Пушкин передал послание «Во глубине сибирских руд» и «И.И. Пущину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60360" y="360360"/>
            <a:ext cx="8459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рышкина Елизавета Петровна (1802-186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етвёртой в Сибири появилась Елизавета Петров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очь героя Отечественной войны генерала П.П.Коновницын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сестра декабристов Ивана и Петра Коновницыных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жена декабриста М.М.Нарышкин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в тюрьмах Читы и Петровского завода она оказывала помощь союзникам муж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переписывалась с их близкими и родственниками, помогала материально неимущи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она написала </a:t>
            </a:r>
            <a:r>
              <a:rPr b="0" lang="ru-RU" sz="2600" spc="-1" strike="noStrike">
                <a:solidFill>
                  <a:srgbClr val="dc2300"/>
                </a:solidFill>
                <a:latin typeface="Times New Roman"/>
              </a:rPr>
              <a:t>133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письма, в которых подробно описывала жизнь катржник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85640" y="333360"/>
            <a:ext cx="84600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Александра Григорьевна   Муравьё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Из всех жён декабристов самой большой любовью среди заключённых пользовалась Муравьё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ите открыла больницу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все деньги она тратила на то, чтобы облегчить жизнь декабристов,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умерла в возрасте 28 лет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Н.Бестужев</a:t>
            </a:r>
            <a:r>
              <a:rPr b="0" lang="ru-RU" sz="2600" spc="-1" strike="noStrike">
                <a:solidFill>
                  <a:srgbClr val="809ec2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ebe7f2"/>
                </a:solidFill>
                <a:latin typeface="Constantia"/>
              </a:rPr>
              <a:t>посвятил ей рассказ «Шлиссельбургская станция»,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Н.А.Некрасо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Пленителен образ отважной жены, Явившей душевную силу, И в снежных пустынях суровой страны Сокрывшейся рано в могил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«Она всегда умела успокоить и утешить – придавала бодрости другим» -писал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И.Пущин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60360" y="404640"/>
            <a:ext cx="84596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Жизнь после ссыл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856  году  произошло освобождение осуждён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6  «ссыльных» похоронены по всей Сибир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живых остались мало(34 остались в Сибири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тальные – под надзором во внутренних губерниях Ро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ернулись из Сибири вместе с мужьям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Волконская, Нарышкина, Анненкова, Фонвизина, Розен. Потеряв мужей, приехали на родину Давыдова, Ентальцева, Юшневск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гибли в Сибири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уравьёва, Трубецкая, Ивашёв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История России.(энциклопедия). «Росмэн»-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Школьная энциклопед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нет-ресурс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50720" y="146160"/>
            <a:ext cx="8242560" cy="1231920"/>
            <a:chOff x="450720" y="146160"/>
            <a:chExt cx="8242560" cy="1231920"/>
          </a:xfrm>
        </p:grpSpPr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450720" y="146160"/>
              <a:ext cx="8242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50720" y="146160"/>
              <a:ext cx="824256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96720" y="682560"/>
            <a:ext cx="8350560" cy="5437080"/>
            <a:chOff x="396720" y="682560"/>
            <a:chExt cx="8350560" cy="54370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396720" y="682560"/>
              <a:ext cx="8350560" cy="54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96720" y="682560"/>
              <a:ext cx="8350560" cy="54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57200" y="-33984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26028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Они первыми сформировали тайные организ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Выработали  программу действий и политические  документы конституционного характ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Решились на вооружённое выступление против самодержа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0720" y="146160"/>
            <a:ext cx="8242560" cy="1244520"/>
            <a:chOff x="450720" y="146160"/>
            <a:chExt cx="8242560" cy="1244520"/>
          </a:xfrm>
        </p:grpSpPr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450720" y="146160"/>
              <a:ext cx="824256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0720" y="146160"/>
              <a:ext cx="82425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Участники Отечественной войны 1812 г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Участники заграничного пох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Герои борьбы с Наполеон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Увидели  отсталость  Росс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  <a:ea typeface="SimSun"/>
              </a:rPr>
              <a:t>Спасение России- воля крестьяна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0720" y="146160"/>
            <a:ext cx="8242560" cy="1255680"/>
            <a:chOff x="450720" y="146160"/>
            <a:chExt cx="8242560" cy="125568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450720" y="146160"/>
              <a:ext cx="82425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50720" y="146160"/>
              <a:ext cx="824256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079640"/>
            <a:ext cx="82296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  <a:ea typeface="SimSun"/>
              </a:rPr>
              <a:t>1816- «Союз спасен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  <a:ea typeface="SimSun"/>
              </a:rPr>
              <a:t>1818- «Союз благоден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  <a:ea typeface="SimSun"/>
              </a:rPr>
              <a:t>1821- «Южное общество»  на Украине, руководитель Павел Пес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  <a:ea typeface="SimSun"/>
              </a:rPr>
              <a:t>1821- «Северное общество» в Петербурге, руководитель Никита Муравьё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50720" y="146160"/>
            <a:ext cx="8242560" cy="933480"/>
            <a:chOff x="450720" y="146160"/>
            <a:chExt cx="8242560" cy="933480"/>
          </a:xfrm>
        </p:grpSpPr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450720" y="146160"/>
              <a:ext cx="82425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0720" y="146160"/>
              <a:ext cx="824256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19 ноября 1825 году умер Александр Перв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14 декабря 1825- коронация Николая Втор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Междуцарствие использовали члены Северного об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14 декабря- вывести подчинённые  им  войска на Сенатскую площа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0720" y="146160"/>
            <a:ext cx="8242560" cy="1255680"/>
            <a:chOff x="450720" y="146160"/>
            <a:chExt cx="8242560" cy="125568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50720" y="146160"/>
              <a:ext cx="82425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0720" y="146160"/>
              <a:ext cx="824256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Заставить сенаторов подписать «Манифест к русскому народу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Провозглашение  свержения самодержа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Уничтожение крепостного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Формирование Учредительного собрания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SimSun"/>
              </a:rPr>
              <a:t>Принятие Конститу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0720" y="-30240"/>
            <a:ext cx="8242560" cy="1474920"/>
            <a:chOff x="450720" y="-30240"/>
            <a:chExt cx="8242560" cy="147492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450720" y="-30240"/>
              <a:ext cx="824256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50720" y="-30240"/>
              <a:ext cx="824256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11 часов утра выведен Московский пол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Час дня присоединились матросы Гвардейского морского экипажа, части Петербургского гарнизо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Всего 3 тысяча челове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С.П. Трубецкой не явился на площад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Милорадович уговаривал восставшихся подчиниться император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Каховский убил Милорадович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Артиллерия императора открыла огонь н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восставшихс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71360" y="-6480"/>
            <a:ext cx="8979120" cy="792360"/>
            <a:chOff x="171360" y="-6480"/>
            <a:chExt cx="8979120" cy="792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171360" y="-6480"/>
              <a:ext cx="89791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71360" y="-6480"/>
              <a:ext cx="89791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79280" y="720720"/>
            <a:ext cx="8785440" cy="59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Погибло около 1300 человек, из них 200 солдат, остальные гражданские лиц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К следствию привлекали 579 офицеров,2.5 тыс.солда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Виновными признаны 289 челове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121 человек осуждены на различные сроки каторг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Подвергались лишению дворянства, физическим наказания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Подвергались разжалованию и отправке в действующую армию на Кавказ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Восстание Черниговского полка продолжалось до 3 января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1826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 года.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50720" y="0"/>
            <a:ext cx="8242560" cy="720720"/>
            <a:chOff x="450720" y="0"/>
            <a:chExt cx="8242560" cy="720720"/>
          </a:xfrm>
        </p:grpSpPr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450720" y="0"/>
              <a:ext cx="82425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50720" y="0"/>
              <a:ext cx="82425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Смертный приговор вынесен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1.К.Ф. Рылеев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2.П.И.Пестел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3.С.И.Муравьёв-Апостол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4.М.П.Бестужеву-Рюмин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5.П.Г.Каховском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SimSun"/>
              </a:rPr>
              <a:t>13 июля 1826 году приговор был приведен  в исполнение через повеш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  <a:ea typeface="SimSun"/>
              </a:rPr>
              <a:t>Декабристы символ освободительного движения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0720" y="255600"/>
            <a:ext cx="8242560" cy="976320"/>
            <a:chOff x="450720" y="255600"/>
            <a:chExt cx="8242560" cy="97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450720" y="255600"/>
              <a:ext cx="82425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50720" y="255600"/>
              <a:ext cx="82425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3T14:56:21Z</dcterms:created>
  <dc:creator>user</dc:creator>
  <dc:description/>
  <dc:language>en-US</dc:language>
  <cp:lastModifiedBy>111</cp:lastModifiedBy>
  <dcterms:modified xsi:type="dcterms:W3CDTF">2013-02-15T13:18:32Z</dcterms:modified>
  <cp:revision>21</cp:revision>
  <dc:subject/>
  <dc:title>Слайд 1</dc:title>
</cp:coreProperties>
</file>