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7EAF-6FD7-4C71-9B9C-1862126C0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4103-7B0B-4910-B108-BE88AD73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B41E-9CEB-4DAE-B566-DE67DE44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6528-D65E-4643-959F-820991E05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575F5-B33F-4CC7-BBDA-1609AEEAC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A875C-95BB-47E1-98D5-760FF98E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50F80-320A-4F75-B1E5-891239F4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1FCBB-BC5E-4C5B-ACED-DD2481A4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6FCE3-AA95-40A9-A90F-931E2844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C411D-086A-43B2-B22B-100F0541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169D9-15F3-4015-AD9B-BAFED125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37C5-DA8F-4621-9B8C-05BC6C19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A5287-025C-43AB-BDDC-AF40E58D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85F37-3B7F-4409-8171-2462F31C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E6ABD-3C2C-47A9-A121-CD60AAD3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265FB-C183-4EB3-80DC-CD3296A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A9E45-5479-452F-9BC3-391B456A46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7935-F23F-4564-9899-1DD3ACEEC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59E3-E378-4809-BA4D-876B6A92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FFA6-11AC-4688-8500-835837FA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00CC-BEE9-4342-AEA4-FA3A9A0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D289-3A74-4B15-B4A7-8B0CABE3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ED32-57B7-4B7B-9666-293B4788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7743-7186-4DF4-9837-404E6049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BA88-4852-4A9D-9846-5889A1E7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DA8D-0223-410D-A74F-2A902A85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3148-012E-4B19-AA83-5379E453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6527-7C17-4BBB-8093-0FD92133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A390-98D2-4238-AB61-41DC2C3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4AFB-A119-40FC-9099-A9C360CCB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74E22-C605-43DF-A14F-AD2D735EF8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B8146-BAF6-4A6C-B852-5C3CFD11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058EF-6231-4748-8C72-35C8CB5A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F8A4-1EA7-4E84-8FAD-E5A4E7D5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E9BDD-4FE7-4A73-8D71-853DEE41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A6AF8-D3D5-446D-80C4-427ED4A5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D17B6-3F47-40F5-8380-BCC72DE1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A04456-F8D8-4944-A6B4-3C922291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7C1B7-02E3-45E2-B15A-A06A0A07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E8FDB-5440-4AFE-B5EC-85BD81FA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1D6891-68C2-41AA-B573-80AFA18A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42DD3-3767-41FC-A2E5-EDE8F78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52F97-415C-430A-BC93-2AFC530C6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32D6-5734-4F7B-94CE-64247936C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B396-E21A-4409-8E52-F5C049DC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97C84-DAE5-4F7A-A9E5-FE03AEE29B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B9E0-E562-491C-BC4C-9F76E0AF8E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C6AF-BA0B-48EE-8D54-BC5CD7D435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9218C-1233-4935-B8D2-5DEC05F79CD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AC47-5D8C-4D22-AE84-595F5D2DDE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F936-A123-4B1C-8D08-2CADEED47B3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3D11-7F82-4A4C-B044-8C5E67FA115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2172-BB21-4259-9D23-11043EFA63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CDA7-D933-49EA-911E-43D2193488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3380-CA2D-47E5-B5DF-C7B2424F9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7A36-DFBD-4957-9C15-FB619442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17C0-E0C1-42F7-AAB5-ABBA34D5C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D90B-1866-4D9F-B78A-08EDBE9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4F16-6C9B-43E3-86B3-F59CB5BB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E2FD-FC33-4A95-9A3E-BA030481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FBF6B-AB36-45B4-AF58-151474B98B8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C46517-3A51-49AD-A5E1-131DE5557945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BA5E4F-0B1A-4672-BBE4-880E2EE244AD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D1AD66-0EF9-4638-A9C2-41C8515CC866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400486-965C-4BCB-B3ED-64AECBEF0315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060640"/>
            <a:ext cx="8229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nstantia"/>
                <a:ea typeface="SimSun"/>
              </a:rPr>
              <a:t>Выполнила: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SimSun"/>
              </a:rPr>
              <a:t>Эртине Буян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SimSun"/>
              </a:rPr>
              <a:t>,ученица 11 класса МБОУ СОШ с.Ак-Тал Чеди-Хольского района Р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nstantia"/>
                <a:ea typeface="SimSun"/>
              </a:rPr>
              <a:t>Учител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SimSun"/>
              </a:rPr>
              <a:t>: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SimSun"/>
              </a:rPr>
              <a:t>Эртине С.К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SimSun"/>
              </a:rPr>
              <a:t>, учитель истории и обществознания МБОУ СОШ с.Ак-Тал Чеди-Хольского района Р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-55440" y="146160"/>
            <a:ext cx="9040680" cy="1774800"/>
            <a:chOff x="-55440" y="146160"/>
            <a:chExt cx="9040680" cy="177480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-55440" y="146160"/>
              <a:ext cx="90406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-55440" y="146160"/>
              <a:ext cx="9040680" cy="17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585720" y="311040"/>
            <a:ext cx="8240760" cy="1133640"/>
            <a:chOff x="585720" y="311040"/>
            <a:chExt cx="8240760" cy="11336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85720" y="311040"/>
              <a:ext cx="8240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85720" y="311040"/>
              <a:ext cx="824076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57200" y="193356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440000"/>
            <a:ext cx="809964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лава и краса вашего пола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лава страны, вас произрастившей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лава мужей, удостоившихся такой безграничной любви и такой преданности, таких чудных, идеальных жён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ы стали поистине образцом мужества, твёрдости, при всей юности, нежности и слабости по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а будут незабвенны имена ваш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екабрист А.П.Беляе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20720" y="360360"/>
            <a:ext cx="8099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Многие жёны  следовали за своими мужьями на катор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рубецкая Е. И., Волконская М.И., Муравьёва А.Г., Нарышкина Е.П., Анненкова П.Е., Давыдова А.И., Фонвизина Н.Д., Юшневская М.К., Розен А.В., Ивашёва К.П., Ентальцева А.В и другие. Там у них рождались де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 указу царя, «невинная жена, следуя за мужем- преступником в Сибирь, должна остаться там до его смерти». Женщины должны были оставить своих детей, а «дети, которые приживутся в Сибири, - как гласил указ, - поступят в казённые крестьяне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9640" y="539640"/>
            <a:ext cx="809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катерина Ивановна Трубец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первым добилась выехать за мужья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делилась всеми невзгодами со своим муж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ынуждена была «сидеть на чёрном хлебе с квасом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руднике ходила  в рванных башмаках и отморозила себе ноги, (сшила из тёплой обуви шапку товарищу мужа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она была благодетельницей всех ссыль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 её доме воспитывались дети декабристов В. И М. Кюхельбекеров, заводских служителей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28 лет прожила  Сибири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родила четырёх детей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погребена в Знаменском монастыре в Иркутск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60360" y="539640"/>
            <a:ext cx="845964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конская Мария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1805-1863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очь героя Отечественной войны 1812 года генерала Н.Н.Раевского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приехала второй к мужу вслед за Трубецкой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олконский, с цепями, подбежал к жен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месте с мужем  отбывала все годы каторги в Благодатском руднике, Чите, Петровском заводе, поселение в Урике и Иркутске. Там родила троих дет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</a:rPr>
              <a:t>«Вид его кандалов так взволновал и растрогал меня, что я бросилась перед ним на колени и поцеловала сначала его цепи, а потом и его»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- 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</a:rPr>
              <a:t>писала Мария Николаевн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0720" y="360360"/>
            <a:ext cx="77407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уравьёва Александра Григо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1804-18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27 году к месту каторги приехала Александра Григорьевна- сестра декабриста З.Чернышёва, жена Н.М.Муравьё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ставила  дома у родителей 3 дет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треклась от гражданских пр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подписала  «страшные услов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величайше добрая женщина с щедрой душ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 ней Пушкин передал послание «Во глубине сибирских руд» и «И.И. Пущин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60360" y="360360"/>
            <a:ext cx="8459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рышкина Елизавета Петровна (1802-186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етвёртой в Сибири появилась Елизавета Петров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очь героя Отечественной войны генерала П.П.Коновницын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сестра декабристов Ивана и Петра Коновницыных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жена декабриста М.М.Нарышкин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 тюрьмах Читы и Петровского завода она оказывала помощь союзникам муж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переписывалась с их близкими и родственниками, помогала материально неимущи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она написала </a:t>
            </a:r>
            <a:r>
              <a:rPr b="0" lang="ru-RU" sz="2600" spc="-1" strike="noStrike">
                <a:solidFill>
                  <a:srgbClr val="dc2300"/>
                </a:solidFill>
                <a:latin typeface="Times New Roman"/>
              </a:rPr>
              <a:t>133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письма, в которых подробно описывала жизнь катржник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85640" y="333360"/>
            <a:ext cx="8460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Александра Григорьевна   Муравьё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Из всех жён декабристов самой большой любовью среди заключённых пользовалась Муравьё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ите открыла больницу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все деньги она тратила на то, чтобы облегчить жизнь декабристов,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умерла в возрасте 28 лет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.Бестужев</a:t>
            </a:r>
            <a:r>
              <a:rPr b="0" lang="ru-RU" sz="2600" spc="-1" strike="noStrike">
                <a:solidFill>
                  <a:srgbClr val="809ec2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ebe7f2"/>
                </a:solidFill>
                <a:latin typeface="Constantia"/>
              </a:rPr>
              <a:t>посвятил ей рассказ «Шлиссельбургская станция»,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.А.Некрасо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Пленителен образ отважной жены, Явившей душевную силу, И в снежных пустынях суровой страны Сокрывшейся рано в могил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«Она всегда умела успокоить и утешить – придавала бодрости другим» -писал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И.Пущин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60360" y="404640"/>
            <a:ext cx="8459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Жизнь после ссы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56  году  произошло освобождение осуждё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6  «ссыльных» похоронены по всей Сибир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живых остались мало(34 остались в Сибири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тальные – под надзором во внутренних губерниях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ернулись из Сибири вместе с мужья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Волконская, Нарышкина, Анненкова, Фонвизина, Розен. Потеряв мужей, приехали на родину Давыдова, Ентальцева, Юшневск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гибли в Сибири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уравьёва, Трубецкая, Ивашёв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стория России.(энциклопедия). «Росмэн»-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Школьная энциклопед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нет-ресурс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50720" y="146160"/>
            <a:ext cx="8242560" cy="1231920"/>
            <a:chOff x="450720" y="146160"/>
            <a:chExt cx="8242560" cy="123192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50720" y="146160"/>
              <a:ext cx="82425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96720" y="682560"/>
            <a:ext cx="8350560" cy="5437080"/>
            <a:chOff x="396720" y="682560"/>
            <a:chExt cx="8350560" cy="54370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396720" y="682560"/>
              <a:ext cx="8350560" cy="54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96720" y="682560"/>
              <a:ext cx="8350560" cy="54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57200" y="-33984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26028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Они первыми сформировали тайные организ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Выработали  программу действий и политические  документы конституцио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Решились на вооружённое выступление против самодержа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0720" y="146160"/>
            <a:ext cx="8242560" cy="1244520"/>
            <a:chOff x="450720" y="146160"/>
            <a:chExt cx="8242560" cy="124452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0720" y="146160"/>
              <a:ext cx="82425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Участники Отечественной войны 181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Участники заграничного пох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Герои борьбы с Наполеон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Увидели  отсталость  Росс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Спасение России- воля крестьян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0720" y="146160"/>
            <a:ext cx="8242560" cy="1255680"/>
            <a:chOff x="450720" y="146160"/>
            <a:chExt cx="8242560" cy="125568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0720" y="146160"/>
              <a:ext cx="824256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079640"/>
            <a:ext cx="82296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SimSun"/>
              </a:rPr>
              <a:t>1816- «Союз спасен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SimSun"/>
              </a:rPr>
              <a:t>1818- «Союз благоден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SimSun"/>
              </a:rPr>
              <a:t>1821- «Южное общество»  на Украине, руководитель Павел Пес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SimSun"/>
              </a:rPr>
              <a:t>1821- «Северное общество» в Петербурге, руководитель Никита Муравьё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0720" y="146160"/>
            <a:ext cx="8242560" cy="933480"/>
            <a:chOff x="450720" y="146160"/>
            <a:chExt cx="8242560" cy="93348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0720" y="146160"/>
              <a:ext cx="824256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19 ноября 1825 году умер Александр Пер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14 декабря 1825- коронация Николая Втор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Междуцарствие использовали члены Северного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14 декабря- вывести подчинённые  им  войска на Сенатскую площа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0720" y="146160"/>
            <a:ext cx="8242560" cy="1255680"/>
            <a:chOff x="450720" y="146160"/>
            <a:chExt cx="8242560" cy="125568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0720" y="146160"/>
              <a:ext cx="824256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Заставить сенаторов подписать «Манифест к русскому народ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Провозглашение  свержения самодержа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Уничтожение крепостного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Формирование Учредительного собрания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Принятие Конститу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0720" y="-30240"/>
            <a:ext cx="8242560" cy="1474920"/>
            <a:chOff x="450720" y="-30240"/>
            <a:chExt cx="8242560" cy="147492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450720" y="-30240"/>
              <a:ext cx="82425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0720" y="-30240"/>
              <a:ext cx="824256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11 часов утра выведен Московский пол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Час дня присоединились матросы Гвардейского морского экипажа, части Петербургского гарнизо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Всего 3 тысяча челове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С.П. Трубецкой не явился на площад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Милорадович уговаривал восставшихся подчиниться император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Каховский убил Милорадович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Артиллерия императора открыла огонь н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восставших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71360" y="-6480"/>
            <a:ext cx="8979120" cy="792360"/>
            <a:chOff x="171360" y="-6480"/>
            <a:chExt cx="8979120" cy="792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171360" y="-6480"/>
              <a:ext cx="89791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71360" y="-6480"/>
              <a:ext cx="8979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9280" y="720720"/>
            <a:ext cx="8785440" cy="59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Погибло около 1300 человек, из них 200 солдат, остальные гражданские лиц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К следствию привлекали 579 офицеров,2.5 тыс.солда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Виновными признаны 289 челове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121 человек осуждены на различные сроки каторг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Подвергались лишению дворянства, физическим наказания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Подвергались разжалованию и отправке в действующую армию на Кавказ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Восстание Черниговского полка продолжалось до 3 января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1826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 года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0720" y="0"/>
            <a:ext cx="8242560" cy="720720"/>
            <a:chOff x="450720" y="0"/>
            <a:chExt cx="8242560" cy="720720"/>
          </a:xfrm>
        </p:grpSpPr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450720" y="0"/>
              <a:ext cx="8242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0720" y="0"/>
              <a:ext cx="82425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Смертный приговор вынесен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1.К.Ф. Рылеев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2.П.И.Пестел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3.С.И.Муравьёв-Апостол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4.М.П.Бестужеву-Рюмин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5.П.Г.Каховском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13 июля 1826 году приговор был приведен  в исполнение через повеш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SimSun"/>
              </a:rPr>
              <a:t>Декабристы символ освободительного движения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0720" y="255600"/>
            <a:ext cx="8242560" cy="976320"/>
            <a:chOff x="450720" y="255600"/>
            <a:chExt cx="8242560" cy="97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450720" y="255600"/>
              <a:ext cx="82425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50720" y="255600"/>
              <a:ext cx="82425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14:56:21Z</dcterms:created>
  <dc:creator>user</dc:creator>
  <dc:description/>
  <dc:language>en-US</dc:language>
  <cp:lastModifiedBy>111</cp:lastModifiedBy>
  <dcterms:modified xsi:type="dcterms:W3CDTF">2013-02-15T13:18:32Z</dcterms:modified>
  <cp:revision>21</cp:revision>
  <dc:subject/>
  <dc:title>Слайд 1</dc:title>
</cp:coreProperties>
</file>