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586-8418-4A55-B57E-51838EA8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675-38AC-453A-B7B7-710649AF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BB4-2368-4FB1-B5E4-02126189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F76-AFB0-4085-8ED9-4F341FA2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2AB4-63B7-4405-9BCD-F30E4968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22F8-58E4-4A9B-A039-BD70DC2E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798F-6BEE-475D-B0BA-26F63CA3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E63C-B330-4FB5-BF00-7624FBBC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58ED-C4A1-4B16-8C02-BDB691B0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5950-A0D4-4B50-96ED-786858B8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3B37-D6C7-4139-B9F9-EE84AC19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627-3BCB-4B2D-B609-F4FCB922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37A6-1552-4A6B-A867-1FF1F802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0666-B279-4AE4-9F68-12D65105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F274-5B1C-410D-8DA1-D35E0D56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F15F-E4C5-4B61-854D-2BB76BFD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91D5-F01B-4EC2-BAEE-BEBA823B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92C2-E795-4477-A1EA-04357C4A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7E4C-2390-4EBC-A04D-5CC01181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5C89-322E-4A1D-8899-7FE72C7C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BAAA-DB81-49A1-8DB2-FE426321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A2C6-AFB3-4AE4-B9B6-0502A824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844-1D7A-4BA8-8C51-0B44C477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2573-AA2E-4D64-85E6-70137322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3AB0-B140-4346-8C69-0D32DC44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E137-9E5C-495D-AD5D-00A4F71D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9891-E211-4CB8-AB7A-D4DB2B53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A5F3B-C9B5-4F08-9CDC-317FEA8D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2DD0-1EC1-412E-872F-85E206B4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D0047-185A-495F-9950-CF4F74E6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C4D21-B7AB-41E3-A190-C97DF394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7160E-2717-4438-B701-48EC32F4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36BC0-1F28-4450-9A45-E011EA3D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518-1129-4ECD-BB93-89021990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F2DA2-D3FD-4321-A41B-7D75E7DF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EE6193-5271-4BDD-9A80-8143940A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64D16-DBA9-4DE6-A144-C6A09DDD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C95F1-C233-4C45-8BEF-49EFE1C9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3DB5A-A649-4863-8EDF-52CA6688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65815-AB8A-4313-BD70-D6D3FE3B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C6DE6-13B8-43CD-9165-37E9C568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B8D0E-64D0-4927-B750-014A9CFC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D3407-7B67-4F26-827D-8CEEFB59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918-6296-40C7-9B47-E2A51C9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2DD-C47A-4365-84ED-0F6313FA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39B-9A53-48FB-B458-C5E44DB2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110-1A66-4E5B-963D-F5632779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418-6758-452C-997D-2752E7D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B2DF-2180-4EA3-AD16-5C809B2AC4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DF7E-45B2-42DD-A5B8-D143988DAD7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E7C3-39D2-4C6B-BD78-5E24D2B787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8510-745A-433D-B614-67DE7AA6605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Times New Roman"/>
              </a:rPr>
              <a:t>Animals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99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6666"/>
                </a:solidFill>
                <a:latin typeface="Times New Roman"/>
              </a:rPr>
              <a:t>Цель: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пополнение лексического запаса по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теме «Животные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8" descr="zmei_11"/>
          <p:cNvPicPr/>
          <p:nvPr/>
        </p:nvPicPr>
        <p:blipFill>
          <a:blip r:embed="rId1"/>
          <a:stretch/>
        </p:blipFill>
        <p:spPr>
          <a:xfrm>
            <a:off x="6400800" y="3048120"/>
            <a:ext cx="2419200" cy="164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9"/>
          <p:cNvPicPr/>
          <p:nvPr/>
        </p:nvPicPr>
        <p:blipFill>
          <a:blip r:embed="rId2"/>
          <a:stretch/>
        </p:blipFill>
        <p:spPr>
          <a:xfrm>
            <a:off x="1752480" y="4724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34_1024"/>
          <p:cNvPicPr/>
          <p:nvPr/>
        </p:nvPicPr>
        <p:blipFill>
          <a:blip r:embed="rId3"/>
          <a:stretch/>
        </p:blipFill>
        <p:spPr>
          <a:xfrm>
            <a:off x="152280" y="297180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073dc1520a91"/>
          <p:cNvPicPr/>
          <p:nvPr/>
        </p:nvPicPr>
        <p:blipFill>
          <a:blip r:embed="rId4"/>
          <a:stretch/>
        </p:blipFill>
        <p:spPr>
          <a:xfrm>
            <a:off x="3505320" y="30481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bfzqvbsdkbdufkj6mbq9zvm3mcmgaazn_1"/>
          <p:cNvPicPr/>
          <p:nvPr/>
        </p:nvPicPr>
        <p:blipFill>
          <a:blip r:embed="rId5"/>
          <a:stretch/>
        </p:blipFill>
        <p:spPr>
          <a:xfrm>
            <a:off x="5181480" y="4648320"/>
            <a:ext cx="2210040" cy="16570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3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>
            <a:hlinkClick r:id="" action="ppaction://hlinkshowjump?jump=previousslide"/>
          </p:cNvPr>
          <p:cNvSpPr/>
          <p:nvPr/>
        </p:nvSpPr>
        <p:spPr>
          <a:xfrm>
            <a:off x="76960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990720" y="1338120"/>
            <a:ext cx="739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’s go t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afari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see the animals before it’s d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ear’s big, the hedgehog’s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e kangaroo is jumping alo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lephant is strong  and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anda sleeps the hol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ig and hungry crocod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tches me, waits and smiles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00400" y="457200"/>
            <a:ext cx="296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Safar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>
            <a:hlinkClick r:id="" action="ppaction://hlinkshowjump?jump=nextslide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9"/>
          <p:cNvPicPr/>
          <p:nvPr/>
        </p:nvPicPr>
        <p:blipFill>
          <a:blip r:embed="rId1"/>
          <a:srcRect l="0" t="0" r="57033" b="55212"/>
          <a:stretch/>
        </p:blipFill>
        <p:spPr>
          <a:xfrm>
            <a:off x="1600200" y="304920"/>
            <a:ext cx="1905120" cy="1488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81952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073dc1520a91"/>
          <p:cNvPicPr/>
          <p:nvPr/>
        </p:nvPicPr>
        <p:blipFill>
          <a:blip r:embed="rId2"/>
          <a:stretch/>
        </p:blipFill>
        <p:spPr>
          <a:xfrm>
            <a:off x="4038480" y="3049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5029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1-web"/>
          <p:cNvPicPr/>
          <p:nvPr/>
        </p:nvPicPr>
        <p:blipFill>
          <a:blip r:embed="rId3"/>
          <a:srcRect l="59604" t="46008" r="0" b="3997"/>
          <a:stretch/>
        </p:blipFill>
        <p:spPr>
          <a:xfrm>
            <a:off x="6400800" y="304920"/>
            <a:ext cx="1924200" cy="1447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9"/>
          <p:cNvSpPr/>
          <p:nvPr/>
        </p:nvSpPr>
        <p:spPr>
          <a:xfrm>
            <a:off x="72388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11588787"/>
          <p:cNvPicPr/>
          <p:nvPr/>
        </p:nvPicPr>
        <p:blipFill>
          <a:blip r:embed="rId4"/>
          <a:stretch/>
        </p:blipFill>
        <p:spPr>
          <a:xfrm>
            <a:off x="5562720" y="4114800"/>
            <a:ext cx="1523880" cy="1058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1-web"/>
          <p:cNvPicPr/>
          <p:nvPr/>
        </p:nvPicPr>
        <p:blipFill>
          <a:blip r:embed="rId5"/>
          <a:stretch/>
        </p:blipFill>
        <p:spPr>
          <a:xfrm>
            <a:off x="1905120" y="2666880"/>
            <a:ext cx="1447560" cy="102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f_13775390"/>
          <p:cNvPicPr/>
          <p:nvPr/>
        </p:nvPicPr>
        <p:blipFill>
          <a:blip r:embed="rId6"/>
          <a:stretch/>
        </p:blipFill>
        <p:spPr>
          <a:xfrm>
            <a:off x="6705720" y="27432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798457895"/>
          <p:cNvPicPr/>
          <p:nvPr/>
        </p:nvPicPr>
        <p:blipFill>
          <a:blip r:embed="rId7"/>
          <a:stretch/>
        </p:blipFill>
        <p:spPr>
          <a:xfrm>
            <a:off x="4419720" y="2666880"/>
            <a:ext cx="1447560" cy="1086120"/>
          </a:xfrm>
          <a:prstGeom prst="rect">
            <a:avLst/>
          </a:prstGeom>
          <a:ln w="0">
            <a:noFill/>
          </a:ln>
        </p:spPr>
      </p:pic>
      <p:sp>
        <p:nvSpPr>
          <p:cNvPr id="195" name="Line 17"/>
          <p:cNvSpPr/>
          <p:nvPr/>
        </p:nvSpPr>
        <p:spPr>
          <a:xfrm>
            <a:off x="1447920" y="594360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3124080" y="5486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ve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4724280" y="5486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6400800" y="594360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1"/>
          <p:cNvSpPr/>
          <p:nvPr/>
        </p:nvSpPr>
        <p:spPr>
          <a:xfrm flipH="1" flipV="1">
            <a:off x="2362320" y="5866560"/>
            <a:ext cx="2133360" cy="38124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1424160" y="53593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. ед.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3" descr="f_12915747"/>
          <p:cNvPicPr/>
          <p:nvPr/>
        </p:nvPicPr>
        <p:blipFill>
          <a:blip r:embed="rId8"/>
          <a:stretch/>
        </p:blipFill>
        <p:spPr>
          <a:xfrm>
            <a:off x="2819520" y="4114800"/>
            <a:ext cx="1447560" cy="1087560"/>
          </a:xfrm>
          <a:prstGeom prst="rect">
            <a:avLst/>
          </a:prstGeom>
          <a:ln w="0">
            <a:noFill/>
          </a:ln>
        </p:spPr>
      </p:pic>
      <p:sp>
        <p:nvSpPr>
          <p:cNvPr id="202" name="WordArt 24"/>
          <p:cNvSpPr txBox="1"/>
          <p:nvPr/>
        </p:nvSpPr>
        <p:spPr>
          <a:xfrm>
            <a:off x="838080" y="541008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3" name="AutoShape 27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8">
            <a:hlinkClick r:id="" action="ppaction://hlinkshowjump?jump=previousslide"/>
          </p:cNvPr>
          <p:cNvSpPr/>
          <p:nvPr/>
        </p:nvSpPr>
        <p:spPr>
          <a:xfrm>
            <a:off x="76960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55627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447920" y="228240"/>
            <a:ext cx="7240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sten to the song «All I wanna be», complete and sing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sly as a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strong as a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fast as a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brave as a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___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free as a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neat as a wor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quite as a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big as a hous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I wanna be, all I wanna be, o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I wanna be is everyth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mean as 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___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sharp as a toot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deep as a bite, as dark as the ni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sweet as a song, as right as a wro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long as a road, as ugly as a t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Lenka - All I wanna be, all I wanna be, oh.mp3" descr=""/>
          <p:cNvPicPr/>
          <p:nvPr/>
        </p:nvPicPr>
        <p:blipFill>
          <a:blip r:embed="rId2"/>
          <a:stretch/>
        </p:blipFill>
        <p:spPr>
          <a:xfrm>
            <a:off x="45720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93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447560" y="228600"/>
            <a:ext cx="7313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sten to the song «All I wanna be», complete and sing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sly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strong as 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fast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a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brave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a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free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r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neat as a wor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quite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u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big as a hous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I wanna be, all I wanna be, o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I wanna be is everyth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mean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ol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as sharp as a toot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deep as a bite, as dark as the ni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sweet as a song, as right as a wro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long as a road, as ugly as a t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Lenka - All I wanna be, all I wanna be, oh.mp3" descr=""/>
          <p:cNvPicPr/>
          <p:nvPr/>
        </p:nvPicPr>
        <p:blipFill>
          <a:blip r:embed="rId2"/>
          <a:stretch/>
        </p:blipFill>
        <p:spPr>
          <a:xfrm>
            <a:off x="45720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93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853452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I like …….most of all…….because it is……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It can……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It lives……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>
            <a:hlinkClick r:id="" action="ppaction://hlinkshowjump?jump=previousslide"/>
          </p:cNvPr>
          <p:cNvSpPr/>
          <p:nvPr/>
        </p:nvSpPr>
        <p:spPr>
          <a:xfrm>
            <a:off x="76960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Home Task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Composition – </a:t>
            </a: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сочин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Разноуровневое задание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«5»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- 12-15 предложен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«4»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- 9-11 предложен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«3»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- 6-8 предложени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Оформить на формате А-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5">
            <a:hlinkClick r:id="" action="ppaction://hlinkshowjump?jump=previousslide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76960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ут3</cp:lastModifiedBy>
  <dcterms:modified xsi:type="dcterms:W3CDTF">2013-03-01T06:20:3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