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78C-E005-4F92-BC71-A9CB03CB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326-99AA-46A1-A180-CCBD157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84F-8ED2-4CA2-9B4F-581B6850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8D2-7264-4CA5-9DC9-E5A36637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B43-5EE6-4D56-A7DD-9E6B8FBA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838-C9C8-4F90-A743-AA14D9F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57FB-96FE-43A5-B9B9-5DF60AF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7181-9527-43C3-B143-CE8985D2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FAD8-22B7-4F56-8CBA-3E3D873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936C-ED0F-41EB-B0EC-88529758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A714-6290-482D-BC15-E2573864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EFD-AA78-49A5-9FE8-9071CE6A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F8E7-6BBD-4F24-86DF-F4CCB84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1A6-006C-4E69-A48E-0C979AE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8C49-6881-41B8-B566-0812344E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263E-E5DD-4233-AEE0-50950751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1E96-2EB3-4C9B-AEF8-239523EF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5CCC-3536-42F5-8986-291683CC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1047-8EEF-4420-A973-23844DD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4932-67BB-4375-97CA-E4F63BA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6305-6C89-47FB-974D-5678BD0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96B6-DA38-4114-BEEC-FD2FA8CE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11C-325F-471D-8C14-FDBAEC81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EABC-4A71-4646-85F7-5E5C163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E67A-D6AE-4F7E-8616-D64CE3E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EBE5-4CFD-485E-A2A0-ECE8147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FA31-72E2-4CCE-B22E-F97C089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1899-C83F-42B2-B3A2-8CC73A6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7B1B-4A66-40BB-A875-17836464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B9D7-EEA0-4286-AE4F-26467EA9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F5420-AF78-41EB-B4ED-41F968F4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0470D-3659-468B-A4CE-B26F884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10CB7-0284-40E8-9BEE-55E328F9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2DE-CB30-4600-80AB-350076F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BD20E-5D8E-4029-9959-F472448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A90FE-CC70-4594-8886-708B676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29369-EB5F-43BA-AE9D-B78891CC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FCBD8-1B7F-4C65-A919-42FCCE1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2C80D-9E77-467B-B4C5-445189E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EBAD0-5C92-43AE-A1A9-45062B1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F2B89-9C20-49C6-9F83-38D566A1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B6563-1D5C-4D5F-A1F5-C044BBCE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ABA9D-27BF-4530-A545-5015ABC9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CFA-5D26-4504-A87C-627DA5C6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197-084B-4B03-BD36-2BBCB73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241-8272-4EDC-8065-6B22D18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1BD-9BDC-46AF-9305-1E91472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F32-44FB-4E14-AFFE-CAE51334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6917-A2DC-4FE9-9AC6-6F48134982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6A7-30BF-49A9-BEBB-6C1182C82C3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DF57-AA9D-4545-AB7D-738EEFBF5C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E306-80D8-4162-A7EB-8D8DB8694E6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Times New Roman"/>
              </a:rPr>
              <a:t>Animals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66"/>
                </a:solidFill>
                <a:latin typeface="Times New Roman"/>
              </a:rPr>
              <a:t>Цель: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ополнение лексического запаса по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теме «Животные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zmei_11"/>
          <p:cNvPicPr/>
          <p:nvPr/>
        </p:nvPicPr>
        <p:blipFill>
          <a:blip r:embed="rId1"/>
          <a:stretch/>
        </p:blipFill>
        <p:spPr>
          <a:xfrm>
            <a:off x="6400800" y="3048120"/>
            <a:ext cx="2419200" cy="16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9"/>
          <p:cNvPicPr/>
          <p:nvPr/>
        </p:nvPicPr>
        <p:blipFill>
          <a:blip r:embed="rId2"/>
          <a:stretch/>
        </p:blipFill>
        <p:spPr>
          <a:xfrm>
            <a:off x="175248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4_1024"/>
          <p:cNvPicPr/>
          <p:nvPr/>
        </p:nvPicPr>
        <p:blipFill>
          <a:blip r:embed="rId3"/>
          <a:stretch/>
        </p:blipFill>
        <p:spPr>
          <a:xfrm>
            <a:off x="152280" y="29718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73dc1520a91"/>
          <p:cNvPicPr/>
          <p:nvPr/>
        </p:nvPicPr>
        <p:blipFill>
          <a:blip r:embed="rId4"/>
          <a:stretch/>
        </p:blipFill>
        <p:spPr>
          <a:xfrm>
            <a:off x="3505320" y="3048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bfzqvbsdkbdufkj6mbq9zvm3mcmgaazn_1"/>
          <p:cNvPicPr/>
          <p:nvPr/>
        </p:nvPicPr>
        <p:blipFill>
          <a:blip r:embed="rId5"/>
          <a:stretch/>
        </p:blipFill>
        <p:spPr>
          <a:xfrm>
            <a:off x="5181480" y="4648320"/>
            <a:ext cx="2210040" cy="16570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3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990720" y="1338120"/>
            <a:ext cx="739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go t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fari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ee the animals before it’s d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ear’s big, the hedgehog’s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 kangaroo is jumping al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lephant is strong  and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anda sleeps the hol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ig and hungry crocod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es me, waits and smiles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00400" y="457200"/>
            <a:ext cx="29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Safar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9"/>
          <p:cNvPicPr/>
          <p:nvPr/>
        </p:nvPicPr>
        <p:blipFill>
          <a:blip r:embed="rId1"/>
          <a:srcRect l="0" t="0" r="57033" b="55212"/>
          <a:stretch/>
        </p:blipFill>
        <p:spPr>
          <a:xfrm>
            <a:off x="1600200" y="304920"/>
            <a:ext cx="1905120" cy="1488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81952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073dc1520a91"/>
          <p:cNvPicPr/>
          <p:nvPr/>
        </p:nvPicPr>
        <p:blipFill>
          <a:blip r:embed="rId2"/>
          <a:stretch/>
        </p:blipFill>
        <p:spPr>
          <a:xfrm>
            <a:off x="4038480" y="304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5029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1-web"/>
          <p:cNvPicPr/>
          <p:nvPr/>
        </p:nvPicPr>
        <p:blipFill>
          <a:blip r:embed="rId3"/>
          <a:srcRect l="59604" t="46008" r="0" b="3997"/>
          <a:stretch/>
        </p:blipFill>
        <p:spPr>
          <a:xfrm>
            <a:off x="6400800" y="304920"/>
            <a:ext cx="1924200" cy="1447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9"/>
          <p:cNvSpPr/>
          <p:nvPr/>
        </p:nvSpPr>
        <p:spPr>
          <a:xfrm>
            <a:off x="72388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1588787"/>
          <p:cNvPicPr/>
          <p:nvPr/>
        </p:nvPicPr>
        <p:blipFill>
          <a:blip r:embed="rId4"/>
          <a:stretch/>
        </p:blipFill>
        <p:spPr>
          <a:xfrm>
            <a:off x="5562720" y="4114800"/>
            <a:ext cx="1523880" cy="105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1-web"/>
          <p:cNvPicPr/>
          <p:nvPr/>
        </p:nvPicPr>
        <p:blipFill>
          <a:blip r:embed="rId5"/>
          <a:stretch/>
        </p:blipFill>
        <p:spPr>
          <a:xfrm>
            <a:off x="1905120" y="266688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f_13775390"/>
          <p:cNvPicPr/>
          <p:nvPr/>
        </p:nvPicPr>
        <p:blipFill>
          <a:blip r:embed="rId6"/>
          <a:stretch/>
        </p:blipFill>
        <p:spPr>
          <a:xfrm>
            <a:off x="6705720" y="27432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798457895"/>
          <p:cNvPicPr/>
          <p:nvPr/>
        </p:nvPicPr>
        <p:blipFill>
          <a:blip r:embed="rId7"/>
          <a:stretch/>
        </p:blipFill>
        <p:spPr>
          <a:xfrm>
            <a:off x="4419720" y="2666880"/>
            <a:ext cx="1447560" cy="1086120"/>
          </a:xfrm>
          <a:prstGeom prst="rect">
            <a:avLst/>
          </a:prstGeom>
          <a:ln w="0">
            <a:noFill/>
          </a:ln>
        </p:spPr>
      </p:pic>
      <p:sp>
        <p:nvSpPr>
          <p:cNvPr id="195" name="Line 17"/>
          <p:cNvSpPr/>
          <p:nvPr/>
        </p:nvSpPr>
        <p:spPr>
          <a:xfrm>
            <a:off x="1447920" y="594360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312408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ve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472428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6400800" y="59436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 flipH="1" flipV="1">
            <a:off x="2362320" y="5866560"/>
            <a:ext cx="2133360" cy="38124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1424160" y="53593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. ед.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" descr="f_12915747"/>
          <p:cNvPicPr/>
          <p:nvPr/>
        </p:nvPicPr>
        <p:blipFill>
          <a:blip r:embed="rId8"/>
          <a:stretch/>
        </p:blipFill>
        <p:spPr>
          <a:xfrm>
            <a:off x="2819520" y="4114800"/>
            <a:ext cx="1447560" cy="1087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24"/>
          <p:cNvSpPr txBox="1"/>
          <p:nvPr/>
        </p:nvSpPr>
        <p:spPr>
          <a:xfrm>
            <a:off x="838080" y="54100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AutoShape 27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8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5627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447920" y="228240"/>
            <a:ext cx="7240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sten to the song «All I wanna be», complete and sing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ly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trong as a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ast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rave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ree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neat as a wor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quite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ig as a hou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, all I wanna be, o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 is everyth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mean as 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harp as a too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deep as a bite, as dark as the ni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weet as a song, as right as a wro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long as a road, as ugly as a t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Lenka - All I wanna be, all I wanna be, oh.mp3" descr=""/>
          <p:cNvPicPr/>
          <p:nvPr/>
        </p:nvPicPr>
        <p:blipFill>
          <a:blip r:embed="rId2"/>
          <a:stretch/>
        </p:blipFill>
        <p:spPr>
          <a:xfrm>
            <a:off x="4572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3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47560" y="228600"/>
            <a:ext cx="731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sten to the song «All I wanna be», complete and sing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ly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trong as 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ast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a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rave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ree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r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neat as a wor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quite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u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ig as a hou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, all I wanna be, o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 is everyth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mean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ol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harp as a too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deep as a bite, as dark as the ni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weet as a song, as right as a wro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long as a road, as ugly as a t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Lenka - All I wanna be, all I wanna be, oh.mp3" descr=""/>
          <p:cNvPicPr/>
          <p:nvPr/>
        </p:nvPicPr>
        <p:blipFill>
          <a:blip r:embed="rId2"/>
          <a:stretch/>
        </p:blipFill>
        <p:spPr>
          <a:xfrm>
            <a:off x="4572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93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53452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 like …….most of all…….because it is……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t can……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t lives……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Home Task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Composition – </a:t>
            </a: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сочин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Разноуровневое задани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«5»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- 12-15 предлож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«4»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- 9-11 предлож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«3»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- 6-8 предложени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Оформить на формате А-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5">
            <a:hlinkClick r:id="" action="ppaction://hlinkshowjump?jump=previous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76960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3</cp:lastModifiedBy>
  <dcterms:modified xsi:type="dcterms:W3CDTF">2013-03-01T06:20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