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3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C21-D7AE-40C8-8FB3-66338B3C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BB5-5935-4256-BB6E-4B7B3457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D08-0C83-45F7-A3C0-7B9E3A4B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97D-31D0-4C6E-A5B6-2BECAB7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DF8-8532-44E1-BC76-5B2FC1EA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CE3-91DA-48F0-8CC0-C0459E7B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3D2-D173-4FA3-8D0D-8DDB5FF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51B-8692-4C95-833B-BF9E2C10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3A3-3B0C-4CAD-B761-B7C0C6B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C8C-2F15-431F-9FAD-50B6DA3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F49-5FA5-409F-94DA-A3F0A4E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835-6746-479B-9421-30F5FEC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5FC-BEDB-4C7C-BF52-442F1FD6B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99360" y="932040"/>
            <a:ext cx="707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нам шепчешь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есь в росе, как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се открой, не ута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же видишь,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50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5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5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5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9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95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95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8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65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65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4150"/>
                            </p:stCondLst>
                            <p:childTnLst>
                              <p:par>
                                <p:cTn id="89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" descr="Рисунок3"/>
          <p:cNvPicPr/>
          <p:nvPr/>
        </p:nvPicPr>
        <p:blipFill>
          <a:blip r:embed="rId2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43280" y="189000"/>
            <a:ext cx="60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РУСЫ 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2771640" cy="2158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-181080" y="109800"/>
            <a:ext cx="292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Дом со всех сторон откр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Заходя в зеленый д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Чудеса увидишь в 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285840" y="5850000"/>
            <a:ext cx="7765920" cy="1008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ТРАВЯ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1"/>
          <p:cNvSpPr/>
          <p:nvPr/>
        </p:nvSpPr>
        <p:spPr>
          <a:xfrm>
            <a:off x="214200" y="4643280"/>
            <a:ext cx="6623280" cy="1008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КУСТАРНИЧ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250920" y="3357720"/>
            <a:ext cx="5607000" cy="1008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КУСТАРНИ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250920" y="2060640"/>
            <a:ext cx="4178160" cy="100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РЕВ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8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324000" y="260280"/>
            <a:ext cx="561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ВЕСТИ СЕБЯ В Л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1430"/>
          <p:cNvPicPr/>
          <p:nvPr/>
        </p:nvPicPr>
        <p:blipFill>
          <a:blip r:embed="rId2"/>
          <a:stretch/>
        </p:blipFill>
        <p:spPr>
          <a:xfrm>
            <a:off x="6227640" y="189000"/>
            <a:ext cx="2448000" cy="2082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068720" y="52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84720" y="1916280"/>
            <a:ext cx="44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убить живые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116000" y="2565360"/>
            <a:ext cx="63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водить костры под деревья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771640" y="407664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оставлять банки и бума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492360" y="47973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вать цв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28720" y="5589720"/>
            <a:ext cx="34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орять гне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980720" y="3284640"/>
            <a:ext cx="60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брать детенышей зверей до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J0214918"/>
          <p:cNvPicPr/>
          <p:nvPr/>
        </p:nvPicPr>
        <p:blipFill>
          <a:blip r:embed="rId3"/>
          <a:stretch/>
        </p:blipFill>
        <p:spPr>
          <a:xfrm>
            <a:off x="324000" y="4653000"/>
            <a:ext cx="194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476280"/>
            <a:ext cx="835164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мага, брошенная в лесу, должна пролежать минимум 3 года, прежде, чем распадётся на составные компон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ческая консервная банка должна по тем же причинам пролежать 15 – 2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еклянные банки и бутылки, брошенные в лесу, особенно если они разбиты, превращаются в линзы, что приводит к самовозгоранию лесной подст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50920" y="260280"/>
            <a:ext cx="756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этим стоит задуматься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J0076146"/>
          <p:cNvPicPr/>
          <p:nvPr/>
        </p:nvPicPr>
        <p:blipFill>
          <a:blip r:embed="rId2"/>
          <a:stretch/>
        </p:blipFill>
        <p:spPr>
          <a:xfrm>
            <a:off x="971640" y="5734080"/>
            <a:ext cx="4248000" cy="86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J0178115"/>
          <p:cNvPicPr/>
          <p:nvPr/>
        </p:nvPicPr>
        <p:blipFill>
          <a:blip r:embed="rId3"/>
          <a:stretch/>
        </p:blipFill>
        <p:spPr>
          <a:xfrm>
            <a:off x="8172360" y="54936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15332"/>
          <p:cNvPicPr/>
          <p:nvPr/>
        </p:nvPicPr>
        <p:blipFill>
          <a:blip r:embed="rId4"/>
          <a:stretch/>
        </p:blipFill>
        <p:spPr>
          <a:xfrm>
            <a:off x="7093080" y="4941720"/>
            <a:ext cx="1790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Пол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357200" y="428760"/>
            <a:ext cx="64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На одной план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Дружно жил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Не разоряли гнезда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Ради нескольких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Не ловили по дубра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Рыжих белок для заб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Травку не топ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Лес не загряз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Все старательно, с ум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Берегли  свой общ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Под названием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Где живем и ты, и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000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ОУ СОШ №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368360" y="2143080"/>
            <a:ext cx="614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mbria"/>
              </a:rPr>
              <a:t>Жизнь ле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071800" y="5214960"/>
            <a:ext cx="521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Урок «Окружающий мир»  в 4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Автор: учитель 4-а класса МОУ СОШ № 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Сокиренко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Admin</cp:lastModifiedBy>
  <dcterms:modified xsi:type="dcterms:W3CDTF">2013-03-02T09:54:16Z</dcterms:modified>
  <cp:revision>75</cp:revision>
  <dc:subject/>
  <dc:title>Слайд 1</dc:title>
</cp:coreProperties>
</file>