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24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30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39.png" ContentType="image/png"/>
  <Override PartName="/ppt/media/image41.png" ContentType="image/png"/>
  <Override PartName="/ppt/media/image31.jpeg" ContentType="image/jpeg"/>
  <Override PartName="/ppt/media/image4.jpeg" ContentType="image/jpeg"/>
  <Override PartName="/ppt/media/image34.jpeg" ContentType="image/jpeg"/>
  <Override PartName="/ppt/media/image37.png" ContentType="image/png"/>
  <Override PartName="/ppt/media/image44.jpeg" ContentType="image/jpeg"/>
  <Override PartName="/ppt/media/image43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45.jpeg" ContentType="image/jpeg"/>
  <Override PartName="/ppt/media/image33.png" ContentType="image/png"/>
  <Override PartName="/ppt/media/image46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12.jpeg" ContentType="image/jpeg"/>
  <Override PartName="/ppt/media/image6.jpeg" ContentType="image/jpeg"/>
  <Override PartName="/ppt/media/image2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82F4-EC33-4AF0-A0FB-39E74216CE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C273-0A27-4118-8DA5-3557CC53371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1C88-F5AC-4D92-8636-570BD5263AC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DAF0-DFD7-4EED-92E3-5F1C81CAC92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43DC-5758-4362-834B-0A3038A3FCA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31E8-6FF3-4D43-9C4F-C75AC09A200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1BA5-F526-4F13-B210-3B827365330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DCFF-DBF9-4680-82EC-D0F1459552C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F8E4-B74F-4D46-9E36-60A2AA5765E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7640-BC14-4D0A-AF69-D8222E76B85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E5DD-9BC0-40F0-A17B-D8CF2E605D1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2D19-860B-474C-9378-C7FBE4FA5E1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9D98-7B94-4F88-9648-925FD00A436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5614-B9D1-4C3E-8D0C-3539C61A005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AC9D-F416-4F67-8565-FDFC9D88E30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972C-0BDD-4080-875B-97A6CAFB53C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A440-A1C9-4452-8439-F2957634FC7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EF5F-9CEE-4580-A6E5-CFDC5888A47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5B13-368C-4BCE-83DA-24F51E454F7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DA51-A844-4072-891D-DD3953476CC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49A4-93B0-4DBF-A9EE-F4B3E259D6E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8899-5815-4325-9F13-0B5D0321695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269B-8CA8-4217-B93D-C684CB06F13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B54C-26CA-4537-BBFF-A0EE765A99F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5D60-B420-47DF-B1D0-2B2E238CF89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3837-0C59-415A-8DC8-346213F3D33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1C45-B43C-4C55-AD60-A91967C51F9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8DEB-D71B-43E4-B1B7-2E0ECE286A5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B37E-5FC7-41E1-A146-B98567C3944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B89C-1F9E-4A54-8AC7-3FE452F7C4F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2C24-C8F8-4C73-9BAB-5C12909EC22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A7C1-AE16-47DB-8142-F44A05F9047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8060-7705-4796-B9FB-B3CFA0483D6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6358-8A2D-464E-8E02-400882CC3BE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4DE5-8A89-43DB-A689-B323E3B7B88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3C7A-9638-408B-BC2C-690F3BECD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1BE2-039D-4D8D-B603-37C0204B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56DC-AC9E-40C0-A2BD-2EA20DCCA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BA27-69C8-4CC5-97D1-5DF5758B2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829D5-30B5-4662-8364-A55BE763E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BD692-B272-45FF-A82D-EE34CB15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644C2-79C8-46C1-B50A-499FA296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27D42-97D7-4AF4-9466-CFD281BF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CEE88-17EC-49EF-AD96-C22ABA0A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01C14-7527-4B9C-812A-4F0944D7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9A839-AFC4-4AB5-A4DC-11208D96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0473-EF6F-4D9A-80E5-181E7744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19A5C-7107-46F1-AA8B-F34EA558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AA280-DF5E-412C-B250-25A3374B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CD69B-A34B-403D-8788-2B9FBCE9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DDD82-2EAB-4DB2-BD90-45F39846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EEC30-6027-4651-B5D9-C9BC29330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42153-EF44-4CBD-959E-261FA4787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C1912-DC0B-40D8-A922-BC1FAC24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8AE94-8BE3-4782-855F-6F2D100D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4AFF2-0DE6-49AA-9902-F9370DF5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94D43-DED9-413A-9914-978AF9AC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F1A9-8E9E-4BE8-8E5E-B4A8BAB1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C876A-3B15-408B-B723-DB620311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8E34F-7CEE-45DC-9949-1D52E378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18BFF-DE7A-4BF0-906E-79006C38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393CA-2879-4B15-8F16-B4ED11B4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6CE8E-7CF7-49E7-91E5-DE8F86FB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476C5-DFB2-4ED0-BC2A-B722F982F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9E553-D052-4E75-AD63-969434E95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5A26D5-08C9-4810-AA0E-676F059C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D3C9DF-B658-4582-B3DB-E9FADC1F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230A2B-2CDF-4D56-AABE-4B0E7F12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32B3-0DE8-4C42-98DF-C04BCB4E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4C3B2C-9BC0-4ABE-BDAD-026B720F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1010EF-441F-45D1-AFF2-D74CDC56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C36665-F714-4A7C-8D6A-7F28EE04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D622D3-1B1F-44A0-AFE5-D6EF91DC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43AF6C-5FE9-44CD-8905-DA3AD093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99FAE6-FCF0-4872-83C3-A534C94D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69110E-CE1F-4C23-ABD6-A4E710CE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99BDFB-AD72-436A-A474-D86CF2F17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0D3339-895B-4EAB-A355-DAC1BF358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6656-9BFC-4B49-94B6-5C8D491A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6370-3C24-4437-AA3F-7DE95258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A829-FAD6-465E-A442-8F30DE61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84BA-F81B-416E-B44A-7501FD62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BF8C-1B24-4DB7-99EF-B658B4BB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6354-A489-4F34-B63A-9300C5B2C07E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65A7-123F-4E7E-B576-7F9736F46918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0C56-4A7D-4EFE-8D1A-94F89897575E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487B-8B7A-44CA-85B7-9BCB34433315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17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560" y="1988640"/>
            <a:ext cx="867564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f9f9f9"/>
                </a:solidFill>
                <a:latin typeface="Arial"/>
              </a:rPr>
              <a:t>«Чудо – Африка!»</a:t>
            </a:r>
            <a:r>
              <a:rPr b="1" lang="ru-RU" sz="3400" spc="-1" strike="noStrike">
                <a:solidFill>
                  <a:srgbClr val="f9f9f9"/>
                </a:solidFill>
                <a:latin typeface="Constantia"/>
              </a:rPr>
              <a:t> </a:t>
            </a:r>
            <a:br>
              <a:rPr sz="3400"/>
            </a:br>
            <a:endParaRPr b="0" lang="en-US" sz="34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71640" y="3141720"/>
            <a:ext cx="728352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рок обобщающего повторения по материку «Африка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1619280" y="4221000"/>
            <a:ext cx="6708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.П.Миргородская, учитель географии, МАОУ лицей №8 г. Томска, высшая квалификационная категория;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дентификатор 210-253-218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.Б Плеханова, учитель географии, МАОУ лицей №8 г. Томска, высшая квалификационная категория;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дентификатор 210-252-493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57120" y="9997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 основном вся посуда африканской семь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«растёт» возле дома. Плоды растени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еревязывают в нескольких местах 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ыращивают до нужных размеров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Образуются разные бутылки кувшины, миски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и другая посуда. Какое это растение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Кокосовая пальм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апирус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Баобаб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Тыкв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Кактус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262080" y="-6480"/>
            <a:ext cx="84740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57120" y="9997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 основном вся посуда африканской семь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«растёт» возле дома. Плоды растени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еревязывают в нескольких местах 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ыращивают до нужных размеров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Образуются разные бутылки кувшины, миски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и другая посуда. Какое это растение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Кокосовая пальм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апирус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Баобаб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Тыкв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Кактус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Заголовок 1" descr=""/>
          <p:cNvPicPr/>
          <p:nvPr/>
        </p:nvPicPr>
        <p:blipFill>
          <a:blip r:embed="rId1"/>
          <a:stretch/>
        </p:blipFill>
        <p:spPr>
          <a:xfrm>
            <a:off x="262080" y="-6480"/>
            <a:ext cx="8474040" cy="1158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C:\Users\днс\Downloads\презент\tikva_4.jpg"/>
          <p:cNvPicPr/>
          <p:nvPr/>
        </p:nvPicPr>
        <p:blipFill>
          <a:blip r:embed="rId2"/>
          <a:stretch/>
        </p:blipFill>
        <p:spPr>
          <a:xfrm>
            <a:off x="6659640" y="3573360"/>
            <a:ext cx="1895400" cy="2843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275px-Courge_encore_verte"/>
          <p:cNvPicPr/>
          <p:nvPr/>
        </p:nvPicPr>
        <p:blipFill>
          <a:blip r:embed="rId3"/>
          <a:stretch/>
        </p:blipFill>
        <p:spPr>
          <a:xfrm>
            <a:off x="3708360" y="4149720"/>
            <a:ext cx="316872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то из этих знаменитых исследователей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Африки исследовал верховья Нила и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определил, что он вытекает из озера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иктория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189000" y="-6480"/>
            <a:ext cx="8474040" cy="1158840"/>
          </a:xfrm>
          <a:prstGeom prst="rect">
            <a:avLst/>
          </a:prstGeom>
          <a:ln w="0">
            <a:noFill/>
          </a:ln>
        </p:spPr>
      </p:pic>
      <p:sp>
        <p:nvSpPr>
          <p:cNvPr id="218" name="TextBox 3"/>
          <p:cNvSpPr/>
          <p:nvPr/>
        </p:nvSpPr>
        <p:spPr>
          <a:xfrm>
            <a:off x="-167040" y="3714840"/>
            <a:ext cx="4556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авид Ливингстон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Мортон Стэнл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жон Спик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иколай Вавилов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асилий Юнкер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9" name="Picture 2" descr="C:\Users\днс\Downloads\презент\нил.jpg"/>
          <p:cNvPicPr/>
          <p:nvPr/>
        </p:nvPicPr>
        <p:blipFill>
          <a:blip r:embed="rId2"/>
          <a:stretch/>
        </p:blipFill>
        <p:spPr>
          <a:xfrm>
            <a:off x="4067280" y="2924280"/>
            <a:ext cx="477360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то из этих знаменитых исследователей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Африки исследовал верховья Нила и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определил, что он вытекает из озера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иктория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189000" y="-6480"/>
            <a:ext cx="8474040" cy="1158840"/>
          </a:xfrm>
          <a:prstGeom prst="rect">
            <a:avLst/>
          </a:prstGeom>
          <a:ln w="0">
            <a:noFill/>
          </a:ln>
        </p:spPr>
      </p:pic>
      <p:sp>
        <p:nvSpPr>
          <p:cNvPr id="222" name="TextBox 3"/>
          <p:cNvSpPr/>
          <p:nvPr/>
        </p:nvSpPr>
        <p:spPr>
          <a:xfrm>
            <a:off x="-167040" y="3714840"/>
            <a:ext cx="4556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авид Ливингстон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Мортон Стэнл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Джон Спик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иколай Вавилов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асилий Юнкер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3" name="Picture 8" descr="200px-ST-Speke"/>
          <p:cNvPicPr/>
          <p:nvPr/>
        </p:nvPicPr>
        <p:blipFill>
          <a:blip r:embed="rId2"/>
          <a:stretch/>
        </p:blipFill>
        <p:spPr>
          <a:xfrm>
            <a:off x="5076720" y="2781360"/>
            <a:ext cx="2570400" cy="368460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13840" y="857160"/>
            <a:ext cx="864396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 верховьях Нила встречается птица, которая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одится только в Африк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У неё вид мудреца, облысевшего от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азмышлений. Задумчивый, сутулый, мрачный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дслеповатый глаз. Большой унылый нос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кожаный мошок-торба на шее. Что это за птица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122400" y="-6480"/>
            <a:ext cx="8472240" cy="939960"/>
          </a:xfrm>
          <a:prstGeom prst="rect">
            <a:avLst/>
          </a:prstGeom>
          <a:ln w="0">
            <a:noFill/>
          </a:ln>
        </p:spPr>
      </p:pic>
      <p:sp>
        <p:nvSpPr>
          <p:cNvPr id="226" name="TextBox 4"/>
          <p:cNvSpPr/>
          <p:nvPr/>
        </p:nvSpPr>
        <p:spPr>
          <a:xfrm>
            <a:off x="467280" y="4214880"/>
            <a:ext cx="3283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екретарь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траус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тица-носорог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арабу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Фламинго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213840" y="857160"/>
            <a:ext cx="864396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 верховьях Нила встречается птица, которая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одится только в Африк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У неё вид мудреца, облысевшего от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азмышлений. Задумчивый, сутулый, мрачный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дслеповатый глаз. Большой унылый нос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кожаный мошок-торба на шее. Что это за птица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122400" y="-6480"/>
            <a:ext cx="8472240" cy="939960"/>
          </a:xfrm>
          <a:prstGeom prst="rect">
            <a:avLst/>
          </a:prstGeom>
          <a:ln w="0">
            <a:noFill/>
          </a:ln>
        </p:spPr>
      </p:pic>
      <p:sp>
        <p:nvSpPr>
          <p:cNvPr id="229" name="TextBox 4"/>
          <p:cNvSpPr/>
          <p:nvPr/>
        </p:nvSpPr>
        <p:spPr>
          <a:xfrm>
            <a:off x="467280" y="4214880"/>
            <a:ext cx="3283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екретарь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траус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тица-носорог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Марабу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Фламинго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0" name="Picture 6" descr="C:\Users\днс\Downloads\презент\906.jpg"/>
          <p:cNvPicPr/>
          <p:nvPr/>
        </p:nvPicPr>
        <p:blipFill>
          <a:blip r:embed="rId2"/>
          <a:stretch/>
        </p:blipFill>
        <p:spPr>
          <a:xfrm>
            <a:off x="5219640" y="3860640"/>
            <a:ext cx="2024280" cy="27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99972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ынешнее озеро- это остатки гигантского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озёрного водоём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оды в нём и пресные и солоноватые…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О каком озере идёт речь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иктория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Танганьик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ьяс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Чад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Тан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262080" y="-6480"/>
            <a:ext cx="8474040" cy="939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C:\Users\днс\Downloads\презент\чад.jpg"/>
          <p:cNvPicPr/>
          <p:nvPr/>
        </p:nvPicPr>
        <p:blipFill>
          <a:blip r:embed="rId2"/>
          <a:stretch/>
        </p:blipFill>
        <p:spPr>
          <a:xfrm>
            <a:off x="4786200" y="3357720"/>
            <a:ext cx="39657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99972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ынешнее озеро- это остатки гигантского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озёрного водоём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оды в нём и пресные и солоноватые…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О каком озере идёт речь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иктория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Танганьик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ьяс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Чад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Тан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262080" y="-6480"/>
            <a:ext cx="8474040" cy="939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C:\Users\днс\Downloads\презент\чад.jpg"/>
          <p:cNvPicPr/>
          <p:nvPr/>
        </p:nvPicPr>
        <p:blipFill>
          <a:blip r:embed="rId2"/>
          <a:stretch/>
        </p:blipFill>
        <p:spPr>
          <a:xfrm>
            <a:off x="4786200" y="3357720"/>
            <a:ext cx="39657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42560" y="928800"/>
            <a:ext cx="90010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 поездках  по  Восточной  Африке  человека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опровождает  три  цвета: ярко-голубой -  неба;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зеленый – растительности; красный – земл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Жители этой части Африки очень любят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расный цвет. Мужчины обмазывают волосы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расной глиной и ей же раскрашивают своё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тело. Из красной материи шьют себе почти всю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одежду. Что это за народ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262080" y="-6480"/>
            <a:ext cx="847404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713880" y="2214360"/>
            <a:ext cx="34290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игме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498960" indent="-49896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Маса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498960" indent="-49896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Бушмены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498960" indent="-49896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Берберы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498960" indent="-49896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Африканеры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498960" indent="-49896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0" name="Заголовок 2" descr=""/>
          <p:cNvPicPr/>
          <p:nvPr/>
        </p:nvPicPr>
        <p:blipFill>
          <a:blip r:embed="rId1"/>
          <a:stretch/>
        </p:blipFill>
        <p:spPr>
          <a:xfrm>
            <a:off x="122400" y="-291960"/>
            <a:ext cx="8472240" cy="12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9f9f9"/>
                </a:solidFill>
                <a:latin typeface="Arial"/>
              </a:rPr>
              <a:t>	</a:t>
            </a:r>
            <a:r>
              <a:rPr b="1" lang="ru-RU" sz="4200" spc="-1" strike="noStrike">
                <a:solidFill>
                  <a:srgbClr val="f9f9f9"/>
                </a:solidFill>
                <a:latin typeface="Arial"/>
              </a:rPr>
              <a:t>Цели: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овторить и закрепить знания о природных компонентах Африки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развитие творчества, активизация познавательной деятельности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ивитие интереса к предмету, формирование навыков работы с дополнительной литературой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713880" y="2214360"/>
            <a:ext cx="34290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игме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498960" indent="-49896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Маса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498960" indent="-49896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Бушмены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498960" indent="-49896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Берберы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498960" indent="-49896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Африканеры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498960" indent="-49896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2" name="Заголовок 2" descr=""/>
          <p:cNvPicPr/>
          <p:nvPr/>
        </p:nvPicPr>
        <p:blipFill>
          <a:blip r:embed="rId1"/>
          <a:stretch/>
        </p:blipFill>
        <p:spPr>
          <a:xfrm>
            <a:off x="122400" y="-291960"/>
            <a:ext cx="8472240" cy="1230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C:\Users\днс\Desktop\masai1.jpg"/>
          <p:cNvPicPr/>
          <p:nvPr/>
        </p:nvPicPr>
        <p:blipFill>
          <a:blip r:embed="rId2"/>
          <a:stretch/>
        </p:blipFill>
        <p:spPr>
          <a:xfrm>
            <a:off x="3971880" y="1928880"/>
            <a:ext cx="4738680" cy="32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5720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амая большая по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численности населения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трана Африки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Алжир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Эфиопия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игерия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ЮАР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игер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219240" y="66600"/>
            <a:ext cx="8474040" cy="1152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C:\Users\днс\Downloads\презент\afr_pol.jpg"/>
          <p:cNvPicPr/>
          <p:nvPr/>
        </p:nvPicPr>
        <p:blipFill>
          <a:blip r:embed="rId2"/>
          <a:stretch/>
        </p:blipFill>
        <p:spPr>
          <a:xfrm>
            <a:off x="4716360" y="1125360"/>
            <a:ext cx="4121280" cy="50403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амая большая по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численности населения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трана Африки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Алжир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Эфиопия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Нигерия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ЮАР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игер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219240" y="66600"/>
            <a:ext cx="8474040" cy="1152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C:\Users\днс\Downloads\презент\afr_pol.jpg"/>
          <p:cNvPicPr/>
          <p:nvPr/>
        </p:nvPicPr>
        <p:blipFill>
          <a:blip r:embed="rId2"/>
          <a:stretch/>
        </p:blipFill>
        <p:spPr>
          <a:xfrm>
            <a:off x="4716360" y="1268280"/>
            <a:ext cx="4140360" cy="50641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21420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О какой реке идёт речь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Берега  этой  реки  заросли  лесами  из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исключительно  разнообразных  по составу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ревесных  пород. Среди  них  растут деревья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  очень  ценной  древесино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ил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игер.              </a:t>
            </a:r>
            <a:r>
              <a:rPr b="0" lang="ru-RU" sz="3200" spc="-1" strike="noStrike">
                <a:solidFill>
                  <a:srgbClr val="f3a447"/>
                </a:solidFill>
                <a:latin typeface="Constantia"/>
              </a:rPr>
              <a:t>4.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онго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Замбези.         </a:t>
            </a:r>
            <a:r>
              <a:rPr b="0" lang="ru-RU" sz="3200" spc="-1" strike="noStrike">
                <a:solidFill>
                  <a:srgbClr val="ffc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f3a447"/>
                </a:solidFill>
                <a:latin typeface="Constantia"/>
              </a:rPr>
              <a:t>5.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Оранжевая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49320" y="-433440"/>
            <a:ext cx="8472240" cy="1231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C:\Users\днс\Downloads\презент\kongomoryaki2.jpg"/>
          <p:cNvPicPr/>
          <p:nvPr/>
        </p:nvPicPr>
        <p:blipFill>
          <a:blip r:embed="rId2"/>
          <a:stretch/>
        </p:blipFill>
        <p:spPr>
          <a:xfrm>
            <a:off x="5724360" y="3397320"/>
            <a:ext cx="324036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1420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О какой реке идёт речь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Берега  этой  реки  заросли  лесами  из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исключительно  разнообразных  по составу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ревесных  пород. Среди  них  растут деревья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  очень  ценной  древесино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ил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игер.              </a:t>
            </a:r>
            <a:r>
              <a:rPr b="0" lang="ru-RU" sz="3200" spc="-1" strike="noStrike">
                <a:solidFill>
                  <a:srgbClr val="f3a447"/>
                </a:solidFill>
                <a:latin typeface="Constantia"/>
              </a:rPr>
              <a:t>4.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 Конго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Замбези.         </a:t>
            </a:r>
            <a:r>
              <a:rPr b="0" lang="ru-RU" sz="3200" spc="-1" strike="noStrike">
                <a:solidFill>
                  <a:srgbClr val="ffc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f3a447"/>
                </a:solidFill>
                <a:latin typeface="Constantia"/>
              </a:rPr>
              <a:t>5.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Оранжевая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49320" y="-433440"/>
            <a:ext cx="8472240" cy="1231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C:\Users\днс\Downloads\презент\kongomoryaki2.jpg"/>
          <p:cNvPicPr/>
          <p:nvPr/>
        </p:nvPicPr>
        <p:blipFill>
          <a:blip r:embed="rId2"/>
          <a:stretch/>
        </p:blipFill>
        <p:spPr>
          <a:xfrm>
            <a:off x="5724360" y="3397320"/>
            <a:ext cx="341964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213840" y="1357200"/>
            <a:ext cx="88585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 Африке есть животные образующие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«большую пятёрку», это большие шкуры,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большие рога, большие трофеи, большая слав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имб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Тембо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ибоко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Твиг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Мбого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азовите их!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7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Содержимое 3" descr="lion.jpg"/>
          <p:cNvPicPr/>
          <p:nvPr/>
        </p:nvPicPr>
        <p:blipFill>
          <a:blip r:embed="rId1"/>
          <a:stretch/>
        </p:blipFill>
        <p:spPr>
          <a:xfrm>
            <a:off x="1000080" y="1428840"/>
            <a:ext cx="7529400" cy="5019480"/>
          </a:xfrm>
          <a:prstGeom prst="rect">
            <a:avLst/>
          </a:prstGeom>
          <a:ln w="0">
            <a:noFill/>
          </a:ln>
        </p:spPr>
      </p:pic>
      <p:pic>
        <p:nvPicPr>
          <p:cNvPr id="259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Содержимое 3" descr="an_slon.jpg"/>
          <p:cNvPicPr/>
          <p:nvPr/>
        </p:nvPicPr>
        <p:blipFill>
          <a:blip r:embed="rId1"/>
          <a:stretch/>
        </p:blipFill>
        <p:spPr>
          <a:xfrm>
            <a:off x="1928880" y="1500120"/>
            <a:ext cx="5191200" cy="489420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9f9f9"/>
                </a:solidFill>
                <a:latin typeface="Arial"/>
              </a:rPr>
              <a:t>Тембо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Содержимое 3" descr="giraffe_01.jpg"/>
          <p:cNvPicPr/>
          <p:nvPr/>
        </p:nvPicPr>
        <p:blipFill>
          <a:blip r:embed="rId1"/>
          <a:stretch/>
        </p:blipFill>
        <p:spPr>
          <a:xfrm>
            <a:off x="2786040" y="1571760"/>
            <a:ext cx="3148200" cy="472284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9f9f9"/>
                </a:solidFill>
                <a:latin typeface="Arial"/>
              </a:rPr>
              <a:t>Твига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Содержимое 3" descr="бегемот.jpg"/>
          <p:cNvPicPr/>
          <p:nvPr/>
        </p:nvPicPr>
        <p:blipFill>
          <a:blip r:embed="rId1"/>
          <a:stretch/>
        </p:blipFill>
        <p:spPr>
          <a:xfrm>
            <a:off x="1357200" y="1571760"/>
            <a:ext cx="6453360" cy="48402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9f9f9"/>
                </a:solidFill>
                <a:latin typeface="Arial"/>
              </a:rPr>
              <a:t>Кибоко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23"/>
          <p:cNvSpPr/>
          <p:nvPr/>
        </p:nvSpPr>
        <p:spPr>
          <a:xfrm>
            <a:off x="1763640" y="1700280"/>
            <a:ext cx="5616720" cy="360036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3" name="Picture 24" descr="africa_003"/>
          <p:cNvPicPr/>
          <p:nvPr/>
        </p:nvPicPr>
        <p:blipFill>
          <a:blip r:embed="rId2"/>
          <a:stretch/>
        </p:blipFill>
        <p:spPr>
          <a:xfrm rot="21121200">
            <a:off x="2700000" y="259920"/>
            <a:ext cx="1967040" cy="1573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E:\МАМА\АСПИРАНТУРА\ДЛЯ КАФЕДРЫ\Лекции\БИОЭКОЛОГИЯ\eaf629f1fbb3.jpg"/>
          <p:cNvPicPr/>
          <p:nvPr/>
        </p:nvPicPr>
        <p:blipFill>
          <a:blip r:embed="rId3"/>
          <a:stretch/>
        </p:blipFill>
        <p:spPr>
          <a:xfrm>
            <a:off x="7451640" y="1268280"/>
            <a:ext cx="1489320" cy="2232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bigwaterfall"/>
          <p:cNvPicPr/>
          <p:nvPr/>
        </p:nvPicPr>
        <p:blipFill>
          <a:blip r:embed="rId4"/>
          <a:stretch/>
        </p:blipFill>
        <p:spPr>
          <a:xfrm rot="937200">
            <a:off x="1907640" y="4581000"/>
            <a:ext cx="2254320" cy="1803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BEACH22"/>
          <p:cNvPicPr/>
          <p:nvPr/>
        </p:nvPicPr>
        <p:blipFill>
          <a:blip r:embed="rId5"/>
          <a:stretch/>
        </p:blipFill>
        <p:spPr>
          <a:xfrm rot="20836200">
            <a:off x="6300720" y="458136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1547280" y="1557360"/>
            <a:ext cx="575964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«Там мыс Игольный, мыс Альмади,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Сухие русла рек  там, вади,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Там реки быстро протекают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И в разные моря впадают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Там есть вулкан Килиманджаро,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Наделал много он пожаров…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8" name="Picture 4" descr="Gambia_kora_havard"/>
          <p:cNvPicPr/>
          <p:nvPr/>
        </p:nvPicPr>
        <p:blipFill>
          <a:blip r:embed="rId6"/>
          <a:stretch/>
        </p:blipFill>
        <p:spPr>
          <a:xfrm>
            <a:off x="324000" y="3860640"/>
            <a:ext cx="1617480" cy="2426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213-1024"/>
          <p:cNvPicPr/>
          <p:nvPr/>
        </p:nvPicPr>
        <p:blipFill>
          <a:blip r:embed="rId7"/>
          <a:stretch/>
        </p:blipFill>
        <p:spPr>
          <a:xfrm>
            <a:off x="4140360" y="4941720"/>
            <a:ext cx="1979280" cy="1484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3" descr="Diagonal Sand"/>
          <p:cNvPicPr/>
          <p:nvPr/>
        </p:nvPicPr>
        <p:blipFill>
          <a:blip r:embed="rId8"/>
          <a:stretch/>
        </p:blipFill>
        <p:spPr>
          <a:xfrm rot="671400">
            <a:off x="5866920" y="620640"/>
            <a:ext cx="2087640" cy="1384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E:\МАМА\АСПИРАНТУРА\ДЛЯ КАФЕДРЫ\Лекции\БИОЭКОЛОГИЯ\lemurs1.jpg"/>
          <p:cNvPicPr/>
          <p:nvPr/>
        </p:nvPicPr>
        <p:blipFill>
          <a:blip r:embed="rId9"/>
          <a:stretch/>
        </p:blipFill>
        <p:spPr>
          <a:xfrm>
            <a:off x="7093080" y="3141720"/>
            <a:ext cx="1908000" cy="1431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Пьяная обезьяна"/>
          <p:cNvPicPr/>
          <p:nvPr/>
        </p:nvPicPr>
        <p:blipFill>
          <a:blip r:embed="rId10"/>
          <a:stretch/>
        </p:blipFill>
        <p:spPr>
          <a:xfrm rot="21459600">
            <a:off x="1547640" y="5589720"/>
            <a:ext cx="1440000" cy="982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E:\МАМА\АСПИРАНТУРА\ДЛЯ КАФЕДРЫ\Лекции\БИОЭКОЛОГИЯ\69.jpg"/>
          <p:cNvPicPr/>
          <p:nvPr/>
        </p:nvPicPr>
        <p:blipFill>
          <a:blip r:embed="rId11"/>
          <a:stretch/>
        </p:blipFill>
        <p:spPr>
          <a:xfrm>
            <a:off x="7596360" y="260280"/>
            <a:ext cx="1168200" cy="1544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E:\МАМА\АСПИРАНТУРА\ДЛЯ КАФЕДРЫ\Лекции\БИОЭКОЛОГИЯ\i.jpeg"/>
          <p:cNvPicPr/>
          <p:nvPr/>
        </p:nvPicPr>
        <p:blipFill>
          <a:blip r:embed="rId12"/>
          <a:stretch/>
        </p:blipFill>
        <p:spPr>
          <a:xfrm>
            <a:off x="4643280" y="333360"/>
            <a:ext cx="1578240" cy="1177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9" descr="0_1c968_7f06f13_XL"/>
          <p:cNvPicPr/>
          <p:nvPr/>
        </p:nvPicPr>
        <p:blipFill>
          <a:blip r:embed="rId13"/>
          <a:stretch/>
        </p:blipFill>
        <p:spPr>
          <a:xfrm>
            <a:off x="5867280" y="5300640"/>
            <a:ext cx="1055880" cy="1407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1" descr="1"/>
          <p:cNvPicPr/>
          <p:nvPr/>
        </p:nvPicPr>
        <p:blipFill>
          <a:blip r:embed="rId14"/>
          <a:stretch/>
        </p:blipFill>
        <p:spPr>
          <a:xfrm>
            <a:off x="324000" y="260280"/>
            <a:ext cx="2447640" cy="1190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E:\МАМА\АСПИРАНТУРА\ДЛЯ КАФЕДРЫ\Лекции\БИОЭКОЛОГИЯ\Macaques_Grooming.jpg"/>
          <p:cNvPicPr/>
          <p:nvPr/>
        </p:nvPicPr>
        <p:blipFill>
          <a:blip r:embed="rId15"/>
          <a:stretch/>
        </p:blipFill>
        <p:spPr>
          <a:xfrm rot="907200">
            <a:off x="394920" y="1341000"/>
            <a:ext cx="1512720" cy="1130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2" descr="elephants_014_resize"/>
          <p:cNvPicPr/>
          <p:nvPr/>
        </p:nvPicPr>
        <p:blipFill>
          <a:blip r:embed="rId16"/>
          <a:stretch/>
        </p:blipFill>
        <p:spPr>
          <a:xfrm>
            <a:off x="539640" y="2492280"/>
            <a:ext cx="1727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Содержимое 3" descr="буйвол.jpg"/>
          <p:cNvPicPr/>
          <p:nvPr/>
        </p:nvPicPr>
        <p:blipFill>
          <a:blip r:embed="rId1"/>
          <a:stretch/>
        </p:blipFill>
        <p:spPr>
          <a:xfrm>
            <a:off x="1552680" y="1617840"/>
            <a:ext cx="5948280" cy="474012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9f9f9"/>
                </a:solidFill>
                <a:latin typeface="Arial"/>
              </a:rPr>
              <a:t>Мбого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635280" y="1447560"/>
            <a:ext cx="50515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667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  этой корзинке  находятся плоды,    растущие  в  Африке.</a:t>
            </a:r>
            <a:endParaRPr b="0" lang="en-US" sz="3200" spc="-1" strike="noStrike">
              <a:solidFill>
                <a:srgbClr val="fefac9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ыберите  плод,  растущий  на  дереве,  день которого  отмечается  в  арабских  странах   15 сентября»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9f9f9"/>
                </a:solidFill>
                <a:latin typeface="Bookman Old Style"/>
              </a:rPr>
              <a:t>	</a:t>
            </a:r>
            <a:r>
              <a:rPr b="0" lang="ru-RU" sz="4200" spc="-1" strike="noStrike">
                <a:solidFill>
                  <a:srgbClr val="f9f9f9"/>
                </a:solidFill>
                <a:latin typeface="Bookman Old Style"/>
              </a:rPr>
              <a:t>Вопрос 11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70" name="Picture 6" descr="Копия c1f"/>
          <p:cNvPicPr/>
          <p:nvPr/>
        </p:nvPicPr>
        <p:blipFill>
          <a:blip r:embed="rId1"/>
          <a:stretch/>
        </p:blipFill>
        <p:spPr>
          <a:xfrm>
            <a:off x="826920" y="1413000"/>
            <a:ext cx="2487960" cy="50403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7" descr="b (7)_300x225_pc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6912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8"/>
          <p:cNvSpPr/>
          <p:nvPr/>
        </p:nvSpPr>
        <p:spPr>
          <a:xfrm>
            <a:off x="826920" y="5273640"/>
            <a:ext cx="8087040" cy="1584360"/>
          </a:xfrm>
          <a:prstGeom prst="horizontalScroll">
            <a:avLst>
              <a:gd name="adj" fmla="val 11523"/>
            </a:avLst>
          </a:prstGeom>
          <a:solidFill>
            <a:srgbClr val="6a714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питаны  выбирают  плод,  тем  самым  давая  ответ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бравшие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финик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лучают  жетон  за  правильный  ответ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9f9f9"/>
                </a:solidFill>
                <a:latin typeface="Arial"/>
              </a:rPr>
              <a:t>Выиграла команда «_______»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9f9f9"/>
                </a:solidFill>
                <a:latin typeface="Arial"/>
              </a:rPr>
              <a:t>Литература.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езруков А., Пивоварова Г. Занимательная география: Книга для учащихся, учителей, родителей. – М.: АСТ-ПРЕСС, 2001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ладков Н.И. Миомбо. Очерки. Л., «Детская литература» 1976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 материкам и океанам: Африка, Австралия, Антарктида, Индийский и Тихий океаны; Книга для чтения по географии материков и океанов. Сост. Н.П.Смирнова, А.А.Шибанова. М.: Просвещение, 1988 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u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ikipedia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u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Содержимое 4" descr="Ravenala_madagascariensis.jpg"/>
          <p:cNvPicPr/>
          <p:nvPr/>
        </p:nvPicPr>
        <p:blipFill>
          <a:blip r:embed="rId1"/>
          <a:stretch/>
        </p:blipFill>
        <p:spPr>
          <a:xfrm>
            <a:off x="5429160" y="1428840"/>
            <a:ext cx="3138480" cy="4572000"/>
          </a:xfrm>
          <a:prstGeom prst="rect">
            <a:avLst/>
          </a:prstGeom>
          <a:ln w="0">
            <a:noFill/>
          </a:ln>
        </p:spPr>
      </p:pic>
      <p:pic>
        <p:nvPicPr>
          <p:cNvPr id="200" name="Заголовок 1" descr=""/>
          <p:cNvPicPr/>
          <p:nvPr/>
        </p:nvPicPr>
        <p:blipFill>
          <a:blip r:embed="rId2"/>
          <a:stretch/>
        </p:blipFill>
        <p:spPr>
          <a:xfrm>
            <a:off x="298440" y="146160"/>
            <a:ext cx="8394840" cy="1231920"/>
          </a:xfrm>
          <a:prstGeom prst="rect">
            <a:avLst/>
          </a:prstGeom>
          <a:ln w="0">
            <a:noFill/>
          </a:ln>
        </p:spPr>
      </p:pic>
      <p:sp>
        <p:nvSpPr>
          <p:cNvPr id="201" name="TextBox 5"/>
          <p:cNvSpPr/>
          <p:nvPr/>
        </p:nvSpPr>
        <p:spPr>
          <a:xfrm>
            <a:off x="797760" y="2862360"/>
            <a:ext cx="8334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ельвичия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50000"/>
              </a:lnSpc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ейб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50000"/>
              </a:lnSpc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Финиковая пальм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50000"/>
              </a:lnSpc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Банановое дерево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50000"/>
              </a:lnSpc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Равенала(дерево путешественников)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Содержимое 4" descr="Ravenala_madagascariensis.jpg"/>
          <p:cNvPicPr/>
          <p:nvPr/>
        </p:nvPicPr>
        <p:blipFill>
          <a:blip r:embed="rId1"/>
          <a:stretch/>
        </p:blipFill>
        <p:spPr>
          <a:xfrm>
            <a:off x="5429160" y="1428840"/>
            <a:ext cx="3138480" cy="4572000"/>
          </a:xfrm>
          <a:prstGeom prst="rect">
            <a:avLst/>
          </a:prstGeom>
          <a:ln w="0">
            <a:noFill/>
          </a:ln>
        </p:spPr>
      </p:pic>
      <p:pic>
        <p:nvPicPr>
          <p:cNvPr id="203" name="Заголовок 1" descr=""/>
          <p:cNvPicPr/>
          <p:nvPr/>
        </p:nvPicPr>
        <p:blipFill>
          <a:blip r:embed="rId2"/>
          <a:stretch/>
        </p:blipFill>
        <p:spPr>
          <a:xfrm>
            <a:off x="298440" y="146160"/>
            <a:ext cx="8394840" cy="1231920"/>
          </a:xfrm>
          <a:prstGeom prst="rect">
            <a:avLst/>
          </a:prstGeom>
          <a:ln w="0">
            <a:noFill/>
          </a:ln>
        </p:spPr>
      </p:pic>
      <p:sp>
        <p:nvSpPr>
          <p:cNvPr id="204" name="TextBox 5"/>
          <p:cNvSpPr/>
          <p:nvPr/>
        </p:nvSpPr>
        <p:spPr>
          <a:xfrm>
            <a:off x="798480" y="2862360"/>
            <a:ext cx="8334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ельвичия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50000"/>
              </a:lnSpc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ейб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50000"/>
              </a:lnSpc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Финиковая пальм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50000"/>
              </a:lnSpc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Банановое дерево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50000"/>
              </a:lnSpc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Равенала(дерево путешественников)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Содержимое 3" descr="kalahari_e02_00.jpg"/>
          <p:cNvPicPr/>
          <p:nvPr/>
        </p:nvPicPr>
        <p:blipFill>
          <a:blip r:embed="rId1"/>
          <a:stretch/>
        </p:blipFill>
        <p:spPr>
          <a:xfrm>
            <a:off x="1165320" y="1523880"/>
            <a:ext cx="6692760" cy="4476960"/>
          </a:xfrm>
          <a:prstGeom prst="rect">
            <a:avLst/>
          </a:prstGeom>
          <a:ln w="0">
            <a:noFill/>
          </a:ln>
        </p:spPr>
      </p:pic>
      <p:pic>
        <p:nvPicPr>
          <p:cNvPr id="206" name="Заголовок 1" descr=""/>
          <p:cNvPicPr/>
          <p:nvPr/>
        </p:nvPicPr>
        <p:blipFill>
          <a:blip r:embed="rId2"/>
          <a:stretch/>
        </p:blipFill>
        <p:spPr>
          <a:xfrm>
            <a:off x="189000" y="-6480"/>
            <a:ext cx="84740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 этой пустыне температура воздуха летом достигает 35-4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Constantia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чва накаляется так сильно, что жители не могут долго стоять на одном месте без обуви. В полуденное время маленькие антилопы обжигают ноги в раскалённом песк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Это не самое сухое место в Африке. Здесь выпадает от 1000мм до 250мм осадков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Здесь, между 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Constantia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и 3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Constantia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ю.ш. деревья растут редко, и лишь в отдельных местах образуются редколесья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Богатство животного мира от насекомых, до крупных животных, придаёт пространству этой пустыни своеобразный отпечаток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028680" y="571320"/>
            <a:ext cx="3328920" cy="55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Намиб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Калахари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Сахара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Ливийская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Нубийская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028680" y="571320"/>
            <a:ext cx="3328920" cy="55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Намиб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nstantia"/>
              </a:rPr>
              <a:t>Калахари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Сахара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Ливийская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Нубийская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06:25:17Z</dcterms:created>
  <dc:creator>Биняковский</dc:creator>
  <dc:description/>
  <dc:language>en-US</dc:language>
  <cp:lastModifiedBy>USER</cp:lastModifiedBy>
  <dcterms:modified xsi:type="dcterms:W3CDTF">2013-03-03T12:15:00Z</dcterms:modified>
  <cp:revision>39</cp:revision>
  <dc:subject/>
  <dc:title>ИГРА «ЗНАТОКИ АФРИКИ»</dc:title>
</cp:coreProperties>
</file>