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2.jpeg" ContentType="image/jpeg"/>
  <Override PartName="/ppt/media/image6.jpeg" ContentType="image/jpe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7FC-A249-45C9-A784-8C55FBA16D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ECBA-A4FB-4C42-ACD7-0B331EA758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85B0-3ADB-4819-8A6D-C97713AC8E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726-5DAC-49A4-974B-FDFA4C9717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389B-D761-464C-8A43-092A0C0CC0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97C2-539A-4CC9-AD28-A7958784BE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14B1-472A-4792-8224-B768ADED2B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C1C-BA92-445A-ABA7-3733989159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3722-AB7F-4650-80A4-EBEE7566E0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9A6-50A9-4DFC-9F10-8F8BDFB6699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7D4-79EF-4712-B80F-C801F45145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A1DB-F9D2-4C61-AAA9-2E4408DD76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B967-8ACE-4D6D-A811-B650FB89C4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92C-F9F3-4CBE-8769-B4CDC48611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B665-1350-494C-B682-8BB770320F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4FE5-FF2C-4FEC-A985-9C9552AD44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CDF-A27B-461A-A0A4-A4F9E0EA68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FE86-C01C-4221-98D8-CE60A22B75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241F-ED15-40B4-907E-6D2D11F7FD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F471-2F31-41A6-82E3-706F3B4E87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1A1F-DD43-44ED-8A42-BF61CAC334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4CD7-06B7-4000-B50A-9C5D31E708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92C2-418C-40C3-86AD-02FB16DCDD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EA34-E77A-4A6E-A693-9362859337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721-6C69-46C6-B600-EDBFA8952FC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C9BF-415A-43E4-A71C-49680CA13C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367D-62EE-42A8-87E8-139CCAE45F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BA4-772C-4D4B-8926-3B0224F193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D3D-A9F9-4AE9-B50A-B514118651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CE9-27AC-4F4D-813B-D82997F915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F1BE-C1D2-41E4-B6C1-B0A7CF9927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5D5-E2D1-4325-BD06-10B2B59171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6623-1858-4133-A449-13C8E1E8A1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2447-DFF4-49E5-8D3D-847C719BAB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E2C2-8774-4EF3-B62B-0EDA96D610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1D3-41BD-426C-8B91-F1A0C580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390-AAB0-4ECC-B630-630CCC40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5E1-4E6F-4F72-BE9D-109B7B8B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770-6775-464C-B7EF-5D7D8D1D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197CE-B9C8-4D1C-91EE-776C9D18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0BC0C-35EF-4B8D-85FD-500821C2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F1FA8-C120-49B2-9D45-059F43B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F0E8C-8BCE-460E-AA21-A0428D41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5D8E-25F6-49DB-8D5E-6F5EBF99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F5809-CCF2-4CE7-930B-55C2C94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5135E-4194-416F-8622-01045C6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E35-5E3D-46C0-8623-02C3A21E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F853B-9224-47CD-A36F-1715E81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476AD-F09A-4378-A6D4-C9D1E1A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A31DB-7216-46A9-91AD-C9B84C1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397D0-76D2-4CE6-803E-91694674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97F52-760F-4D6D-A952-5D29C3B3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65BA-947C-432A-806B-CDEEFD0E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DB03-0392-45B0-ACC3-59AB16B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8DC9-BE65-4711-9A7F-DD84607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E476-DB27-499C-9D1B-CBA8D761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A8B0-7839-420A-AC6E-BE253162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343-2221-4F42-BF1A-19809233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DFA0-AE70-4AE9-9CF3-B67432F9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151F-B664-44F5-9C9A-079D4B6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40AE-8080-4E4B-B53A-22F013B8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689C-CB18-4FF4-BE1A-6EA7417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CAB7-D571-4587-AB02-5ABE287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0248-C32D-41EA-9CDB-A841B4D8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A5FEC-9C60-474D-8E70-2840B755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3E5CF-531F-4044-AEC1-EECE4DB4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8A389-006C-4E34-BD4A-850FDEB8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05002-5391-48B3-AD92-B3AA819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E1C-2E56-47F5-A3AA-5C0AD50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692DC-B8B6-493F-AE1C-CF40DB93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7E7EA-6554-403A-A8FE-C90C28E7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7F96F-6B07-429D-A574-721F8123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A4C5CE-7D96-4019-9B25-7BD2A4D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C8DC6-1492-449D-B9C8-3F5CF83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EA7B9-10DB-4989-BE79-A700FBFF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83FC3-F6FA-4CA9-8712-C0620E7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49EDC-8E90-4730-A55C-04382076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7824D-21BF-44FC-BCDD-0C8DA93D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86F-3300-4FD6-BF3F-5EF9DA6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D2B-8BC3-4427-B23B-3DA2780C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5D2-D9AD-4033-9868-1A5CE26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BEA-1A3A-4806-99DE-D0D484E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303-25E4-4C45-A312-D3D5A8F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0519-0F76-4C4B-940C-DE62E006D90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1C67-844C-4775-8932-B30A8DD184C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8F6C-9AB1-4E19-944E-A0D36CC6B80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9FFE-11AD-4A0D-939B-A0A123C0108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6756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9f9f9"/>
                </a:solidFill>
                <a:latin typeface="Arial"/>
              </a:rPr>
              <a:t>«Чудо – Африка!»</a:t>
            </a:r>
            <a:r>
              <a:rPr b="1" lang="ru-RU" sz="3400" spc="-1" strike="noStrike">
                <a:solidFill>
                  <a:srgbClr val="f9f9f9"/>
                </a:solidFill>
                <a:latin typeface="Constanti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640" y="3141720"/>
            <a:ext cx="7283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 обобщающего повторения по материку «Африк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619280" y="4221000"/>
            <a:ext cx="67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П.Миргородская, учитель географии, МАОУ лицей №8 г. Томска, высшая квалификационная категория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нтификатор 210-253-218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Б Плеханова, учитель географии, МАОУ лицей №8 г. Томска, высшая квалификационная категория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нтификатор 210-252-493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712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основном вся посуда африканской семь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растёт» возле дома. Плоды раст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вязывают в нескольких местах 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ращивают до нужных размеро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разуются разные бутылки кувшины, мис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 другая посуда. Какое это растение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косовая паль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апир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аобаб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ык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т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основном вся посуда африканской семь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растёт» возле дома. Плоды раст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вязывают в нескольких местах 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ращивают до нужных размеро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разуются разные бутылки кувшины, мис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 другая посуда. Какое это растение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косовая паль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апир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аобаб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Тык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т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Users\днс\Downloads\презент\tikva_4.jpg"/>
          <p:cNvPicPr/>
          <p:nvPr/>
        </p:nvPicPr>
        <p:blipFill>
          <a:blip r:embed="rId2"/>
          <a:stretch/>
        </p:blipFill>
        <p:spPr>
          <a:xfrm>
            <a:off x="6659640" y="3573360"/>
            <a:ext cx="1895400" cy="2843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275px-Courge_encore_verte"/>
          <p:cNvPicPr/>
          <p:nvPr/>
        </p:nvPicPr>
        <p:blipFill>
          <a:blip r:embed="rId3"/>
          <a:stretch/>
        </p:blipFill>
        <p:spPr>
          <a:xfrm>
            <a:off x="3708360" y="4149720"/>
            <a:ext cx="3168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из этих знаменитых исследователей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и исследовал верховья Нила 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пределил, что он вытекает из озер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-167040" y="3714840"/>
            <a:ext cx="455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вид Ливингстон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ртон Стэнл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жон Спи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колай Вавил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асилий Юнк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2" descr="C:\Users\днс\Downloads\презент\нил.jpg"/>
          <p:cNvPicPr/>
          <p:nvPr/>
        </p:nvPicPr>
        <p:blipFill>
          <a:blip r:embed="rId2"/>
          <a:stretch/>
        </p:blipFill>
        <p:spPr>
          <a:xfrm>
            <a:off x="4067280" y="2924280"/>
            <a:ext cx="47736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то из этих знаменитых исследователей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и исследовал верховья Нила 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пределил, что он вытекает из озер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-167040" y="3714840"/>
            <a:ext cx="455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вид Ливингстон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ртон Стэнл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Джон Спи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колай Вавил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асилий Юнк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8" descr="200px-ST-Speke"/>
          <p:cNvPicPr/>
          <p:nvPr/>
        </p:nvPicPr>
        <p:blipFill>
          <a:blip r:embed="rId2"/>
          <a:stretch/>
        </p:blipFill>
        <p:spPr>
          <a:xfrm>
            <a:off x="5076720" y="2781360"/>
            <a:ext cx="2570400" cy="36846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3840" y="857160"/>
            <a:ext cx="8643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верховьях Нила встречается птица, котора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дится только в Афри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 неё вид мудреца, облысевшего о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мышлений. Задумчивый, сутулый, мрачны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слеповатый глаз. Большой унылый но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жаный мошок-торба на шее. Что это за птица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8472240" cy="9399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467280" y="4214880"/>
            <a:ext cx="328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кретар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ра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тица-носоро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раб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ламинг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840" y="857160"/>
            <a:ext cx="8643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верховьях Нила встречается птица, котора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дится только в Афри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 неё вид мудреца, облысевшего о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мышлений. Задумчивый, сутулый, мрачны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слеповатый глаз. Большой унылый но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жаный мошок-торба на шее. Что это за птица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8472240" cy="939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467280" y="4214880"/>
            <a:ext cx="328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кретар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рау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тица-носоро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араб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ламинг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6" descr="C:\Users\днс\Downloads\презент\906.jpg"/>
          <p:cNvPicPr/>
          <p:nvPr/>
        </p:nvPicPr>
        <p:blipFill>
          <a:blip r:embed="rId2"/>
          <a:stretch/>
        </p:blipFill>
        <p:spPr>
          <a:xfrm>
            <a:off x="5219640" y="3860640"/>
            <a:ext cx="20242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ынешнее озеро- это остатки гигантско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зёрного водоё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ды в нём и пресные и солоноватые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м озер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ганьи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ьяс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а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93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днс\Downloads\презент\чад.jpg"/>
          <p:cNvPicPr/>
          <p:nvPr/>
        </p:nvPicPr>
        <p:blipFill>
          <a:blip r:embed="rId2"/>
          <a:stretch/>
        </p:blipFill>
        <p:spPr>
          <a:xfrm>
            <a:off x="4786200" y="3357720"/>
            <a:ext cx="3965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ынешнее озеро- это остатки гигантско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зёрного водоё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ды в нём и пресные и солоноватые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м озер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икто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ганьи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ьяс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Чад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ан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939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днс\Downloads\презент\чад.jpg"/>
          <p:cNvPicPr/>
          <p:nvPr/>
        </p:nvPicPr>
        <p:blipFill>
          <a:blip r:embed="rId2"/>
          <a:stretch/>
        </p:blipFill>
        <p:spPr>
          <a:xfrm>
            <a:off x="4786200" y="3357720"/>
            <a:ext cx="3965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2560" y="92880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поездках  по  Восточной  Африке  человека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опровождает  три  цвета: ярко-голубой -  неба;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еленый – растительности; красный – земл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Жители этой части Африки очень любя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расный цвет. Мужчины обмазывают волосы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расной глиной и ей же раскрашивают своё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ело. Из красной материи шьют себе почти всю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дежду. Что это за народ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84740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13880" y="221436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игме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аса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ушмен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б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ан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122400" y="-291960"/>
            <a:ext cx="84722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9f9f9"/>
                </a:solidFill>
                <a:latin typeface="Arial"/>
              </a:rPr>
              <a:t>	</a:t>
            </a:r>
            <a:r>
              <a:rPr b="1" lang="ru-RU" sz="4200" spc="-1" strike="noStrike">
                <a:solidFill>
                  <a:srgbClr val="f9f9f9"/>
                </a:solidFill>
                <a:latin typeface="Arial"/>
              </a:rPr>
              <a:t>Цели: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вторить и закрепить знания о природных компонентах Африки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звитие творчества, активизация познавательной деятельности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витие интереса к предмету, формирование навыков работы с дополнительной литературо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713880" y="221436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игме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Маса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ушмен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б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фрикане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122400" y="-291960"/>
            <a:ext cx="8472240" cy="1230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Users\днс\Desktop\masai1.jpg"/>
          <p:cNvPicPr/>
          <p:nvPr/>
        </p:nvPicPr>
        <p:blipFill>
          <a:blip r:embed="rId2"/>
          <a:stretch/>
        </p:blipFill>
        <p:spPr>
          <a:xfrm>
            <a:off x="3971880" y="1928880"/>
            <a:ext cx="47386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ая большая по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рана Африк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лжи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Эфиоп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ЮА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Users\днс\Downloads\презент\afr_pol.jpg"/>
          <p:cNvPicPr/>
          <p:nvPr/>
        </p:nvPicPr>
        <p:blipFill>
          <a:blip r:embed="rId2"/>
          <a:stretch/>
        </p:blipFill>
        <p:spPr>
          <a:xfrm>
            <a:off x="4716360" y="1125360"/>
            <a:ext cx="4121280" cy="5040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ая большая по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рана Африк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лжи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Эфиоп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Нигер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ЮА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1152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днс\Downloads\презент\afr_pol.jpg"/>
          <p:cNvPicPr/>
          <p:nvPr/>
        </p:nvPicPr>
        <p:blipFill>
          <a:blip r:embed="rId2"/>
          <a:stretch/>
        </p:blipFill>
        <p:spPr>
          <a:xfrm>
            <a:off x="4716360" y="1268280"/>
            <a:ext cx="4140360" cy="506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1420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й рек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ега  этой  реки  заросли  лесами  из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сключительно  разнообразных  по составу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ревесных  пород. Среди  них  растут деревья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  очень  ценной  древесин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             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4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он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мбези.         </a:t>
            </a:r>
            <a:r>
              <a:rPr b="0" lang="ru-RU" sz="32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ранжева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9320" y="-433440"/>
            <a:ext cx="8472240" cy="12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днс\Downloads\презент\kongomoryaki2.jpg"/>
          <p:cNvPicPr/>
          <p:nvPr/>
        </p:nvPicPr>
        <p:blipFill>
          <a:blip r:embed="rId2"/>
          <a:stretch/>
        </p:blipFill>
        <p:spPr>
          <a:xfrm>
            <a:off x="5724360" y="3397320"/>
            <a:ext cx="3240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 какой реке идёт речь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ерега  этой  реки  заросли  лесами  из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сключительно  разнообразных  по составу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ревесных  пород. Среди  них  растут деревья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  очень  ценной  древесин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игер.             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4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Кон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мбези.         </a:t>
            </a:r>
            <a:r>
              <a:rPr b="0" lang="ru-RU" sz="32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3a447"/>
                </a:solidFill>
                <a:latin typeface="Constantia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ранжева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9320" y="-433440"/>
            <a:ext cx="8472240" cy="1231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C:\Users\днс\Downloads\презент\kongomoryaki2.jpg"/>
          <p:cNvPicPr/>
          <p:nvPr/>
        </p:nvPicPr>
        <p:blipFill>
          <a:blip r:embed="rId2"/>
          <a:stretch/>
        </p:blipFill>
        <p:spPr>
          <a:xfrm>
            <a:off x="5724360" y="3397320"/>
            <a:ext cx="34196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13840" y="1357200"/>
            <a:ext cx="8858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Африке есть животные образующи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большую пятёрку», это большие шкуры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ольшие рога, большие трофеи, большая слав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имб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емб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ибок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виг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бог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зовите их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одержимое 3" descr="lion.jpg"/>
          <p:cNvPicPr/>
          <p:nvPr/>
        </p:nvPicPr>
        <p:blipFill>
          <a:blip r:embed="rId1"/>
          <a:stretch/>
        </p:blipFill>
        <p:spPr>
          <a:xfrm>
            <a:off x="1000080" y="1428840"/>
            <a:ext cx="7529400" cy="5019480"/>
          </a:xfrm>
          <a:prstGeom prst="rect">
            <a:avLst/>
          </a:prstGeom>
          <a:ln w="0">
            <a:noFill/>
          </a:ln>
        </p:spPr>
      </p:pic>
      <p:pic>
        <p:nvPicPr>
          <p:cNvPr id="25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3" descr="an_slon.jpg"/>
          <p:cNvPicPr/>
          <p:nvPr/>
        </p:nvPicPr>
        <p:blipFill>
          <a:blip r:embed="rId1"/>
          <a:stretch/>
        </p:blipFill>
        <p:spPr>
          <a:xfrm>
            <a:off x="1928880" y="1500120"/>
            <a:ext cx="5191200" cy="48942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Тембо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Содержимое 3" descr="giraffe_01.jpg"/>
          <p:cNvPicPr/>
          <p:nvPr/>
        </p:nvPicPr>
        <p:blipFill>
          <a:blip r:embed="rId1"/>
          <a:stretch/>
        </p:blipFill>
        <p:spPr>
          <a:xfrm>
            <a:off x="2786040" y="1571760"/>
            <a:ext cx="3148200" cy="47228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Твиг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одержимое 3" descr="бегемот.jpg"/>
          <p:cNvPicPr/>
          <p:nvPr/>
        </p:nvPicPr>
        <p:blipFill>
          <a:blip r:embed="rId1"/>
          <a:stretch/>
        </p:blipFill>
        <p:spPr>
          <a:xfrm>
            <a:off x="1357200" y="1571760"/>
            <a:ext cx="6453360" cy="4840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Кибоко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3"/>
          <p:cNvSpPr/>
          <p:nvPr/>
        </p:nvSpPr>
        <p:spPr>
          <a:xfrm>
            <a:off x="1763640" y="1700280"/>
            <a:ext cx="5616720" cy="3600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24" descr="africa_003"/>
          <p:cNvPicPr/>
          <p:nvPr/>
        </p:nvPicPr>
        <p:blipFill>
          <a:blip r:embed="rId2"/>
          <a:stretch/>
        </p:blipFill>
        <p:spPr>
          <a:xfrm rot="21121200">
            <a:off x="2700000" y="259920"/>
            <a:ext cx="1967040" cy="15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E:\МАМА\АСПИРАНТУРА\ДЛЯ КАФЕДРЫ\Лекции\БИОЭКОЛОГИЯ\eaf629f1fbb3.jpg"/>
          <p:cNvPicPr/>
          <p:nvPr/>
        </p:nvPicPr>
        <p:blipFill>
          <a:blip r:embed="rId3"/>
          <a:stretch/>
        </p:blipFill>
        <p:spPr>
          <a:xfrm>
            <a:off x="7451640" y="1268280"/>
            <a:ext cx="148932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bigwaterfall"/>
          <p:cNvPicPr/>
          <p:nvPr/>
        </p:nvPicPr>
        <p:blipFill>
          <a:blip r:embed="rId4"/>
          <a:stretch/>
        </p:blipFill>
        <p:spPr>
          <a:xfrm rot="937200">
            <a:off x="1907640" y="4581000"/>
            <a:ext cx="2254320" cy="1803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BEACH22"/>
          <p:cNvPicPr/>
          <p:nvPr/>
        </p:nvPicPr>
        <p:blipFill>
          <a:blip r:embed="rId5"/>
          <a:stretch/>
        </p:blipFill>
        <p:spPr>
          <a:xfrm rot="20836200">
            <a:off x="6300720" y="45813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547280" y="1557360"/>
            <a:ext cx="57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Там мыс Игольный, мыс Альмади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ухие русла рек  там, вади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ам реки быстро протекаю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 в разные моря впадаю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ам есть вулкан Килиманджаро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аделал много он пожаров…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4" descr="Gambia_kora_havard"/>
          <p:cNvPicPr/>
          <p:nvPr/>
        </p:nvPicPr>
        <p:blipFill>
          <a:blip r:embed="rId6"/>
          <a:stretch/>
        </p:blipFill>
        <p:spPr>
          <a:xfrm>
            <a:off x="324000" y="3860640"/>
            <a:ext cx="1617480" cy="242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213-1024"/>
          <p:cNvPicPr/>
          <p:nvPr/>
        </p:nvPicPr>
        <p:blipFill>
          <a:blip r:embed="rId7"/>
          <a:stretch/>
        </p:blipFill>
        <p:spPr>
          <a:xfrm>
            <a:off x="4140360" y="4941720"/>
            <a:ext cx="1979280" cy="1484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Diagonal Sand"/>
          <p:cNvPicPr/>
          <p:nvPr/>
        </p:nvPicPr>
        <p:blipFill>
          <a:blip r:embed="rId8"/>
          <a:stretch/>
        </p:blipFill>
        <p:spPr>
          <a:xfrm rot="671400">
            <a:off x="5866920" y="620640"/>
            <a:ext cx="2087640" cy="1384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E:\МАМА\АСПИРАНТУРА\ДЛЯ КАФЕДРЫ\Лекции\БИОЭКОЛОГИЯ\lemurs1.jpg"/>
          <p:cNvPicPr/>
          <p:nvPr/>
        </p:nvPicPr>
        <p:blipFill>
          <a:blip r:embed="rId9"/>
          <a:stretch/>
        </p:blipFill>
        <p:spPr>
          <a:xfrm>
            <a:off x="7093080" y="314172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Пьяная обезьяна"/>
          <p:cNvPicPr/>
          <p:nvPr/>
        </p:nvPicPr>
        <p:blipFill>
          <a:blip r:embed="rId10"/>
          <a:stretch/>
        </p:blipFill>
        <p:spPr>
          <a:xfrm rot="21459600">
            <a:off x="1547640" y="5589720"/>
            <a:ext cx="1440000" cy="98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E:\МАМА\АСПИРАНТУРА\ДЛЯ КАФЕДРЫ\Лекции\БИОЭКОЛОГИЯ\69.jpg"/>
          <p:cNvPicPr/>
          <p:nvPr/>
        </p:nvPicPr>
        <p:blipFill>
          <a:blip r:embed="rId11"/>
          <a:stretch/>
        </p:blipFill>
        <p:spPr>
          <a:xfrm>
            <a:off x="7596360" y="260280"/>
            <a:ext cx="1168200" cy="1544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E:\МАМА\АСПИРАНТУРА\ДЛЯ КАФЕДРЫ\Лекции\БИОЭКОЛОГИЯ\i.jpeg"/>
          <p:cNvPicPr/>
          <p:nvPr/>
        </p:nvPicPr>
        <p:blipFill>
          <a:blip r:embed="rId12"/>
          <a:stretch/>
        </p:blipFill>
        <p:spPr>
          <a:xfrm>
            <a:off x="4643280" y="333360"/>
            <a:ext cx="1578240" cy="117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0_1c968_7f06f13_XL"/>
          <p:cNvPicPr/>
          <p:nvPr/>
        </p:nvPicPr>
        <p:blipFill>
          <a:blip r:embed="rId13"/>
          <a:stretch/>
        </p:blipFill>
        <p:spPr>
          <a:xfrm>
            <a:off x="5867280" y="5300640"/>
            <a:ext cx="1055880" cy="140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1"/>
          <p:cNvPicPr/>
          <p:nvPr/>
        </p:nvPicPr>
        <p:blipFill>
          <a:blip r:embed="rId14"/>
          <a:stretch/>
        </p:blipFill>
        <p:spPr>
          <a:xfrm>
            <a:off x="324000" y="260280"/>
            <a:ext cx="2447640" cy="119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E:\МАМА\АСПИРАНТУРА\ДЛЯ КАФЕДРЫ\Лекции\БИОЭКОЛОГИЯ\Macaques_Grooming.jpg"/>
          <p:cNvPicPr/>
          <p:nvPr/>
        </p:nvPicPr>
        <p:blipFill>
          <a:blip r:embed="rId15"/>
          <a:stretch/>
        </p:blipFill>
        <p:spPr>
          <a:xfrm rot="907200">
            <a:off x="394920" y="1341000"/>
            <a:ext cx="1512720" cy="1130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elephants_014_resize"/>
          <p:cNvPicPr/>
          <p:nvPr/>
        </p:nvPicPr>
        <p:blipFill>
          <a:blip r:embed="rId16"/>
          <a:stretch/>
        </p:blipFill>
        <p:spPr>
          <a:xfrm>
            <a:off x="539640" y="2492280"/>
            <a:ext cx="172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Содержимое 3" descr="буйвол.jpg"/>
          <p:cNvPicPr/>
          <p:nvPr/>
        </p:nvPicPr>
        <p:blipFill>
          <a:blip r:embed="rId1"/>
          <a:stretch/>
        </p:blipFill>
        <p:spPr>
          <a:xfrm>
            <a:off x="1552680" y="1617840"/>
            <a:ext cx="5948280" cy="4740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Мбого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635280" y="1447560"/>
            <a:ext cx="5051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67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 этой корзинке  находятся плоды,    растущие  в  Африке.</a:t>
            </a:r>
            <a:endParaRPr b="0" lang="en-US" sz="3200" spc="-1" strike="noStrike">
              <a:solidFill>
                <a:srgbClr val="fefac9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ыберите  плод,  растущий  на  дереве,  день которого  отмечается  в  арабских  странах   15 сентября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Bookman Old Style"/>
              </a:rPr>
              <a:t>	</a:t>
            </a:r>
            <a:r>
              <a:rPr b="0" lang="ru-RU" sz="4200" spc="-1" strike="noStrike">
                <a:solidFill>
                  <a:srgbClr val="f9f9f9"/>
                </a:solidFill>
                <a:latin typeface="Bookman Old Style"/>
              </a:rPr>
              <a:t>Вопрос 11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0" name="Picture 6" descr="Копия c1f"/>
          <p:cNvPicPr/>
          <p:nvPr/>
        </p:nvPicPr>
        <p:blipFill>
          <a:blip r:embed="rId1"/>
          <a:stretch/>
        </p:blipFill>
        <p:spPr>
          <a:xfrm>
            <a:off x="826920" y="1413000"/>
            <a:ext cx="2487960" cy="504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b (7)_300x225_pc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6912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8"/>
          <p:cNvSpPr/>
          <p:nvPr/>
        </p:nvSpPr>
        <p:spPr>
          <a:xfrm>
            <a:off x="826920" y="5273640"/>
            <a:ext cx="8087040" cy="1584360"/>
          </a:xfrm>
          <a:prstGeom prst="horizontalScroll">
            <a:avLst>
              <a:gd name="adj" fmla="val 11523"/>
            </a:avLst>
          </a:prstGeom>
          <a:solidFill>
            <a:srgbClr val="6a7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ы  выбирают  плод,  тем  самым  давая  ответ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равшие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фини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учают  жетон  за  правильный  отве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Выиграла команда «_______»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Литература.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езруков А., Пивоварова Г. Занимательная география: Книга для учащихся, учителей, родителей. – М.: АСТ-ПРЕСС, 200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дков Н.И. Миомбо. Очерки. Л., «Детская литература» 1976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материкам и океанам: Африка, Австралия, Антарктида, Индийский и Тихий океаны; Книга для чтения по географии материков и океанов. Сост. Н.П.Смирнова, А.А.Шибанова. М.: Просвещение, 1988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kipedia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4" descr="Ravenala_madagascariensis.jpg"/>
          <p:cNvPicPr/>
          <p:nvPr/>
        </p:nvPicPr>
        <p:blipFill>
          <a:blip r:embed="rId1"/>
          <a:stretch/>
        </p:blipFill>
        <p:spPr>
          <a:xfrm>
            <a:off x="5429160" y="1428840"/>
            <a:ext cx="31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797760" y="2862360"/>
            <a:ext cx="833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ельвич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ейб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иниковая паль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анановое дерев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венала(дерево путешественников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4" descr="Ravenala_madagascariensis.jpg"/>
          <p:cNvPicPr/>
          <p:nvPr/>
        </p:nvPicPr>
        <p:blipFill>
          <a:blip r:embed="rId1"/>
          <a:stretch/>
        </p:blipFill>
        <p:spPr>
          <a:xfrm>
            <a:off x="5429160" y="1428840"/>
            <a:ext cx="31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798480" y="2862360"/>
            <a:ext cx="833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ельвич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ейб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иниковая пальм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анановое дерев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ffc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Равенала(дерево путешественников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kalahari_e02_00.jpg"/>
          <p:cNvPicPr/>
          <p:nvPr/>
        </p:nvPicPr>
        <p:blipFill>
          <a:blip r:embed="rId1"/>
          <a:stretch/>
        </p:blipFill>
        <p:spPr>
          <a:xfrm>
            <a:off x="1165320" y="1523880"/>
            <a:ext cx="6692760" cy="4476960"/>
          </a:xfrm>
          <a:prstGeom prst="rect">
            <a:avLst/>
          </a:prstGeom>
          <a:ln w="0">
            <a:noFill/>
          </a:ln>
        </p:spPr>
      </p:pic>
      <p:pic>
        <p:nvPicPr>
          <p:cNvPr id="206" name="Заголовок 1" descr=""/>
          <p:cNvPicPr/>
          <p:nvPr/>
        </p:nvPicPr>
        <p:blipFill>
          <a:blip r:embed="rId2"/>
          <a:stretch/>
        </p:blipFill>
        <p:spPr>
          <a:xfrm>
            <a:off x="189000" y="-648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этой пустыне температура воздуха летом достигает 35-4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чва накаляется так сильно, что жители не могут долго стоять на одном месте без обуви. В полуденное время маленькие антилопы обжигают ноги в раскалённом пес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Это не самое сухое место в Африке. Здесь выпадает от 1000мм до 250мм осадк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десь, между 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и 3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ю.ш. деревья растут редко, и лишь в отдельных местах образуются редколесья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огатство животного мира от насекомых, до крупных животных, придаёт пространству этой пустыни своеобразный отпечато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028680" y="571320"/>
            <a:ext cx="3328920" cy="55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амиб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Калаха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ахар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Лив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уб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28680" y="571320"/>
            <a:ext cx="3328920" cy="55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амиб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Калаха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ахар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Лив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убий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6:25:17Z</dcterms:created>
  <dc:creator>Биняковский</dc:creator>
  <dc:description/>
  <dc:language>en-US</dc:language>
  <cp:lastModifiedBy>USER</cp:lastModifiedBy>
  <dcterms:modified xsi:type="dcterms:W3CDTF">2013-03-03T12:15:00Z</dcterms:modified>
  <cp:revision>39</cp:revision>
  <dc:subject/>
  <dc:title>ИГРА «ЗНАТОКИ АФРИКИ»</dc:title>
</cp:coreProperties>
</file>