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9C1-196A-4332-BBA6-03BC381B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0DF-3AA9-40FF-A09C-0235284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22D-3638-40D6-A4B6-843761EE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65C-03DE-4217-ABB6-A8A4A588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5C1-3AFE-450C-934F-21EA646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8E1-FE08-461C-8475-FF767793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3E8-3C8E-4FB8-8C46-FBBF9C2F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76B-0795-4D5C-82FD-7DBD6805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674-43E8-4474-89B1-49D122FB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7D0-0665-4D15-980D-7524AAF8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704-3806-43C2-A961-F87A643D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100-0794-427E-A8BC-DE0912E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3BA0-A1F0-4E31-93C6-4AFAF5E2A4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нозав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4" descr=""/>
          <p:cNvPicPr/>
          <p:nvPr/>
        </p:nvPicPr>
        <p:blipFill>
          <a:blip r:embed="rId1"/>
          <a:stretch/>
        </p:blipFill>
        <p:spPr>
          <a:xfrm>
            <a:off x="1638360" y="2071800"/>
            <a:ext cx="5365800" cy="3195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500720" y="54291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5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иков Лео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Загудалова Т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озаврами называют всего одну группу ящеров или пресмыкающихся (рептилий), живших в мезозое - в эру средней жизни на Земл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озавры населяли Землю в течение 150 млн. лет – больше, чем какой-либо из существовавших когда-либо вид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динозавр» был введен в 1842 году английским биологом Ричардом Оуэном, для описания первых окаменелых останков древних ящеров, поражавшие воображение учёных своими размерами. Слово происходит от греческого δεινός (deinos) — «страшный, ужасный» и σαῦρος (sauros) — «ящ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теозавр - плоский ящ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0" y="2500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м динозавром периода триаса считается платеозавр. С латинского Plateosaurus — «плоский ящер». В длину был от 6 до 10 метров, а весом до 700 кг. Относится к разряду завроподоморфов, ящеротазовых ящ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43280" y="264312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еозавр - хищник из рода дейноцеф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0" y="2071800"/>
            <a:ext cx="43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еозавр (Anteosaurus magnificus) - хищник. Принадлежит к роду дейноцефалов. Найден в Южной Африке. Имеет большие размеры. Череп крупный, массивный. Составляет см. 80 в длину. Антеозавр доходит метров до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429080" y="1928880"/>
            <a:ext cx="42861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оцератоп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2571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известных динозавров считается протоцератопс. Ящер с небольшими размерами. Длина его метра два. А в высоту 75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00720" y="2143080"/>
            <a:ext cx="4286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цератоп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0" y="1357200"/>
            <a:ext cx="5072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цератопс относился к знаменитым рогатым растительноядным динозаврам, населявшим Землю в меловом периоде 70 миллионов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им названием – «трехрогая морда» – он обязан крупным рогам, в количестве трех штук находившихся у него на голове. В семействе рогатых динозавров он считался самым крупным – вес до 12 тонн, длина тела порядка 9 метров при высоте 3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1714680"/>
            <a:ext cx="40003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ранозав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0" y="1143000"/>
            <a:ext cx="5572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антский хищник – тиранозавр – обитал на территории Азии и Северной Америки в конце мелового периода. Этот ящер относился к наиболее крупным плотоядным животным, когда-либо живших на планете. Его вес достигал более 4 тонн, а высота до 6 метр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едставители этой группы динозавров обладали весьма массивной головой с мощными челюстями и острыми зубами. Наиболее крупные зубы в длину равнялись 1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857840" y="371484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оплевро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14288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оплевродон, грозный потомок плиозавра, являл собой самого крупного хищного животного, когда-либо населявшего Землю. Грозный морской ящер, неуязвимый и огромный, имел длину тела до 25 метров. По отдельным оценкам ученых-исследователей, вес морского хищника мог составлять 100 и более тон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онец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3-01-21T18:16:13Z</dcterms:modified>
  <cp:revision>187</cp:revision>
  <dc:subject/>
  <dc:title>Diapositiva 1</dc:title>
</cp:coreProperties>
</file>