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11E-905E-45EC-A87E-CEE9F664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9B1-3587-4025-A3E1-6834489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66D-9D27-4F45-A201-E76E2136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138-145B-4B03-A8A7-E39825B6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1A4-93B9-4DC8-A1B8-128BFF7F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A13-C89A-46E0-92F9-3402C99E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AB1-B779-4545-904B-11F735C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1FE-E07D-4C51-AA5A-710B1A79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32D-3A60-4B56-9CB9-5FE04A40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59B-7706-49AE-A051-9A92CC1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836-0726-4AC7-83E5-3AF5CEC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538-5394-4FF2-AF38-CA237B64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69D3-8A25-4126-BF9F-5BC7BAF9DB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нозав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4" descr=""/>
          <p:cNvPicPr/>
          <p:nvPr/>
        </p:nvPicPr>
        <p:blipFill>
          <a:blip r:embed="rId1"/>
          <a:stretch/>
        </p:blipFill>
        <p:spPr>
          <a:xfrm>
            <a:off x="1638360" y="2071800"/>
            <a:ext cx="5365800" cy="3195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4500720" y="54291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ученик 5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иков Лео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Загудалова Т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озаврами называют всего одну группу ящеров или пресмыкающихся (рептилий), живших в мезозое - в эру средней жизни на Земл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озавры населяли Землю в течение 150 млн. лет – больше, чем какой-либо из существовавших когда-либо вид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динозавр» был введен в 1842 году английским биологом Ричардом Оуэном, для описания первых окаменелых останков древних ящеров, поражавшие воображение учёных своими размерами. Слово происходит от греческого δεινός (deinos) — «страшный, ужасный» и σαῦρος (sauros) — «ящ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теозавр - плоский ящ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0" y="2500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м динозавром периода триаса считается платеозавр. С латинского Plateosaurus — «плоский ящер». В длину был от 6 до 10 метров, а весом до 700 кг. Относится к разряду завроподоморфов, ящеротазовых ящ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43280" y="2643120"/>
            <a:ext cx="4286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еозавр - хищник из рода дейноцеф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0" y="2071800"/>
            <a:ext cx="43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еозавр (Anteosaurus magnificus) - хищник. Принадлежит к роду дейноцефалов. Найден в Южной Африке. Имеет большие размеры. Череп крупный, массивный. Составляет см. 80 в длину. Антеозавр доходит метров до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429080" y="1928880"/>
            <a:ext cx="42861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оцератоп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0" y="2571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известных динозавров считается протоцератопс. Ящер с небольшими размерами. Длина его метра два. А в высоту 75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500720" y="2143080"/>
            <a:ext cx="4286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цератоп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0" y="1357200"/>
            <a:ext cx="5072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цератопс относился к знаменитым рогатым растительноядным динозаврам, населявшим Землю в меловом периоде 70 миллионов лет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им названием – «трехрогая морда» – он обязан крупным рогам, в количестве трех штук находившихся у него на голове. В семействе рогатых динозавров он считался самым крупным – вес до 12 тонн, длина тела порядка 9 метров при высоте 3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1714680"/>
            <a:ext cx="40003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ранозав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0" y="1143000"/>
            <a:ext cx="5572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антский хищник – тиранозавр – обитал на территории Азии и Северной Америки в конце мелового периода. Этот ящер относился к наиболее крупным плотоядным животным, когда-либо живших на планете. Его вес достигал более 4 тонн, а высота до 6 метр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редставители этой группы динозавров обладали весьма массивной головой с мощными челюстями и острыми зубами. Наиболее крупные зубы в длину равнялись 1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857840" y="371484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оплевро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0" y="14288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оплевродон, грозный потомок плиозавра, являл собой самого крупного хищного животного, когда-либо населявшего Землю. Грозный морской ящер, неуязвимый и огромный, имел длину тела до 25 метров. По отдельным оценкам ученых-исследователей, вес морского хищника мог составлять 100 и более тон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онец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3-01-21T18:16:13Z</dcterms:modified>
  <cp:revision>187</cp:revision>
  <dc:subject/>
  <dc:title>Diapositiva 1</dc:title>
</cp:coreProperties>
</file>