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D0DC-6615-4F93-B93F-9CCEA3801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2DEC-C3D0-4975-9DB1-7A23A263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5B5AF-8E03-4DCC-897D-33FFDAB0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44312-020B-4CA0-BF85-8358F401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0E368-E2FD-49ED-9EFB-23090ED3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E7F56-6871-4750-9312-6ADAF935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99E56-A2EA-4C87-8206-1D472772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E14DC5-3CCC-4F63-A3C6-F905E12D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1C729-E6C7-4B49-B5BB-7DD8F9C6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98DDE-039C-43D8-8889-B2ADE43C9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1D5A49-F48B-4917-A402-7DF86BC2B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4850-5F55-47C9-8DF1-DE9520BCC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CA2E-3BEE-48D6-9DA8-BAAD3CFB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22B6-0887-4D06-96D7-FF0DD2DE9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8F79-85D5-46A3-992D-7F6D0D6F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C875-6C18-4CC1-808A-157E00AE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165A-C8F0-4604-B6C8-B5A0A752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CED4-6652-4E97-9989-367F0F73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86B8-BA36-4421-8E1A-CBD9A3B8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8423-EA33-478F-B730-9B3498AF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DFFD-825E-4EF4-B11D-CFE162FB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4E6B-48A9-4EC5-B882-C1CF57B7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C8D2-9284-49E9-89B9-D79BD8C1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699A-7578-4AE1-B76A-9ACD182F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45E9-B1AA-4D06-B661-13D2829DC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CCF6-12B8-4229-9F65-768118E0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03D94-417A-4612-A68B-7372E634E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F9DF3-C213-43E5-966B-95F3B13A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5A015-9F8D-4ADD-B11A-5903E8C6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8464A-B782-4283-86C7-C25BAF23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E7CFD-1C4E-41E8-9CF8-C4AD065E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012E-D936-4DE9-B0CD-E7472EFC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006FB-9F86-4C25-8E3E-26A7F3EE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9810E-A231-41EF-8F5F-E239774B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620CD-A2A8-40F5-B4ED-7553CA1E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C2E1E-2CEE-4B8D-A0F8-9BD607D9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665DF-BA97-4CD1-B434-195A587F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F704A-D5A4-4130-B3BB-22872EFEA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DF527-D6EF-478F-BB92-AE4B07067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730E9-158C-474E-8686-028F84186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63B9F-3125-4C92-90CF-C0E1794B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4A162-F6A4-42AB-85E0-B0EB59AD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1E25-7F78-4B6B-8545-14503E3B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F8498-EFFA-4D49-A8A6-0FB30104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87126-04B0-4ECF-910A-8628B122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BB110-537D-4E7E-BD82-8A9D4D9F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FCC8F-D592-4BD5-AF41-D387D575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90FCA-3165-40CE-8934-F4D439B8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81534-6C2D-4A00-9636-5F0FF7DE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59080-B32A-4106-803C-1BB3BD92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A6DDC-A03B-45C4-9439-673D5D15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CEC43-06E7-492F-B45E-4E4984EF1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3E854-F681-46A0-98D2-C94AD36A9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FD05-D4A1-4E90-81EF-87E2E633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8F8EE-48FD-4AA9-A05F-289770EB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4F9A7-5448-414D-AF8B-99CE3802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386BE-7E34-4B85-A3DC-1D02DA81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AFB73-682A-41E6-869D-8A15DB99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9DFA6-26E3-4F0E-B26E-793F97F1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9F38B-3393-4F3E-A999-3522F932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AFBB6-1ED6-4E90-B14F-61EAB409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282BA-A41C-436B-848D-7EB07474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F8EF1-48A5-469B-9975-869859BD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273FD-95F2-4F04-AA74-F94FD027C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B816-1428-45A8-874C-FF48155D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E74FA-9AB8-4214-B1A3-D5D8E1802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728F3-3578-4CCE-8826-6D7566A71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42EE2-EE42-4BFD-8955-B0125BF5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E14B5-837E-436E-8DB8-B7A4EA8B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BC3D9-CC63-4D06-BB5F-27DA38D9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1702C-1EE8-4FC4-B0DF-8887BB24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D46C2-BB55-41CB-9A23-FCC17612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BB1CA-61F4-405A-96C6-4F9B29A6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92BE6-F170-4F3B-BA40-4E3C266E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20C71-A448-4594-A5D3-D7D49ABE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C0BE-35DE-4F53-8568-9F4E3CA3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B9B7F-40C2-49FF-AC28-A93D7525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02F93-8A9F-4082-A9EB-E4C1E6F89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24325-591C-4080-92B9-A65775F29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003E3-07CD-44ED-A161-519653968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B8BE5-62AC-4D15-A029-6838C5B1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FBA0A-891E-41C4-90C3-EB1B271F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043B7-C6A9-4A72-A335-B350872C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D9088-BDCE-41E9-A99D-CE724185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25B17-DA73-40F9-B6FB-C1CB11BF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9484A-1AAB-423F-9FBC-B38D87DA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E724-D24A-4B70-928A-9D53EF69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D1D37-9DD7-49A3-8DA8-B486BDB5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26836-E3DD-45B4-8C10-BFE39563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6E269-3381-46FF-B1BF-957F9610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8B5A0-24E4-4DE5-8C55-E03823527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F02AC-E8A0-455B-8970-61ADE0844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83B63-E913-492D-B4E5-72771D769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7FBD8-55CB-4339-835F-3217ACC2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95BD5-4DE7-4263-894D-324ED611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4A07B-A016-48D2-B1F4-08F31872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2A39D-0394-4C78-A27B-7D16F987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DD51-DF89-4A57-BB25-772146C5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56675-D3AE-43A1-900B-00C9E103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06A6E-7F37-4F13-AC91-BBCA3F01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16360-D522-475B-945B-F1D1AE4F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CBAED-D1EE-4D09-880C-8F407D60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92451-3164-4A94-96E9-950B3658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0C135-BF12-4458-A82B-6BAF53B8B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05C03-D8C6-40BE-A65F-EEF296F22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D9EE7-8F82-4B45-8C57-FDA0A5EC3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5D0BE-A7B2-4560-AA15-A7F348E4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790B5-7EEC-4B58-88F5-FEE83B66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97.xml"/><Relationship Id="rId10" Type="http://schemas.openxmlformats.org/officeDocument/2006/relationships/slideLayout" Target="../slideLayouts/slideLayout98.xml"/><Relationship Id="rId11" Type="http://schemas.openxmlformats.org/officeDocument/2006/relationships/slideLayout" Target="../slideLayouts/slideLayout99.xml"/><Relationship Id="rId12" Type="http://schemas.openxmlformats.org/officeDocument/2006/relationships/slideLayout" Target="../slideLayouts/slideLayout100.xml"/><Relationship Id="rId13" Type="http://schemas.openxmlformats.org/officeDocument/2006/relationships/slideLayout" Target="../slideLayouts/slideLayout101.xml"/><Relationship Id="rId14" Type="http://schemas.openxmlformats.org/officeDocument/2006/relationships/slideLayout" Target="../slideLayouts/slideLayout102.xml"/><Relationship Id="rId15" Type="http://schemas.openxmlformats.org/officeDocument/2006/relationships/slideLayout" Target="../slideLayouts/slideLayout103.xml"/><Relationship Id="rId16" Type="http://schemas.openxmlformats.org/officeDocument/2006/relationships/slideLayout" Target="../slideLayouts/slideLayout104.xml"/><Relationship Id="rId17" Type="http://schemas.openxmlformats.org/officeDocument/2006/relationships/slideLayout" Target="../slideLayouts/slideLayout105.xml"/><Relationship Id="rId18" Type="http://schemas.openxmlformats.org/officeDocument/2006/relationships/slideLayout" Target="../slideLayouts/slideLayout106.xml"/><Relationship Id="rId19" Type="http://schemas.openxmlformats.org/officeDocument/2006/relationships/slideLayout" Target="../slideLayouts/slideLayout107.xml"/><Relationship Id="rId20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A7AE-1286-49B1-92DA-3412D23B51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Documents and Settings\Admin\Рабочий стол\для шаблонов\Копия прозр.gif"/>
          <p:cNvPicPr/>
          <p:nvPr/>
        </p:nvPicPr>
        <p:blipFill>
          <a:blip r:embed="rId6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C:\Documents and Settings\Admin\Рабочий стол\для шаблонов\прозр2.gif"/>
          <p:cNvPicPr/>
          <p:nvPr/>
        </p:nvPicPr>
        <p:blipFill>
          <a:blip r:embed="rId7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Documents and Settings\Admin\Рабочий стол\для шаблонов\Копия прозр.gif"/>
          <p:cNvPicPr/>
          <p:nvPr/>
        </p:nvPicPr>
        <p:blipFill>
          <a:blip r:embed="rId8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Documents and Settings\Admin\Рабочий стол\для шаблонов\прозр2.gif"/>
          <p:cNvPicPr/>
          <p:nvPr/>
        </p:nvPicPr>
        <p:blipFill>
          <a:blip r:embed="rId9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1F8F-D300-47B0-91AB-2E51C4925D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C:\Documents and Settings\Admin\Рабочий стол\для шаблонов\прозр2.gif"/>
          <p:cNvPicPr/>
          <p:nvPr/>
        </p:nvPicPr>
        <p:blipFill>
          <a:blip r:embed="rId6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Documents and Settings\Admin\Рабочий стол\для шаблонов\Копия прозр.gif"/>
          <p:cNvPicPr/>
          <p:nvPr/>
        </p:nvPicPr>
        <p:blipFill>
          <a:blip r:embed="rId8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Documents and Settings\Admin\Рабочий стол\для шаблонов\прозр2.gif"/>
          <p:cNvPicPr/>
          <p:nvPr/>
        </p:nvPicPr>
        <p:blipFill>
          <a:blip r:embed="rId9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4D2F-8923-40E0-B0A2-FF845A39AA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C:\Documents and Settings\Admin\Рабочий стол\для шаблонов\прозр2.gif"/>
          <p:cNvPicPr/>
          <p:nvPr/>
        </p:nvPicPr>
        <p:blipFill>
          <a:blip r:embed="rId6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3C4C-9F9A-4011-8BE8-5431DA0446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EE9A-8EF6-4799-8422-E2307A3BC9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F443-C691-45CC-80CA-619739303C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9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B3F7-DF7C-4CC7-AD61-8895556F59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2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88C2-145A-4498-8547-645943A8B2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C:\Documents and Settings\Admin\Рабочий стол\для шаблонов\прозр2.gif"/>
          <p:cNvPicPr/>
          <p:nvPr/>
        </p:nvPicPr>
        <p:blipFill>
          <a:blip r:embed="rId5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C:\Documents and Settings\Admin\Рабочий стол\для шаблонов\Копия прозр.gif"/>
          <p:cNvPicPr/>
          <p:nvPr/>
        </p:nvPicPr>
        <p:blipFill>
          <a:blip r:embed="rId6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C:\Documents and Settings\Admin\Рабочий стол\для шаблонов\прозр2.gif"/>
          <p:cNvPicPr/>
          <p:nvPr/>
        </p:nvPicPr>
        <p:blipFill>
          <a:blip r:embed="rId8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BCAE-2FD7-4DAB-855D-DC5D592DC0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9"/>
    <p:sldLayoutId id="2147483754" r:id="rId10"/>
    <p:sldLayoutId id="2147483755" r:id="rId11"/>
    <p:sldLayoutId id="2147483756" r:id="rId12"/>
    <p:sldLayoutId id="2147483757" r:id="rId13"/>
    <p:sldLayoutId id="2147483758" r:id="rId14"/>
    <p:sldLayoutId id="2147483759" r:id="rId15"/>
    <p:sldLayoutId id="2147483760" r:id="rId16"/>
    <p:sldLayoutId id="2147483761" r:id="rId17"/>
    <p:sldLayoutId id="2147483762" r:id="rId18"/>
    <p:sldLayoutId id="2147483763" r:id="rId19"/>
    <p:sldLayoutId id="2147483764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Monotype Corsiva"/>
              </a:rPr>
              <a:t>Домашнее задани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Monotype Corsiva"/>
              </a:rPr>
              <a:t>Повторить </a:t>
            </a:r>
            <a:r>
              <a:rPr b="1" lang="en-US" sz="6000" spc="-1" strike="noStrike">
                <a:solidFill>
                  <a:srgbClr val="0000ff"/>
                </a:solidFill>
                <a:latin typeface="Calibri"/>
              </a:rPr>
              <a:t>§§ 42-44,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alibri"/>
              </a:rPr>
              <a:t>§45, упр. № 36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16:19:26Z</dcterms:created>
  <dc:creator>Админ</dc:creator>
  <dc:description/>
  <dc:language>en-US</dc:language>
  <cp:lastModifiedBy>Админ</cp:lastModifiedBy>
  <dcterms:modified xsi:type="dcterms:W3CDTF">2013-02-18T16:30:29Z</dcterms:modified>
  <cp:revision>2</cp:revision>
  <dc:subject/>
  <dc:title>Домашнее задание</dc:title>
</cp:coreProperties>
</file>