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8214-829D-477A-BA75-E1BB3C39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BB00-CF9D-4FA0-848A-62922FBE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1813A-83F3-481C-AFF7-23BC6360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D6E56-9480-4781-BFA7-74A3D9E7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07CE2-9B47-4D19-8097-A1C9F092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9BDD1-5406-43F3-9E3C-D336E6A1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1229D-3992-4B29-8283-DFDF2C38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8FCC8-2CAC-4965-AFFB-80BADCFC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F6361-451B-4839-8263-C6E0B5BC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C4CFC-842D-4E7A-B9B7-44F5FE088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E9513-3040-40FC-B52E-B7E96769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A9F5-F11A-44F7-AFBD-EDB383C8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7C31-3675-4BC9-B5CC-DA4CA2E1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8D2F-1434-4868-8A3F-A80900FE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6E69-7CB3-4990-B0C2-6E242D16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6FEA-9E15-48FD-AA20-0299CD04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4FDF-D3AC-4B01-99D9-3CF3A309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6CD7-2DC6-44D6-A841-D53090D8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596B-3FB6-4745-9D4D-40FEC740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E340-D830-400C-858B-E24259D2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201A-41C5-4F72-8750-F24C4A95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11C7-9EDB-4626-B035-20097910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189C-65F0-4F6D-8C2E-15A993C2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540D-F047-4765-8969-B083F5CC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100E-F473-4900-A3DE-AFCA406E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FE95-94A6-4ABD-9245-9325E137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CB246-73DB-4AFC-ACD6-F1D2DEF8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FEB0B-F298-4B60-BD1B-615B60B3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2DBD0-0475-4176-8613-A3E17D23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F4E6C-282B-4644-8FDE-F988B176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2D61C-A60E-4668-AE17-FE8CABD6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0625-2B9C-40B7-9D75-2D004442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77F14-CC58-4735-B7F4-DE3F1841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AB2E0-98DA-43BF-963B-9DE1D86A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A3C0D-DCEE-46BD-A5FE-DCA685EF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E162F-D71E-4C26-9FFC-FA32CC52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4E3A2-C5A4-45D4-9790-3BD2862C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B618D-87D2-4A17-A95C-9459CD4C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133D6-73FC-4B48-AE5A-7A6E8DB9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0A05C-EA39-480E-9B8C-8AB63E79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397E4-CFCF-4DFE-AC4A-431C51F4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60913-6448-43B4-AF4B-230A1434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7E7-C8CE-4022-A3E6-AA29C63F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205EC-C3CD-4459-9349-CE408D98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B7827-32D8-4371-9172-58983382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6A480-779D-481E-BB12-EDF99606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471DA-EE71-4E15-A57E-ECEAD254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DCC44-225A-473D-AD9C-14526AD1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D9E88-4971-4A5F-AFCC-1F3650B9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18995-DD2C-4724-8144-F028452C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EBF06-96ED-4CDC-AF0C-46C6D78E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3CC65-6523-4BFB-ADCA-7FF335FB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7B060-A35E-44DE-8E57-1865D5FF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124F-4354-4A16-957B-9E5E1C7B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C2B69-19FC-438D-BE73-60A23C49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489F9-61B1-4D0D-BD8B-31F65C81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39250-27B6-4EEE-9209-D558040C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FD856-8E9F-41F9-9689-790E92B5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F4F3E-3E67-43CD-9C32-C169AFEF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C94F7-65E8-4878-99D8-F9F4AB01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D8AD7-EEAB-4FC4-A0EE-9F5919FB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1BFA8-1F92-4F1B-9A65-7BF120B7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197A5-A7E9-4A94-A3BE-143BB1A8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06D49-95F5-49AF-8B34-E73F398F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AB2E-C38B-4DE6-957A-2B4E0B5E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A94B1-3A92-4B4F-A88D-AA0EC46F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2E985-0565-4C54-B28B-CF091C63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644A3-4349-468E-BC04-420FDD71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8068A-18EB-4BD6-ADBB-35658537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F0DEB-7890-4E47-81B3-168118B6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8E0E8-4D8D-4176-A8DC-6A1CD048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6637D-E438-4A43-812E-17475EE0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92E30-C040-4894-BEA5-BB0CE0F2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F556E-A130-4846-ADF4-48595BBB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ABC1C-873D-451C-B59C-2F8F0A76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6AA7-ADA0-40B9-B6F7-887A5EC5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C5A24-77C1-492D-A529-E452DAAA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3841E-BFB2-44A2-8E68-DF4F13A5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B7D80-F0A1-4D85-9CB2-54DF9101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68BC9-66CC-4A84-BF5D-8CFEFEBF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B154D-45A6-49EB-9AA4-48FF5E32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9A824-2570-48DD-8E7C-6D1AD32E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9FA7A-4AFF-4443-AD46-0B7FB3DA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65880-D1F6-4AA1-BACE-71998EE0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CB357-62D3-4C95-8220-BFA47937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086CB-E706-4F36-BC3A-DCDC23B6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2127-B748-473B-8B36-F674CE19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84B10-9EF9-4529-A619-6184072F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FC63D-35ED-4416-ABEC-2D48FCB6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B783B-B068-4592-8E02-1C2389C3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3DFFF-8AD5-472D-9258-C563B174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573ED-C898-4106-AD50-AC4A3CC4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65018-E3DC-4476-8D63-5FC8CA72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35BAE-A060-467D-9288-E56EE160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D59D1-985B-4DBE-BA46-79ECB752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B8B90-4E8C-4C24-87A4-C9A2C5B1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A2920-1551-4EB2-A96D-0CF0574B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9134-F09D-439E-847F-3C905B47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9ADB4-003D-4461-A69F-19D1D636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9CE52-E8A2-4A0F-90BA-94B7F71F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D9FC7-78FE-486C-9378-5CFF20DE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3AFE4-4066-4E57-9435-923B5202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97E86-0031-4FBA-9FC2-C237CE6A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3C598-F39A-4615-BA27-D9E0742A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78A98-77E0-4D47-B02C-009A8A04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67C74-EF21-4FB1-9628-119A8789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13E3B-531F-4064-A5F4-521045E7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169D9-79CC-4B01-A90D-33E92BE2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5815-70A5-420E-A9D2-5EEABEF57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Admin\Рабочий стол\для шаблонов\Копия прозр.gif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Documents and Settings\Admin\Рабочий стол\для шаблонов\прозр2.gif"/>
          <p:cNvPicPr/>
          <p:nvPr/>
        </p:nvPicPr>
        <p:blipFill>
          <a:blip r:embed="rId7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Documents and Settings\Admin\Рабочий стол\для шаблонов\Копия прозр.gif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Admin\Рабочий стол\для шаблонов\прозр2.gif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2B32-88F8-40C0-9642-B1CC26939D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Documents and Settings\Admin\Рабочий стол\для шаблонов\прозр2.gif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Admin\Рабочий стол\для шаблонов\Копия прозр.gif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Admin\Рабочий стол\для шаблонов\прозр2.gif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BDA3-511D-465E-9CC4-900882948A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Documents and Settings\Admin\Рабочий стол\для шаблонов\прозр2.gif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D810-B6B8-43B5-B0A6-9AAF1A806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DFD6-2E9E-42F2-A61C-8D3328CE7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093A-E72A-46C5-BABC-0591F4CEE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9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5105-BCEE-4294-A0F8-B94AE78F1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83D2-8DCB-46D8-B164-EEBD77741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C:\Documents and Settings\Admin\Рабочий стол\для шаблонов\прозр2.gif"/>
          <p:cNvPicPr/>
          <p:nvPr/>
        </p:nvPicPr>
        <p:blipFill>
          <a:blip r:embed="rId5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C:\Documents and Settings\Admin\Рабочий стол\для шаблонов\Копия прозр.gif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:\Documents and Settings\Admin\Рабочий стол\для шаблонов\прозр2.gif"/>
          <p:cNvPicPr/>
          <p:nvPr/>
        </p:nvPicPr>
        <p:blipFill>
          <a:blip r:embed="rId8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B27B-70A2-4372-AB57-56D793232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Monotype Corsiva"/>
              </a:rPr>
              <a:t>Домашнее задани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Monotype Corsiva"/>
              </a:rPr>
              <a:t>Повторить </a:t>
            </a:r>
            <a:r>
              <a:rPr b="1" lang="en-US" sz="6000" spc="-1" strike="noStrike">
                <a:solidFill>
                  <a:srgbClr val="0000ff"/>
                </a:solidFill>
                <a:latin typeface="Calibri"/>
              </a:rPr>
              <a:t>§§ 42-44,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alibri"/>
              </a:rPr>
              <a:t>§45, упр. № 3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6:19:26Z</dcterms:created>
  <dc:creator>Админ</dc:creator>
  <dc:description/>
  <dc:language>en-US</dc:language>
  <cp:lastModifiedBy>Админ</cp:lastModifiedBy>
  <dcterms:modified xsi:type="dcterms:W3CDTF">2013-02-18T16:30:29Z</dcterms:modified>
  <cp:revision>2</cp:revision>
  <dc:subject/>
  <dc:title>Домашнее задание</dc:title>
</cp:coreProperties>
</file>