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78D-6707-4F79-9128-6DE9BFD2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F49-BC3F-4F5C-88D6-0A3755B2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1A5-5899-435A-AF16-1B5B11A1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539-E327-42C0-96FF-D9083622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E1CC-0AD3-41FF-B97B-723261B7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EFD5-D661-4AA4-91E6-71155781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80ED-6411-4345-8C7E-DFD637CE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1958-2C17-49C0-915E-3E4EF7AF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D4C8-B58C-4321-B141-F573B18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72FB-8003-4D30-9414-44779A27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302F-0F73-4995-BD44-61452245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51B-775C-485C-9C05-37461421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03F0-3095-4DD3-AFDC-12756288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1336-0EED-4B1F-A65A-7FFB2A33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9750-50F4-461E-92DD-3163A76D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67FD-365F-4A30-A5CB-F3C8E534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AE1F-CE7E-4B7F-9FA6-42C7858A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752-E111-4604-A49B-DE5EC443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2BA-5CF8-4B71-803B-4C09F2DB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145-E84F-4C5A-8189-840F6AF2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63E-6069-4764-BCF2-1709E9D6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577-2F9C-4EF3-AFD3-6ABD6C19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6A2-C47D-427A-BF07-BD9E22E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EC6-E54A-4127-9EC5-72721E8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5FDF-4550-482A-8AA9-09B9A346C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D02-9810-4A50-A848-6866F9CEC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00000" y="2133720"/>
            <a:ext cx="7473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стопримечательности Европы.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ревнегреческий храм Парфенон. Город Афины.Грец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912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ранденбургские ворота. Берлин. Герман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риумфальная арка. Париж. Франц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40872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ашня Биг-Бен. Лондон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5832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адающая башня. Город Пиза. Итал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4797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род Берлин. Герма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696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йфелева башн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иж. Фран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032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лизей. Рим. Итал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6201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ауэрский мост. Лондон. Великобритан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5958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ревний Акрополь. Город Афины.Грец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3794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обор Парижской богоматери. Париж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87640" y="1844640"/>
            <a:ext cx="30621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7:30:31Z</dcterms:created>
  <dc:creator>Admin</dc:creator>
  <dc:description/>
  <dc:language>en-US</dc:language>
  <cp:lastModifiedBy>Admin</cp:lastModifiedBy>
  <dcterms:modified xsi:type="dcterms:W3CDTF">2009-05-06T17:47:02Z</dcterms:modified>
  <cp:revision>3</cp:revision>
  <dc:subject/>
  <dc:title>Слайд 1</dc:title>
</cp:coreProperties>
</file>