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302-B1EF-4261-8077-FB8DCF2C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653-8581-44F5-BA89-1FF9A8B5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69D-76BC-49B4-B41F-9EDA8D3F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036-250B-4CF4-AAB2-05976B7E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8BC1-9EB8-42CE-925F-81A99EE1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843-2B20-4300-A495-6F25ADE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F371-6B9E-4E7C-83B7-95C2AD65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F2AF-938D-4919-BC3F-5A20248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ED9-BC38-451D-9639-C1A9C6C3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9F3-4FBE-42C4-A4A5-FD015B1D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CDA-E302-4DCF-B3D1-832DA11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F02-78FF-4840-9376-EAF38DC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44BE-19EA-4F4B-B3BB-F5F7E63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91D-7A6F-473A-9E68-F561C6E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9C6-E00C-4588-BE44-2EDB1273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CACC-62BB-4106-AFED-AE535799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B94-13B9-4133-9FD3-0B96666F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1DA-99B8-4AFD-86B9-B3ABA3B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014-9EEB-4EB4-A694-57782B0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581-7E37-4309-AB78-1BCC42D1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B2A-01EF-4132-A4F0-C71279D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643-5971-493F-A6A4-64B9B53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7B4-B8AA-4030-9B60-BE89412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983-176F-4774-B58B-4CF6D6BD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CE5E-4C70-4DB9-8DE1-042C4264F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F770-282C-4ECC-94DC-931FF620D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00000" y="2133720"/>
            <a:ext cx="7473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стопримечательности Европы.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егреческий храм Парфенон. Город Афины.Гре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912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ранденбургские ворота. Берлин. Герм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Триумфальная арка. Париж. Фран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ашня Биг-Бен. Лондо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5832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дающая башня. Город Пиза. Итал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4797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род Берлин. Герм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696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йфелева баш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иж. Фран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3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лизей. Рим. Итал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620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ауэрский мост. Лондон. Великобритан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5958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ий Акрополь. Город Афины.Греци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3794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бор Парижской богоматери. Париж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87640" y="1844640"/>
            <a:ext cx="30621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7:30:31Z</dcterms:created>
  <dc:creator>Admin</dc:creator>
  <dc:description/>
  <dc:language>en-US</dc:language>
  <cp:lastModifiedBy>Admin</cp:lastModifiedBy>
  <dcterms:modified xsi:type="dcterms:W3CDTF">2009-05-06T17:47:02Z</dcterms:modified>
  <cp:revision>3</cp:revision>
  <dc:subject/>
  <dc:title>Слайд 1</dc:title>
</cp:coreProperties>
</file>