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9CE-3598-4D0D-822D-90027D32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64A-B79A-4BA9-9B2D-C2A2508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A31-F6FC-478E-A018-6EBF5821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40A-4CA8-457E-A604-655E2E52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B256-0D9A-455F-B6E1-6405D627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F86E-FE51-4E03-BC72-C9A45D38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DA43-D437-48A7-B346-643667FF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33E0-B973-4FDD-A511-A6DBD71B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B21C-AEE6-4CEC-AA58-B084C63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F1AE-DBBC-4373-B9D8-E37D331A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5912-52D3-44A7-9B1D-EA002548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5E5-D650-4945-AB0E-1A92FFB7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1CF1-9597-4CE9-837B-8EC9F51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1354-30DB-405D-9AC1-2001EEC7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FD26-6C0F-4770-AE1C-DE828375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8D46-B922-4D10-AA99-ADDEE772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9BBA-D7B6-43F4-B8C9-21ED1260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6FF-DCB1-4041-9497-60B6B8F4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2C9-C98B-444E-9F25-45E4E7F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2E0-0B12-4734-A59F-5357C831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344-4286-46C3-80F7-CC7A9A5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A01-8EA4-4BAE-AA93-61B24AEF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BDF-FECE-4798-9F97-0031B76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20E-5789-48BB-B827-3FA8A2DB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446-B03F-4AEC-837C-2E44F9E021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05A8-4BE6-4E62-9343-8622B87446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124640" y="184644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ктронные генерат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закреп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зовите примеры использования электронных ген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кие типы электронных генераторов существуют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такое обратная связь в электронных генераторах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с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зисторный автогенератор тип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зисторный автогенератор тип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торы линейно изменяющегося напряжения ( Л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льтивибр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84360" y="47628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Определение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лектронный 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стройство, преобразующее электрическую энергию источника постоянного тока в энергию незатухающих электрических колебаний заданной формы и част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ые генераторы строят на основе усилителей, охваченных  цепью обратн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Основные характеристики</a:t>
            </a:r>
            <a:r>
              <a:rPr b="0" i="1" lang="ru-RU" sz="2100" spc="-1" strike="noStrike">
                <a:solidFill>
                  <a:srgbClr val="663300"/>
                </a:solidFill>
                <a:latin typeface="Times New Roman"/>
              </a:rPr>
              <a:t> :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Форма генерируемых колеб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енераторы синусоидальных  и генераторы несинусоидальных (релаксационных) 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частоте колебаний генераторы делят на  генератор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низкой  ( до 10 Г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й  ( 10 Гц – 100 к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(100 кГц – 10 М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рхвысокой (более 10 МГц)  част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щность, отдаваемая генератором в нагруз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П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Транзисторный автогенератор типа         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С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ит из колебательного контура , в котором возбуждаются колебания нужной частоты; усилительного элемента (транзистора); цепи обратной связи; источника с постоянной ЭДС, энергия которого преобразуется в колебательную энергию в кон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схема 4"/>
          <p:cNvPicPr/>
          <p:nvPr/>
        </p:nvPicPr>
        <p:blipFill>
          <a:blip r:embed="rId1"/>
          <a:stretch/>
        </p:blipFill>
        <p:spPr>
          <a:xfrm>
            <a:off x="5003640" y="1700280"/>
            <a:ext cx="4083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Транзисторный автогенератор типа       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R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С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колебательного контура в схеме включен резистор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ая связ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ся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зовращательную цеп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рех звеньев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хема 5"/>
          <p:cNvPicPr/>
          <p:nvPr/>
        </p:nvPicPr>
        <p:blipFill>
          <a:blip r:embed="rId1"/>
          <a:stretch/>
        </p:blipFill>
        <p:spPr>
          <a:xfrm>
            <a:off x="4140360" y="2276640"/>
            <a:ext cx="500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4.Генераторы линейно изменяющегося напряжения   (пилообразного )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апряжение используют  для получения развертки электронного лу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схема 6"/>
          <p:cNvPicPr/>
          <p:nvPr/>
        </p:nvPicPr>
        <p:blipFill>
          <a:blip r:embed="rId1"/>
          <a:stretch/>
        </p:blipFill>
        <p:spPr>
          <a:xfrm>
            <a:off x="1476360" y="3249720"/>
            <a:ext cx="6480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схема7"/>
          <p:cNvPicPr/>
          <p:nvPr/>
        </p:nvPicPr>
        <p:blipFill>
          <a:blip r:embed="rId1"/>
          <a:stretch/>
        </p:blipFill>
        <p:spPr>
          <a:xfrm>
            <a:off x="1187280" y="1700280"/>
            <a:ext cx="7272360" cy="4833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539280" y="477720"/>
            <a:ext cx="70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4.Генераторы линейно изменяющегося напря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(пилообразного 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5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. Мультивибратор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4" descr="схема 8"/>
          <p:cNvPicPr/>
          <p:nvPr/>
        </p:nvPicPr>
        <p:blipFill>
          <a:blip r:embed="rId1"/>
          <a:stretch/>
        </p:blipFill>
        <p:spPr>
          <a:xfrm>
            <a:off x="1042920" y="1628640"/>
            <a:ext cx="7489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2:13:47Z</dcterms:created>
  <dc:creator>User</dc:creator>
  <dc:description/>
  <dc:language>en-US</dc:language>
  <cp:lastModifiedBy>Автоколледж</cp:lastModifiedBy>
  <dcterms:modified xsi:type="dcterms:W3CDTF">2013-02-10T08:51:18Z</dcterms:modified>
  <cp:revision>13</cp:revision>
  <dc:subject/>
  <dc:title>Слайд 1</dc:title>
</cp:coreProperties>
</file>