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0B4-B561-41F0-B34E-BE976AC6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E9C7-CC2F-4E71-9308-D1ACFEC9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8B46-3DA7-41C2-A7C8-08FECE93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048-84F4-4F13-8872-8E8EFAA5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AE9E-1E6F-481E-A2FF-F4B9CA30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DDF2-5082-4F14-8C55-4F248B66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7EC6-33AD-4F66-9D2B-C36A4791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20F4-FDF5-4AED-A152-F6607026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D8CA-CA53-41D0-850E-C7DF5C2C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CC60-8AA3-4FAE-A29D-87F0DF7E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05A9-7008-4853-AB3E-A140A0AF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9C0C-D8F7-4387-9E47-401753B9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58F2-0D3B-4DED-9324-8F471251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58C2-75C7-4E31-B74E-D4A6DBE6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5121-52A4-463D-8D19-783D0F4F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41FB-1D0C-43BD-A260-0E1232A1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84E3-653C-4A68-96BD-6E0E58ED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046-95BE-44E3-98D2-10E77C1F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C59-38F1-4F9A-92A9-AE6D5F6F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91F-27A3-4480-9FB9-61806B26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D79-5219-424D-A584-3226C64B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4C73-4625-4E44-9E17-1A39458C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20EB-B82D-487B-8C26-82A67E17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944-315A-4107-9EFB-CBE7B1E7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40F0-D7E9-4294-9D6A-1D8EB15FA9E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2286-1C99-4658-8608-F228B08F75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1124640" y="1846440"/>
            <a:ext cx="57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лектронные генерато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опросы для закрепл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азовите примеры использования электронных генера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Какие типы электронных генераторов существуют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Что такое обратная связь в электронных генераторах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Times New Roman"/>
              </a:rPr>
              <a:t>Вопросы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с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зисторный автогенератор типа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зисторный автогенератор тип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торы линейно изменяющегося напряжения ( Л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льтивибра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84360" y="476280"/>
            <a:ext cx="76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Определение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лектронный генер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устройство, преобразующее электрическую энергию источника постоянного тока в энергию незатухающих электрических колебаний заданной формы и част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нные генераторы строят на основе усилителей, охваченных  цепью обратной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663300"/>
                </a:solidFill>
                <a:latin typeface="Times New Roman"/>
              </a:rPr>
              <a:t>Основные характеристики</a:t>
            </a:r>
            <a:r>
              <a:rPr b="0" i="1" lang="ru-RU" sz="2100" spc="-1" strike="noStrike">
                <a:solidFill>
                  <a:srgbClr val="663300"/>
                </a:solidFill>
                <a:latin typeface="Times New Roman"/>
              </a:rPr>
              <a:t> :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Форма генерируемых колеб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генераторы синусоидальных  и генераторы несинусоидальных (релаксационных)  колеб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частоте колебаний генераторы делят на  генератор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ранизкой  ( до 10 Гц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ой  ( 10 Гц – 100 кГ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й (100 кГц – 10 МГ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рхвысокой (более 10 МГц)  част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щность, отдаваемая генератором в нагруз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.П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33"/>
                </a:solidFill>
                <a:latin typeface="Times New Roman"/>
              </a:rPr>
              <a:t>Транзисторный автогенератор типа          </a:t>
            </a:r>
            <a:r>
              <a:rPr b="0" i="1" lang="en-US" sz="28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0" i="1" lang="ru-RU" sz="2800" spc="-1" strike="noStrike">
                <a:solidFill>
                  <a:srgbClr val="330033"/>
                </a:solidFill>
                <a:latin typeface="Times New Roman"/>
              </a:rPr>
              <a:t>С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ит из колебательного контура , в котором возбуждаются колебания нужной частоты; усилительного элемента (транзистора); цепи обратной связи; источника с постоянной ЭДС, энергия которого преобразуется в колебательную энергию в конт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схема 4"/>
          <p:cNvPicPr/>
          <p:nvPr/>
        </p:nvPicPr>
        <p:blipFill>
          <a:blip r:embed="rId1"/>
          <a:stretch/>
        </p:blipFill>
        <p:spPr>
          <a:xfrm>
            <a:off x="5003640" y="1700280"/>
            <a:ext cx="4083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33"/>
                </a:solidFill>
                <a:latin typeface="Times New Roman"/>
              </a:rPr>
              <a:t>Транзисторный автогенератор типа        </a:t>
            </a:r>
            <a:r>
              <a:rPr b="0" i="1" lang="en-US" sz="2800" spc="-1" strike="noStrike">
                <a:solidFill>
                  <a:srgbClr val="330033"/>
                </a:solidFill>
                <a:latin typeface="Times New Roman"/>
              </a:rPr>
              <a:t>R</a:t>
            </a:r>
            <a:r>
              <a:rPr b="0" i="1" lang="ru-RU" sz="2800" spc="-1" strike="noStrike">
                <a:solidFill>
                  <a:srgbClr val="330033"/>
                </a:solidFill>
                <a:latin typeface="Times New Roman"/>
              </a:rPr>
              <a:t>С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353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о колебательного контура в схеме включен резистор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ая связ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яется чер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зовращательную цеп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рех звеньев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хема 5"/>
          <p:cNvPicPr/>
          <p:nvPr/>
        </p:nvPicPr>
        <p:blipFill>
          <a:blip r:embed="rId1"/>
          <a:stretch/>
        </p:blipFill>
        <p:spPr>
          <a:xfrm>
            <a:off x="4140360" y="2276640"/>
            <a:ext cx="500364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4.Генераторы линейно изменяющегося напряжения   (пилообразного )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апряжение используют  для получения развертки электронного лу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схема 6"/>
          <p:cNvPicPr/>
          <p:nvPr/>
        </p:nvPicPr>
        <p:blipFill>
          <a:blip r:embed="rId1"/>
          <a:stretch/>
        </p:blipFill>
        <p:spPr>
          <a:xfrm>
            <a:off x="1476360" y="3249720"/>
            <a:ext cx="64803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схема7"/>
          <p:cNvPicPr/>
          <p:nvPr/>
        </p:nvPicPr>
        <p:blipFill>
          <a:blip r:embed="rId1"/>
          <a:stretch/>
        </p:blipFill>
        <p:spPr>
          <a:xfrm>
            <a:off x="1187280" y="1700280"/>
            <a:ext cx="7272360" cy="48337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539280" y="477720"/>
            <a:ext cx="70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4.Генераторы линейно изменяющегося напря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(пилообразного 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5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. Мультивибратор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Picture 4" descr="схема 8"/>
          <p:cNvPicPr/>
          <p:nvPr/>
        </p:nvPicPr>
        <p:blipFill>
          <a:blip r:embed="rId1"/>
          <a:stretch/>
        </p:blipFill>
        <p:spPr>
          <a:xfrm>
            <a:off x="1042920" y="1628640"/>
            <a:ext cx="74898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2:13:47Z</dcterms:created>
  <dc:creator>User</dc:creator>
  <dc:description/>
  <dc:language>en-US</dc:language>
  <cp:lastModifiedBy>Автоколледж</cp:lastModifiedBy>
  <dcterms:modified xsi:type="dcterms:W3CDTF">2013-02-10T08:51:18Z</dcterms:modified>
  <cp:revision>13</cp:revision>
  <dc:subject/>
  <dc:title>Слайд 1</dc:title>
</cp:coreProperties>
</file>