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5ED-EE89-49B3-835C-CA55425E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EAA-0011-41A8-86C7-7882E86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1C8-A272-4FEB-9652-9CA76819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822-BB1B-47AC-B446-ED9E1A31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232-64A2-4D56-988B-9ABB6C18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317-02F1-49BD-AD36-CD681A5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6F3-4CEA-47E2-BA84-F8286E1C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ACF-8202-4110-8F67-8913E740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AA4-8064-4B7E-895D-AD0A0762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D5C-B36F-43D1-980D-3741479E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83E-B55D-4C1C-B017-38C51AA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A81-624B-4038-9219-808038E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EC40-5721-42E4-8232-B07A78988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413000"/>
            <a:ext cx="67438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бывает злой и длинны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го можно прикусить, проглотить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устить, чесат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812000" y="1628640"/>
            <a:ext cx="1228680" cy="218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51640" y="4149720"/>
            <a:ext cx="1335240" cy="152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5640" y="3141720"/>
            <a:ext cx="4968720" cy="313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843280" y="476280"/>
            <a:ext cx="3024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гадайте 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67640" y="5877000"/>
            <a:ext cx="99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зы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f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404640"/>
            <a:ext cx="84675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азеологизм - устойчивое сочетание слов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ьзуемое для названия отдельны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, признаков, действи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356000" y="3500280"/>
            <a:ext cx="39625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ТЬ БАКЛУШИ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ЗДЕЛЬНИЧА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fd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333360"/>
            <a:ext cx="590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знай фразеологизм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вспомни их значения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2330280" cy="240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2063520" cy="266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372360" y="4653000"/>
            <a:ext cx="2457360" cy="185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4000" y="4005360"/>
            <a:ext cx="1927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гнаться з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умя зайцам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635280" y="1773360"/>
            <a:ext cx="2238480" cy="2527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635280" y="4076640"/>
            <a:ext cx="2232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ъесть пуд сол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771640" y="4437000"/>
            <a:ext cx="3243240" cy="1994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588000" y="3933720"/>
            <a:ext cx="2087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лая ворон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84360" y="6237360"/>
            <a:ext cx="2484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итать ворон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588000" y="6381720"/>
            <a:ext cx="23194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 царя в голов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189000"/>
            <a:ext cx="86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разеологизмы используют в обыденной реч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художественных произведения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347840" y="2205000"/>
            <a:ext cx="644832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, увидев усача (Ай-ай-ай!)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ери дали стрекоча (Ай-ай-ай!)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лесам, по полям разбежалис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раканьих усов успугали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48360" y="4581360"/>
            <a:ext cx="1452600" cy="1917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27280" y="4581360"/>
            <a:ext cx="1427040" cy="196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7280" y="3357720"/>
            <a:ext cx="266544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d5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260280"/>
            <a:ext cx="8763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азеологизмы описываются в специальны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я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649680" cy="4905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3114720" cy="4286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f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16000" y="476280"/>
            <a:ext cx="662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азеологизмы имею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онимы и антонимы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63640" y="2060640"/>
            <a:ext cx="511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аботать в поте лиц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92000" y="2637000"/>
            <a:ext cx="1942920" cy="12236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 rot="19805400">
            <a:off x="1618920" y="2923920"/>
            <a:ext cx="15620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нон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4005360"/>
            <a:ext cx="32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засучив рукав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2708280"/>
            <a:ext cx="1728720" cy="1152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2021400">
            <a:off x="5579640" y="2997000"/>
            <a:ext cx="14796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он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867280" y="3933720"/>
            <a:ext cx="2657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пустя рукав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03640" y="4437000"/>
            <a:ext cx="2638440" cy="2076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3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197000"/>
            <a:ext cx="0" cy="5400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333360"/>
            <a:ext cx="753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ови фразеологизмы-антоним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5640" y="1628640"/>
            <a:ext cx="2724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 наплакал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2852640"/>
            <a:ext cx="4124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кошка с собако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4076640"/>
            <a:ext cx="3743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словом в карм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полез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5734080"/>
            <a:ext cx="44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горшка два вершк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32360" y="1700280"/>
            <a:ext cx="351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зык проглотил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3640" y="2924280"/>
            <a:ext cx="3324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ры не клюют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18240" y="4508640"/>
            <a:ext cx="432576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рста коломенска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13200" y="5950080"/>
            <a:ext cx="43308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ой не разольёшь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1989000"/>
            <a:ext cx="1152360" cy="1224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3213000"/>
            <a:ext cx="718920" cy="2664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24360" y="2205000"/>
            <a:ext cx="1439640" cy="2448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00720" y="5013360"/>
            <a:ext cx="1079280" cy="936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2:45:10Z</dcterms:created>
  <dc:creator>Добрынина</dc:creator>
  <dc:description/>
  <dc:language>en-US</dc:language>
  <cp:lastModifiedBy>Добрынина</cp:lastModifiedBy>
  <dcterms:modified xsi:type="dcterms:W3CDTF">2012-08-02T15:46:45Z</dcterms:modified>
  <cp:revision>3</cp:revision>
  <dc:subject/>
  <dc:title>Слайд 1</dc:title>
</cp:coreProperties>
</file>