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DCA-BCCA-461B-ABBE-59438139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A37-F79C-4C27-BED4-4581399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A53-A92C-495C-AC24-9A615AF8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7A0-0970-40BF-A8BD-852FD08F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2F5-C5CA-43B1-87F4-20DF161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7DB-B899-4087-9F5B-F6916FEC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B5A-237D-46EC-9D32-3B36123C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358-352D-436B-A4E8-84FE9D87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F9E-F873-4E57-9D86-0D0B3A3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737-1793-46FC-B548-8223F95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3E4-EB12-4F0F-93DC-CCC85E0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AA5-6E6B-4122-923A-D53D7E5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C360-AD7C-4776-859A-4A9B582BE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13000"/>
            <a:ext cx="6743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бывает злой и длинн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можно прикусить, проглоти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устить, чесат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12000" y="1628640"/>
            <a:ext cx="1228680" cy="21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4149720"/>
            <a:ext cx="1335240" cy="15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4968720" cy="31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843280" y="476280"/>
            <a:ext cx="302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адайте 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67640" y="5877000"/>
            <a:ext cx="99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зы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f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404640"/>
            <a:ext cx="8467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азеологизм - устойчивое сочетание сло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уемое для названия отдель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, признаков, действ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6000" y="3500280"/>
            <a:ext cx="39625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ТЬ БАКЛУШИ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ДЕЛЬНИЧ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fd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333360"/>
            <a:ext cx="59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знай фразеологиз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вспомни их значени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330280" cy="24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06352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372360" y="4653000"/>
            <a:ext cx="2457360" cy="185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4000" y="4005360"/>
            <a:ext cx="1927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гнаться з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умя зайцам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635280" y="1773360"/>
            <a:ext cx="2238480" cy="252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635280" y="4076640"/>
            <a:ext cx="2232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ъесть пуд сол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71640" y="4437000"/>
            <a:ext cx="324324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588000" y="3933720"/>
            <a:ext cx="2087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ая ворон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84360" y="6237360"/>
            <a:ext cx="248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итать воро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588000" y="6381720"/>
            <a:ext cx="2319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 царя в голов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18900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разеологизмы используют в обыденной реч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художественных произведени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47840" y="2205000"/>
            <a:ext cx="644832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, увидев усача (Ай-ай-ай!)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 дали стрекоча (Ай-ай-ай!)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лесам, по полям разбежалис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аканьих усов успугали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4581360"/>
            <a:ext cx="1452600" cy="191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1427040" cy="196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7280" y="3357720"/>
            <a:ext cx="266544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d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260280"/>
            <a:ext cx="8763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азеологизмы описываются в специаль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я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649680" cy="4905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114720" cy="4286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47628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зеологизмы имею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онимы и антонимы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63640" y="2060640"/>
            <a:ext cx="511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аботать в поте лиц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92000" y="2637000"/>
            <a:ext cx="1942920" cy="1223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9805400">
            <a:off x="1618920" y="2923920"/>
            <a:ext cx="15620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он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005360"/>
            <a:ext cx="32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засучив рукав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708280"/>
            <a:ext cx="1728720" cy="1152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2021400">
            <a:off x="5579640" y="2997000"/>
            <a:ext cx="14796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он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67280" y="3933720"/>
            <a:ext cx="265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пустя рукав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638440" cy="207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197000"/>
            <a:ext cx="0" cy="5400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3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ови фразеологизмы-антоним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628640"/>
            <a:ext cx="2724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 наплакал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2852640"/>
            <a:ext cx="4124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кошка с собако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407664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словом в карм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полез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573408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горшка два верш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32360" y="1700280"/>
            <a:ext cx="351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зык проглоти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3640" y="2924280"/>
            <a:ext cx="33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ры не клюют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18240" y="4508640"/>
            <a:ext cx="432576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ста коломенска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13200" y="5950080"/>
            <a:ext cx="43308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й не разольёшь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1989000"/>
            <a:ext cx="1152360" cy="1224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3213000"/>
            <a:ext cx="718920" cy="2664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24360" y="2205000"/>
            <a:ext cx="1439640" cy="2448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00720" y="5013360"/>
            <a:ext cx="1079280" cy="936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2:45:10Z</dcterms:created>
  <dc:creator>Добрынина</dc:creator>
  <dc:description/>
  <dc:language>en-US</dc:language>
  <cp:lastModifiedBy>Добрынина</cp:lastModifiedBy>
  <dcterms:modified xsi:type="dcterms:W3CDTF">2012-08-02T15:46:45Z</dcterms:modified>
  <cp:revision>3</cp:revision>
  <dc:subject/>
  <dc:title>Слайд 1</dc:title>
</cp:coreProperties>
</file>